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3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4400" cy="3722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784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3884400" y="9448920"/>
            <a:ext cx="2963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BD371-A3E1-4808-82D8-BA92B89BA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02A8-FBF4-44A6-97DA-C2CB2ABA3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94B26-600E-4A6B-A01E-E8060681D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CCF6-B7A4-407F-BCFE-7C8E9610B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4DEA-A190-407B-AC23-E99D4ADD4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2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30680"/>
          </a:xfrm>
          <a:prstGeom prst="rect">
            <a:avLst/>
          </a:prstGeom>
          <a:ln w="0">
            <a:noFill/>
          </a:ln>
        </p:spPr>
      </p:sp>
      <p:sp>
        <p:nvSpPr>
          <p:cNvPr id="47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30680"/>
          </a:xfrm>
          <a:prstGeom prst="rect">
            <a:avLst/>
          </a:prstGeom>
          <a:ln w="0">
            <a:noFill/>
          </a:ln>
        </p:spPr>
      </p:sp>
      <p:sp>
        <p:nvSpPr>
          <p:cNvPr id="482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9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D89D4-AD87-423C-9324-217736626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AC774-0C9A-477D-B04E-87E9675BF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AFD81-C135-47A9-BC7D-03D3276FE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669D-9F65-454C-B232-18509224A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AEFD-FF81-4FB9-A61D-2987399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733-F700-4005-95C3-0A3E2CC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9F1E-89E7-4E63-9D92-1BCF6C54E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54C44-9615-407E-B1FC-771FEDD512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3E9C-E68A-47AD-B8C4-9C678D0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BCCFB-5D20-47C6-AA91-424D7318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CD92E-B82D-453F-B6A9-71143D3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FBD5B-BD6D-4CB1-9F47-CDC91EC4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936C3-14AE-4840-BF32-D7FD8E2E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AB760-D541-4C31-AFDC-40A0458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94E6-9BA1-4EAE-91B9-190E87D5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7D35C-FFA9-401C-AD37-8EFEE7C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A5DB-F80F-4399-8607-4ED2810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7AF5-58F2-4EBF-8220-99111C5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D7E21-968C-4D57-AB6F-1175278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B36BD-8B58-4A95-9733-949FA57C2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040E-2BC3-4822-BCA4-04C1ACD0EA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59C0-E1DC-491A-A72B-4B45651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55A6-F324-488E-B67E-C135EF65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3513-FFFA-484E-9F40-1888239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201D-87A7-404E-BDFA-FFC63C40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7F6E-FA3C-431A-B818-C5AE8DA4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B92E-A86E-4C97-B7FD-1ED26571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2FBD-05D8-4C8A-A6B5-8B937D1C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5A9F-8F56-400A-8C60-11330BD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BCB0-9712-49C7-9513-A1397A62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BD14-6A59-4979-8C21-2921C8A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B95A-2F71-4B45-B1FA-923365F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2801-FBB9-4A8D-BE6A-F9A593A37F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D5CCA-54D8-4D20-9B0E-CC0E3220D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F0208-9249-413C-AD92-ADE7E10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0EAAE-5744-4B7F-86FB-23FF8314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0726-6BAE-4FBA-A2F8-C6F58650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6D0F6-98D8-4F0B-8F42-C04A09E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1140E-1B1E-4601-9353-095E710A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C816D-6D78-4782-9810-3CA0BA67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FF8FC-F0A0-4CCF-BC56-77D34A1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522AC-E15B-4072-9F0B-8C07ABB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FAA37-13ED-4185-BFB6-7318BCC1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75934-96E1-4E70-89C9-6912FB1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3AFCF-8569-4044-87DD-39F568F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38949-3E29-40D6-AFED-A6F902479A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77CC8-6529-404E-97A0-E08654BB4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6C86-3429-4BEC-8BCB-3ED20F89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429EB-014E-4ADA-A149-26576DF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1069E-DF6D-4076-BFA8-5BA4FF4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08A95-419F-4EE1-A19B-6168308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79313-BBE5-4DAD-871C-AD3953A5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8F62D-2A73-4B3C-B03E-1F85BA2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D1BF9-5362-4FBB-AF20-C659CB49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42F06-8984-4146-894B-8FA603C6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87410-D3AF-4C96-8056-EFAF22B2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65AE9-2EB6-4CA1-9A96-2AF64282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7389D-AC4E-468D-8AFC-385D5CF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386C-3B8B-4CF4-8ED8-7D52D1E9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16338-3F9A-4FB4-9390-C441A745C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1B80-7A82-421E-8AAD-65038411E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473A-2017-4A6F-BACF-7BA3910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B514-CC6F-4146-9A13-4338E49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0C2C-2D71-49EE-ADA3-9ABC834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4EEA-5B71-441A-925A-BBB6794E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83F7-E076-42CD-B500-5D0CC2AB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9044-EEB0-47C4-B020-DEC11C7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77E8-6B60-44C4-9695-F3EE59A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B121-0532-4771-A966-7C4701E4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2D53-CD26-4103-9903-61AFDB1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CDC2-505D-474C-9208-F53F569F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661C-7059-4E96-A49A-1207B85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A68A-1E70-491A-824F-A87A605BB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2C7A9-3B64-46B9-9BCE-56A6B3AB3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F1BE6-549A-46E8-B8F8-94A6E9A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2BC33-65DE-4539-B5BC-FD10044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EC929-5B26-4479-B9C8-8A8375BE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165D4-CC36-4DEA-A61F-B238431E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57625-CDE2-456E-A634-9EF6F54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FAD18-A15D-4932-A8B8-87E6E9B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1893-9433-4465-AA5D-EAB037FF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8322D-01B0-4776-8C6D-105E259C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84E60-9C41-4402-9AF1-C57C0A9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97AFC-DC71-4797-92A6-F9365C41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1B5F7-2A04-4AE6-A88C-3889831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ED17B-43C1-49B2-B721-FD95C8142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2550-ECD4-429F-9E2B-4ABF2949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15600" cy="1322640"/>
            <a:chOff x="210960" y="1679400"/>
            <a:chExt cx="8715600" cy="132264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6848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3572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5940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012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15600" cy="1322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8AF98-5386-4645-9DCB-84D1BB5A47F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60" y="5354640"/>
            <a:ext cx="8715600" cy="1322280"/>
            <a:chOff x="210960" y="5354640"/>
            <a:chExt cx="8715600" cy="1322280"/>
          </a:xfrm>
        </p:grpSpPr>
        <p:sp>
          <p:nvSpPr>
            <p:cNvPr id="50" name=""/>
            <p:cNvSpPr/>
            <p:nvPr/>
          </p:nvSpPr>
          <p:spPr>
            <a:xfrm>
              <a:off x="6054840" y="5499000"/>
              <a:ext cx="2871720" cy="706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22600" y="5372280"/>
              <a:ext cx="554364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2120" y="5383080"/>
              <a:ext cx="546588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6720" y="5370480"/>
              <a:ext cx="330336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960" y="5354640"/>
              <a:ext cx="8715600" cy="13222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39FA0755-B844-44DD-9E98-893B9DFA7097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034F9E92-CC5D-4D61-AD25-D8ED274139E3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60" y="714240"/>
            <a:ext cx="8715600" cy="1322640"/>
            <a:chOff x="210960" y="714240"/>
            <a:chExt cx="8715600" cy="1322640"/>
          </a:xfrm>
        </p:grpSpPr>
        <p:sp>
          <p:nvSpPr>
            <p:cNvPr id="145" name=""/>
            <p:cNvSpPr/>
            <p:nvPr/>
          </p:nvSpPr>
          <p:spPr>
            <a:xfrm>
              <a:off x="6046920" y="858960"/>
              <a:ext cx="286848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19360" y="731880"/>
              <a:ext cx="553572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8880" y="743040"/>
              <a:ext cx="545940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730080"/>
              <a:ext cx="330012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960" y="714240"/>
              <a:ext cx="8715600" cy="1322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8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0DFD13B5-A846-4BD4-B35D-2708A9BB39DF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10960" y="714240"/>
            <a:ext cx="8715600" cy="1324080"/>
            <a:chOff x="210960" y="714240"/>
            <a:chExt cx="8715600" cy="1324080"/>
          </a:xfrm>
        </p:grpSpPr>
        <p:sp>
          <p:nvSpPr>
            <p:cNvPr id="193" name=""/>
            <p:cNvSpPr/>
            <p:nvPr/>
          </p:nvSpPr>
          <p:spPr>
            <a:xfrm>
              <a:off x="6054840" y="860400"/>
              <a:ext cx="287172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2600" y="731880"/>
              <a:ext cx="5543640" cy="8427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2120" y="743040"/>
              <a:ext cx="5465880" cy="7682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6720" y="730080"/>
              <a:ext cx="3303360" cy="644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960" y="714240"/>
              <a:ext cx="8715600" cy="1324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9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8C94BB27-A898-4DEE-A0B9-AA88328D5A99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0960" y="5354640"/>
            <a:ext cx="8715600" cy="1322280"/>
            <a:chOff x="210960" y="5354640"/>
            <a:chExt cx="8715600" cy="1322280"/>
          </a:xfrm>
        </p:grpSpPr>
        <p:sp>
          <p:nvSpPr>
            <p:cNvPr id="241" name=""/>
            <p:cNvSpPr/>
            <p:nvPr/>
          </p:nvSpPr>
          <p:spPr>
            <a:xfrm>
              <a:off x="6054840" y="5499000"/>
              <a:ext cx="2871720" cy="706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2600" y="5372280"/>
              <a:ext cx="554364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2120" y="5383080"/>
              <a:ext cx="546588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16720" y="5370480"/>
              <a:ext cx="330336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960" y="5354640"/>
              <a:ext cx="8715600" cy="13222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1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BF7859EA-E975-4305-92D1-58F5F50AADA3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0960" y="714240"/>
            <a:ext cx="8715600" cy="1324080"/>
            <a:chOff x="210960" y="714240"/>
            <a:chExt cx="8715600" cy="1324080"/>
          </a:xfrm>
        </p:grpSpPr>
        <p:sp>
          <p:nvSpPr>
            <p:cNvPr id="289" name=""/>
            <p:cNvSpPr/>
            <p:nvPr/>
          </p:nvSpPr>
          <p:spPr>
            <a:xfrm>
              <a:off x="6054840" y="860400"/>
              <a:ext cx="287172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2600" y="731880"/>
              <a:ext cx="5543640" cy="8427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32120" y="743040"/>
              <a:ext cx="5465880" cy="7682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6720" y="730080"/>
              <a:ext cx="3303360" cy="644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960" y="714240"/>
              <a:ext cx="8715600" cy="1324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F290D5B1-6937-4EAE-A11C-D5C3C8E8D1DD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79280" y="1628640"/>
            <a:ext cx="8715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ahoma"/>
                <a:ea typeface="Tahoma"/>
              </a:rPr>
              <a:t>СОВРЕМЕННЫЕ ОБРАЗОВАТЕЛЬНЫЕ ТЕХНОЛОГИИ РЕАЛИЗАЦИИ ФГОС В СИСТЕМЕ </a:t>
            </a:r>
            <a:r>
              <a:rPr b="1" lang="ru-RU" sz="5400" spc="-1" strike="noStrike">
                <a:solidFill>
                  <a:srgbClr val="031f43"/>
                </a:solidFill>
                <a:latin typeface="Times New Roman"/>
                <a:ea typeface="Tahoma"/>
              </a:rPr>
              <a:t>основного</a:t>
            </a:r>
            <a:r>
              <a:rPr b="1" lang="ru-RU" sz="3200" spc="-1" strike="noStrike">
                <a:solidFill>
                  <a:srgbClr val="031f43"/>
                </a:solidFill>
                <a:latin typeface="Tahoma"/>
                <a:ea typeface="Tahoma"/>
              </a:rPr>
              <a:t> ОБЩЕГО ОБРАЗОВАН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ndara"/>
                <a:ea typeface="Microsoft YaHei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  <a:ea typeface="Microsoft YaHei"/>
              </a:rPr>
              <a:t>                       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11640" y="5732640"/>
            <a:ext cx="471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31f43"/>
                </a:solidFill>
                <a:latin typeface="Tahoma"/>
                <a:ea typeface="Tahoma"/>
              </a:rPr>
              <a:t>Семерникова Александра Данил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31f43"/>
                </a:solidFill>
                <a:latin typeface="Tahoma"/>
                <a:ea typeface="Tahoma"/>
              </a:rPr>
              <a:t>учитель русского языка МБОУ Какичев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072040" y="4071960"/>
            <a:ext cx="3857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100000"/>
              </a:lnSpc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Е ОБУЧЕНИЕ  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ОБУЧЕНИЕ НА ОСНОВЕ          «УЧЕБНЫХ  СИТУАЦИЙ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Базовые 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86440" y="1581120"/>
            <a:ext cx="370836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1852560"/>
            <a:ext cx="337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стоит его деятельность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0040" y="4572000"/>
            <a:ext cx="4381560" cy="2149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61840" y="5180040"/>
            <a:ext cx="39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состоит в организации условий, провоцирующих детское 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9640" y="1704600"/>
            <a:ext cx="824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ущность проблемного обучения состоит в том, что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учащиеся  систематически включают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учител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в процесс поиска доказательного решения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новых для них проблем, благодаря чему они учатся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самостоятельно добывать знани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применять ранее усвоенные и овладевают опытом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771640" y="2997360"/>
            <a:ext cx="529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ahoma"/>
                <a:ea typeface="Tahoma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ahoma"/>
                <a:ea typeface="Tahoma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6000" y="3786120"/>
            <a:ext cx="8388360" cy="3071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сновны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ткрытость системы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предъявление образц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«ножницы» между базовым и повышенными уровнями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посильность базового уровня, обязательность его освоения всеми уч-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бровольность в освоении повышенных уровней треб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работа с группами «подвижного» сост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накопительная система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24360" y="1071720"/>
            <a:ext cx="5219640" cy="207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сн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дифференциация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к уровню освоения, явное вы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базового и повышен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177984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Дифференцированное обучение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– это форма организации учебного процесса, при которой педагог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работает с группой учащихся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оставленной с учетом наличия у них каких- либо значимых для учебного процессе общи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Дифференциация   заданий по уровню  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РЕПРО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Выполни пересказ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пиши текст, вставляя буквы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ТВОР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ерескажи сказку от лица лис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пиши текст, заменяя имена прилагательные антоним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571640" y="1676520"/>
            <a:ext cx="2515320" cy="762480"/>
          </a:xfrm>
          <a:prstGeom prst="straightConnector1">
            <a:avLst/>
          </a:prstGeom>
          <a:ln cap="sq"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95" name=""/>
          <p:cNvCxnSpPr/>
          <p:nvPr/>
        </p:nvCxnSpPr>
        <p:spPr>
          <a:xfrm flipH="1">
            <a:off x="2361960" y="1676520"/>
            <a:ext cx="2286720" cy="762480"/>
          </a:xfrm>
          <a:prstGeom prst="straightConnector1">
            <a:avLst/>
          </a:prstGeom>
          <a:ln cap="sq" w="38160">
            <a:solidFill>
              <a:srgbClr val="7030a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00040" y="2349360"/>
            <a:ext cx="42530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Ы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КОММУНИК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Базовые 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7160" y="4572000"/>
            <a:ext cx="6470640" cy="20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тельная деятельность на основе И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ткрытое (но контролируемое)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ых исто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ая поддержка учеб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0920" y="1717560"/>
            <a:ext cx="87138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Информационные технологии обучения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– эт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процессы подготовки и передачи информации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бучающему, средством осуществления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которых является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Формы использования ИТ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разнообразны: от демонстрации на уроке до дистанцио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71400" y="285840"/>
            <a:ext cx="78091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ование информационно- коммуникативных технологий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1400" y="1906560"/>
            <a:ext cx="81154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157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активизировать познавательную актив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водить уроки на высоком эстетическом и эмоциональ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еспечивать высокую степень дифференциаци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вершенствовать контроль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рационально организовывать учебный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еспечивать доступ к различным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528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Адаптивность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способление компьютера к индивидуальным особенностям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Управляемость: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коррекция учителем возможна в любой мо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терактивность и  диалоговый характер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КТ обладают способностью «откликаться» на действия ученика и учителя, вступать с ним в 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птимальное сочетание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дивидуальной и 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оддержание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у ученика состояния психологического комфорта при обращении с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Особенности построения уроков с  использованием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14240" y="357120"/>
            <a:ext cx="76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сберегающие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4240" y="1733400"/>
            <a:ext cx="796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оровьесберегающие образовательные технолог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49360" y="3359160"/>
            <a:ext cx="830880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85880" y="260280"/>
            <a:ext cx="7715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Цель нов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844640"/>
            <a:ext cx="84250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Формировать не только знания, 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РАЗВИВАТЬ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тавить цель и добиваться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о добывать и применять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ставлять план своих действий и самостоятельно оценивать их послед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давать вопрос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ясно выражать свои мыс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ботиться о других, быть нравственным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хранять и укреплять своё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2746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ы здоровьесберегающих технологий, применяемые на уроках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8760" y="1886040"/>
          <a:ext cx="82296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86040"/>
                    <a:ext cx="82296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00080" y="274680"/>
            <a:ext cx="7643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здоровьесбережения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240" y="1341360"/>
            <a:ext cx="78184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навреди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ритет заботы о здоровье учителя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рерывность и преем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ъект-субъектные взаимо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ветствие содержания и                            организации обучения возрастным              особенностя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ный, междисциплинарный                    под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пех порожда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ственность за свое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4360" y="476280"/>
            <a:ext cx="7808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Коллективные способ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1400" y="1643040"/>
            <a:ext cx="81154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16200" algn="ct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КСО – это организация учебного процесса, при котором обучение осуществляется путем общения в «динамических парах», когда каждый учит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162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изучение текстового материала по любому учебному предм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заимообмен зад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ыполнение упражнений в па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работа по вопросам к тек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16200" algn="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dur="indefinite" fill="hold">
                      <p:stCondLst>
                        <p:cond delay="indefinite"/>
                      </p:stCondLst>
                      <p:childTnLst>
                        <p:par>
                          <p:cTn id="5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24000" y="1935000"/>
          <a:ext cx="8570520" cy="4308120"/>
        </p:xfrm>
        <a:graphic>
          <a:graphicData uri="http://schemas.openxmlformats.org/drawingml/2006/table">
            <a:tbl>
              <a:tblPr/>
              <a:tblGrid>
                <a:gridCol w="4285080"/>
                <a:gridCol w="4285440"/>
              </a:tblGrid>
              <a:tr h="46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596120">
                <a:tc>
                  <a:txBody>
                    <a:bodyPr lIns="90000" rIns="90000" anchor="t">
                      <a:noAutofit/>
                    </a:bodyPr>
                    <a:p>
                      <a:pPr marL="277920" indent="-277920" algn="ctr">
                        <a:lnSpc>
                          <a:spcPct val="101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277920"/>
                          <a:tab algn="l" pos="725400"/>
                          <a:tab algn="l" pos="1174680"/>
                          <a:tab algn="l" pos="1623960"/>
                          <a:tab algn="l" pos="2073240"/>
                          <a:tab algn="l" pos="2522520"/>
                          <a:tab algn="l" pos="2971800"/>
                          <a:tab algn="l" pos="3421080"/>
                          <a:tab algn="l" pos="3870360"/>
                          <a:tab algn="l" pos="4319640"/>
                          <a:tab algn="l" pos="4768920"/>
                          <a:tab algn="l" pos="5218200"/>
                          <a:tab algn="l" pos="5667480"/>
                          <a:tab algn="l" pos="6116760"/>
                          <a:tab algn="l" pos="6566040"/>
                          <a:tab algn="l" pos="7015320"/>
                          <a:tab algn="l" pos="7464600"/>
                          <a:tab algn="l" pos="7913520"/>
                          <a:tab algn="l" pos="8362800"/>
                          <a:tab algn="l" pos="8812080"/>
                          <a:tab algn="l" pos="9261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следует вернуть учащихся к первоначальным записям – предположениям, внести изменения, дополн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7920" indent="-277920" algn="ctr">
                        <a:lnSpc>
                          <a:spcPct val="105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277920"/>
                          <a:tab algn="l" pos="725400"/>
                          <a:tab algn="l" pos="1174680"/>
                          <a:tab algn="l" pos="1623960"/>
                          <a:tab algn="l" pos="2073240"/>
                          <a:tab algn="l" pos="2522520"/>
                          <a:tab algn="l" pos="2971800"/>
                          <a:tab algn="l" pos="3421080"/>
                          <a:tab algn="l" pos="3870360"/>
                          <a:tab algn="l" pos="4319640"/>
                          <a:tab algn="l" pos="4768920"/>
                          <a:tab algn="l" pos="5218200"/>
                          <a:tab algn="l" pos="5667480"/>
                          <a:tab algn="l" pos="6116760"/>
                          <a:tab algn="l" pos="6566040"/>
                          <a:tab algn="l" pos="7015320"/>
                          <a:tab algn="l" pos="7464600"/>
                          <a:tab algn="l" pos="7913520"/>
                          <a:tab algn="l" pos="8362800"/>
                          <a:tab algn="l" pos="8812080"/>
                          <a:tab algn="l" pos="9261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ать творческие, исследовательские или практические задания на основе изученн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соотносят «новую» информацию со старой, используя знания, полученные на стадии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09680" y="380880"/>
            <a:ext cx="4267440" cy="6096240"/>
          </a:xfrm>
          <a:prstGeom prst="ellipse">
            <a:avLst/>
          </a:prstGeom>
          <a:solidFill>
            <a:srgbClr val="00ff00">
              <a:alpha val="50000"/>
            </a:srgbClr>
          </a:solidFill>
          <a:ln cap="sq" w="38160">
            <a:solidFill>
              <a:srgbClr val="66ff66"/>
            </a:solidFill>
            <a:custDash>
              <a:ds d="400000" sp="300000"/>
            </a:custDash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57920" y="428760"/>
            <a:ext cx="30002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вивающее обу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57920" y="857160"/>
            <a:ext cx="30002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блемное обу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640" y="1357200"/>
            <a:ext cx="303516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ноуровневое обу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29200" y="1928880"/>
            <a:ext cx="2867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лективную систему обучения (КС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72120" y="4286160"/>
            <a:ext cx="28958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решения изобретательских задач (ТРИ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72120" y="3571920"/>
            <a:ext cx="28958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сследовательские методы  в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00840" y="2714760"/>
            <a:ext cx="28954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ектные методы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28960" y="4286160"/>
            <a:ext cx="30002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 развития «критического мышлени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5429160"/>
            <a:ext cx="44197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использования в обучении игровых методов: ролевых, деловых  и другие   видов обучающ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4200" y="4071960"/>
            <a:ext cx="266724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бучение в сотрудничестве (командная, групповая раб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4200" y="3000240"/>
            <a:ext cx="26672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о-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4200" y="2214720"/>
            <a:ext cx="26672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4200" y="1214280"/>
            <a:ext cx="3092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истему   инновационной оценки «портфель достиж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4200" y="428760"/>
            <a:ext cx="3353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дистанционного обучения 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895480" y="2133720"/>
            <a:ext cx="3043440" cy="187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К числу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современных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образовательных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технологий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можно отнести: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71400" y="357120"/>
            <a:ext cx="78091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1400" y="1906560"/>
            <a:ext cx="81154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«Если ребенку удается добиться успеха в школе, у него есть все шансы на успех в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У. Гласс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1400" y="285840"/>
            <a:ext cx="780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ФГОС НОО: н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57232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71400" y="214200"/>
            <a:ext cx="780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ФГОС НОО: н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57232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85880" y="260280"/>
            <a:ext cx="7715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Ориентация на парадигму деятельностного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280" y="2071800"/>
            <a:ext cx="8569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сновной результат – развитие личности ребенка на основе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57720"/>
            <a:ext cx="8470800" cy="93636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3357720"/>
            <a:ext cx="8543880" cy="93636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7360" y="42894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65520" y="42940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его 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61080" y="42940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785880" y="260280"/>
            <a:ext cx="7962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истемно - 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989000"/>
            <a:ext cx="849636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рганизовать  деятельность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пособность к само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 решении учеб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Умение решать учебные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Прогресс в личностном 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ОВРЕМЕННЫЕ ОБРАЗОВАТЕЛЬНЫЕ ТЕХНОЛОГИИ,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уемые на уро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4762440"/>
            <a:ext cx="642960" cy="42876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428760"/>
              <a:gd name="textAreaBottom" fmla="*/ 375480 h 4287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16200"/>
                </a:lnTo>
                <a:lnTo>
                  <a:pt x="0" y="16200"/>
                </a:lnTo>
                <a:lnTo>
                  <a:pt x="10800" y="21600"/>
                </a:lnTo>
                <a:lnTo>
                  <a:pt x="21600" y="16200"/>
                </a:lnTo>
                <a:lnTo>
                  <a:pt x="16200" y="162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99cc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836640"/>
            <a:ext cx="8569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 - это совокупность форм, методов, приемов и средств, применяемых в какой-либо деятельности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3789360"/>
            <a:ext cx="8569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086000"/>
            <a:ext cx="798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едагогическая технология   ̶  это содержательная техника реализации учебного процесса (В.П. Беспалько)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4000" y="260280"/>
            <a:ext cx="871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овременные образовательные  технологии системно-деятельностного подхода,используемые на моих уро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484280"/>
            <a:ext cx="8424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 проблемно-поискового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Групповые технологии (К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960" indent="-4525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И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 algn="ctr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85880" y="260280"/>
            <a:ext cx="8178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-диалогическая 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1989000"/>
            <a:ext cx="849636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654200"/>
            <a:ext cx="3382920" cy="51292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Традицион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1.Проверка д/з учеников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2.Объявление т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3.Объяснение т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4.Закрепление знаний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1654200"/>
            <a:ext cx="3853080" cy="5129280"/>
          </a:xfrm>
          <a:prstGeom prst="rect">
            <a:avLst/>
          </a:prstGeom>
          <a:solidFill>
            <a:srgbClr val="fdfe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-диалогически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1.Создание проблемной ситуац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 и формулирование  проблемы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2.Актуализация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свои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3. Поиск решения пробл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4.Выражение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5.  Применение знаний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8200" y="2824200"/>
            <a:ext cx="1362240" cy="166860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747960" y="3487680"/>
            <a:ext cx="1362240" cy="33984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78200" y="4724280"/>
            <a:ext cx="1362240" cy="51300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4040" y="5589720"/>
            <a:ext cx="1362240" cy="30636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08:24:56Z</dcterms:created>
  <dc:creator>Пользователь</dc:creator>
  <dc:description/>
  <dc:language>en-US</dc:language>
  <cp:lastModifiedBy/>
  <cp:lastPrinted>2015-11-03T04:15:35Z</cp:lastPrinted>
  <dcterms:modified xsi:type="dcterms:W3CDTF">2017-09-18T20:58:22Z</dcterms:modified>
  <cp:revision>127</cp:revision>
  <dc:subject/>
  <dc:title>ФГОС ООО  как рамочный документ</dc:title>
</cp:coreProperties>
</file>