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638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64400" cy="37224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784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16"/>
          </p:nvPr>
        </p:nvSpPr>
        <p:spPr>
          <a:xfrm>
            <a:off x="3884400" y="9448920"/>
            <a:ext cx="296388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22490-C848-45BF-B172-733E359592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35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F0671-48EB-4EBE-AB26-6F44D6499D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EA9F0-9688-45F5-9CD6-103C331F09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58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60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D6482-01F7-4161-A0E7-3BF2651CB1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CF6859-7C72-4D67-9084-7085C8C858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64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Microsoft YaHe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66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68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70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72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74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76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42840" y="755640"/>
            <a:ext cx="4972320" cy="3730680"/>
          </a:xfrm>
          <a:prstGeom prst="rect">
            <a:avLst/>
          </a:prstGeom>
          <a:ln w="0">
            <a:noFill/>
          </a:ln>
        </p:spPr>
      </p:sp>
      <p:sp>
        <p:nvSpPr>
          <p:cNvPr id="478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37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80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42840" y="755640"/>
            <a:ext cx="4972320" cy="3730680"/>
          </a:xfrm>
          <a:prstGeom prst="rect">
            <a:avLst/>
          </a:prstGeom>
          <a:ln w="0">
            <a:noFill/>
          </a:ln>
        </p:spPr>
      </p:sp>
      <p:sp>
        <p:nvSpPr>
          <p:cNvPr id="482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84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86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88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90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39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41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43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45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B3AD77-86B0-4832-8156-48BC3FD7E0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48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50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5FFA9-F864-4C4F-A164-C389783E92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453" name=""/>
          <p:cNvSpPr/>
          <p:nvPr/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1F3EF-83A6-45E4-B965-D0D3192DC5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5B88F-484A-4701-BC1E-914AAD5E9B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300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177F5-0ECE-46AA-A2CD-1D109DF29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41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08483-D4F0-4FFB-B608-A190F61C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392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7628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392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7628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A330E-DA2E-49B5-882B-2654F05DD1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C5D1C-9C73-41DD-998B-CE290EFB21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CD059-FD4C-4AFD-B718-B82B778C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D4B47-EDB3-499E-8861-2AA3D6DA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8F06C-B982-4231-BB07-A3D77605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206A1-B639-47BA-A38C-1EA92B7EF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7680"/>
            <a:ext cx="82216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4F79E-62BC-477D-BC4F-3600D214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A0D4A-1DA4-4E93-BCD1-9B146351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E1A78-6934-43A2-8046-FCB71D69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41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30B46-8351-43FF-801C-8E3EFA02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4BEBA-D8A8-4D14-AA0E-7DCAB2E8C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300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60952-C1C3-4EC2-B31A-E8E1BC84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41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29AAB-819C-499A-9AE2-290D1319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392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7628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392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7628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54C76-C185-479D-B37F-39E186F639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4DD4-EFA6-41A5-95DE-4D52572568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F5DD-BA63-4E7A-A0D1-37CBB6C9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828E-6A46-4B7C-8D03-B246E525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058D-0366-4CEF-9C1B-0AAD2C86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1729-87FE-490E-9DE3-0C7EB3058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3FEFE-D0FB-4C15-9F06-5B2D5781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7680"/>
            <a:ext cx="82216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DAEA-3E07-40F9-8353-540D88C45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3880-A100-46D9-BAB3-CD3DBF26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41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95F7-9D60-42A8-AACD-40DF7E36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9FF2-895A-4F99-A4E1-90774E8B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300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580B-0502-4DFB-9433-C260224E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41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7672E-F917-4DB9-AC3F-B1C11347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392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7628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392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7628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EABD-3E22-4FC4-84CB-C2B4F675FB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1C744D-5632-4C6E-A4CA-E8442198BB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DD56B-BCA9-436B-A234-62BDBE69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E3366A-9EAF-44CA-A7BC-89837D65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990BD-F600-45AC-921A-88D3A68E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1A30A4-5758-48F5-9EFB-F91C7981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D6ECFC-F0A3-47CA-BF25-1052AA42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7680"/>
            <a:ext cx="82216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10CBD0-C759-42EE-988C-C23E7BE7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7EDFF5-9646-4D70-BA3D-8B9BAB370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41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C4F945-CF18-4E05-B477-5946CA20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626940-9BA1-42F6-A91C-0A662F9B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300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743071-8E06-44E9-9CA0-DB61792C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41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4F7ECE-0CE6-47D1-B20F-932AD731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392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7628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392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7628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A431BE-5241-4982-9BD9-1C8B316C8B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9DEA56-4CEF-4CF7-9FBE-04CAE10DB1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39C23-0ECF-43A2-A430-4558037C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BCFA46-752C-4772-AED9-89328297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67B767-5AE1-4D7C-805C-5E0776E0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60B3AE-8037-479B-A28E-63B3CA321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AF2592-6545-4FEC-A4C1-E854B531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7680"/>
            <a:ext cx="82216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4B502D-2818-4CCC-893B-D5109AD6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D7261C-DE9D-4A6B-BFC1-2C35F667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41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36E3A6-0367-4032-9D9F-12F9ED80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A4EDDF-9B02-4CA7-B7FA-73DD63EB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300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BA41BF-52AC-4773-AD8E-BAC8A5B8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41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A545B0-B1EB-432F-B154-487E8638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7680"/>
            <a:ext cx="82216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1E841-8A3A-4EF9-BA31-B21BA1EC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392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7628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392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7628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87282E-F491-484D-A1DA-A096E27E11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44E80-99BD-473F-B3CA-B00C8528DE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4D979-0ECB-4457-9F35-E1832151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A4128-EE4A-4534-90BE-6ABA7311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0FF7D-662B-4A80-B916-CEA290FB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F3445-9413-4B6F-9324-35C5C912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7680"/>
            <a:ext cx="82216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52D0A-D62A-4A43-A166-A3C13DB4D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D9D31C-3817-45F0-9857-8E4CAC30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41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6F147-FB85-4E5A-92E5-440F3C05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FE19E-B6F1-4783-A77F-7B329D599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1FE75-FCDD-4F11-928B-CF2527CC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300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1D0C0-1C43-454B-BE55-BDFE4054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41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4F25B-7319-431D-A888-5C60F94D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392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7628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392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7628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E32A4-B74A-47AC-9601-7147376009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482C9A-C20B-4347-B4A8-872EAC8045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85ABB3-7999-4E78-A601-EF7BDB495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1056E6-6190-440D-A82E-79B2E9E9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F190C1-3C10-47C5-A76D-4C407205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16C155-A406-4883-A939-5C2149FC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7680"/>
            <a:ext cx="82216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72328D-CDC1-4D28-B097-3973C43B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60CEC7-E19B-4047-9A22-9A5ACF66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41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0DC1F-8757-4296-8D7A-CD75E5D3B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41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24AFCE-E497-4C7E-A6F7-B93BB092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647724-8F06-4E45-B980-E5954E29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300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C1F172-9DB9-4BC8-BC27-14F93268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4160" y="447300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25F303-FF93-4BA8-B9D6-F4DE7D77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392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76280" y="267444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392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76280" y="4473000"/>
            <a:ext cx="238284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B1C4A3-F975-48B7-B787-0F7BEE3F08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2674440"/>
            <a:ext cx="361152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3000"/>
            <a:ext cx="7400880" cy="164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4A420-CC7A-4F52-A168-0F0FD5BE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210960" y="1679400"/>
            <a:ext cx="8715600" cy="1322640"/>
            <a:chOff x="210960" y="1679400"/>
            <a:chExt cx="8715600" cy="1322640"/>
          </a:xfrm>
        </p:grpSpPr>
        <p:sp>
          <p:nvSpPr>
            <p:cNvPr id="2" name=""/>
            <p:cNvSpPr/>
            <p:nvPr/>
          </p:nvSpPr>
          <p:spPr>
            <a:xfrm>
              <a:off x="6046920" y="1824120"/>
              <a:ext cx="2868480" cy="706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619360" y="1697040"/>
              <a:ext cx="5535720" cy="841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828880" y="1708200"/>
              <a:ext cx="5459400" cy="7668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608800" y="1695600"/>
              <a:ext cx="3300120" cy="642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10960" y="1679400"/>
              <a:ext cx="8715600" cy="132264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78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2"/>
          </p:nvPr>
        </p:nvSpPr>
        <p:spPr>
          <a:xfrm>
            <a:off x="3990960" y="6249960"/>
            <a:ext cx="11541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ECB18-097E-4481-A189-E80918761F6B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10960" y="5354640"/>
            <a:ext cx="8715600" cy="1322280"/>
            <a:chOff x="210960" y="5354640"/>
            <a:chExt cx="8715600" cy="1322280"/>
          </a:xfrm>
        </p:grpSpPr>
        <p:sp>
          <p:nvSpPr>
            <p:cNvPr id="50" name=""/>
            <p:cNvSpPr/>
            <p:nvPr/>
          </p:nvSpPr>
          <p:spPr>
            <a:xfrm>
              <a:off x="6054840" y="5499000"/>
              <a:ext cx="2871720" cy="70668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622600" y="5372280"/>
              <a:ext cx="5543640" cy="841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32120" y="5383080"/>
              <a:ext cx="5465880" cy="7668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16720" y="5370480"/>
              <a:ext cx="3303360" cy="642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0960" y="5354640"/>
              <a:ext cx="8715600" cy="132228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5163840" y="6249960"/>
            <a:ext cx="3778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73e87"/>
                </a:solidFill>
                <a:latin typeface="Candar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  <a:ea typeface="Segoe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3990960" y="6249960"/>
            <a:ext cx="11541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ru-RU" sz="1000" spc="-1" strike="noStrike">
                <a:solidFill>
                  <a:srgbClr val="073e87"/>
                </a:solidFill>
                <a:latin typeface="Candara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99B116AC-FEB5-4B59-BB4F-C3ACDAD78B39}" type="slidenum">
              <a:rPr b="0" lang="ru-RU" sz="1000" spc="-1" strike="noStrike">
                <a:solidFill>
                  <a:srgbClr val="073e87"/>
                </a:solidFill>
                <a:latin typeface="Candara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>
            <a:off x="5163840" y="6249960"/>
            <a:ext cx="3778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73e87"/>
                </a:solidFill>
                <a:latin typeface="Candar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  <a:ea typeface="Segoe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541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ru-RU" sz="1000" spc="-1" strike="noStrike">
                <a:solidFill>
                  <a:srgbClr val="073e87"/>
                </a:solidFill>
                <a:latin typeface="Candara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1547872C-2BBB-4EFD-85E6-203BDC232DB0}" type="slidenum">
              <a:rPr b="0" lang="ru-RU" sz="1000" spc="-1" strike="noStrike">
                <a:solidFill>
                  <a:srgbClr val="073e87"/>
                </a:solidFill>
                <a:latin typeface="Candara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10960" y="714240"/>
            <a:ext cx="8715600" cy="1322640"/>
            <a:chOff x="210960" y="714240"/>
            <a:chExt cx="8715600" cy="1322640"/>
          </a:xfrm>
        </p:grpSpPr>
        <p:sp>
          <p:nvSpPr>
            <p:cNvPr id="145" name=""/>
            <p:cNvSpPr/>
            <p:nvPr/>
          </p:nvSpPr>
          <p:spPr>
            <a:xfrm>
              <a:off x="6046920" y="858960"/>
              <a:ext cx="2868480" cy="706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19360" y="731880"/>
              <a:ext cx="5535720" cy="841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28880" y="743040"/>
              <a:ext cx="5459400" cy="7668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08800" y="730080"/>
              <a:ext cx="3300120" cy="642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0960" y="714240"/>
              <a:ext cx="8715600" cy="132264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78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73e87"/>
                </a:solidFill>
                <a:latin typeface="Candar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  <a:ea typeface="Segoe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8"/>
          </p:nvPr>
        </p:nvSpPr>
        <p:spPr>
          <a:xfrm>
            <a:off x="3990960" y="6249960"/>
            <a:ext cx="11541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ru-RU" sz="1000" spc="-1" strike="noStrike">
                <a:solidFill>
                  <a:srgbClr val="073e87"/>
                </a:solidFill>
                <a:latin typeface="Candara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70FECFC6-4585-44B4-B968-D42D816F0134}" type="slidenum">
              <a:rPr b="0" lang="ru-RU" sz="1000" spc="-1" strike="noStrike">
                <a:solidFill>
                  <a:srgbClr val="073e87"/>
                </a:solidFill>
                <a:latin typeface="Candara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210960" y="714240"/>
            <a:ext cx="8715600" cy="1324080"/>
            <a:chOff x="210960" y="714240"/>
            <a:chExt cx="8715600" cy="1324080"/>
          </a:xfrm>
        </p:grpSpPr>
        <p:sp>
          <p:nvSpPr>
            <p:cNvPr id="193" name=""/>
            <p:cNvSpPr/>
            <p:nvPr/>
          </p:nvSpPr>
          <p:spPr>
            <a:xfrm>
              <a:off x="6054840" y="860400"/>
              <a:ext cx="2871720" cy="706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22600" y="731880"/>
              <a:ext cx="5543640" cy="8427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32120" y="743040"/>
              <a:ext cx="5465880" cy="7682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16720" y="730080"/>
              <a:ext cx="3303360" cy="6447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0960" y="714240"/>
              <a:ext cx="8715600" cy="132408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9"/>
          </p:nvPr>
        </p:nvSpPr>
        <p:spPr>
          <a:xfrm>
            <a:off x="5163840" y="6249960"/>
            <a:ext cx="3778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73e87"/>
                </a:solidFill>
                <a:latin typeface="Candar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  <a:ea typeface="Segoe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sldNum" idx="10"/>
          </p:nvPr>
        </p:nvSpPr>
        <p:spPr>
          <a:xfrm>
            <a:off x="3990960" y="6249960"/>
            <a:ext cx="11541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ru-RU" sz="1000" spc="-1" strike="noStrike">
                <a:solidFill>
                  <a:srgbClr val="073e87"/>
                </a:solidFill>
                <a:latin typeface="Candara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8D42D382-6970-468D-99FC-93D428455C14}" type="slidenum">
              <a:rPr b="0" lang="ru-RU" sz="1000" spc="-1" strike="noStrike">
                <a:solidFill>
                  <a:srgbClr val="073e87"/>
                </a:solidFill>
                <a:latin typeface="Candara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10960" y="5354640"/>
            <a:ext cx="8715600" cy="1322280"/>
            <a:chOff x="210960" y="5354640"/>
            <a:chExt cx="8715600" cy="1322280"/>
          </a:xfrm>
        </p:grpSpPr>
        <p:sp>
          <p:nvSpPr>
            <p:cNvPr id="241" name=""/>
            <p:cNvSpPr/>
            <p:nvPr/>
          </p:nvSpPr>
          <p:spPr>
            <a:xfrm>
              <a:off x="6054840" y="5499000"/>
              <a:ext cx="2871720" cy="70668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22600" y="5372280"/>
              <a:ext cx="5543640" cy="841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32120" y="5383080"/>
              <a:ext cx="5465880" cy="7668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16720" y="5370480"/>
              <a:ext cx="3303360" cy="642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0960" y="5354640"/>
              <a:ext cx="8715600" cy="132228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1"/>
          </p:nvPr>
        </p:nvSpPr>
        <p:spPr>
          <a:xfrm>
            <a:off x="5163840" y="6249960"/>
            <a:ext cx="3778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73e87"/>
                </a:solidFill>
                <a:latin typeface="Candar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  <a:ea typeface="Segoe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541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ru-RU" sz="1000" spc="-1" strike="noStrike">
                <a:solidFill>
                  <a:srgbClr val="073e87"/>
                </a:solidFill>
                <a:latin typeface="Candara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09C96036-97B1-46FD-A409-BB4C4BDAF915}" type="slidenum">
              <a:rPr b="0" lang="ru-RU" sz="1000" spc="-1" strike="noStrike">
                <a:solidFill>
                  <a:srgbClr val="073e87"/>
                </a:solidFill>
                <a:latin typeface="Candara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10960" y="714240"/>
            <a:ext cx="8715600" cy="1324080"/>
            <a:chOff x="210960" y="714240"/>
            <a:chExt cx="8715600" cy="1324080"/>
          </a:xfrm>
        </p:grpSpPr>
        <p:sp>
          <p:nvSpPr>
            <p:cNvPr id="289" name=""/>
            <p:cNvSpPr/>
            <p:nvPr/>
          </p:nvSpPr>
          <p:spPr>
            <a:xfrm>
              <a:off x="6054840" y="860400"/>
              <a:ext cx="2871720" cy="706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22600" y="731880"/>
              <a:ext cx="5543640" cy="8427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32120" y="743040"/>
              <a:ext cx="5465880" cy="7682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16720" y="730080"/>
              <a:ext cx="3303360" cy="6447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cap="sq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0960" y="714240"/>
              <a:ext cx="8715600" cy="132408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16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0880" cy="34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782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073e87"/>
                </a:solidFill>
                <a:latin typeface="Candar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  <a:ea typeface="Segoe U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9368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4"/>
          </p:nvPr>
        </p:nvSpPr>
        <p:spPr>
          <a:xfrm>
            <a:off x="3990960" y="6249960"/>
            <a:ext cx="115416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  <a:defRPr b="0" lang="ru-RU" sz="1000" spc="-1" strike="noStrike">
                <a:solidFill>
                  <a:srgbClr val="073e87"/>
                </a:solidFill>
                <a:latin typeface="Candara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fld id="{6B3EE1B0-4ACB-4E21-A253-A9C0DB9C9D45}" type="slidenum">
              <a:rPr b="0" lang="ru-RU" sz="1000" spc="-1" strike="noStrike">
                <a:solidFill>
                  <a:srgbClr val="073e87"/>
                </a:solidFill>
                <a:latin typeface="Candara"/>
                <a:ea typeface="Segoe U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79280" y="1628640"/>
            <a:ext cx="871560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31f43"/>
                </a:solidFill>
                <a:latin typeface="Tahoma"/>
                <a:ea typeface="Tahoma"/>
              </a:rPr>
              <a:t>СОВРЕМЕННЫЕ ОБРАЗОВАТЕЛЬНЫЕ ТЕХНОЛОГИИ РЕАЛИЗАЦИИ ФГОС В СИСТЕМЕ </a:t>
            </a:r>
            <a:r>
              <a:rPr b="1" lang="ru-RU" sz="5400" spc="-1" strike="noStrike">
                <a:solidFill>
                  <a:srgbClr val="031f43"/>
                </a:solidFill>
                <a:latin typeface="Times New Roman"/>
                <a:ea typeface="Tahoma"/>
              </a:rPr>
              <a:t>основного</a:t>
            </a:r>
            <a:r>
              <a:rPr b="1" lang="ru-RU" sz="3200" spc="-1" strike="noStrike">
                <a:solidFill>
                  <a:srgbClr val="031f43"/>
                </a:solidFill>
                <a:latin typeface="Tahoma"/>
                <a:ea typeface="Tahoma"/>
              </a:rPr>
              <a:t> ОБЩЕГО ОБРАЗОВАНИЯ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ndara"/>
                <a:ea typeface="Microsoft YaHei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ndara"/>
                <a:ea typeface="Microsoft YaHei"/>
              </a:rPr>
              <a:t>                          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211640" y="5732640"/>
            <a:ext cx="471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31f43"/>
                </a:solidFill>
                <a:latin typeface="Tahoma"/>
                <a:ea typeface="Tahoma"/>
              </a:rPr>
              <a:t>Семерникова Александра Данило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31f43"/>
                </a:solidFill>
                <a:latin typeface="Tahoma"/>
                <a:ea typeface="Tahoma"/>
              </a:rPr>
              <a:t>учитель русского языка МБОУ Какичевская ОО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5072040" y="4071960"/>
            <a:ext cx="385776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1560" algn="ctr">
              <a:lnSpc>
                <a:spcPct val="100000"/>
              </a:lnSpc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ПРОБЛЕМНОЕ ОБУЧЕНИЕ  </a:t>
            </a:r>
            <a:r>
              <a:rPr b="1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(</a:t>
            </a:r>
            <a:r>
              <a:rPr b="1" lang="ru-RU" sz="1600" spc="-1" strike="noStrike">
                <a:solidFill>
                  <a:srgbClr val="002060"/>
                </a:solidFill>
                <a:latin typeface="Tahoma"/>
                <a:ea typeface="Tahoma"/>
              </a:rPr>
              <a:t>ОБУЧЕНИЕ НА ОСНОВЕ          «УЧЕБНЫХ  СИТУАЦИЙ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92000" y="189000"/>
            <a:ext cx="7525080" cy="1260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cap="sq"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Базовые образов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086440" y="1581120"/>
            <a:ext cx="3708360" cy="16430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10080" y="1852560"/>
            <a:ext cx="3375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ahoma"/>
                <a:ea typeface="Tahoma"/>
              </a:rPr>
              <a:t>Между обучением и психическ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ahoma"/>
                <a:ea typeface="Tahoma"/>
              </a:rPr>
              <a:t>развитием человека всег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ahoma"/>
                <a:ea typeface="Tahoma"/>
              </a:rPr>
              <a:t>стоит его деятельность</a:t>
            </a:r>
            <a:r>
              <a:rPr b="1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00040" y="4572000"/>
            <a:ext cx="4381560" cy="21495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012000" y="5229360"/>
            <a:ext cx="26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61840" y="5180040"/>
            <a:ext cx="399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ahoma"/>
                <a:ea typeface="Tahoma"/>
              </a:rPr>
              <a:t>образовательная задач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ahoma"/>
                <a:ea typeface="Tahoma"/>
              </a:rPr>
              <a:t>состоит в организации условий, провоцирующих детское действ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dur="indefinite" fill="hold">
                      <p:stCondLst>
                        <p:cond delay="indefinite"/>
                      </p:stCondLst>
                      <p:childTnLst>
                        <p:par>
                          <p:cTn id="2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dur="indefinite" fill="hold">
                      <p:stCondLst>
                        <p:cond delay="indefinite"/>
                      </p:stCondLst>
                      <p:childTnLst>
                        <p:par>
                          <p:cTn id="2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dur="indefinite" fill="hold">
                      <p:stCondLst>
                        <p:cond delay="indefinite"/>
                      </p:stCondLst>
                      <p:childTnLst>
                        <p:par>
                          <p:cTn id="2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dur="indefinite" fill="hold">
                      <p:stCondLst>
                        <p:cond delay="indefinite"/>
                      </p:stCondLst>
                      <p:childTnLst>
                        <p:par>
                          <p:cTn id="2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539640" y="1704600"/>
            <a:ext cx="82486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Сущность проблемного обучения состоит в том, что 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  <a:ea typeface="Tahoma"/>
              </a:rPr>
              <a:t>учащиеся  систематически включаются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учителем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  <a:ea typeface="Tahoma"/>
              </a:rPr>
              <a:t>в процесс поиска доказательного решения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новых для них проблем, благодаря чему они учатся 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  <a:ea typeface="Tahoma"/>
              </a:rPr>
              <a:t>самостоятельно добывать знания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применять ранее усвоенные и овладевают опытом творче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771640" y="2997360"/>
            <a:ext cx="52912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156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31f43"/>
                </a:solidFill>
                <a:latin typeface="Tahoma"/>
                <a:ea typeface="Tahoma"/>
              </a:rPr>
              <a:t>УРОВНЕ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156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31f43"/>
                </a:solidFill>
                <a:latin typeface="Tahoma"/>
                <a:ea typeface="Tahoma"/>
              </a:rPr>
              <a:t>ДИФФЕРЕНЦИ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92000" y="189000"/>
            <a:ext cx="7525080" cy="1260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cap="sq"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Базовые образов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техн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16000" y="3786120"/>
            <a:ext cx="8388360" cy="30718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1" lang="ru-RU" sz="1600" spc="-1" strike="noStrike">
                <a:solidFill>
                  <a:srgbClr val="c6e7f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c6e7fc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c6e7fc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Основные принци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открытость системы требова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предъявление образцов деятельн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«ножницы» между базовым и повышенными уровнями требова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посильность базового уровня, обязательность его освоения всеми уч-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добровольность в освоении повышенных уровней требова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работа с группами «подвижного» соста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ahoma"/>
                <a:ea typeface="Tahoma"/>
              </a:rPr>
              <a:t>накопительная система оцени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924360" y="1071720"/>
            <a:ext cx="5219640" cy="2070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Основ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дифференциация треб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к уровню освоения, явное вы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базового и повышенных уров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dur="indefinite" fill="hold">
                      <p:stCondLst>
                        <p:cond delay="indefinite"/>
                      </p:stCondLst>
                      <p:childTnLst>
                        <p:par>
                          <p:cTn id="2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dur="indefinite" fill="hold">
                      <p:stCondLst>
                        <p:cond delay="indefinite"/>
                      </p:stCondLst>
                      <p:childTnLst>
                        <p:par>
                          <p:cTn id="2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dur="indefinite" fill="hold">
                      <p:stCondLst>
                        <p:cond delay="indefinite"/>
                      </p:stCondLst>
                      <p:childTnLst>
                        <p:par>
                          <p:cTn id="2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dur="indefinite" fill="hold">
                      <p:stCondLst>
                        <p:cond delay="indefinite"/>
                      </p:stCondLst>
                      <p:childTnLst>
                        <p:par>
                          <p:cTn id="3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dur="indefinite" fill="hold">
                      <p:stCondLst>
                        <p:cond delay="indefinite"/>
                      </p:stCondLst>
                      <p:childTnLst>
                        <p:par>
                          <p:cTn id="3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395280" y="1779840"/>
            <a:ext cx="842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ahoma"/>
                <a:ea typeface="Tahoma"/>
              </a:rPr>
              <a:t>Дифференцированное обучение 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– это форма организации учебного процесса, при которой педагог </a:t>
            </a:r>
            <a:r>
              <a:rPr b="1" lang="ru-RU" sz="3200" spc="-1" strike="noStrike">
                <a:solidFill>
                  <a:srgbClr val="c00000"/>
                </a:solidFill>
                <a:latin typeface="Tahoma"/>
                <a:ea typeface="Tahoma"/>
              </a:rPr>
              <a:t>работает с группой учащихся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, </a:t>
            </a:r>
            <a:r>
              <a:rPr b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составленной с учетом наличия у них каких- либо значимых для учебного процессе общих кач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Дифференциация   заданий по уровню   твор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9480" y="1600200"/>
            <a:ext cx="3886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РЕПРОДУК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Выполни пересказ сказ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Спиши текст, вставляя буквы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1600200"/>
            <a:ext cx="3886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64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4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  <a:ea typeface="Tahoma"/>
              </a:rPr>
              <a:t>ТВОР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Перескажи сказку от лица лис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271440"/>
                <a:tab algn="l" pos="719280"/>
                <a:tab algn="l" pos="1168560"/>
                <a:tab algn="l" pos="1617840"/>
                <a:tab algn="l" pos="2066760"/>
                <a:tab algn="l" pos="2516040"/>
                <a:tab algn="l" pos="2965320"/>
                <a:tab algn="l" pos="3414600"/>
                <a:tab algn="l" pos="3863880"/>
                <a:tab algn="l" pos="4313160"/>
                <a:tab algn="l" pos="4762440"/>
                <a:tab algn="l" pos="5211720"/>
                <a:tab algn="l" pos="5661000"/>
                <a:tab algn="l" pos="6110280"/>
                <a:tab algn="l" pos="6559560"/>
                <a:tab algn="l" pos="7008840"/>
                <a:tab algn="l" pos="7458120"/>
                <a:tab algn="l" pos="7907400"/>
                <a:tab algn="l" pos="8356680"/>
                <a:tab algn="l" pos="8805960"/>
                <a:tab algn="l" pos="925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Спиши текст, заменяя имена прилагательные антонимами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"/>
          <p:cNvCxnSpPr/>
          <p:nvPr/>
        </p:nvCxnSpPr>
        <p:spPr>
          <a:xfrm>
            <a:off x="4571640" y="1676520"/>
            <a:ext cx="2515320" cy="762480"/>
          </a:xfrm>
          <a:prstGeom prst="straightConnector1">
            <a:avLst/>
          </a:prstGeom>
          <a:ln cap="sq"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395" name=""/>
          <p:cNvCxnSpPr/>
          <p:nvPr/>
        </p:nvCxnSpPr>
        <p:spPr>
          <a:xfrm flipH="1">
            <a:off x="2361960" y="1676520"/>
            <a:ext cx="2286720" cy="762480"/>
          </a:xfrm>
          <a:prstGeom prst="straightConnector1">
            <a:avLst/>
          </a:prstGeom>
          <a:ln cap="sq" w="38160">
            <a:solidFill>
              <a:srgbClr val="7030a0"/>
            </a:solidFill>
            <a:miter/>
            <a:tailEnd len="med" type="arrow" w="med"/>
          </a:ln>
        </p:spPr>
      </p:cxn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500040" y="2349360"/>
            <a:ext cx="42530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15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ИНФОРМАЦИОННЫЕ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15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КОММУНИКА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156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92000" y="189000"/>
            <a:ext cx="7525080" cy="1152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cap="sq"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c6e7f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Базовые образов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57160" y="4572000"/>
            <a:ext cx="6470640" cy="2043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Образовательная деятельность на основе ИК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открытое (но контролируемое) простра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информационных источнико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Tahoma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информационная поддержка учебного проц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dur="indefinite" fill="hold">
                      <p:stCondLst>
                        <p:cond delay="indefinite"/>
                      </p:stCondLst>
                      <p:childTnLst>
                        <p:par>
                          <p:cTn id="3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dur="indefinite" fill="hold">
                      <p:stCondLst>
                        <p:cond delay="indefinite"/>
                      </p:stCondLst>
                      <p:childTnLst>
                        <p:par>
                          <p:cTn id="3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dur="indefinite" fill="hold">
                      <p:stCondLst>
                        <p:cond delay="indefinite"/>
                      </p:stCondLst>
                      <p:childTnLst>
                        <p:par>
                          <p:cTn id="3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dur="indefinite" fill="hold">
                      <p:stCondLst>
                        <p:cond delay="indefinite"/>
                      </p:stCondLst>
                      <p:childTnLst>
                        <p:par>
                          <p:cTn id="3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250920" y="1717560"/>
            <a:ext cx="871380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  <a:ea typeface="Tahoma"/>
              </a:rPr>
              <a:t>Информационные технологии обучения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– это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  <a:ea typeface="Tahoma"/>
              </a:rPr>
              <a:t>процессы подготовки и передачи информации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обучающему, средством осуществления 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  <a:ea typeface="Tahoma"/>
              </a:rPr>
              <a:t>которых является компьют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ahoma"/>
                <a:ea typeface="Tahoma"/>
              </a:rPr>
              <a:t>Формы использования ИТ </a:t>
            </a:r>
            <a:r>
              <a:rPr b="1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разнообразны: от демонстрации на уроке до дистанционного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71400" y="285840"/>
            <a:ext cx="78091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Использование информационно- коммуникативных технологий позволя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71400" y="1906560"/>
            <a:ext cx="811548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-315720">
              <a:lnSpc>
                <a:spcPct val="100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активизировать познавательную активность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проводить уроки на высоком эстетическом и эмоциональном уров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обеспечивать высокую степень дифференциации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совершенствовать контроль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рационально организовывать учебный проце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обеспечивать доступ к различным информационным ресур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17520">
              <a:lnSpc>
                <a:spcPct val="100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17520">
              <a:lnSpc>
                <a:spcPct val="100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17520">
              <a:lnSpc>
                <a:spcPct val="100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17520">
              <a:lnSpc>
                <a:spcPct val="100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15720" algn="r">
              <a:lnSpc>
                <a:spcPct val="100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Arial"/>
                <a:ea typeface="Tahoma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17520">
              <a:lnSpc>
                <a:spcPct val="100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7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7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9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4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4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95280" y="1557360"/>
            <a:ext cx="84978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Адаптивность: </a:t>
            </a:r>
            <a:r>
              <a:rPr b="0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приспособление компьютера к индивидуальным особенностям ребё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Управляемость:</a:t>
            </a:r>
            <a:r>
              <a:rPr b="0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 коррекция учителем возможна в любой моме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Интерактивность и  диалоговый характер: </a:t>
            </a:r>
            <a:r>
              <a:rPr b="0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ИКТ обладают способностью «откликаться» на действия ученика и учителя, вступать с ним в диало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Оптимальное сочетание </a:t>
            </a:r>
            <a:r>
              <a:rPr b="0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индивидуальной и групповой 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264960"/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Поддержание </a:t>
            </a:r>
            <a:r>
              <a:rPr b="0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у ученика состояния психологического комфорта при обращении с компьюте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Особенности построения уроков с  использованием И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714240" y="357120"/>
            <a:ext cx="7674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доровьесберегающие </a:t>
            </a:r>
            <a:br>
              <a:rPr sz="3200"/>
            </a:b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овательные техн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14240" y="1733400"/>
            <a:ext cx="7966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доровьесберегающие образовательные технологии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– это системный подход к обучению и воспитанию, построенный на стремлении педагога не нанести ущерб здоровью уча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549360" y="3359160"/>
            <a:ext cx="8308800" cy="263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2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3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785880" y="260280"/>
            <a:ext cx="771516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ahoma"/>
                <a:ea typeface="Tahoma"/>
              </a:rPr>
              <a:t>Цель нового образ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9640" y="1844640"/>
            <a:ext cx="8425080" cy="46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08000" algn="ct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Формировать не только знания, но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algn="ct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РАЗВИВАТЬ УМ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 algn="just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lnSpc>
                <a:spcPct val="73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ставить цель и добиваться е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lnSpc>
                <a:spcPct val="73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самостоятельно добывать и применять зн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lnSpc>
                <a:spcPct val="73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составлять план своих действий и самостоятельно оценивать их последст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lnSpc>
                <a:spcPct val="73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задавать вопрос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lnSpc>
                <a:spcPct val="73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ясно выражать свои мысл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lnSpc>
                <a:spcPct val="73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заботиться о других, быть нравственным челове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0080">
              <a:lnSpc>
                <a:spcPct val="73000"/>
              </a:lnSpc>
              <a:spcBef>
                <a:spcPts val="601"/>
              </a:spcBef>
              <a:buClr>
                <a:srgbClr val="31b6fd"/>
              </a:buClr>
              <a:buFont typeface="Wingdings" charset="2"/>
              <a:buChar char=""/>
              <a:tabLst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сохранять и укреплять своё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6200" algn="just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57200" y="27468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лементы здоровьесберегающих технологий, применяемые на уроках в начальной шк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428760" y="1886040"/>
          <a:ext cx="8229600" cy="424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886040"/>
                    <a:ext cx="8229600" cy="42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3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4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000080" y="274680"/>
            <a:ext cx="764388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нципы здоровьесбережения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14240" y="1341360"/>
            <a:ext cx="7818480" cy="49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buClr>
                <a:srgbClr val="002060"/>
              </a:buClr>
              <a:buSzPct val="60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навреди!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2060"/>
              </a:buClr>
              <a:buSzPct val="60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оритет заботы о здоровье учителя и учащего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2060"/>
              </a:buClr>
              <a:buSzPct val="60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прерывность и преемствен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2060"/>
              </a:buClr>
              <a:buSzPct val="60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убъект-субъектные взаимоотно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2060"/>
              </a:buClr>
              <a:buSzPct val="60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ответствие содержания и                            организации обучения возрастным              особенностям уча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2060"/>
              </a:buClr>
              <a:buSzPct val="60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плексный, междисциплинарный                    подх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2060"/>
              </a:buClr>
              <a:buSzPct val="60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пех порождает усп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2060"/>
              </a:buClr>
              <a:buSzPct val="60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и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2060"/>
              </a:buClr>
              <a:buSzPct val="60000"/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ветственность за свое здоров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7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8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9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9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0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1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684360" y="476280"/>
            <a:ext cx="7808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Коллективные способы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71400" y="1643040"/>
            <a:ext cx="81154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31640" indent="16200" algn="ctr">
              <a:lnSpc>
                <a:spcPct val="100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КСО – это организация учебного процесса, при котором обучение осуществляется путем общения в «динамических парах», когда каждый учит друг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16200">
              <a:lnSpc>
                <a:spcPct val="100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Ситу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11160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изучение текстового материала по любому учебному предмет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11160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взаимообмен задания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11160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выполнение упражнений в пар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11160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работа по вопросам к текс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14400">
              <a:lnSpc>
                <a:spcPct val="100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14400">
              <a:lnSpc>
                <a:spcPct val="100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14400">
              <a:lnSpc>
                <a:spcPct val="100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14400">
              <a:lnSpc>
                <a:spcPct val="100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14400">
              <a:lnSpc>
                <a:spcPct val="100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16200" algn="r">
              <a:lnSpc>
                <a:spcPct val="100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Arial"/>
                <a:ea typeface="Tahoma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14400">
              <a:lnSpc>
                <a:spcPct val="100000"/>
              </a:lnSpc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dur="indefinite" fill="hold">
                      <p:stCondLst>
                        <p:cond delay="indefinite"/>
                      </p:stCondLst>
                      <p:childTnLst>
                        <p:par>
                          <p:cTn id="5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dur="indefinite" fill="hold">
                      <p:stCondLst>
                        <p:cond delay="indefinite"/>
                      </p:stCondLst>
                      <p:childTnLst>
                        <p:par>
                          <p:cTn id="5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dur="indefinite" fill="hold">
                      <p:stCondLst>
                        <p:cond delay="indefinite"/>
                      </p:stCondLst>
                      <p:childTnLst>
                        <p:par>
                          <p:cTn id="5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dur="indefinite" fill="hold">
                      <p:stCondLst>
                        <p:cond delay="indefinite"/>
                      </p:stCondLst>
                      <p:childTnLst>
                        <p:par>
                          <p:cTn id="5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dur="indefinite" fill="hold">
                      <p:stCondLst>
                        <p:cond delay="indefinite"/>
                      </p:stCondLst>
                      <p:childTnLst>
                        <p:par>
                          <p:cTn id="5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dur="indefinite" fill="hold">
                      <p:stCondLst>
                        <p:cond delay="indefinite"/>
                      </p:stCondLst>
                      <p:childTnLst>
                        <p:par>
                          <p:cTn id="5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dur="indefinite" fill="hold">
                      <p:stCondLst>
                        <p:cond delay="indefinite"/>
                      </p:stCondLst>
                      <p:childTnLst>
                        <p:par>
                          <p:cTn id="5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r>
              <a:rPr b="0" lang="ru-RU" sz="4400" spc="-1" strike="noStrike">
                <a:solidFill>
                  <a:srgbClr val="002060"/>
                </a:solidFill>
                <a:latin typeface="Tahoma"/>
                <a:ea typeface="Tahoma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324000" y="1935000"/>
          <a:ext cx="8570520" cy="4308120"/>
        </p:xfrm>
        <a:graphic>
          <a:graphicData uri="http://schemas.openxmlformats.org/drawingml/2006/table">
            <a:tbl>
              <a:tblPr/>
              <a:tblGrid>
                <a:gridCol w="4285080"/>
                <a:gridCol w="4285440"/>
              </a:tblGrid>
              <a:tr h="46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Деятельность учит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Деятельность учащих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1b6fd"/>
                    </a:solidFill>
                  </a:tcPr>
                </a:tc>
              </a:tr>
              <a:tr h="4596120">
                <a:tc>
                  <a:txBody>
                    <a:bodyPr lIns="90000" rIns="90000" anchor="t">
                      <a:noAutofit/>
                    </a:bodyPr>
                    <a:p>
                      <a:pPr marL="277920" indent="-277920" algn="ctr">
                        <a:lnSpc>
                          <a:spcPct val="101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277920"/>
                          <a:tab algn="l" pos="725400"/>
                          <a:tab algn="l" pos="1174680"/>
                          <a:tab algn="l" pos="1623960"/>
                          <a:tab algn="l" pos="2073240"/>
                          <a:tab algn="l" pos="2522520"/>
                          <a:tab algn="l" pos="2971800"/>
                          <a:tab algn="l" pos="3421080"/>
                          <a:tab algn="l" pos="3870360"/>
                          <a:tab algn="l" pos="4319640"/>
                          <a:tab algn="l" pos="4768920"/>
                          <a:tab algn="l" pos="5218200"/>
                          <a:tab algn="l" pos="5667480"/>
                          <a:tab algn="l" pos="6116760"/>
                          <a:tab algn="l" pos="6566040"/>
                          <a:tab algn="l" pos="7015320"/>
                          <a:tab algn="l" pos="7464600"/>
                          <a:tab algn="l" pos="7913520"/>
                          <a:tab algn="l" pos="8362800"/>
                          <a:tab algn="l" pos="8812080"/>
                          <a:tab algn="l" pos="92613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следует вернуть учащихся к первоначальным записям – предположениям, внести изменения, дополнения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77920" indent="-277920" algn="ctr">
                        <a:lnSpc>
                          <a:spcPct val="105000"/>
                        </a:lnSpc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277920"/>
                          <a:tab algn="l" pos="725400"/>
                          <a:tab algn="l" pos="1174680"/>
                          <a:tab algn="l" pos="1623960"/>
                          <a:tab algn="l" pos="2073240"/>
                          <a:tab algn="l" pos="2522520"/>
                          <a:tab algn="l" pos="2971800"/>
                          <a:tab algn="l" pos="3421080"/>
                          <a:tab algn="l" pos="3870360"/>
                          <a:tab algn="l" pos="4319640"/>
                          <a:tab algn="l" pos="4768920"/>
                          <a:tab algn="l" pos="5218200"/>
                          <a:tab algn="l" pos="5667480"/>
                          <a:tab algn="l" pos="6116760"/>
                          <a:tab algn="l" pos="6566040"/>
                          <a:tab algn="l" pos="7015320"/>
                          <a:tab algn="l" pos="7464600"/>
                          <a:tab algn="l" pos="7913520"/>
                          <a:tab algn="l" pos="8362800"/>
                          <a:tab algn="l" pos="8812080"/>
                          <a:tab algn="l" pos="926136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дать творческие, исследовательские или практические задания на основе изученной информ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1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2060"/>
                          </a:solidFill>
                          <a:latin typeface="Tahoma"/>
                          <a:ea typeface="Tahoma"/>
                        </a:rPr>
                        <a:t>соотносят «новую» информацию со старой, используя знания, полученные на стадии осмыс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de5f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2209680" y="380880"/>
            <a:ext cx="4267440" cy="6096240"/>
          </a:xfrm>
          <a:prstGeom prst="ellipse">
            <a:avLst/>
          </a:prstGeom>
          <a:solidFill>
            <a:srgbClr val="00ff00">
              <a:alpha val="50000"/>
            </a:srgbClr>
          </a:solidFill>
          <a:ln cap="sq" w="38160">
            <a:solidFill>
              <a:srgbClr val="66ff66"/>
            </a:solidFill>
            <a:custDash>
              <a:ds d="400000" sp="300000"/>
            </a:custDash>
            <a:miter/>
          </a:ln>
          <a:effectLst>
            <a:outerShdw dist="17819" dir="2700000" blurRad="0" rotWithShape="0">
              <a:srgbClr val="c6e7f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857920" y="428760"/>
            <a:ext cx="3000240" cy="368280"/>
          </a:xfrm>
          <a:prstGeom prst="rect">
            <a:avLst/>
          </a:prstGeom>
          <a:solidFill>
            <a:srgbClr val="ffff00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азвивающее обуч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857920" y="857160"/>
            <a:ext cx="3000240" cy="368280"/>
          </a:xfrm>
          <a:prstGeom prst="rect">
            <a:avLst/>
          </a:prstGeom>
          <a:solidFill>
            <a:srgbClr val="ffff00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облемное обучен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867640" y="1357200"/>
            <a:ext cx="3035160" cy="368280"/>
          </a:xfrm>
          <a:prstGeom prst="rect">
            <a:avLst/>
          </a:prstGeom>
          <a:solidFill>
            <a:srgbClr val="ffff00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азноуровневое обуч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929200" y="1928880"/>
            <a:ext cx="2867040" cy="642600"/>
          </a:xfrm>
          <a:prstGeom prst="rect">
            <a:avLst/>
          </a:prstGeom>
          <a:solidFill>
            <a:srgbClr val="ffff00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коллективную систему обучения (КС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072120" y="4286160"/>
            <a:ext cx="289584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ехнологию решения изобретательских задач (ТРИЗ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072120" y="3571920"/>
            <a:ext cx="2895840" cy="642600"/>
          </a:xfrm>
          <a:prstGeom prst="rect">
            <a:avLst/>
          </a:prstGeom>
          <a:solidFill>
            <a:srgbClr val="ffff00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исследовательские методы  в обуч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00840" y="2714760"/>
            <a:ext cx="2895480" cy="642600"/>
          </a:xfrm>
          <a:prstGeom prst="rect">
            <a:avLst/>
          </a:prstGeom>
          <a:solidFill>
            <a:srgbClr val="ffff00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проектные методы обу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928960" y="4286160"/>
            <a:ext cx="300024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ехнологию  развития «критического мышления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86000" y="5429160"/>
            <a:ext cx="441972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ехнологию использования в обучении игровых методов: ролевых, деловых  и другие   видов обучающих иг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14200" y="4071960"/>
            <a:ext cx="2667240" cy="1191240"/>
          </a:xfrm>
          <a:prstGeom prst="rect">
            <a:avLst/>
          </a:prstGeom>
          <a:solidFill>
            <a:srgbClr val="ffff00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обучение в сотрудничестве (командная, групповая работ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14200" y="3000240"/>
            <a:ext cx="266724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информационно-коммуникационны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4200" y="2214720"/>
            <a:ext cx="2667240" cy="642600"/>
          </a:xfrm>
          <a:prstGeom prst="rect">
            <a:avLst/>
          </a:prstGeom>
          <a:solidFill>
            <a:srgbClr val="ffff00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здоровьесберегающи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14200" y="1214280"/>
            <a:ext cx="309240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истему   инновационной оценки «портфель достижений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4200" y="428760"/>
            <a:ext cx="3353040" cy="642600"/>
          </a:xfrm>
          <a:prstGeom prst="rect">
            <a:avLst/>
          </a:prstGeom>
          <a:solidFill>
            <a:srgbClr val="ffff00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ехнологию дистанционного обучения  и д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2895480" y="2133720"/>
            <a:ext cx="3043440" cy="187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2600">
                  <a:solidFill>
                    <a:srgbClr val="ffcc81"/>
                  </a:solidFill>
                  <a:miter/>
                </a:ln>
                <a:solidFill>
                  <a:srgbClr val="002060"/>
                </a:solidFill>
                <a:latin typeface="Tahoma"/>
              </a:rPr>
              <a:t>К числу</a:t>
            </a:r>
            <a:endParaRPr b="1" lang="en-US" sz="1800" spc="1" strike="noStrike">
              <a:ln cap="sq" w="12600">
                <a:solidFill>
                  <a:srgbClr val="ffcc81"/>
                </a:solidFill>
                <a:miter/>
              </a:ln>
              <a:solidFill>
                <a:srgbClr val="002060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2600">
                  <a:solidFill>
                    <a:srgbClr val="ffcc81"/>
                  </a:solidFill>
                  <a:miter/>
                </a:ln>
                <a:solidFill>
                  <a:srgbClr val="002060"/>
                </a:solidFill>
                <a:latin typeface="Tahoma"/>
              </a:rPr>
              <a:t>современных</a:t>
            </a:r>
            <a:endParaRPr b="1" lang="en-US" sz="1800" spc="1" strike="noStrike">
              <a:ln cap="sq" w="12600">
                <a:solidFill>
                  <a:srgbClr val="ffcc81"/>
                </a:solidFill>
                <a:miter/>
              </a:ln>
              <a:solidFill>
                <a:srgbClr val="002060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2600">
                  <a:solidFill>
                    <a:srgbClr val="ffcc81"/>
                  </a:solidFill>
                  <a:miter/>
                </a:ln>
                <a:solidFill>
                  <a:srgbClr val="002060"/>
                </a:solidFill>
                <a:latin typeface="Tahoma"/>
              </a:rPr>
              <a:t>образовательных</a:t>
            </a:r>
            <a:endParaRPr b="1" lang="en-US" sz="1800" spc="1" strike="noStrike">
              <a:ln cap="sq" w="12600">
                <a:solidFill>
                  <a:srgbClr val="ffcc81"/>
                </a:solidFill>
                <a:miter/>
              </a:ln>
              <a:solidFill>
                <a:srgbClr val="002060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2600">
                  <a:solidFill>
                    <a:srgbClr val="ffcc81"/>
                  </a:solidFill>
                  <a:miter/>
                </a:ln>
                <a:solidFill>
                  <a:srgbClr val="002060"/>
                </a:solidFill>
                <a:latin typeface="Tahoma"/>
              </a:rPr>
              <a:t>технологий</a:t>
            </a:r>
            <a:endParaRPr b="1" lang="en-US" sz="1800" spc="1" strike="noStrike">
              <a:ln cap="sq" w="12600">
                <a:solidFill>
                  <a:srgbClr val="ffcc81"/>
                </a:solidFill>
                <a:miter/>
              </a:ln>
              <a:solidFill>
                <a:srgbClr val="002060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12600">
                  <a:solidFill>
                    <a:srgbClr val="ffcc81"/>
                  </a:solidFill>
                  <a:miter/>
                </a:ln>
                <a:solidFill>
                  <a:srgbClr val="002060"/>
                </a:solidFill>
                <a:latin typeface="Tahoma"/>
              </a:rPr>
              <a:t>можно отнести:</a:t>
            </a:r>
            <a:endParaRPr b="1" lang="en-US" sz="1800" spc="1" strike="noStrike">
              <a:ln cap="sq" w="12600">
                <a:solidFill>
                  <a:srgbClr val="ffcc81"/>
                </a:solidFill>
                <a:miter/>
              </a:ln>
              <a:solidFill>
                <a:srgbClr val="002060"/>
              </a:solidFill>
              <a:latin typeface="Tahoma"/>
              <a:ea typeface="Tahoma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71400" y="357120"/>
            <a:ext cx="780912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71400" y="1906560"/>
            <a:ext cx="811548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08000" algn="ct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«Если ребенку удается добиться успеха в школе, у него есть все шансы на успех в жизн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 algn="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 algn="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У. Гласс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algn="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62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8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671400" y="285840"/>
            <a:ext cx="7809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ahoma"/>
                <a:ea typeface="Tahoma"/>
              </a:rPr>
              <a:t>ФГОС НОО: новый 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572320" cy="564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671400" y="214200"/>
            <a:ext cx="78091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ahoma"/>
                <a:ea typeface="Tahoma"/>
              </a:rPr>
              <a:t>ФГОС НОО: новый 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572320" cy="564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785880" y="260280"/>
            <a:ext cx="771516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ahoma"/>
                <a:ea typeface="Tahoma"/>
              </a:rPr>
              <a:t>Ориентация на парадигму деятельностного разви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5280" y="2071800"/>
            <a:ext cx="856944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08000" algn="ct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Основной результат – развитие личности ребенка на основе учебн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algn="just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 algn="just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68360" y="3357720"/>
            <a:ext cx="8470800" cy="936360"/>
          </a:xfrm>
          <a:prstGeom prst="pie">
            <a:avLst/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Вектор смещения акцентов нового станда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5280" y="3357720"/>
            <a:ext cx="8543880" cy="936360"/>
          </a:xfrm>
          <a:prstGeom prst="pie">
            <a:avLst/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Вектор смещения акцентов нового станда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87360" y="428940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уч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обно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содерж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665520" y="429408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ahoma"/>
              </a:rPr>
              <a:t>чего учи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цен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661080" y="4294080"/>
            <a:ext cx="2340000" cy="23400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</a:rPr>
              <a:t>К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ahoma"/>
              </a:rPr>
              <a:t>учи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обно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785880" y="260280"/>
            <a:ext cx="796284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ahoma"/>
                <a:ea typeface="Tahoma"/>
              </a:rPr>
              <a:t>Системно - деятельностный подх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8360" y="1989000"/>
            <a:ext cx="849636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08000" algn="ct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Организовать  деятельность уче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algn="ct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ctr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Способность к самоорган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algn="ct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в решении учебных зада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ctr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Умение решать учебные зада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0080" algn="ctr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Прогресс в личностном развит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algn="ct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algn="ct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algn="ct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СОВРЕМЕННЫЕ ОБРАЗОВАТЕЛЬНЫЕ ТЕХНОЛОГИИ,</a:t>
            </a:r>
            <a:r>
              <a:rPr b="0" lang="ru-RU" sz="3600" spc="-1" strike="noStrike">
                <a:solidFill>
                  <a:srgbClr val="002060"/>
                </a:solidFill>
                <a:latin typeface="Tahoma"/>
                <a:ea typeface="Tahoma"/>
              </a:rPr>
              <a:t>используемые на урок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algn="ct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algn="ct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algn="ct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 algn="just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algn="just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 algn="just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0" y="4762440"/>
            <a:ext cx="642960" cy="428760"/>
          </a:xfrm>
          <a:custGeom>
            <a:avLst/>
            <a:gdLst>
              <a:gd name="textAreaLeft" fmla="*/ 160560 w 642960"/>
              <a:gd name="textAreaRight" fmla="*/ 482400 w 642960"/>
              <a:gd name="textAreaTop" fmla="*/ 0 h 428760"/>
              <a:gd name="textAreaBottom" fmla="*/ 375480 h 4287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16200"/>
                </a:lnTo>
                <a:lnTo>
                  <a:pt x="0" y="16200"/>
                </a:lnTo>
                <a:lnTo>
                  <a:pt x="10800" y="21600"/>
                </a:lnTo>
                <a:lnTo>
                  <a:pt x="21600" y="16200"/>
                </a:lnTo>
                <a:lnTo>
                  <a:pt x="16200" y="162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99ccff"/>
          </a:solidFill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0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2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4000" y="836640"/>
            <a:ext cx="8569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ahoma"/>
                <a:ea typeface="Tahoma"/>
              </a:rPr>
              <a:t>Технология - это совокупность форм, методов, приемов и средств, применяемых в какой-либо деятельности</a:t>
            </a:r>
            <a:r>
              <a:rPr b="0" lang="ru-RU" sz="44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24000" y="3789360"/>
            <a:ext cx="85690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39640" y="4086000"/>
            <a:ext cx="7980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Педагогическая технология   ̶  это содержательная техника реализации учебного процесса (В.П. Беспалько)</a:t>
            </a:r>
            <a:r>
              <a:rPr b="0" lang="ru-RU" sz="3200" spc="-1" strike="noStrike">
                <a:solidFill>
                  <a:srgbClr val="002060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324000" y="260280"/>
            <a:ext cx="8712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Современные образовательные  технологии системно-деятельностного подхода,используемые на моих урок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68360" y="1484280"/>
            <a:ext cx="84247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60520" indent="-45432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45432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45432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7280" indent="-457200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Технология проблемно-поискового обу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45432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7280" indent="-457200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Групповые технологии (КС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1960" indent="-45252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45432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7280" indent="-457200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Здоровьесберегающие технолог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45432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7280" indent="-457200">
              <a:lnSpc>
                <a:spcPct val="100000"/>
              </a:lnSpc>
              <a:buClr>
                <a:srgbClr val="002060"/>
              </a:buClr>
              <a:buSzPct val="95000"/>
              <a:buFont typeface="Wingdings" charset="2"/>
              <a:buChar char=""/>
              <a:tabLst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ahoma"/>
                <a:ea typeface="Tahoma"/>
              </a:rPr>
              <a:t>Технология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 ИК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45432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3400" indent="-45072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44928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44928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44928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44928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44928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44928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44928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44928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449280" algn="ctr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3400" indent="-450720" algn="just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449280" algn="just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3400" indent="-450720" algn="just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5200" indent="-449280">
              <a:lnSpc>
                <a:spcPct val="100000"/>
              </a:lnSpc>
              <a:tabLst>
                <a:tab algn="l" pos="0"/>
                <a:tab algn="l" pos="560520"/>
                <a:tab algn="l" pos="1008000"/>
                <a:tab algn="l" pos="1457280"/>
                <a:tab algn="l" pos="1906560"/>
                <a:tab algn="l" pos="2355840"/>
                <a:tab algn="l" pos="2805120"/>
                <a:tab algn="l" pos="3254400"/>
                <a:tab algn="l" pos="3703680"/>
                <a:tab algn="l" pos="4152960"/>
                <a:tab algn="l" pos="4602240"/>
                <a:tab algn="l" pos="5051520"/>
                <a:tab algn="l" pos="5500800"/>
                <a:tab algn="l" pos="5950080"/>
                <a:tab algn="l" pos="6399360"/>
                <a:tab algn="l" pos="6848640"/>
                <a:tab algn="l" pos="7297560"/>
                <a:tab algn="l" pos="7746840"/>
                <a:tab algn="l" pos="8196120"/>
                <a:tab algn="l" pos="8645400"/>
                <a:tab algn="l" pos="9094680"/>
                <a:tab algn="l" pos="9543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dur="indefinite" fill="hold">
                      <p:stCondLst>
                        <p:cond delay="indefinite"/>
                      </p:stCondLst>
                      <p:childTnLst>
                        <p:par>
                          <p:cTn id="1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dur="indefinite" fill="hold">
                      <p:stCondLst>
                        <p:cond delay="indefinite"/>
                      </p:stCondLst>
                      <p:childTnLst>
                        <p:par>
                          <p:cTn id="1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dur="indefinite" fill="hold">
                      <p:stCondLst>
                        <p:cond delay="indefinite"/>
                      </p:stCondLst>
                      <p:childTnLst>
                        <p:par>
                          <p:cTn id="1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785880" y="260280"/>
            <a:ext cx="817884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ahoma"/>
                <a:ea typeface="Tahoma"/>
              </a:rPr>
              <a:t>Проблемно-диалогическая  техн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68360" y="1989000"/>
            <a:ext cx="849636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08000" algn="ct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algn="ct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algn="ctr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 algn="just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 algn="just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6200" algn="just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100000"/>
              </a:lnSpc>
              <a:tabLst>
                <a:tab algn="l" pos="0"/>
                <a:tab algn="l" pos="1080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9091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5280" y="1654200"/>
            <a:ext cx="3382920" cy="5129280"/>
          </a:xfrm>
          <a:prstGeom prst="rect">
            <a:avLst/>
          </a:prstGeom>
          <a:solidFill>
            <a:srgbClr val="fdf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351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Традиционный у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1.Проверка д/з учеников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учите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2.Объявление темы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учите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3.Объяснение темы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учите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4.Закрепление знаний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уче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076720" y="1654200"/>
            <a:ext cx="3853080" cy="5129280"/>
          </a:xfrm>
          <a:prstGeom prst="rect">
            <a:avLst/>
          </a:prstGeom>
          <a:solidFill>
            <a:srgbClr val="fdfe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2060"/>
                </a:solidFill>
                <a:latin typeface="Tahoma"/>
                <a:ea typeface="Tahoma"/>
              </a:rPr>
              <a:t>Проблемно-диалогический ур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1.Создание проблемной ситуации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учителем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 и формулирование  проблемы уче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2.Актуализация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учениками </a:t>
            </a: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своих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3. Поиск решения проблемы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уче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4.Выражение ре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351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ahoma"/>
                <a:ea typeface="Tahoma"/>
              </a:rPr>
              <a:t>5.  Применение знаний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  <a:ea typeface="Tahoma"/>
              </a:rPr>
              <a:t>уче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778200" y="2824200"/>
            <a:ext cx="1362240" cy="1668600"/>
          </a:xfrm>
          <a:prstGeom prst="line">
            <a:avLst/>
          </a:prstGeom>
          <a:ln cap="sq"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3747960" y="3487680"/>
            <a:ext cx="1362240" cy="339840"/>
          </a:xfrm>
          <a:prstGeom prst="line">
            <a:avLst/>
          </a:prstGeom>
          <a:ln cap="sq"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778200" y="4724280"/>
            <a:ext cx="1362240" cy="513000"/>
          </a:xfrm>
          <a:prstGeom prst="line">
            <a:avLst/>
          </a:prstGeom>
          <a:ln cap="sq"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794040" y="5589720"/>
            <a:ext cx="1362240" cy="306360"/>
          </a:xfrm>
          <a:prstGeom prst="line">
            <a:avLst/>
          </a:prstGeom>
          <a:ln cap="sq" w="76320">
            <a:solidFill>
              <a:srgbClr val="2b03f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0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3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3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2T08:24:56Z</dcterms:created>
  <dc:creator>Пользователь</dc:creator>
  <dc:description/>
  <dc:language>en-US</dc:language>
  <cp:lastModifiedBy/>
  <cp:lastPrinted>2015-11-03T04:15:35Z</cp:lastPrinted>
  <dcterms:modified xsi:type="dcterms:W3CDTF">2017-09-18T20:58:22Z</dcterms:modified>
  <cp:revision>127</cp:revision>
  <dc:subject/>
  <dc:title>ФГОС ООО  как рамочный документ</dc:title>
</cp:coreProperties>
</file>