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85DC-AE87-44B3-849A-366FE4075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15E-82BB-407B-9CBB-2286418A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A4E1-678D-4331-AB0C-425213EB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826C-696D-4C20-BEA9-3D22C041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4135-311B-4993-80C2-AD7C4187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093-43B4-4A28-BD4C-5F56E5967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3202-CE39-4439-8121-2E92071A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EE42-2E03-4798-B6D4-B522E3905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739-C287-46AA-9DF8-3E777678D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0FC-4099-4D6C-A1A8-32DD4CF5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198-947F-48FF-B893-7B16F896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ABEE-F11B-404D-92CA-312878DE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B59C-B4F3-43F0-8FDF-9AEAB36B2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983280" cy="180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Стульчик из спиче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87640" y="2204640"/>
            <a:ext cx="2079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</a:rPr>
              <a:t>5-6 клас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70"/>
          <p:cNvPicPr/>
          <p:nvPr/>
        </p:nvPicPr>
        <p:blipFill>
          <a:blip r:embed="rId2"/>
          <a:stretch/>
        </p:blipFill>
        <p:spPr>
          <a:xfrm>
            <a:off x="682560" y="2494080"/>
            <a:ext cx="417528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Стульч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72"/>
          <p:cNvPicPr/>
          <p:nvPr/>
        </p:nvPicPr>
        <p:blipFill>
          <a:blip r:embed="rId1"/>
          <a:stretch/>
        </p:blipFill>
        <p:spPr>
          <a:xfrm>
            <a:off x="1512720" y="1106640"/>
            <a:ext cx="2159280" cy="16794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1187280" y="3068640"/>
            <a:ext cx="2808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. Срезаем у спичек гол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050920" y="5999040"/>
            <a:ext cx="47134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3. Разрезать на два равных отрез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4859280" y="2924280"/>
            <a:ext cx="36003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. Срезать головку у второй спички и положить обе спички параллельно друг дру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77"/>
          <p:cNvPicPr/>
          <p:nvPr/>
        </p:nvPicPr>
        <p:blipFill>
          <a:blip r:embed="rId2"/>
          <a:stretch/>
        </p:blipFill>
        <p:spPr>
          <a:xfrm>
            <a:off x="5654520" y="1125360"/>
            <a:ext cx="1943280" cy="1697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73"/>
          <p:cNvPicPr/>
          <p:nvPr/>
        </p:nvPicPr>
        <p:blipFill>
          <a:blip r:embed="rId3"/>
          <a:stretch/>
        </p:blipFill>
        <p:spPr>
          <a:xfrm>
            <a:off x="2050920" y="4300560"/>
            <a:ext cx="2211480" cy="16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76"/>
          <p:cNvPicPr/>
          <p:nvPr/>
        </p:nvPicPr>
        <p:blipFill>
          <a:blip r:embed="rId4"/>
          <a:stretch/>
        </p:blipFill>
        <p:spPr>
          <a:xfrm>
            <a:off x="4599000" y="4308480"/>
            <a:ext cx="216072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9"/>
          <p:cNvSpPr/>
          <p:nvPr/>
        </p:nvSpPr>
        <p:spPr>
          <a:xfrm>
            <a:off x="1355760" y="2373480"/>
            <a:ext cx="2592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4. Приклеить эти отрезки к внутренней ч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5" descr="71"/>
          <p:cNvPicPr/>
          <p:nvPr/>
        </p:nvPicPr>
        <p:blipFill>
          <a:blip r:embed="rId1"/>
          <a:stretch/>
        </p:blipFill>
        <p:spPr>
          <a:xfrm>
            <a:off x="1743120" y="476280"/>
            <a:ext cx="2001960" cy="173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2"/>
          <a:stretch/>
        </p:blipFill>
        <p:spPr>
          <a:xfrm>
            <a:off x="5324400" y="476280"/>
            <a:ext cx="2185920" cy="1536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4"/>
          <p:cNvSpPr/>
          <p:nvPr/>
        </p:nvSpPr>
        <p:spPr>
          <a:xfrm>
            <a:off x="4869000" y="2230560"/>
            <a:ext cx="30970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5. От целой спички отрезать поперечину, равную ширин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869000" y="5251320"/>
            <a:ext cx="2879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7. Отрезать от целой спички переднее основание для «си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78"/>
          <p:cNvPicPr/>
          <p:nvPr/>
        </p:nvPicPr>
        <p:blipFill>
          <a:blip r:embed="rId3"/>
          <a:stretch/>
        </p:blipFill>
        <p:spPr>
          <a:xfrm>
            <a:off x="5265720" y="3500280"/>
            <a:ext cx="2125800" cy="16401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25"/>
          <p:cNvSpPr/>
          <p:nvPr/>
        </p:nvSpPr>
        <p:spPr>
          <a:xfrm>
            <a:off x="1173240" y="5251320"/>
            <a:ext cx="2952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6. Приклеить поперечину посередине к спи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7" descr="75"/>
          <p:cNvPicPr/>
          <p:nvPr/>
        </p:nvPicPr>
        <p:blipFill>
          <a:blip r:embed="rId4"/>
          <a:stretch/>
        </p:blipFill>
        <p:spPr>
          <a:xfrm>
            <a:off x="1535040" y="3500280"/>
            <a:ext cx="2230560" cy="16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1332000" y="2257560"/>
            <a:ext cx="27716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8. Приклеить к нему ножки стула такой же длины как и «зад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8" descr="83"/>
          <p:cNvPicPr/>
          <p:nvPr/>
        </p:nvPicPr>
        <p:blipFill>
          <a:blip r:embed="rId1"/>
          <a:stretch/>
        </p:blipFill>
        <p:spPr>
          <a:xfrm>
            <a:off x="1692360" y="592200"/>
            <a:ext cx="2035080" cy="150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2"/>
          <a:stretch/>
        </p:blipFill>
        <p:spPr>
          <a:xfrm>
            <a:off x="5292720" y="520560"/>
            <a:ext cx="2249640" cy="159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"/>
          <p:cNvPicPr/>
          <p:nvPr/>
        </p:nvPicPr>
        <p:blipFill>
          <a:blip r:embed="rId3"/>
          <a:stretch/>
        </p:blipFill>
        <p:spPr>
          <a:xfrm>
            <a:off x="5106960" y="2160720"/>
            <a:ext cx="2621160" cy="936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"/>
          <p:cNvPicPr/>
          <p:nvPr/>
        </p:nvPicPr>
        <p:blipFill>
          <a:blip r:embed="rId4"/>
          <a:stretch/>
        </p:blipFill>
        <p:spPr>
          <a:xfrm>
            <a:off x="1692360" y="3340080"/>
            <a:ext cx="2027160" cy="1871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7"/>
          <p:cNvSpPr/>
          <p:nvPr/>
        </p:nvSpPr>
        <p:spPr>
          <a:xfrm>
            <a:off x="1332000" y="5367240"/>
            <a:ext cx="274644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0. Приклеить их к заднему основанию и передним «ножка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4" descr=""/>
          <p:cNvPicPr/>
          <p:nvPr/>
        </p:nvPicPr>
        <p:blipFill>
          <a:blip r:embed="rId5"/>
          <a:stretch/>
        </p:blipFill>
        <p:spPr>
          <a:xfrm>
            <a:off x="5506920" y="3340080"/>
            <a:ext cx="1820880" cy="1854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8"/>
          <p:cNvSpPr/>
          <p:nvPr/>
        </p:nvSpPr>
        <p:spPr>
          <a:xfrm>
            <a:off x="4697280" y="5257800"/>
            <a:ext cx="318780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1. Скрепить перекладинами передние и задние «нож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9"/>
          <p:cNvSpPr/>
          <p:nvPr/>
        </p:nvSpPr>
        <p:spPr>
          <a:xfrm>
            <a:off x="576360" y="2637000"/>
            <a:ext cx="2808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2. Отрезать от спички кусочек, равный ширине «си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85"/>
          <p:cNvPicPr/>
          <p:nvPr/>
        </p:nvPicPr>
        <p:blipFill>
          <a:blip r:embed="rId1"/>
          <a:stretch/>
        </p:blipFill>
        <p:spPr>
          <a:xfrm>
            <a:off x="936720" y="476280"/>
            <a:ext cx="2087640" cy="2039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"/>
          <p:cNvPicPr/>
          <p:nvPr/>
        </p:nvPicPr>
        <p:blipFill>
          <a:blip r:embed="rId2"/>
          <a:stretch/>
        </p:blipFill>
        <p:spPr>
          <a:xfrm>
            <a:off x="3753000" y="511200"/>
            <a:ext cx="2011320" cy="19573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5"/>
          <p:cNvSpPr/>
          <p:nvPr/>
        </p:nvSpPr>
        <p:spPr>
          <a:xfrm>
            <a:off x="3533760" y="2631960"/>
            <a:ext cx="244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3. Нарезать восемь таких кусоч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"/>
          <p:cNvPicPr/>
          <p:nvPr/>
        </p:nvPicPr>
        <p:blipFill>
          <a:blip r:embed="rId3"/>
          <a:stretch/>
        </p:blipFill>
        <p:spPr>
          <a:xfrm>
            <a:off x="6327720" y="620640"/>
            <a:ext cx="2290680" cy="18954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7"/>
          <p:cNvSpPr/>
          <p:nvPr/>
        </p:nvSpPr>
        <p:spPr>
          <a:xfrm>
            <a:off x="5981760" y="2631960"/>
            <a:ext cx="29829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4. Уложить их в плотную друг к другу и склеить переклади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5" descr=""/>
          <p:cNvPicPr/>
          <p:nvPr/>
        </p:nvPicPr>
        <p:blipFill>
          <a:blip r:embed="rId4"/>
          <a:stretch/>
        </p:blipFill>
        <p:spPr>
          <a:xfrm>
            <a:off x="1835280" y="3616200"/>
            <a:ext cx="2017440" cy="200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"/>
          <p:cNvPicPr/>
          <p:nvPr/>
        </p:nvPicPr>
        <p:blipFill>
          <a:blip r:embed="rId5"/>
          <a:stretch/>
        </p:blipFill>
        <p:spPr>
          <a:xfrm>
            <a:off x="5184720" y="3573360"/>
            <a:ext cx="1871640" cy="2090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8"/>
          <p:cNvSpPr/>
          <p:nvPr/>
        </p:nvSpPr>
        <p:spPr>
          <a:xfrm>
            <a:off x="1403280" y="5734080"/>
            <a:ext cx="2881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5. Приклеить к ним еще два кусочка спи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4572000" y="5734080"/>
            <a:ext cx="3097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16. Уложить «сиденье» на 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2T11:37:23Z</dcterms:created>
  <dc:creator>User</dc:creator>
  <dc:description/>
  <dc:language>en-US</dc:language>
  <cp:lastModifiedBy>user</cp:lastModifiedBy>
  <dcterms:modified xsi:type="dcterms:W3CDTF">2017-09-29T05:35:10Z</dcterms:modified>
  <cp:revision>24</cp:revision>
  <dc:subject/>
  <dc:title>Стульчик из спичек</dc:title>
</cp:coreProperties>
</file>