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040-EC30-4EE3-9BE2-FBD279E3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123A-993F-4176-BFDB-CB970410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CF1-2B2C-4B22-A611-C4900365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C15-9AD6-4465-BF9D-12462035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866-1B57-4EB8-9A53-FD16722D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BAE-E0F8-4CA9-82BE-507486AB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3E1-12D0-4A1F-904C-E37F3B4A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7390-884B-4BE7-BFE6-B3DE5735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F0EE-F8E8-4C89-8074-98DE22F6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1447-0758-46AD-BF4A-134DFA4F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BE0F-AE74-4675-B4B3-614BCCC7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A41-D29E-45C0-8E00-16B5197B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B4B7-308E-40B3-83FF-1A2702E9C5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983280" cy="18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Стульчик из спиче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87640" y="2204640"/>
            <a:ext cx="2079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5-6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70"/>
          <p:cNvPicPr/>
          <p:nvPr/>
        </p:nvPicPr>
        <p:blipFill>
          <a:blip r:embed="rId2"/>
          <a:stretch/>
        </p:blipFill>
        <p:spPr>
          <a:xfrm>
            <a:off x="682560" y="2494080"/>
            <a:ext cx="4175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</a:rPr>
              <a:t>Стуль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72"/>
          <p:cNvPicPr/>
          <p:nvPr/>
        </p:nvPicPr>
        <p:blipFill>
          <a:blip r:embed="rId1"/>
          <a:stretch/>
        </p:blipFill>
        <p:spPr>
          <a:xfrm>
            <a:off x="1512720" y="1106640"/>
            <a:ext cx="2159280" cy="1679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1187280" y="3068640"/>
            <a:ext cx="280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1. Срезаем у спичек гол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050920" y="5999040"/>
            <a:ext cx="47134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3. Разрезать на два равных отре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4859280" y="2924280"/>
            <a:ext cx="3600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2. Срезать головку у второй спички и положить обе спички параллельно друг дру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77"/>
          <p:cNvPicPr/>
          <p:nvPr/>
        </p:nvPicPr>
        <p:blipFill>
          <a:blip r:embed="rId2"/>
          <a:stretch/>
        </p:blipFill>
        <p:spPr>
          <a:xfrm>
            <a:off x="5654520" y="1125360"/>
            <a:ext cx="1943280" cy="1697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73"/>
          <p:cNvPicPr/>
          <p:nvPr/>
        </p:nvPicPr>
        <p:blipFill>
          <a:blip r:embed="rId3"/>
          <a:stretch/>
        </p:blipFill>
        <p:spPr>
          <a:xfrm>
            <a:off x="2050920" y="4300560"/>
            <a:ext cx="2211480" cy="164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76"/>
          <p:cNvPicPr/>
          <p:nvPr/>
        </p:nvPicPr>
        <p:blipFill>
          <a:blip r:embed="rId4"/>
          <a:stretch/>
        </p:blipFill>
        <p:spPr>
          <a:xfrm>
            <a:off x="4599000" y="4308480"/>
            <a:ext cx="21607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1355760" y="2373480"/>
            <a:ext cx="2592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4. Приклеить эти отрезки к внутренней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5" descr="71"/>
          <p:cNvPicPr/>
          <p:nvPr/>
        </p:nvPicPr>
        <p:blipFill>
          <a:blip r:embed="rId1"/>
          <a:stretch/>
        </p:blipFill>
        <p:spPr>
          <a:xfrm>
            <a:off x="1743120" y="476280"/>
            <a:ext cx="2001960" cy="1739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2"/>
          <a:stretch/>
        </p:blipFill>
        <p:spPr>
          <a:xfrm>
            <a:off x="5324400" y="476280"/>
            <a:ext cx="2185920" cy="1536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4"/>
          <p:cNvSpPr/>
          <p:nvPr/>
        </p:nvSpPr>
        <p:spPr>
          <a:xfrm>
            <a:off x="4869000" y="2230560"/>
            <a:ext cx="3097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5. От целой спички отрезать поперечину, равную ширине 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869000" y="5251320"/>
            <a:ext cx="2879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7. Отрезать от целой спички переднее основание для «сид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78"/>
          <p:cNvPicPr/>
          <p:nvPr/>
        </p:nvPicPr>
        <p:blipFill>
          <a:blip r:embed="rId3"/>
          <a:stretch/>
        </p:blipFill>
        <p:spPr>
          <a:xfrm>
            <a:off x="5265720" y="3500280"/>
            <a:ext cx="2125800" cy="1640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5"/>
          <p:cNvSpPr/>
          <p:nvPr/>
        </p:nvSpPr>
        <p:spPr>
          <a:xfrm>
            <a:off x="1173240" y="5251320"/>
            <a:ext cx="2952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6. Приклеить поперечину посередине к спи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7" descr="75"/>
          <p:cNvPicPr/>
          <p:nvPr/>
        </p:nvPicPr>
        <p:blipFill>
          <a:blip r:embed="rId4"/>
          <a:stretch/>
        </p:blipFill>
        <p:spPr>
          <a:xfrm>
            <a:off x="1535040" y="3500280"/>
            <a:ext cx="2230560" cy="16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1332000" y="2257560"/>
            <a:ext cx="27716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8. Приклеить к нему ножки стула такой же длины как и «зад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83"/>
          <p:cNvPicPr/>
          <p:nvPr/>
        </p:nvPicPr>
        <p:blipFill>
          <a:blip r:embed="rId1"/>
          <a:stretch/>
        </p:blipFill>
        <p:spPr>
          <a:xfrm>
            <a:off x="1692360" y="592200"/>
            <a:ext cx="2035080" cy="1503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5292720" y="520560"/>
            <a:ext cx="2249640" cy="159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3"/>
          <a:stretch/>
        </p:blipFill>
        <p:spPr>
          <a:xfrm>
            <a:off x="5106960" y="2160720"/>
            <a:ext cx="2621160" cy="93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4"/>
          <a:stretch/>
        </p:blipFill>
        <p:spPr>
          <a:xfrm>
            <a:off x="1692360" y="3340080"/>
            <a:ext cx="2027160" cy="1871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7"/>
          <p:cNvSpPr/>
          <p:nvPr/>
        </p:nvSpPr>
        <p:spPr>
          <a:xfrm>
            <a:off x="1332000" y="5367240"/>
            <a:ext cx="27464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10. Приклеить их к заднему основанию и передним «ножка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4" descr=""/>
          <p:cNvPicPr/>
          <p:nvPr/>
        </p:nvPicPr>
        <p:blipFill>
          <a:blip r:embed="rId5"/>
          <a:stretch/>
        </p:blipFill>
        <p:spPr>
          <a:xfrm>
            <a:off x="5506920" y="3340080"/>
            <a:ext cx="1820880" cy="1854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8"/>
          <p:cNvSpPr/>
          <p:nvPr/>
        </p:nvSpPr>
        <p:spPr>
          <a:xfrm>
            <a:off x="4697280" y="5257800"/>
            <a:ext cx="31878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11. Скрепить перекладинами передние и задние «нож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9"/>
          <p:cNvSpPr/>
          <p:nvPr/>
        </p:nvSpPr>
        <p:spPr>
          <a:xfrm>
            <a:off x="576360" y="2637000"/>
            <a:ext cx="2808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12. Отрезать от спички кусочек, равный ширине «сид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85"/>
          <p:cNvPicPr/>
          <p:nvPr/>
        </p:nvPicPr>
        <p:blipFill>
          <a:blip r:embed="rId1"/>
          <a:stretch/>
        </p:blipFill>
        <p:spPr>
          <a:xfrm>
            <a:off x="936720" y="476280"/>
            <a:ext cx="2087640" cy="2039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2"/>
          <a:stretch/>
        </p:blipFill>
        <p:spPr>
          <a:xfrm>
            <a:off x="3753000" y="511200"/>
            <a:ext cx="2011320" cy="1957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533760" y="2631960"/>
            <a:ext cx="244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13. Нарезать восемь таких кусоч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" descr=""/>
          <p:cNvPicPr/>
          <p:nvPr/>
        </p:nvPicPr>
        <p:blipFill>
          <a:blip r:embed="rId3"/>
          <a:stretch/>
        </p:blipFill>
        <p:spPr>
          <a:xfrm>
            <a:off x="6327720" y="620640"/>
            <a:ext cx="2290680" cy="18954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5981760" y="2631960"/>
            <a:ext cx="29829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14. Уложить их в плотную друг к другу и склеить переклади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5" descr=""/>
          <p:cNvPicPr/>
          <p:nvPr/>
        </p:nvPicPr>
        <p:blipFill>
          <a:blip r:embed="rId4"/>
          <a:stretch/>
        </p:blipFill>
        <p:spPr>
          <a:xfrm>
            <a:off x="1835280" y="3616200"/>
            <a:ext cx="2017440" cy="200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"/>
          <p:cNvPicPr/>
          <p:nvPr/>
        </p:nvPicPr>
        <p:blipFill>
          <a:blip r:embed="rId5"/>
          <a:stretch/>
        </p:blipFill>
        <p:spPr>
          <a:xfrm>
            <a:off x="5184720" y="3573360"/>
            <a:ext cx="1871640" cy="2090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1403280" y="5734080"/>
            <a:ext cx="28814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15. Приклеить к ним еще два кусочка спи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4572000" y="5734080"/>
            <a:ext cx="3097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16. Уложить «сиденье» на 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1:37:23Z</dcterms:created>
  <dc:creator>User</dc:creator>
  <dc:description/>
  <dc:language>en-US</dc:language>
  <cp:lastModifiedBy>user</cp:lastModifiedBy>
  <dcterms:modified xsi:type="dcterms:W3CDTF">2017-09-29T05:35:10Z</dcterms:modified>
  <cp:revision>24</cp:revision>
  <dc:subject/>
  <dc:title>Стульчик из спичек</dc:title>
</cp:coreProperties>
</file>