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Lucida Sans Unicode"/>
              </a:rPr>
              <a:t>Анкетирование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da1f28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/>
                </c:pt>
                <c:pt idx="1">
                  <c:v>образованность</c:v>
                </c:pt>
                <c:pt idx="2">
                  <c:v>информированность</c:v>
                </c:pt>
                <c:pt idx="3">
                  <c:v>прогрессивность</c:v>
                </c:pt>
                <c:pt idx="4">
                  <c:v>интересные уроки</c:v>
                </c:pt>
                <c:pt idx="5">
                  <c:v>понимание учеников</c:v>
                </c:pt>
                <c:pt idx="6">
                  <c:v>современность учител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1">
                  <c:v>100</c:v>
                </c:pt>
                <c:pt idx="2">
                  <c:v>90</c:v>
                </c:pt>
                <c:pt idx="3">
                  <c:v>75</c:v>
                </c:pt>
                <c:pt idx="4">
                  <c:v>100</c:v>
                </c:pt>
                <c:pt idx="5">
                  <c:v>100</c:v>
                </c:pt>
                <c:pt idx="6">
                  <c:v>100</c:v>
                </c:pt>
              </c:numCache>
            </c:numRef>
          </c:val>
        </c:ser>
        <c:gapWidth val="150"/>
        <c:overlap val="0"/>
        <c:axId val="71996673"/>
        <c:axId val="92187938"/>
      </c:barChart>
      <c:catAx>
        <c:axId val="71996673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2187938"/>
        <c:crosses val="autoZero"/>
        <c:auto val="1"/>
        <c:lblAlgn val="ctr"/>
        <c:lblOffset val="100"/>
        <c:noMultiLvlLbl val="0"/>
      </c:catAx>
      <c:valAx>
        <c:axId val="92187938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199667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2da2bf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образованность</c:v>
                </c:pt>
                <c:pt idx="1">
                  <c:v>информированность</c:v>
                </c:pt>
                <c:pt idx="2">
                  <c:v>прогрессивность</c:v>
                </c:pt>
                <c:pt idx="3">
                  <c:v>интересные уроки</c:v>
                </c:pt>
                <c:pt idx="4">
                  <c:v>понимание учеников</c:v>
                </c:pt>
                <c:pt idx="5">
                  <c:v>современность учителя</c:v>
                </c:pt>
                <c:pt idx="6">
                  <c:v>внешний вид</c:v>
                </c:pt>
                <c:pt idx="7">
                  <c:v>чувство юмо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00</c:v>
                </c:pt>
                <c:pt idx="1">
                  <c:v>90</c:v>
                </c:pt>
                <c:pt idx="2">
                  <c:v>75</c:v>
                </c:pt>
                <c:pt idx="3">
                  <c:v>100</c:v>
                </c:pt>
                <c:pt idx="4">
                  <c:v>100</c:v>
                </c:pt>
                <c:pt idx="5">
                  <c:v>100</c:v>
                </c:pt>
                <c:pt idx="6">
                  <c:v>100</c:v>
                </c:pt>
                <c:pt idx="7">
                  <c:v>100</c:v>
                </c:pt>
              </c:numCache>
            </c:numRef>
          </c:val>
        </c:ser>
        <c:gapWidth val="150"/>
        <c:overlap val="0"/>
        <c:axId val="29287346"/>
        <c:axId val="83867651"/>
      </c:barChart>
      <c:catAx>
        <c:axId val="2928734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83867651"/>
        <c:crosses val="autoZero"/>
        <c:auto val="1"/>
        <c:lblAlgn val="ctr"/>
        <c:lblOffset val="100"/>
        <c:noMultiLvlLbl val="0"/>
      </c:catAx>
      <c:valAx>
        <c:axId val="83867651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29287346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24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236-662E-4F57-9132-CFB328A8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CE2-DCB8-4D4E-A561-F659446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CEF-FA87-4B25-809B-DD4708B4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DFF-DA97-4946-9808-FE8AEB4A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088E-C211-4E36-9EAD-A9F64094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CC7-F25E-4171-B199-12372A56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45DB-1C61-45D0-8B85-A92BA10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6509-693F-4056-83A7-6F02079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0DD0-B10F-4354-ACBA-1D3E735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D16-E2D6-4ACE-AD99-6003395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7486-EC54-4934-AAB9-1BEFD542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199-C095-455E-8268-9CD2EF18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82F3-093E-416C-8168-E95F5E5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145-7BAC-47EA-BD8E-3128629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803B-61F4-44EF-B72C-2DA6FA86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2AF-31D5-4B76-B3BE-8509FE73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FB91-125D-4603-A094-8DC21D09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D04-5AAA-45C5-A5DF-BCFBDE3E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208-FD42-4AF6-A555-50CCC05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305-776F-406D-B73D-AA5B784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136-8CEE-4D40-A745-0EABE48B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ADE-D2A8-4806-945D-638EDF6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9A9-3CF0-4D2B-98C6-152AD06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A93-5AC8-4353-ADDD-4348443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2B5CD1-5536-4F43-9B04-3B1F272E80C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3D9E5B-3658-4D6B-B45B-D77D98F6AFC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139680"/>
            <a:ext cx="91436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е общество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унашакской средней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1134720"/>
            <a:ext cx="9143640" cy="405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Calibri"/>
              </a:rPr>
              <a:t>Тема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Calibri"/>
              </a:rPr>
              <a:t>«Учитель на ве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лажитдинова Д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имова В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лина Лил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ева Рита Рам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30080" y="6153480"/>
            <a:ext cx="24652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ябин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нашак,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умений работать с информацией: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конструктивной силы ума;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щь учащихся в осознании своих познавательных интересов, склонностей и возможностей.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6195" t="7500" r="6390" b="8219"/>
          <a:stretch/>
        </p:blipFill>
        <p:spPr>
          <a:xfrm>
            <a:off x="179640" y="476640"/>
            <a:ext cx="8665200" cy="501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Картинки по запросу спасибо за внимание"/>
          <p:cNvPicPr/>
          <p:nvPr/>
        </p:nvPicPr>
        <p:blipFill>
          <a:blip r:embed="rId1"/>
          <a:stretch/>
        </p:blipFill>
        <p:spPr>
          <a:xfrm>
            <a:off x="0" y="0"/>
            <a:ext cx="9168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7640" y="25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9000"/>
          </a:bodyPr>
          <a:p>
            <a:pPr indent="0">
              <a:lnSpc>
                <a:spcPct val="100000"/>
              </a:lnSpc>
              <a:buNone/>
            </a:pPr>
            <a:r>
              <a:rPr b="1" lang="ru-RU" sz="6700" spc="-1" strike="noStrike">
                <a:solidFill>
                  <a:srgbClr val="464646"/>
                </a:solidFill>
                <a:latin typeface="Monotype Corsiva"/>
              </a:rPr>
              <a:t>Теоретическая </a:t>
            </a:r>
            <a:br>
              <a:rPr sz="6700"/>
            </a:br>
            <a:r>
              <a:rPr b="1" lang="ru-RU" sz="6700" spc="-1" strike="noStrike">
                <a:solidFill>
                  <a:srgbClr val="464646"/>
                </a:solidFill>
                <a:latin typeface="Monotype Corsiva"/>
              </a:rPr>
              <a:t>часть</a:t>
            </a:r>
            <a:br>
              <a:rPr sz="4100"/>
            </a:b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Рисунок 8" descr="загруженное (2).jpg"/>
          <p:cNvPicPr/>
          <p:nvPr/>
        </p:nvPicPr>
        <p:blipFill>
          <a:blip r:embed="rId1"/>
          <a:stretch/>
        </p:blipFill>
        <p:spPr>
          <a:xfrm>
            <a:off x="5364000" y="3645000"/>
            <a:ext cx="35179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учителя трудная, но нужная профессия. К сожалению, в последние годы мало кто из выпускников выбирает эту профессию, так как падает престиж этой благородной  профессии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роли учителя в современном обществе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анкетирование о роли профессии учителя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ся с домашним семейным архивом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уть педагогической деятельности династии Гайнетдиновых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, доказывающую важность и значимость учительской профессии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ы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документов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 первичных данных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семейного архива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равится ли вам в нашей школе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ли считать наших учителей современными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чем заключается понятие «современности»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отели ли бы вы быть учителем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школьные предметы  вам нравятся и почему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chemeClr val="accent5">
                    <a:lumMod val="75000"/>
                  </a:schemeClr>
                </a:solidFill>
                <a:latin typeface="Monotype Corsiva"/>
              </a:rPr>
              <a:t>Анкета с учащимис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Картинки по запросу анкетирование"/>
          <p:cNvPicPr/>
          <p:nvPr/>
        </p:nvPicPr>
        <p:blipFill>
          <a:blip r:embed="rId1"/>
          <a:stretch/>
        </p:blipFill>
        <p:spPr>
          <a:xfrm>
            <a:off x="5868000" y="4941000"/>
            <a:ext cx="2520000" cy="16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Содержимое 3"/>
          <p:cNvGraphicFramePr/>
          <p:nvPr/>
        </p:nvGraphicFramePr>
        <p:xfrm>
          <a:off x="0" y="548640"/>
          <a:ext cx="8711640" cy="612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640" y="184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6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реди старшеклассников был проведен опрос</a:t>
            </a: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u-RU" sz="6700" spc="-1" strike="noStrike">
                <a:solidFill>
                  <a:srgbClr val="ff0000"/>
                </a:solidFill>
                <a:latin typeface="Monotype Corsiva"/>
              </a:rPr>
              <a:t>«Какой он, современный учитель?» </a:t>
            </a: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0" name="Picture 2" descr="Картинки по запросу опрос"/>
          <p:cNvPicPr/>
          <p:nvPr/>
        </p:nvPicPr>
        <p:blipFill>
          <a:blip r:embed="rId1"/>
          <a:stretch/>
        </p:blipFill>
        <p:spPr>
          <a:xfrm>
            <a:off x="6012000" y="4365000"/>
            <a:ext cx="27871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Содержимое 3"/>
          <p:cNvGraphicFramePr/>
          <p:nvPr/>
        </p:nvGraphicFramePr>
        <p:xfrm>
          <a:off x="457200" y="148104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343434"/>
                </a:solidFill>
                <a:latin typeface="Lucida Sans Unicode"/>
              </a:rPr>
              <a:t>Результат опроса среди </a:t>
            </a:r>
            <a:br>
              <a:rPr sz="3600"/>
            </a:br>
            <a:r>
              <a:rPr b="1" i="1" lang="ru-RU" sz="3600" spc="-1" strike="noStrike">
                <a:solidFill>
                  <a:srgbClr val="343434"/>
                </a:solidFill>
                <a:latin typeface="Lucida Sans Unicode"/>
              </a:rPr>
              <a:t>10-11 классы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464646"/>
                </a:solidFill>
                <a:latin typeface="Monotype Corsiva"/>
              </a:rPr>
              <a:t>Практическая </a:t>
            </a:r>
            <a:br>
              <a:rPr sz="6000"/>
            </a:br>
            <a:r>
              <a:rPr b="1" lang="ru-RU" sz="6000" spc="-1" strike="noStrike">
                <a:solidFill>
                  <a:srgbClr val="464646"/>
                </a:solidFill>
                <a:latin typeface="Monotype Corsiva"/>
              </a:rPr>
              <a:t>часть</a:t>
            </a:r>
            <a:endParaRPr b="0" lang="ru-RU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7" name="Picture 2" descr="Картинки по запросу конструктор сайтов программа"/>
          <p:cNvPicPr/>
          <p:nvPr/>
        </p:nvPicPr>
        <p:blipFill>
          <a:blip r:embed="rId1"/>
          <a:stretch/>
        </p:blipFill>
        <p:spPr>
          <a:xfrm>
            <a:off x="2915640" y="3501000"/>
            <a:ext cx="59522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95</TotalTime>
  <Application>LibreOffice/7.4.7.2$Linux_X86_64 LibreOffice_project/40$Build-2</Application>
  <AppVersion>15.0000</AppVersion>
  <Words>202</Words>
  <Paragraphs>4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7:14:15Z</dcterms:created>
  <dc:creator>Admin</dc:creator>
  <dc:description/>
  <dc:language>en-US</dc:language>
  <cp:lastModifiedBy>Admin</cp:lastModifiedBy>
  <dcterms:modified xsi:type="dcterms:W3CDTF">2017-09-29T04:37:20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