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216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2160" spc="-1" strike="noStrike">
                <a:solidFill>
                  <a:srgbClr val="000000"/>
                </a:solidFill>
                <a:latin typeface="Lucida Sans Unicode"/>
              </a:rPr>
              <a:t>Анкетирование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spPr>
            <a:solidFill>
              <a:srgbClr val="da1f28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7"/>
                <c:pt idx="0">
                  <c:v/>
                </c:pt>
                <c:pt idx="1">
                  <c:v>образованность</c:v>
                </c:pt>
                <c:pt idx="2">
                  <c:v>информированность</c:v>
                </c:pt>
                <c:pt idx="3">
                  <c:v>прогрессивность</c:v>
                </c:pt>
                <c:pt idx="4">
                  <c:v>интересные уроки</c:v>
                </c:pt>
                <c:pt idx="5">
                  <c:v>понимание учеников</c:v>
                </c:pt>
                <c:pt idx="6">
                  <c:v>современность учителя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7"/>
                <c:pt idx="1">
                  <c:v>100</c:v>
                </c:pt>
                <c:pt idx="2">
                  <c:v>90</c:v>
                </c:pt>
                <c:pt idx="3">
                  <c:v>75</c:v>
                </c:pt>
                <c:pt idx="4">
                  <c:v>100</c:v>
                </c:pt>
                <c:pt idx="5">
                  <c:v>100</c:v>
                </c:pt>
                <c:pt idx="6">
                  <c:v>100</c:v>
                </c:pt>
              </c:numCache>
            </c:numRef>
          </c:val>
        </c:ser>
        <c:gapWidth val="150"/>
        <c:overlap val="0"/>
        <c:axId val="47496477"/>
        <c:axId val="70332153"/>
      </c:barChart>
      <c:catAx>
        <c:axId val="47496477"/>
        <c:scaling>
          <c:orientation val="minMax"/>
        </c:scaling>
        <c:delete val="0"/>
        <c:axPos val="b"/>
        <c:numFmt formatCode="[$-409]mm/dd/yyyy" sourceLinked="1"/>
        <c:majorTickMark val="none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70332153"/>
        <c:crosses val="autoZero"/>
        <c:auto val="1"/>
        <c:lblAlgn val="ctr"/>
        <c:lblOffset val="100"/>
        <c:noMultiLvlLbl val="0"/>
      </c:catAx>
      <c:valAx>
        <c:axId val="70332153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none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47496477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spPr>
            <a:solidFill>
              <a:srgbClr val="2da2bf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8"/>
                <c:pt idx="0">
                  <c:v>образованность</c:v>
                </c:pt>
                <c:pt idx="1">
                  <c:v>информированность</c:v>
                </c:pt>
                <c:pt idx="2">
                  <c:v>прогрессивность</c:v>
                </c:pt>
                <c:pt idx="3">
                  <c:v>интересные уроки</c:v>
                </c:pt>
                <c:pt idx="4">
                  <c:v>понимание учеников</c:v>
                </c:pt>
                <c:pt idx="5">
                  <c:v>современность учителя</c:v>
                </c:pt>
                <c:pt idx="6">
                  <c:v>внешний вид</c:v>
                </c:pt>
                <c:pt idx="7">
                  <c:v>чувство юмор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8"/>
                <c:pt idx="0">
                  <c:v>100</c:v>
                </c:pt>
                <c:pt idx="1">
                  <c:v>90</c:v>
                </c:pt>
                <c:pt idx="2">
                  <c:v>75</c:v>
                </c:pt>
                <c:pt idx="3">
                  <c:v>100</c:v>
                </c:pt>
                <c:pt idx="4">
                  <c:v>100</c:v>
                </c:pt>
                <c:pt idx="5">
                  <c:v>100</c:v>
                </c:pt>
                <c:pt idx="6">
                  <c:v>100</c:v>
                </c:pt>
                <c:pt idx="7">
                  <c:v>100</c:v>
                </c:pt>
              </c:numCache>
            </c:numRef>
          </c:val>
        </c:ser>
        <c:gapWidth val="150"/>
        <c:overlap val="0"/>
        <c:axId val="41898710"/>
        <c:axId val="91518332"/>
      </c:barChart>
      <c:catAx>
        <c:axId val="41898710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91518332"/>
        <c:crosses val="autoZero"/>
        <c:auto val="1"/>
        <c:lblAlgn val="ctr"/>
        <c:lblOffset val="100"/>
        <c:noMultiLvlLbl val="0"/>
      </c:catAx>
      <c:valAx>
        <c:axId val="91518332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41898710"/>
        <c:crosses val="autoZero"/>
        <c:crossBetween val="between"/>
      </c:valAx>
      <c:spPr>
        <a:noFill/>
        <a:ln w="0">
          <a:noFill/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24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E860-F951-4066-BA0B-7BE4DC10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9EDC-0241-4F06-AF00-5011CA71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9C5-692A-469A-999D-034A4732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9A0-29FE-4989-A44C-11100B583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B453-7681-45DB-92A4-1364F5D6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9E19-0058-4348-B4BE-94B9D807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E188-1925-4AB3-8CED-6D6E91A0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1C32-5438-42DA-875D-00B02F47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D28B-90AA-4ABF-8227-563BC8D8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EAC7-9ADD-4131-805C-C77B8FD7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5C0B-BD3D-432B-A334-D3EA32F1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74C8-7996-4D90-8B2F-13859D65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DB42-4946-4AD9-A19B-29C30870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A7EF-CEAC-4A57-A580-B416D6D1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F9D0-CB46-43B9-A419-A130C30E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685F-98DF-4FB8-830E-E0E917CB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A9E95-4A97-4820-AA22-95F32B2D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DF71-8993-4BEE-8AAC-832E8CA0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9916-8A92-40EF-BAAE-94CAEF26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0CB-1B29-4E52-BECF-B638D90F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0EC1-7C89-42A1-9D17-CDD3AA7B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70B7-4818-4173-8496-1AE5674B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E39B-53B8-4097-A6B8-1A89A199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9A43-A9F7-42DD-B53B-187F4B2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7795"/>
              </a:gs>
              <a:gs pos="100000">
                <a:srgbClr val="4bbade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196f85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CE4F45-309A-4986-95E2-6BB4BB8E8D1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716400" y="5001840"/>
            <a:ext cx="3801600" cy="144288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-53640" y="5785200"/>
            <a:ext cx="3801600" cy="837720"/>
          </a:xfrm>
          <a:custGeom>
            <a:avLst/>
            <a:gdLst/>
            <a:ahLst/>
            <a:rect l="l" t="t" r="r" b="b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196f85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2da2bf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AFB488-44BE-44C2-A64A-744D555C3DA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0" y="139680"/>
            <a:ext cx="91436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учное общество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Кунашакской средней общеобразовательной школ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1134720"/>
            <a:ext cx="9143640" cy="405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  <a:ea typeface="Calibri"/>
              </a:rPr>
              <a:t>Тема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  <a:ea typeface="Calibri"/>
              </a:rPr>
              <a:t>«Учитель на ве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ен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илажитдинова Дар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римова Вл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лина Лил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леева Рита Рамиль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430080" y="6153480"/>
            <a:ext cx="246528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Челябин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унашак, 2017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Цель: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рмирование умений работать с информацией: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витие конструктивной силы ума;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мощь учащихся в осознании своих познавательных интересов, склонностей и возможностей.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6195" t="7500" r="6390" b="8219"/>
          <a:stretch/>
        </p:blipFill>
        <p:spPr>
          <a:xfrm>
            <a:off x="179640" y="476640"/>
            <a:ext cx="8665200" cy="5012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Картинки по запросу спасибо за внимание"/>
          <p:cNvPicPr/>
          <p:nvPr/>
        </p:nvPicPr>
        <p:blipFill>
          <a:blip r:embed="rId1"/>
          <a:stretch/>
        </p:blipFill>
        <p:spPr>
          <a:xfrm>
            <a:off x="0" y="0"/>
            <a:ext cx="916812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7640" y="256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9000"/>
          </a:bodyPr>
          <a:p>
            <a:pPr indent="0">
              <a:lnSpc>
                <a:spcPct val="100000"/>
              </a:lnSpc>
              <a:buNone/>
            </a:pPr>
            <a:r>
              <a:rPr b="1" lang="ru-RU" sz="6700" spc="-1" strike="noStrike">
                <a:solidFill>
                  <a:srgbClr val="464646"/>
                </a:solidFill>
                <a:latin typeface="Monotype Corsiva"/>
              </a:rPr>
              <a:t>Теоретическая </a:t>
            </a:r>
            <a:br>
              <a:rPr sz="6700"/>
            </a:br>
            <a:r>
              <a:rPr b="1" lang="ru-RU" sz="6700" spc="-1" strike="noStrike">
                <a:solidFill>
                  <a:srgbClr val="464646"/>
                </a:solidFill>
                <a:latin typeface="Monotype Corsiva"/>
              </a:rPr>
              <a:t>часть</a:t>
            </a:r>
            <a:br>
              <a:rPr sz="4100"/>
            </a:br>
            <a:endParaRPr b="0" lang="ru-RU" sz="6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3" name="Рисунок 8" descr="загруженное (2).jpg"/>
          <p:cNvPicPr/>
          <p:nvPr/>
        </p:nvPicPr>
        <p:blipFill>
          <a:blip r:embed="rId1"/>
          <a:stretch/>
        </p:blipFill>
        <p:spPr>
          <a:xfrm>
            <a:off x="5364000" y="3645000"/>
            <a:ext cx="35179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Проблема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 учителя трудная, но нужная профессия. К сожалению, в последние годы мало кто из выпускников выбирает эту профессию, так как падает престиж этой благородной  профессии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Цель: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роли учителя в современном обществе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 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вести анкетирование о роли профессии учителя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знакомиться с домашним семейным архивом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ить путь педагогической деятельности династии Гайнетдиновых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, доказывающую важность и значимость учительской профессии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</a:rPr>
              <a:t>Методы: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кетирование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ализ документов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бор первичных данных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учение семейного архива.</a:t>
            </a:r>
            <a:endParaRPr b="0" lang="ru-RU" sz="24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равится ли вам в нашей школе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ожно ли считать наших учителей современными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 чем заключается понятие «современности»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Хотели ли бы вы быть учителем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кие школьные предметы  вам нравятся и почему?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100" spc="-1" strike="noStrike">
                <a:solidFill>
                  <a:schemeClr val="accent5">
                    <a:lumMod val="75000"/>
                  </a:schemeClr>
                </a:solidFill>
                <a:latin typeface="Monotype Corsiva"/>
              </a:rPr>
              <a:t>Анкета с учащимися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7" name="Picture 2" descr="Картинки по запросу анкетирование"/>
          <p:cNvPicPr/>
          <p:nvPr/>
        </p:nvPicPr>
        <p:blipFill>
          <a:blip r:embed="rId1"/>
          <a:stretch/>
        </p:blipFill>
        <p:spPr>
          <a:xfrm>
            <a:off x="5868000" y="4941000"/>
            <a:ext cx="2520000" cy="16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Содержимое 3"/>
          <p:cNvGraphicFramePr/>
          <p:nvPr/>
        </p:nvGraphicFramePr>
        <p:xfrm>
          <a:off x="0" y="548640"/>
          <a:ext cx="8711640" cy="6120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640" y="18450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36000"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Среди старшеклассников был проведен опрос</a:t>
            </a: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1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ru-RU" sz="6700" spc="-1" strike="noStrike">
                <a:solidFill>
                  <a:srgbClr val="ff0000"/>
                </a:solidFill>
                <a:latin typeface="Monotype Corsiva"/>
              </a:rPr>
              <a:t>«Какой он, современный учитель?» </a:t>
            </a:r>
            <a:endParaRPr b="0" lang="ru-RU" sz="6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0" name="Picture 2" descr="Картинки по запросу опрос"/>
          <p:cNvPicPr/>
          <p:nvPr/>
        </p:nvPicPr>
        <p:blipFill>
          <a:blip r:embed="rId1"/>
          <a:stretch/>
        </p:blipFill>
        <p:spPr>
          <a:xfrm>
            <a:off x="6012000" y="4365000"/>
            <a:ext cx="278712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113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Содержимое 3"/>
          <p:cNvGraphicFramePr/>
          <p:nvPr/>
        </p:nvGraphicFramePr>
        <p:xfrm>
          <a:off x="457200" y="148104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3600" spc="-1" strike="noStrike">
                <a:solidFill>
                  <a:srgbClr val="343434"/>
                </a:solidFill>
                <a:latin typeface="Lucida Sans Unicode"/>
              </a:rPr>
              <a:t>Результат опроса среди </a:t>
            </a:r>
            <a:br>
              <a:rPr sz="3600"/>
            </a:br>
            <a:r>
              <a:rPr b="1" i="1" lang="ru-RU" sz="3600" spc="-1" strike="noStrike">
                <a:solidFill>
                  <a:srgbClr val="343434"/>
                </a:solidFill>
                <a:latin typeface="Lucida Sans Unicode"/>
              </a:rPr>
              <a:t>10-11 классы</a:t>
            </a: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464646"/>
                </a:solidFill>
                <a:latin typeface="Monotype Corsiva"/>
              </a:rPr>
              <a:t>Практическая </a:t>
            </a:r>
            <a:br>
              <a:rPr sz="6000"/>
            </a:br>
            <a:r>
              <a:rPr b="1" lang="ru-RU" sz="6000" spc="-1" strike="noStrike">
                <a:solidFill>
                  <a:srgbClr val="464646"/>
                </a:solidFill>
                <a:latin typeface="Monotype Corsiva"/>
              </a:rPr>
              <a:t>часть</a:t>
            </a:r>
            <a:endParaRPr b="0" lang="ru-RU" sz="6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17" name="Picture 2" descr="Картинки по запросу конструктор сайтов программа"/>
          <p:cNvPicPr/>
          <p:nvPr/>
        </p:nvPicPr>
        <p:blipFill>
          <a:blip r:embed="rId1"/>
          <a:stretch/>
        </p:blipFill>
        <p:spPr>
          <a:xfrm>
            <a:off x="2915640" y="3501000"/>
            <a:ext cx="595224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Открытая">
      <a:dk1>
        <a:srgbClr val="000000"/>
      </a:dk1>
      <a:lt1>
        <a:srgbClr val="ffffff"/>
      </a:lt1>
      <a:dk2>
        <a:srgbClr val="464646"/>
      </a:dk2>
      <a:lt2>
        <a:srgbClr val="def5fa"/>
      </a:lt2>
      <a:accent1>
        <a:srgbClr val="2da2bf"/>
      </a:accent1>
      <a:accent2>
        <a:srgbClr val="da1f28"/>
      </a:accent2>
      <a:accent3>
        <a:srgbClr val="eb641b"/>
      </a:accent3>
      <a:accent4>
        <a:srgbClr val="39639d"/>
      </a:accent4>
      <a:accent5>
        <a:srgbClr val="474b78"/>
      </a:accent5>
      <a:accent6>
        <a:srgbClr val="7d3c4a"/>
      </a:accent6>
      <a:hlink>
        <a:srgbClr val="ff8119"/>
      </a:hlink>
      <a:folHlink>
        <a:srgbClr val="44b9e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295</TotalTime>
  <Application>LibreOffice/7.4.7.2$Linux_X86_64 LibreOffice_project/40$Build-2</Application>
  <AppVersion>15.0000</AppVersion>
  <Words>202</Words>
  <Paragraphs>4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7:14:15Z</dcterms:created>
  <dc:creator>Admin</dc:creator>
  <dc:description/>
  <dc:language>en-US</dc:language>
  <cp:lastModifiedBy>Admin</cp:lastModifiedBy>
  <dcterms:modified xsi:type="dcterms:W3CDTF">2017-09-29T04:37:20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