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769-9416-483D-9D1F-7F0E4EB9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A557-9D74-4CDF-A94E-9EFA4015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702-F23F-4B82-89A4-09743989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F2E-7CA9-4C37-818F-E1EA8E99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DE0-B35D-4176-89D8-2C38665F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BE68-4AFC-4CEB-9155-27EE8A42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F20-99A5-476E-9407-A7246174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793-8B2E-4206-BD73-5A8A92AF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6DE-11CC-4956-AAE2-99A31AC4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BFD-096A-48DF-A8B0-E7A7D86F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25F-4852-461A-B7F2-ED4C1CCA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0F22-61DF-4E3F-82B5-68585CFC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2EE5-A80C-4177-B8B9-3E316F7195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gnita.ru/arctic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Урок</a:t>
            </a: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«Арктика – фасад Росси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58920" y="4149720"/>
            <a:ext cx="40338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Саляева И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3492360" y="5589720"/>
            <a:ext cx="23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. Кочетов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.02.2016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547640" y="26028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иал МБОУ Мурзицкой СШ – Кочетовская 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8900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32 г. ледокольный пароход «Александр Сибиряков» за одну навигацию прошёл от города Архангельска до Берингова прол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300px-Icebreaker_J%C3%A4%C3%A4karhu[1]"/>
          <p:cNvPicPr/>
          <p:nvPr/>
        </p:nvPicPr>
        <p:blipFill>
          <a:blip r:embed="rId1"/>
          <a:stretch/>
        </p:blipFill>
        <p:spPr>
          <a:xfrm>
            <a:off x="1619280" y="1989000"/>
            <a:ext cx="561672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8500367212_8e56de67a5_z[1]"/>
          <p:cNvPicPr/>
          <p:nvPr/>
        </p:nvPicPr>
        <p:blipFill>
          <a:blip r:embed="rId1"/>
          <a:stretch/>
        </p:blipFill>
        <p:spPr>
          <a:xfrm>
            <a:off x="468360" y="189000"/>
            <a:ext cx="4194000" cy="277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160px-Soviet_Union-1963-stamp-Arctica_and_Antarctica-6K[1]"/>
          <p:cNvPicPr/>
          <p:nvPr/>
        </p:nvPicPr>
        <p:blipFill>
          <a:blip r:embed="rId2"/>
          <a:stretch/>
        </p:blipFill>
        <p:spPr>
          <a:xfrm>
            <a:off x="5076720" y="404640"/>
            <a:ext cx="3598920" cy="2595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350px-Sssrn396[1]"/>
          <p:cNvPicPr/>
          <p:nvPr/>
        </p:nvPicPr>
        <p:blipFill>
          <a:blip r:embed="rId3"/>
          <a:stretch/>
        </p:blipFill>
        <p:spPr>
          <a:xfrm>
            <a:off x="395280" y="3573360"/>
            <a:ext cx="836928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284720" y="259920"/>
            <a:ext cx="43308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вгусте 1977 г. надводное судно – атомный ледокол «Арктика» (начальник экспедиции А.Н. Чилингаров) впервые достигло Северного полю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220px-Chilingarov_Arh[1]"/>
          <p:cNvPicPr/>
          <p:nvPr/>
        </p:nvPicPr>
        <p:blipFill>
          <a:blip r:embed="rId1"/>
          <a:stretch/>
        </p:blipFill>
        <p:spPr>
          <a:xfrm>
            <a:off x="755640" y="765000"/>
            <a:ext cx="3260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1978"/>
          <p:cNvPicPr/>
          <p:nvPr/>
        </p:nvPicPr>
        <p:blipFill>
          <a:blip r:embed="rId1"/>
          <a:stretch/>
        </p:blipFill>
        <p:spPr>
          <a:xfrm>
            <a:off x="324000" y="260280"/>
            <a:ext cx="828036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8360" y="595008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рктика тает рекордными темп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%D0%B0%D1%80%D0%BA%D1%82%D0%B8%D0%BA%D0%B0[1]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40px-Arctic_%28orthographic_projection%29"/>
          <p:cNvPicPr/>
          <p:nvPr/>
        </p:nvPicPr>
        <p:blipFill>
          <a:blip r:embed="rId1"/>
          <a:stretch/>
        </p:blipFill>
        <p:spPr>
          <a:xfrm>
            <a:off x="1547640" y="333360"/>
            <a:ext cx="5894640" cy="58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Викторина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«Знаешь ли ты Арктику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00040" y="2571840"/>
            <a:ext cx="8229600" cy="14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ognita.ru/arcti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идент России В.В. Путин выразил уверенность, что люди должны жить и работать в Арктике. Необходимо осваивать этот регион, учитывая все экологические и климатические проблемы, однако, необходимо обеспечить безопасность коренных народов этого региона, уделить должное внимание сохранению флоры и фауны этих земель. Освоение арктических районов не должно нанести вред всем живым существам на этих широт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641–1647 гг. казак С.И. Дежнёв исследовал побережье Северо-Восточной Азии от устья реки Колымы до самой восточной точки матер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U060_09[1]"/>
          <p:cNvPicPr/>
          <p:nvPr/>
        </p:nvPicPr>
        <p:blipFill>
          <a:blip r:embed="rId1"/>
          <a:stretch/>
        </p:blipFill>
        <p:spPr>
          <a:xfrm>
            <a:off x="611280" y="907920"/>
            <a:ext cx="35845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3640" y="476280"/>
            <a:ext cx="83516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648 г. отряд под командованием С. Дежнёва и Ф. Попова открыл пролив между Азией и Америкой, позже получивший название Берингова проли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80px-Relief_map_of_USA_Alaska[1]"/>
          <p:cNvPicPr/>
          <p:nvPr/>
        </p:nvPicPr>
        <p:blipFill>
          <a:blip r:embed="rId1"/>
          <a:stretch/>
        </p:blipFill>
        <p:spPr>
          <a:xfrm>
            <a:off x="2195640" y="2492280"/>
            <a:ext cx="48225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211280" y="549360"/>
            <a:ext cx="447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733–1743 гг. состоялась Великая Северная экспедиция, инициатором которой был Пётр I.  Общее руководство экспедицией осуществлял известный исследователь Арктики В. Беринг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V_I_Bering[1]"/>
          <p:cNvPicPr/>
          <p:nvPr/>
        </p:nvPicPr>
        <p:blipFill>
          <a:blip r:embed="rId1"/>
          <a:stretch/>
        </p:blipFill>
        <p:spPr>
          <a:xfrm>
            <a:off x="539640" y="1197000"/>
            <a:ext cx="343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549360"/>
            <a:ext cx="4176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 такой экспедиции был разработан великим русским ученым М.В. Ломоносовым, а возглавил ее В.Я. Чичаг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250px-Pavel_Chichagov-color[1]"/>
          <p:cNvPicPr/>
          <p:nvPr/>
        </p:nvPicPr>
        <p:blipFill>
          <a:blip r:embed="rId1"/>
          <a:stretch/>
        </p:blipFill>
        <p:spPr>
          <a:xfrm>
            <a:off x="5076720" y="981000"/>
            <a:ext cx="350676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24000" y="333360"/>
            <a:ext cx="309564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и провед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людения н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чениями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ейфом льда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енланд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ре, взя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ы грунта, 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х мест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ре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лубины, опис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вотный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пицберг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300px-Topographic_map_of_Svalbard_ru"/>
          <p:cNvPicPr/>
          <p:nvPr/>
        </p:nvPicPr>
        <p:blipFill>
          <a:blip r:embed="rId1"/>
          <a:stretch/>
        </p:blipFill>
        <p:spPr>
          <a:xfrm>
            <a:off x="179280" y="260280"/>
            <a:ext cx="55245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508428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роль в освоении Арктики связана с именем знаменитого русского мореплавателя адмирала С.О. Макарова, по идее которого в 1899 г. в Англии был построен первый в мире мощный ледокол «Ермак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Yermak_icebreaker[1]"/>
          <p:cNvPicPr/>
          <p:nvPr/>
        </p:nvPicPr>
        <p:blipFill>
          <a:blip r:embed="rId1"/>
          <a:stretch/>
        </p:blipFill>
        <p:spPr>
          <a:xfrm>
            <a:off x="1187280" y="333360"/>
            <a:ext cx="65026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930–1932 гг. участники Североземельской экспедиции под руководством Г.А. Ушакова впервые исследовали и нанесли на карту архипелаг Северная Зем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300px-Severnaya_Zemlya_rus"/>
          <p:cNvPicPr/>
          <p:nvPr/>
        </p:nvPicPr>
        <p:blipFill>
          <a:blip r:embed="rId1"/>
          <a:stretch/>
        </p:blipFill>
        <p:spPr>
          <a:xfrm>
            <a:off x="684360" y="2421000"/>
            <a:ext cx="3786120" cy="3887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280px-Relief_Map_of_Severnaya_Zemlya[1]"/>
          <p:cNvPicPr/>
          <p:nvPr/>
        </p:nvPicPr>
        <p:blipFill>
          <a:blip r:embed="rId2"/>
          <a:stretch/>
        </p:blipFill>
        <p:spPr>
          <a:xfrm>
            <a:off x="4859280" y="2565360"/>
            <a:ext cx="374508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9T18:47:16Z</dcterms:created>
  <dc:creator>admin</dc:creator>
  <dc:description/>
  <dc:language>en-US</dc:language>
  <cp:lastModifiedBy>директор</cp:lastModifiedBy>
  <dcterms:modified xsi:type="dcterms:W3CDTF">2016-02-20T05:04:21Z</dcterms:modified>
  <cp:revision>6</cp:revision>
  <dc:subject/>
  <dc:title>Урок  «Арктика – фасад России»</dc:title>
</cp:coreProperties>
</file>