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3E6-C89E-418B-81A2-810FD44D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B96-961F-49CD-964D-481E9252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255-CFBA-429A-AE07-A7298915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AFC-D388-444D-BAF5-26AFB01D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33E-0DE8-4A99-9408-D21CEF0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755-15E5-4496-9C66-293F3E3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0CA-D32B-456A-95A3-E71EEFC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7DB-8748-4637-822D-F0F4B453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094-86F6-44C7-9B98-B8A9471A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631-8CF4-4FC0-91DF-0426753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162-A5B5-41E6-A59B-F076716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F7E-9B21-47D0-87EA-F4314F9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CE9-92E0-4087-A15F-E9AE6776A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gnita.ru/arcti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«Арктика – фасад Росс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8920" y="4149720"/>
            <a:ext cx="403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аляе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360" y="5589720"/>
            <a:ext cx="23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Кочет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02.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47640" y="2602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ал МБОУ Мурзицкой СШ – Кочетовская 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2 г. ледокольный пароход «Александр Сибиряков» за одну навигацию прошёл от города Архангельска до Берингова прол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300px-Icebreaker_J%C3%A4%C3%A4karhu[1]"/>
          <p:cNvPicPr/>
          <p:nvPr/>
        </p:nvPicPr>
        <p:blipFill>
          <a:blip r:embed="rId1"/>
          <a:stretch/>
        </p:blipFill>
        <p:spPr>
          <a:xfrm>
            <a:off x="1619280" y="1989000"/>
            <a:ext cx="5616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8500367212_8e56de67a5_z[1]"/>
          <p:cNvPicPr/>
          <p:nvPr/>
        </p:nvPicPr>
        <p:blipFill>
          <a:blip r:embed="rId1"/>
          <a:stretch/>
        </p:blipFill>
        <p:spPr>
          <a:xfrm>
            <a:off x="468360" y="189000"/>
            <a:ext cx="4194000" cy="277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60px-Soviet_Union-1963-stamp-Arctica_and_Antarctica-6K[1]"/>
          <p:cNvPicPr/>
          <p:nvPr/>
        </p:nvPicPr>
        <p:blipFill>
          <a:blip r:embed="rId2"/>
          <a:stretch/>
        </p:blipFill>
        <p:spPr>
          <a:xfrm>
            <a:off x="5076720" y="404640"/>
            <a:ext cx="3598920" cy="259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350px-Sssrn396[1]"/>
          <p:cNvPicPr/>
          <p:nvPr/>
        </p:nvPicPr>
        <p:blipFill>
          <a:blip r:embed="rId3"/>
          <a:stretch/>
        </p:blipFill>
        <p:spPr>
          <a:xfrm>
            <a:off x="395280" y="3573360"/>
            <a:ext cx="83692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720" y="259920"/>
            <a:ext cx="4330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вгусте 1977 г. надводное судно – атомный ледокол «Арктика» (начальник экспедиции А.Н. Чилингаров) впервые достигло Северного полю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20px-Chilingarov_Arh[1]"/>
          <p:cNvPicPr/>
          <p:nvPr/>
        </p:nvPicPr>
        <p:blipFill>
          <a:blip r:embed="rId1"/>
          <a:stretch/>
        </p:blipFill>
        <p:spPr>
          <a:xfrm>
            <a:off x="755640" y="765000"/>
            <a:ext cx="326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978"/>
          <p:cNvPicPr/>
          <p:nvPr/>
        </p:nvPicPr>
        <p:blipFill>
          <a:blip r:embed="rId1"/>
          <a:stretch/>
        </p:blipFill>
        <p:spPr>
          <a:xfrm>
            <a:off x="324000" y="260280"/>
            <a:ext cx="82803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ктика тает рекордными тем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%D0%B0%D1%80%D0%BA%D1%82%D0%B8%D0%BA%D0%B0[1]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40px-Arctic_%28orthographic_projection%29"/>
          <p:cNvPicPr/>
          <p:nvPr/>
        </p:nvPicPr>
        <p:blipFill>
          <a:blip r:embed="rId1"/>
          <a:stretch/>
        </p:blipFill>
        <p:spPr>
          <a:xfrm>
            <a:off x="1547640" y="333360"/>
            <a:ext cx="58946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икторина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«Знаешь ли ты Арктику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0040" y="257184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gnita.ru/arcti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 России В.В. Путин выразил уверенность, что люди должны жить и работать в Арктике. Необходимо осваивать этот регион, учитывая все экологические и климатические проблемы, однако, необходимо обеспечить безопасность коренных народов этого региона, уделить должное внимание сохранению флоры и фауны этих земель. Освоение арктических районов не должно нанести вред всем живым существам на этих широ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641–1647 гг. казак С.И. Дежнёв исследовал побережье Северо-Восточной Азии от устья реки Колымы до самой восточной точки матер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U060_09[1]"/>
          <p:cNvPicPr/>
          <p:nvPr/>
        </p:nvPicPr>
        <p:blipFill>
          <a:blip r:embed="rId1"/>
          <a:stretch/>
        </p:blipFill>
        <p:spPr>
          <a:xfrm>
            <a:off x="611280" y="907920"/>
            <a:ext cx="3584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48 г. отряд под командованием С. Дежнёва и Ф. Попова открыл пролив между Азией и Америкой, позже получивший название Берингова прол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80px-Relief_map_of_USA_Alaska[1]"/>
          <p:cNvPicPr/>
          <p:nvPr/>
        </p:nvPicPr>
        <p:blipFill>
          <a:blip r:embed="rId1"/>
          <a:stretch/>
        </p:blipFill>
        <p:spPr>
          <a:xfrm>
            <a:off x="2195640" y="2492280"/>
            <a:ext cx="48225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1280" y="549360"/>
            <a:ext cx="447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33–1743 гг. состоялась Великая Северная экспедиция, инициатором которой был Пётр I.  Общее руководство экспедицией осуществлял известный исследователь Арктики В. Беринг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V_I_Bering[1]"/>
          <p:cNvPicPr/>
          <p:nvPr/>
        </p:nvPicPr>
        <p:blipFill>
          <a:blip r:embed="rId1"/>
          <a:stretch/>
        </p:blipFill>
        <p:spPr>
          <a:xfrm>
            <a:off x="539640" y="1197000"/>
            <a:ext cx="343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4176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такой экспедиции был разработан великим русским ученым М.В. Ломоносовым, а возглавил ее В.Я. Чича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250px-Pavel_Chichagov-color[1]"/>
          <p:cNvPicPr/>
          <p:nvPr/>
        </p:nvPicPr>
        <p:blipFill>
          <a:blip r:embed="rId1"/>
          <a:stretch/>
        </p:blipFill>
        <p:spPr>
          <a:xfrm>
            <a:off x="5076720" y="981000"/>
            <a:ext cx="35067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24000" y="333360"/>
            <a:ext cx="309564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 провед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я н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ям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йфом льд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енланд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, взя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ы грунта,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бины, опи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пицберг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00px-Topographic_map_of_Svalbard_ru"/>
          <p:cNvPicPr/>
          <p:nvPr/>
        </p:nvPicPr>
        <p:blipFill>
          <a:blip r:embed="rId1"/>
          <a:stretch/>
        </p:blipFill>
        <p:spPr>
          <a:xfrm>
            <a:off x="179280" y="260280"/>
            <a:ext cx="5524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роль в освоении Арктики связана с именем знаменитого русского мореплавателя адмирала С.О. Макарова, по идее которого в 1899 г. в Англии был построен первый в мире мощный ледокол «Ерма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Yermak_icebreaker[1]"/>
          <p:cNvPicPr/>
          <p:nvPr/>
        </p:nvPicPr>
        <p:blipFill>
          <a:blip r:embed="rId1"/>
          <a:stretch/>
        </p:blipFill>
        <p:spPr>
          <a:xfrm>
            <a:off x="1187280" y="333360"/>
            <a:ext cx="65026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0–1932 гг. участники Североземельской экспедиции под руководством Г.А. Ушакова впервые исследовали и нанесли на карту архипелаг Северная Зем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00px-Severnaya_Zemlya_rus"/>
          <p:cNvPicPr/>
          <p:nvPr/>
        </p:nvPicPr>
        <p:blipFill>
          <a:blip r:embed="rId1"/>
          <a:stretch/>
        </p:blipFill>
        <p:spPr>
          <a:xfrm>
            <a:off x="684360" y="2421000"/>
            <a:ext cx="3786120" cy="388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280px-Relief_Map_of_Severnaya_Zemlya[1]"/>
          <p:cNvPicPr/>
          <p:nvPr/>
        </p:nvPicPr>
        <p:blipFill>
          <a:blip r:embed="rId2"/>
          <a:stretch/>
        </p:blipFill>
        <p:spPr>
          <a:xfrm>
            <a:off x="4859280" y="2565360"/>
            <a:ext cx="3745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8:47:16Z</dcterms:created>
  <dc:creator>admin</dc:creator>
  <dc:description/>
  <dc:language>en-US</dc:language>
  <cp:lastModifiedBy>директор</cp:lastModifiedBy>
  <dcterms:modified xsi:type="dcterms:W3CDTF">2016-02-20T05:04:21Z</dcterms:modified>
  <cp:revision>6</cp:revision>
  <dc:subject/>
  <dc:title>Урок  «Арктика – фасад России»</dc:title>
</cp:coreProperties>
</file>