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BF7-A273-419F-99E7-F4448E57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2FD-9249-423D-BE56-F77F347F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2D8-FD8D-4F68-BE3F-E2AB03CC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1BC-A380-419F-8AE5-98DB4010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239B-7A45-4645-B7BE-AB852939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0878-3647-4FA1-9238-76407B41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2776-1D48-481A-981E-F0C07A61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9F64-BE5E-466E-BCA2-604D9C54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8CCD-1783-491C-A9C5-62DDEAF8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AC64-79F3-4380-99C7-70854798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2220-8F15-451F-ABE8-61895EEB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D56-A8E4-4125-BB9A-7B752246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1F9B-9DCB-46A6-9BA7-AD211DCF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EE8D-B696-4C4C-BD90-D85D094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3C2F-FB38-4FE8-BAA5-00DDD163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0F02-BFB5-4FEB-AAF8-2F34592D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629F-5215-4B87-AE61-1C8D4FA6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92994-A0AB-490F-97CD-A1790043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16703-88F9-4DE1-920D-78B7AAA4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6CBBD-8583-4D62-8CF2-366BAA1B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1C141-3509-4360-840A-9B96BF58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44B21-DB67-4272-A7FF-8A3EB181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192-A49F-4CFC-8322-E3B1A93D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CF3F6-3843-4555-91C1-B59B45F5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C5462-0478-4987-A020-C13EA79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5992C-5F34-43BC-98C1-7DB3CD9B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D1776-7C07-4026-B2AD-6DEAFF80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035FC-A21B-454F-8FF4-F7138819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D6EAA-F3E8-4DE6-B233-7EB5FA32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B727C-38E3-482E-A423-95E59CC3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01436-06E9-476B-BF6D-FF38FDCF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4D36B-5E7B-455A-A1B6-69B425B1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940D0-AC69-47A7-96FE-0F1CAD07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B99-3C19-47AA-B9DC-9774F145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ACAB-C856-4497-B0C7-A02BCEBB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3C25F-2193-43B3-BD3B-60CB9D83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70D6-331A-4A4D-A81B-8F3DB50D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EB3B1-586F-49A9-B092-C5F403AF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5707-1C56-464B-95DB-4DE5E932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D2B85-3007-4EA0-ABE6-FB0598A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65675-B5AC-4C51-A569-26AAA00A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11B7C-FA99-4B6F-B3C9-862A2942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F0F4-4C33-473B-BB3C-CB3F151C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183D3-5101-48E1-97F9-66E65B4F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82B-6219-431B-B546-AD9DF1D9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1E094-ED4E-4FD7-9BB1-3B48B760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CA750-AF0E-4BFA-9119-21245941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2555E-2F73-4CEF-AE6A-CAD3421A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71E62-0099-4598-A217-F8BDAE54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4E385-6A36-4ACB-AFD2-DACAD2CB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0734D-68DB-4357-B7EC-8F1CEBFE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528A7-EF9F-4C94-8D0E-956E4E8D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EB7D-44CA-49C1-9AD3-073F380D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887B2-611C-4BEB-AF30-3A5651AA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90EAC-8C62-49DB-9F95-BCEBC031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F7F-A36F-4DEA-8916-DA91C95B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4167E-D225-487F-8341-504A5114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71224-22B8-4129-B13D-39FB07C8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D36C9-85BC-4170-900A-1141B5E4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F5575-697A-454A-BA0A-058FFBDF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D33CE-5755-402A-826D-D31443C3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44B90-3B9D-4FB9-8360-0718CD45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1BF09-C8EA-4D31-9A41-93A5185F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25558-9AFB-4522-9356-44F1658A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73327-BAE4-4BAD-8E4E-FEE6692D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F8AE5-039C-4800-8394-C88AA907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081-0DF5-4598-A7D6-526604ED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13297-0E8B-4EE3-9484-71276245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36A58-B3D5-4E3E-A3F4-D71F824D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C004A-C988-4F6F-A97A-76152EF7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242-0E58-4C4C-846E-2A713FE9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E75-8E52-4776-8C2B-5F641B7A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DCB5-9544-4AB3-9C83-A27FFEA8DA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49DE-F505-4976-975A-1727F15767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B151-4FE2-46AF-9646-E674D33647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0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0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E79B-4317-48DE-8ABB-EF999B1666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62C1-842A-4B7C-9E39-CE848FA71E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69E7-FFA3-454D-B959-3334BBB89A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Урок – обобщение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476360" y="184428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шение задач по тем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«Сумма углов треугольника. Соотношения между сторонами и углами треугольника.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полнил: Посохина Галина Люциевна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читель математики Высшей категори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БОУ «СОШ с. Тоора-Хем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Устная  работ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. Найдите неизвестный угол треугольника, если у него два угла рав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а) 50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˚ и 30˚;          б) 25˚ и 120˚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2. Найдите углы треугольника, если они пропорциональны числам 1, 2,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Устная  работ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 Один из внешних углов равнобедренного треугольника равен 70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˚. Найдите углы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  <a:ea typeface="Arial"/>
              </a:rPr>
              <a:t>4. Найдите углы треугольника, зная, что внешние углы при двух его вершинах равны 120˚ и 150˚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3132000" y="2924280"/>
            <a:ext cx="2448000" cy="936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 flipV="1">
            <a:off x="4356000" y="242100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6"/>
          <p:cNvSpPr/>
          <p:nvPr/>
        </p:nvSpPr>
        <p:spPr>
          <a:xfrm>
            <a:off x="2411280" y="5157720"/>
            <a:ext cx="2232000" cy="863640"/>
          </a:xfrm>
          <a:prstGeom prst="triangle">
            <a:avLst>
              <a:gd name="adj" fmla="val 26792"/>
            </a:avLst>
          </a:prstGeom>
          <a:solidFill>
            <a:srgbClr val="e6fa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7"/>
          <p:cNvSpPr/>
          <p:nvPr/>
        </p:nvSpPr>
        <p:spPr>
          <a:xfrm flipH="1">
            <a:off x="1476000" y="602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4572000" y="602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Arial"/>
              </a:rPr>
              <a:t>Задача  1.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реугольнике АВС проведена биссектриса 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= 7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˚,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 = 35˚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) Докажите, что 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D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– равнобедре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) Сравните отрезк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) Определите вид треугольника АВ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Задача 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треугольнике АВС угол В – туп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е стороны АС и В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Задача  3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75eef1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амостоятельная  работ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уществует ли треугольник, два угла которого равны 1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˚ и 70˚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Существует ли равнобедренный треугольник, два угла которого равны 30˚ и 60˚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Один из углов равнобедренного треугольника равен 100˚. Чему равны остальные его угл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Угол при основании равнобедренного треугольника равен 30˚. Чему равен угол при верш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. Чему равен угол М треугольника МКО, есл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= 70˚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 = 30˚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треугольнике АВС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= 50˚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= 40˚. Какой это треугольник: остроугольный, прямоугольный, тупоуголь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еугольнике АВС угол А в два раза больше угла С, а угол В в три раза больше угла С. Чему равны углы А, В, 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80f85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3300"/>
                </a:solidFill>
                <a:latin typeface="Times New Roman"/>
              </a:rPr>
              <a:t>Решения  самостоятельной  работы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уществует ли треугольник, два угла которого равны 1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˚ и 70˚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ет, т.к. 130˚ + 70˚ = 200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 180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уществует ли равнобедренный треугольник, два угла которого равны 30˚ и 60˚ ?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усть угол при основании 30˚. Сумма всех углов 30˚∙2 + 60˚ = 120˚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усть угол при основании 60˚. Сумма всех углов 60˚∙2 + 30˚ = 150˚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акой треугольник не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дин из углов равнобедренного треугольника равен 100˚. Чему равны остальные его углы?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0˚ - тупой угол, может быть только при верш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180˚ - 100˚):2 = 40˚.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40˚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Угол при основании равнобедренного треугольника равен 30˚. Чему равен угол при вершин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ешени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80˚ - 2∙30˚ = 120˚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120˚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68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68" fill="hold"/>
                                        <p:tgtEl>
                                          <p:spTgt spid="4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68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68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80f85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3300"/>
                </a:solidFill>
                <a:latin typeface="Times New Roman"/>
              </a:rPr>
              <a:t>Решения  самостоятельной  работы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9200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ему равен угол М треугольника МКО, есл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= 70˚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= 30˚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8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˚ - (70˚ + 30˚) = 80˚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80˚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треугольнике АВС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= 50˚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= 40˚. Какой это треугольник: остроугольный, прямоугольный, тупоуголь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=18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˚ - (50˚ + 40˚) = 90˚ - прямой уг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реугольник АВС – прямоуго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реугольнике АВС угол А в два раза больше угла С, а угол В в три раза больше угла С. Чему равны углы А, В, С?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= х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= 2х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= 3х.    х + 2х + 3х = 18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˚,  х = 30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= 30˚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= 60˚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= 90˚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68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68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Домашнее  зада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 Гл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0 (в), 223 (б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ba</cp:lastModifiedBy>
  <dcterms:modified xsi:type="dcterms:W3CDTF">2017-09-29T08:05:44Z</dcterms:modified>
  <cp:revision>17</cp:revision>
  <dc:subject/>
  <dc:title>PowerPoint Presentation</dc:title>
</cp:coreProperties>
</file>