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EB7D-66CA-47BF-9766-D5129578F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05E7-FC73-42A9-A2DF-6766DABF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F738-BA83-4EE3-80CD-A051CF762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1C43-4D58-43BC-BDC4-79D0BD1C7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420E5-4F63-4F62-8030-C153BCE2C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CCCB-960E-4377-9DF1-51C0DB9D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0F14-410B-4A0E-9A8C-F474BDE2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6CD6-BFC9-4C0E-B685-FF626E08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7C31-7E2E-4913-91C4-C2A739BC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DE8D-868C-4EAC-A777-ED2B257D4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D8C7C-86CF-4F05-A569-604383B8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F468-965F-498D-845A-858E79DF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96D72-DB69-4414-A142-DA9E38E3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116E-C72A-457C-BC66-32AC6E72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2E74-5FCA-43CB-9B28-71FADF76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6581-CF7E-4A76-B4E6-CF4807BF9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9012-3A65-47C8-A790-719635F2F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3A3B51-7662-4120-81B2-4C5AE7C62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C9598C-D254-4E20-934E-DCCDFAAC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85F4F2-F96F-44EC-B4F7-3233C3E2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769264-0E62-45AA-BE4F-1789F658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C713B6-9830-4D13-9523-A5FC8DE5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C459-4AC3-4858-A2F1-069699CA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181608-64FA-4232-A525-35A74DE6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A067A2-07A2-42D2-9677-E1FF5125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0C6A61-4D82-4514-B2C5-7D4885ED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7C0D8E-2565-4681-8A45-455F424A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D06A55-4DE1-43D2-B263-064B73E3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683583-0805-4CAB-A297-9A5C73514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A7CD37-3E93-499D-93A7-95324A82B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DBB99-1CFB-4D0F-8234-BEB82B240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321B3-ED13-499D-B0EF-AE5EEC54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462EF-FACF-4EFE-AFDC-AC209849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10E9-F77D-4F27-A117-EE4E12A2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E186A-5859-4CFF-90EC-67053EF1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975BF-0D5B-423D-B043-95E54617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0B5C2-C8EE-42D1-BCB0-90EF2AB6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43014-6B5D-4E99-B7EB-45DE356D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C4079-FD57-48A2-9C22-D968201E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F4AFB-9179-42E8-AB8C-832BC4C6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E5932-4041-4276-A668-9F1EA68D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779D3-5826-4B4F-97AD-F2211BA53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4536E-83E1-47D3-AD33-C761514BE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3F883-12E9-48FF-A6B1-F90E1B49E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4BFA-BBAB-4C55-9A7B-61A0A58B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9A20F-5881-47CE-8573-D081FF7E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B1311-4509-4070-9B53-886B0B8B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DA7AA-2865-4CD0-A772-6F4D14F38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E36CE-4C43-4E44-AAFD-C70EB144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36CDA-EE38-44B0-A52B-0656137B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7FC1E-A251-494B-A49B-D6CCFDB7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61B2E-5A09-49B0-AAAA-2221C1C3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22A98-A5DC-4A89-B989-B51D4556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979E5-E348-4041-ADC0-1924A203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9A669-AEBE-4952-B567-D28643BD4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8965-F82A-4A07-9AFD-DDDE4FC9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BFD26-1D0D-4034-9693-289FC5711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083DA-718F-458C-AEF8-136C57B8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E555C-2035-4EDC-AE7B-41200CCB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7B119-CA07-44EC-B5A1-CC1D40B2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E948E-138A-41FD-970C-BFEBD4ED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12E84-62A3-417B-9FA1-D7B742BE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E0B8A-ABCF-46B0-9176-FF7A016F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C3677-A2E6-46A7-93A7-86993C42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372C0-F94B-4831-B000-BF74DBD7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627AB-BB55-4DD7-9EE2-55D57442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A3DD-CB7F-47AE-8667-DBAF23C4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9ED94-3061-4AFA-8853-AC06BCBA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1692E-38C8-4AE6-8A08-A72F57A5C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9049A-4268-40D7-9758-AD8C9274F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0B9E-A974-4BC1-A52A-4C89EE56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E594-BE03-4AFD-805F-06340520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92EE-E48A-4F00-8A47-5DA2773E2C9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9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8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0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A575-112F-4424-A79A-14A61D1D9A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B1E9F-82A0-48E6-AC93-D65150D6F32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56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57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04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06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10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323D-0868-4314-BEE7-38CE4AABA12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54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56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68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87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05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2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13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B473-4462-4F10-A17B-C4485E39A9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59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60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5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1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B6D6-AE17-4F7F-984F-E507B90C94D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Garamond"/>
              </a:rPr>
              <a:t>Урок – обобщение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476360" y="1844280"/>
            <a:ext cx="64008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ешение задач по тем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Garamond"/>
              </a:rPr>
              <a:t>«Сумма углов треугольника. Соотношения между сторонами и углами треугольника.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Выполнил: Посохина Галина Люциевна,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учитель математики Высшей категории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МБОУ «СОШ с. Тоора-Хем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Устная  работ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1. Найдите неизвестный угол треугольника, если у него два угла рав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а) 50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  <a:ea typeface="Arial"/>
              </a:rPr>
              <a:t>˚ и 30˚;          б) 25˚ и 120˚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Arial"/>
                <a:ea typeface="Arial"/>
              </a:rPr>
              <a:t>2. Найдите углы треугольника, если они пропорциональны числам 1, 2, 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Устная  работ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3. Один из внешних углов равнобедренного треугольника равен 70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  <a:ea typeface="Arial"/>
              </a:rPr>
              <a:t>˚. Найдите углы тре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3300"/>
                </a:solidFill>
                <a:latin typeface="Arial"/>
                <a:ea typeface="Arial"/>
              </a:rPr>
              <a:t>4. Найдите углы треугольника, зная, что внешние углы при двух его вершинах равны 120˚ и 150˚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4"/>
          <p:cNvSpPr/>
          <p:nvPr/>
        </p:nvSpPr>
        <p:spPr>
          <a:xfrm>
            <a:off x="3132000" y="2924280"/>
            <a:ext cx="2448000" cy="936360"/>
          </a:xfrm>
          <a:prstGeom prst="triangle">
            <a:avLst>
              <a:gd name="adj" fmla="val 500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5"/>
          <p:cNvSpPr/>
          <p:nvPr/>
        </p:nvSpPr>
        <p:spPr>
          <a:xfrm flipV="1">
            <a:off x="4356000" y="2421000"/>
            <a:ext cx="64764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6"/>
          <p:cNvSpPr/>
          <p:nvPr/>
        </p:nvSpPr>
        <p:spPr>
          <a:xfrm>
            <a:off x="2411280" y="5157720"/>
            <a:ext cx="2232000" cy="863640"/>
          </a:xfrm>
          <a:prstGeom prst="triangle">
            <a:avLst>
              <a:gd name="adj" fmla="val 26792"/>
            </a:avLst>
          </a:prstGeom>
          <a:solidFill>
            <a:srgbClr val="e6fa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7"/>
          <p:cNvSpPr/>
          <p:nvPr/>
        </p:nvSpPr>
        <p:spPr>
          <a:xfrm flipH="1">
            <a:off x="1476000" y="602136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8"/>
          <p:cNvSpPr/>
          <p:nvPr/>
        </p:nvSpPr>
        <p:spPr>
          <a:xfrm>
            <a:off x="4572000" y="6021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8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c000"/>
                </a:solidFill>
                <a:latin typeface="Arial"/>
              </a:rPr>
              <a:t>Задача  1.</a:t>
            </a:r>
            <a:endParaRPr b="0" lang="en-US" sz="4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треугольнике АВС проведена биссектриса В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= 75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˚, 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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 = 35˚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) Докажите, что ▲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DC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– равнобедренны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) Сравните отрезк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DC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) Определите вид треугольника АВ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Задача  2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треугольнике АВС угол В – тупо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авните стороны АС и В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Arial"/>
                <a:ea typeface="Arial"/>
              </a:rPr>
              <a:t>Задача  3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99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8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75eef1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0000"/>
                </a:solidFill>
                <a:latin typeface="Times New Roman"/>
              </a:rPr>
              <a:t>Самостоятельная  работ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28036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Существует ли треугольник, два угла которого равны 13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˚ и 70˚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2. Существует ли равнобедренный треугольник, два угла которого равны 30˚ и 60˚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. Один из углов равнобедренного треугольника равен 100˚. Чему равны остальные его угл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4. Угол при основании равнобедренного треугольника равен 30˚. Чему равен угол при вершин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5. Чему равен угол М треугольника МКО, если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 = 70˚,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 = 30˚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 треугольнике АВС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 = 50˚,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 = 40˚. Какой это треугольник: остроугольный, прямоугольный, тупоугольны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7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треугольнике АВС угол А в два раза больше угла С, а угол В в три раза больше угла С. Чему равны углы А, В, С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80f85a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993300"/>
                </a:solidFill>
                <a:latin typeface="Times New Roman"/>
              </a:rPr>
              <a:t>Решения  самостоятельной  работы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28036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уществует ли треугольник, два угла которого равны 13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˚ и 70˚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нет, т.к. 130˚ + 70˚ = 200˚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gt; 180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Существует ли равнобедренный треугольник, два угла которого равны 30˚ и 60˚ ?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Решение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усть угол при основании 30˚. Сумма всех углов 30˚∙2 + 60˚ = 120˚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усть угол при основании 60˚. Сумма всех углов 60˚∙2 + 30˚ = 150˚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такой треугольник не существу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Один из углов равнобедренного треугольника равен 100˚. Чему равны остальные его углы?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00˚ - тупой угол, может быть только при верши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(180˚ - 100˚):2 = 40˚.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40˚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Угол при основании равнобедренного треугольника равен 30˚. Чему равен угол при вершин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Решение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80˚ - 2∙30˚ = 120˚        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120˚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768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768" fill="hold"/>
                                        <p:tgtEl>
                                          <p:spTgt spid="4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" dur="768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" dur="768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4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4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4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4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4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solidFill>
            <a:srgbClr val="80f85a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993300"/>
                </a:solidFill>
                <a:latin typeface="Times New Roman"/>
              </a:rPr>
              <a:t>Решения  самостоятельной  работы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79200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Чему равен угол М треугольника МКО, если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= 70˚,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 = 30˚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ешение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18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˚ - (70˚ + 30˚) = 80˚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80˚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6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треугольнике АВС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= 50˚,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= 40˚. Какой это треугольник: остроугольный, прямоугольный, тупоугольны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ешение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=18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˚ - (50˚ + 40˚) = 90˚ - прямой уго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треугольник АВС – прямоуголь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7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реугольнике АВС угол А в два раза больше угла С, а угол В в три раза больше угла С. Чему равны углы А, В, С?   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= х,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= 2х,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= 3х.    х + 2х + 3х = 18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˚,  х = 30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Arial"/>
              </a:rPr>
              <a:t>Ответ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 = 30˚,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 = 60˚,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= 90˚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768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0" dur="768" fill="hold"/>
                                        <p:tgtEl>
                                          <p:spTgt spid="4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2" dur="768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4" dur="768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4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Garamond"/>
              </a:rPr>
              <a:t>Домашнее  задание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 Гл.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№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0 (в), 223 (б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plit dir="in" orient="vert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shiba</cp:lastModifiedBy>
  <dcterms:modified xsi:type="dcterms:W3CDTF">2017-09-29T08:05:44Z</dcterms:modified>
  <cp:revision>17</cp:revision>
  <dc:subject/>
  <dc:title>PowerPoint Presentation</dc:title>
</cp:coreProperties>
</file>