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093-6F33-4550-BE5B-91350DD312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B31-FE23-430F-AD0C-630B6D287563}" type="slidenum">
              <a:rPr b="0" lang="ru-RU" sz="1200" spc="-1" strike="noStrike">
                <a:solidFill>
                  <a:srgbClr val="2f131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69CC-0015-4650-8943-D3013E2E31E4}" type="slidenum">
              <a:rPr b="0" lang="ru-RU" sz="1200" spc="-1" strike="noStrike">
                <a:solidFill>
                  <a:srgbClr val="2f131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E13-664D-4E4F-8C21-02A0B8F4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E65-14DB-4EF4-823F-B8B7B69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3A0-C22A-46E4-A34B-5F363428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EC9-E676-485B-856D-154DC97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42CD-0C33-4F5B-B941-F7E2BD0A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461-E79E-464B-93B4-C253930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273-0FEC-4E2F-928F-FB58E389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59E-B8AA-4001-82B3-FD3D7BAE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1A2-351E-40F6-9203-B84113CE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D11-F524-47F2-AAF0-12C1055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536-430A-4E6A-9259-FE85716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B37-A33C-49C3-B7DF-E5ADE24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C327-D333-4869-840D-2D96FD5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9386-78F3-4C09-B6D4-5CC6EA0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0CB9-0C84-482A-9E63-DDF4AAF1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506A-80F0-4AD0-A9A1-8895BF86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8F6-7B82-4122-9B45-36971418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650-7754-4D41-A9D2-CCD13380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E0A-FA66-431F-9C32-278EAB2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CB1-48F6-4CD7-B7DA-19F3A80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F0D-65F0-4BD5-AF0F-F0108F6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71B-0F21-4933-B5FF-5BC2D4A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6B5-0F12-4164-82A3-EE87BDF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520-51C2-4BC4-8DE9-CD60E53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6F9C-E39E-4D31-A5F8-9C4BBAC439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CF3F-47B7-4124-91FD-A2186F8BE0B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73152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b725"/>
                </a:solidFill>
                <a:latin typeface="Arial"/>
              </a:rPr>
              <a:t>Я – воспитатель и этим горжусь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b725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Кузьмина  Ири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Михай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МДОУ д/с с. Звонарев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Марксовского райо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Образование – высш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Стаж -  14 л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18" descr="C:\Users\68233\Desktop\DSCN4688.JPG"/>
          <p:cNvPicPr/>
          <p:nvPr/>
        </p:nvPicPr>
        <p:blipFill>
          <a:blip r:embed="rId1"/>
          <a:stretch/>
        </p:blipFill>
        <p:spPr>
          <a:xfrm>
            <a:off x="380880" y="2387520"/>
            <a:ext cx="350532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03200" y="342720"/>
            <a:ext cx="69660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едь каждый, получить наверн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Цветы в подарок очень рад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счастлив в этот миг безмерн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А у меня их целый сад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14600" y="3809520"/>
            <a:ext cx="26668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32000" y="2819160"/>
            <a:ext cx="61596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7" descr="C:\Users\68233\Desktop\работа\20160914_115256.jpg"/>
          <p:cNvPicPr/>
          <p:nvPr/>
        </p:nvPicPr>
        <p:blipFill>
          <a:blip r:embed="rId2"/>
          <a:stretch/>
        </p:blipFill>
        <p:spPr>
          <a:xfrm>
            <a:off x="609480" y="2362320"/>
            <a:ext cx="655344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редь моря значимых профессий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ебе я выбрала одну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ё нет в мире интересней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на живёт в детском саду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657240"/>
            <a:ext cx="7386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C:\Users\68233\Desktop\DSCN4569.JPG"/>
          <p:cNvPicPr/>
          <p:nvPr/>
        </p:nvPicPr>
        <p:blipFill>
          <a:blip r:embed="rId2"/>
          <a:stretch/>
        </p:blipFill>
        <p:spPr>
          <a:xfrm>
            <a:off x="1066680" y="251460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 ней долго шла я познавая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аук бесчисленных плоды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гда вперёд не унывая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 душе любя свои труды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6019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C:\Users\68233\Desktop\!!.jpg"/>
          <p:cNvPicPr/>
          <p:nvPr/>
        </p:nvPicPr>
        <p:blipFill>
          <a:blip r:embed="rId1"/>
          <a:stretch/>
        </p:blipFill>
        <p:spPr>
          <a:xfrm>
            <a:off x="685800" y="251460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ё я выбрала ребёнком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 неё играла с детских лет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остигла с чувством, с мерой, с толком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ругой такой наверно не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096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C:\Users\68233\Desktop\1!!!!.jpg"/>
          <p:cNvPicPr/>
          <p:nvPr/>
        </p:nvPicPr>
        <p:blipFill>
          <a:blip r:embed="rId1"/>
          <a:stretch/>
        </p:blipFill>
        <p:spPr>
          <a:xfrm>
            <a:off x="838080" y="228600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768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т места мне милей на свете!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т лучше и родней тог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де подрастают нежно дети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ак в поле вспаханном зерно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74640" y="2285640"/>
            <a:ext cx="528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6" descr="C:\Users\68233\Desktop\20170929_095755.jpg"/>
          <p:cNvPicPr/>
          <p:nvPr/>
        </p:nvPicPr>
        <p:blipFill>
          <a:blip r:embed="rId1"/>
          <a:stretch/>
        </p:blipFill>
        <p:spPr>
          <a:xfrm>
            <a:off x="1600200" y="2209680"/>
            <a:ext cx="5257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де искренни всегда улыбки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льётся тонкий, звонкий смех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ни как маленькие рыбки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Люблю их каждого и всех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87" descr="C:\Users\68233\Desktop\SDC12278.JPG"/>
          <p:cNvPicPr/>
          <p:nvPr/>
        </p:nvPicPr>
        <p:blipFill>
          <a:blip r:embed="rId1"/>
          <a:stretch/>
        </p:blipFill>
        <p:spPr>
          <a:xfrm>
            <a:off x="990720" y="2438280"/>
            <a:ext cx="5867280" cy="36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47720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х научу священной дружбе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му, чем нужно дорожить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Я по своей нелёгкой служб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олжна в них многое вложить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419112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8" descr="C:\Users\68233\Desktop\5!!!.jpg"/>
          <p:cNvPicPr/>
          <p:nvPr/>
        </p:nvPicPr>
        <p:blipFill>
          <a:blip r:embed="rId1"/>
          <a:stretch/>
        </p:blipFill>
        <p:spPr>
          <a:xfrm>
            <a:off x="205740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о не пугает тяжесть эта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едь знаю дело до конца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отовлю я к большому свету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 надеждой каждого мальца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SDC12334"/>
          <p:cNvPicPr/>
          <p:nvPr/>
        </p:nvPicPr>
        <p:blipFill>
          <a:blip r:embed="rId1"/>
          <a:stretch/>
        </p:blipFill>
        <p:spPr>
          <a:xfrm>
            <a:off x="838080" y="1828800"/>
            <a:ext cx="5943600" cy="441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-1295280" y="3886200"/>
            <a:ext cx="533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95280" y="3047760"/>
            <a:ext cx="3618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782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даром говорят, что дети –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сть жизни лучшие цветы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я счастливей всех на свете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ои сбываются мечты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28" descr="DSCN0165"/>
          <p:cNvPicPr/>
          <p:nvPr/>
        </p:nvPicPr>
        <p:blipFill>
          <a:blip r:embed="rId1"/>
          <a:stretch/>
        </p:blipFill>
        <p:spPr>
          <a:xfrm>
            <a:off x="1600200" y="228600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4:31:31Z</dcterms:created>
  <dc:creator>Михаил</dc:creator>
  <dc:description/>
  <dc:language>en-US</dc:language>
  <cp:lastModifiedBy>68233</cp:lastModifiedBy>
  <dcterms:modified xsi:type="dcterms:W3CDTF">2017-09-30T10:37:59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