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868F0-856B-4A4F-ABBA-A59AD3A42B2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28058-0A66-4487-9A17-5BBA468C4B56}" type="slidenum">
              <a:rPr b="0" lang="ru-RU" sz="1200" spc="-1" strike="noStrike">
                <a:solidFill>
                  <a:srgbClr val="2f1311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06D3C-85AD-4F6A-82B1-7EC98C973982}" type="slidenum">
              <a:rPr b="0" lang="ru-RU" sz="1200" spc="-1" strike="noStrike">
                <a:solidFill>
                  <a:srgbClr val="2f1311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657A-24BE-47B2-AA29-FACBFACD1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0884-8A92-49F4-9512-6DF0B3FD5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CB69-6C17-4DF1-8A64-5EF27E22D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2F79-DFF3-4868-8F42-0C7AB18BF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AE68D-3227-4283-BBBF-E68F03001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3DF9C-7EAF-42C3-BCD8-2B96F4CF1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AE2E6-6519-4593-B632-1B6E6C4DC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739FB-3993-4F89-8592-FFF8F40A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79635-D106-4D05-A38F-48243FD25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E25A4-ED06-42BB-830A-69DBD38AE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74AD2-84AC-48B8-9875-99424F0C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A658-1067-407E-BAAD-62E8E7F24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8DA6F-0354-4CDA-B396-376411AC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C9EFA-F785-4FBC-AB84-1C1F5200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BAAAF-2BF9-4ABA-88DE-3C051971F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BE0F7-85DA-4031-9B99-B59E458E9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63BCD-5C1F-4B40-AF74-F2A5A5732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D1E9-F310-44FE-B98C-732DF65B4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85AD-995B-4C8B-B11B-98BA1E9E4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1100-842F-416C-85AB-5943B0D8B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3DE3-D2BB-4B47-AE0E-5B96228C9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B527-898F-40A1-9E2C-B0084D1B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A447-BA0B-4F08-88B0-D97F6F7E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770D-C564-4596-89F8-85137D589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FD14F-F85B-4B1E-A4BC-B5CDDA98437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67711-B8BD-4B1C-8D96-37466E85B34B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304920" y="533520"/>
            <a:ext cx="73152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2b725"/>
                </a:solidFill>
                <a:latin typeface="Arial"/>
              </a:rPr>
              <a:t>Я – воспитатель и этим горжусь!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b725"/>
                </a:solidFill>
                <a:latin typeface="Arial"/>
              </a:rPr>
              <a:t>                                  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b725"/>
                </a:solidFill>
                <a:latin typeface="Arial"/>
              </a:rPr>
              <a:t>                                         </a:t>
            </a:r>
            <a:r>
              <a:rPr b="0" lang="ru-RU" sz="2400" spc="-1" strike="noStrike">
                <a:solidFill>
                  <a:srgbClr val="f2b725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2b725"/>
                </a:solidFill>
                <a:latin typeface="Arial"/>
              </a:rPr>
              <a:t>Кузьмина  Ирин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b725"/>
                </a:solidFill>
                <a:latin typeface="Arial"/>
              </a:rPr>
              <a:t>                                      </a:t>
            </a:r>
            <a:r>
              <a:rPr b="0" lang="ru-RU" sz="2400" spc="-1" strike="noStrike">
                <a:solidFill>
                  <a:srgbClr val="f2b725"/>
                </a:solidFill>
                <a:latin typeface="Arial"/>
              </a:rPr>
              <a:t>Михайловн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b725"/>
                </a:solidFill>
                <a:latin typeface="Arial"/>
              </a:rPr>
              <a:t>                                                  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b725"/>
                </a:solidFill>
                <a:latin typeface="Arial"/>
              </a:rPr>
              <a:t>                                                 </a:t>
            </a:r>
            <a:r>
              <a:rPr b="0" lang="ru-RU" sz="1800" spc="-1" strike="noStrike">
                <a:solidFill>
                  <a:srgbClr val="f2b725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2b725"/>
                </a:solidFill>
                <a:latin typeface="Arial"/>
              </a:rPr>
              <a:t>МДОУ д/с с. Звонаревк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b725"/>
                </a:solidFill>
                <a:latin typeface="Arial"/>
              </a:rPr>
              <a:t>                                                </a:t>
            </a:r>
            <a:r>
              <a:rPr b="0" lang="ru-RU" sz="1800" spc="-1" strike="noStrike">
                <a:solidFill>
                  <a:srgbClr val="f2b725"/>
                </a:solidFill>
                <a:latin typeface="Arial"/>
              </a:rPr>
              <a:t>Марксовского район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b725"/>
                </a:solidFill>
                <a:latin typeface="Arial"/>
              </a:rPr>
              <a:t>                                                </a:t>
            </a:r>
            <a:r>
              <a:rPr b="0" lang="ru-RU" sz="1800" spc="-1" strike="noStrike">
                <a:solidFill>
                  <a:srgbClr val="f2b725"/>
                </a:solidFill>
                <a:latin typeface="Arial"/>
              </a:rPr>
              <a:t>Саратовской област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b725"/>
                </a:solidFill>
                <a:latin typeface="Arial"/>
              </a:rPr>
              <a:t>                                                    </a:t>
            </a:r>
            <a:r>
              <a:rPr b="0" lang="ru-RU" sz="1800" spc="-1" strike="noStrike">
                <a:solidFill>
                  <a:srgbClr val="f2b725"/>
                </a:solidFill>
                <a:latin typeface="Arial"/>
              </a:rPr>
              <a:t>Образование – высше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2b725"/>
                </a:solidFill>
                <a:latin typeface="Arial"/>
              </a:rPr>
              <a:t>                                   </a:t>
            </a:r>
            <a:r>
              <a:rPr b="0" lang="ru-RU" sz="1800" spc="-1" strike="noStrike">
                <a:solidFill>
                  <a:srgbClr val="f2b725"/>
                </a:solidFill>
                <a:latin typeface="Arial"/>
              </a:rPr>
              <a:t>Стаж -  14 лет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0" name="Picture 18" descr="C:\Users\68233\Desktop\DSCN4688.JPG"/>
          <p:cNvPicPr/>
          <p:nvPr/>
        </p:nvPicPr>
        <p:blipFill>
          <a:blip r:embed="rId1"/>
          <a:stretch/>
        </p:blipFill>
        <p:spPr>
          <a:xfrm>
            <a:off x="380880" y="2387520"/>
            <a:ext cx="3505320" cy="381024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403200" y="342720"/>
            <a:ext cx="6966000" cy="95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22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Ведь каждый, получить наверно,</a:t>
            </a:r>
            <a:br>
              <a:rPr sz="2000"/>
            </a:b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Цветы в подарок очень рад</a:t>
            </a:r>
            <a:br>
              <a:rPr sz="2000"/>
            </a:b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И счастлив в этот миг безмерно,</a:t>
            </a:r>
            <a:br>
              <a:rPr sz="2000"/>
            </a:b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А у меня их целый сад.</a:t>
            </a:r>
            <a:br>
              <a:rPr sz="2000"/>
            </a:b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2514600" y="3809520"/>
            <a:ext cx="2666880" cy="21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032000" y="2819160"/>
            <a:ext cx="615960" cy="95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8" name="Picture 17" descr="C:\Users\68233\Desktop\работа\20160914_115256.jpg"/>
          <p:cNvPicPr/>
          <p:nvPr/>
        </p:nvPicPr>
        <p:blipFill>
          <a:blip r:embed="rId2"/>
          <a:stretch/>
        </p:blipFill>
        <p:spPr>
          <a:xfrm>
            <a:off x="609480" y="2362320"/>
            <a:ext cx="6553440" cy="3962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19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Средь моря значимых профессий</a:t>
            </a:r>
            <a:br>
              <a:rPr sz="2000"/>
            </a:b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Себе я выбрала одну</a:t>
            </a:r>
            <a:br>
              <a:rPr sz="2000"/>
            </a:b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Её нет в мире интересней</a:t>
            </a:r>
            <a:br>
              <a:rPr sz="2000"/>
            </a:b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Она живёт в детском саду.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3657240"/>
            <a:ext cx="73864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4" name="Picture 4" descr="C:\Users\68233\Desktop\DSCN4569.JPG"/>
          <p:cNvPicPr/>
          <p:nvPr/>
        </p:nvPicPr>
        <p:blipFill>
          <a:blip r:embed="rId2"/>
          <a:stretch/>
        </p:blipFill>
        <p:spPr>
          <a:xfrm>
            <a:off x="1066680" y="2514600"/>
            <a:ext cx="5334120" cy="3809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22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К ней долго шла я познавая</a:t>
            </a:r>
            <a:br>
              <a:rPr sz="2000"/>
            </a:b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Наук бесчисленных плоды,</a:t>
            </a:r>
            <a:br>
              <a:rPr sz="2000"/>
            </a:b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Всегда вперёд не унывая</a:t>
            </a:r>
            <a:br>
              <a:rPr sz="2000"/>
            </a:b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В душе любя свои труды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61760" y="2514600"/>
            <a:ext cx="60195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7" name="Picture 4" descr="C:\Users\68233\Desktop\!!.jpg"/>
          <p:cNvPicPr/>
          <p:nvPr/>
        </p:nvPicPr>
        <p:blipFill>
          <a:blip r:embed="rId1"/>
          <a:stretch/>
        </p:blipFill>
        <p:spPr>
          <a:xfrm>
            <a:off x="685800" y="2514600"/>
            <a:ext cx="6095880" cy="3962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20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Её я выбрала ребёнком,</a:t>
            </a:r>
            <a:br>
              <a:rPr sz="2000"/>
            </a:b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В неё играла с детских лет,</a:t>
            </a:r>
            <a:br>
              <a:rPr sz="2000"/>
            </a:b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Постигла с чувством, с мерой, с толком</a:t>
            </a:r>
            <a:br>
              <a:rPr sz="2000"/>
            </a:b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Другой такой наверно нет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6096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0" name="Picture 4" descr="C:\Users\68233\Desktop\1!!!!.jpg"/>
          <p:cNvPicPr/>
          <p:nvPr/>
        </p:nvPicPr>
        <p:blipFill>
          <a:blip r:embed="rId1"/>
          <a:stretch/>
        </p:blipFill>
        <p:spPr>
          <a:xfrm>
            <a:off x="838080" y="2286000"/>
            <a:ext cx="6096240" cy="4267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747684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Нет места мне милей на свете!</a:t>
            </a:r>
            <a:br>
              <a:rPr sz="2000"/>
            </a:b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Нет лучше и родней того,</a:t>
            </a:r>
            <a:br>
              <a:rPr sz="2000"/>
            </a:b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Где подрастают нежно дети,</a:t>
            </a:r>
            <a:br>
              <a:rPr sz="2000"/>
            </a:b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Как в поле вспаханном зерно.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74640" y="2285640"/>
            <a:ext cx="52833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3" name="Picture 6" descr="C:\Users\68233\Desktop\20170929_095755.jpg"/>
          <p:cNvPicPr/>
          <p:nvPr/>
        </p:nvPicPr>
        <p:blipFill>
          <a:blip r:embed="rId1"/>
          <a:stretch/>
        </p:blipFill>
        <p:spPr>
          <a:xfrm>
            <a:off x="1600200" y="2209680"/>
            <a:ext cx="5257800" cy="3962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01064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Где искренни всегда улыбки</a:t>
            </a:r>
            <a:br>
              <a:rPr sz="2000"/>
            </a:b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И льётся тонкий, звонкий смех,</a:t>
            </a:r>
            <a:br>
              <a:rPr sz="2000"/>
            </a:b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Они как маленькие рыбки,</a:t>
            </a:r>
            <a:br>
              <a:rPr sz="2000"/>
            </a:b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Люблю их каждого и всех.</a:t>
            </a:r>
            <a:br>
              <a:rPr sz="2000"/>
            </a:b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5" name="Picture 87" descr="C:\Users\68233\Desktop\SDC12278.JPG"/>
          <p:cNvPicPr/>
          <p:nvPr/>
        </p:nvPicPr>
        <p:blipFill>
          <a:blip r:embed="rId1"/>
          <a:stretch/>
        </p:blipFill>
        <p:spPr>
          <a:xfrm>
            <a:off x="990720" y="2438280"/>
            <a:ext cx="5867280" cy="3659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7477200" cy="19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Их научу священной дружбе,</a:t>
            </a:r>
            <a:br>
              <a:rPr sz="2000"/>
            </a:b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Всему, чем нужно дорожить,</a:t>
            </a:r>
            <a:br>
              <a:rPr sz="2000"/>
            </a:b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Я по своей нелёгкой службе</a:t>
            </a:r>
            <a:br>
              <a:rPr sz="2000"/>
            </a:b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Должна в них многое вложить.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057400" y="2133720"/>
            <a:ext cx="4191120" cy="42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8" name="Picture 8" descr="C:\Users\68233\Desktop\5!!!.jpg"/>
          <p:cNvPicPr/>
          <p:nvPr/>
        </p:nvPicPr>
        <p:blipFill>
          <a:blip r:embed="rId1"/>
          <a:stretch/>
        </p:blipFill>
        <p:spPr>
          <a:xfrm>
            <a:off x="2057400" y="1676520"/>
            <a:ext cx="4191120" cy="4724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20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Но не пугает тяжесть эта,</a:t>
            </a:r>
            <a:br>
              <a:rPr sz="2000"/>
            </a:b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Ведь знаю дело до конца,</a:t>
            </a:r>
            <a:br>
              <a:rPr sz="2000"/>
            </a:b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Готовлю я к большому свету</a:t>
            </a:r>
            <a:br>
              <a:rPr sz="2000"/>
            </a:b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С надеждой каждого мальца.</a:t>
            </a:r>
            <a:br>
              <a:rPr sz="2000"/>
            </a:b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0" name="Picture 9" descr="SDC12334"/>
          <p:cNvPicPr/>
          <p:nvPr/>
        </p:nvPicPr>
        <p:blipFill>
          <a:blip r:embed="rId1"/>
          <a:stretch/>
        </p:blipFill>
        <p:spPr>
          <a:xfrm>
            <a:off x="838080" y="1828800"/>
            <a:ext cx="5943600" cy="44197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>
            <a:off x="-1295280" y="3886200"/>
            <a:ext cx="53316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295280" y="3047760"/>
            <a:ext cx="3618000" cy="21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7821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Недаром говорят, что дети –</a:t>
            </a:r>
            <a:br>
              <a:rPr sz="2000"/>
            </a:b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Есть жизни лучшие цветы</a:t>
            </a:r>
            <a:br>
              <a:rPr sz="2000"/>
            </a:b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И я счастливей всех на свете,</a:t>
            </a:r>
            <a:br>
              <a:rPr sz="2000"/>
            </a:br>
            <a:r>
              <a:rPr b="0" lang="ru-RU" sz="2000" spc="-1" strike="noStrike">
                <a:solidFill>
                  <a:srgbClr val="f7d47d"/>
                </a:solidFill>
                <a:latin typeface="Arial"/>
              </a:rPr>
              <a:t>Мои сбываются мечты.</a:t>
            </a:r>
            <a:br>
              <a:rPr sz="2000"/>
            </a:b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4" name="Picture 28" descr="DSCN0165"/>
          <p:cNvPicPr/>
          <p:nvPr/>
        </p:nvPicPr>
        <p:blipFill>
          <a:blip r:embed="rId1"/>
          <a:stretch/>
        </p:blipFill>
        <p:spPr>
          <a:xfrm>
            <a:off x="1600200" y="2286000"/>
            <a:ext cx="4191120" cy="3962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3T04:31:31Z</dcterms:created>
  <dc:creator>Михаил</dc:creator>
  <dc:description/>
  <dc:language>en-US</dc:language>
  <cp:lastModifiedBy>68233</cp:lastModifiedBy>
  <dcterms:modified xsi:type="dcterms:W3CDTF">2017-09-30T10:37:59Z</dcterms:modified>
  <cp:revision>8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