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58B-44F2-45B9-9F25-354457428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B01-4AD7-468F-9959-C78DF38A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399-8A04-4A81-A802-7035FC66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1027-DB9C-408B-9149-5F626BCB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B6A9-65B3-41BB-90EB-8F8476DE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67D6-E663-456F-B960-A432640DC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7973-9487-4558-B10C-9D782C9C5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C713A-7D54-4E47-B537-0E6B7E20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82BB0-D921-4DD7-B69E-1794E049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961B-7C6E-463A-BDFC-F8143CBD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FF36-2A3F-4898-A0AE-408E1C3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2A7-1FEC-479F-BD1C-6CFCA36C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96BE9-A6B8-47D8-AA57-9A06684D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1D11-7E4C-460D-A685-9685798C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120BF-8B60-454D-B71F-013EE147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5B03-702A-439A-AB0B-5DE68869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B84F-3D9D-435B-AD13-93ACD5B3F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A5F-5738-4961-998F-583B0C50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99D-0F11-4A33-8852-6BCA5FB2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F8A-70AC-4812-B7D9-584B1A370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79B4-087A-4EE9-80CA-631A2D7A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B001-FCA5-450A-8BF1-0819D7ED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901-0349-4203-A64B-49A3B770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D09-84FB-4577-BEAA-EDE8BE82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ABC5-839E-4E2F-BFDA-FD04654759A8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CA48-38CF-44EE-96B0-280E942CFFF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вед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современном быстроразвивающемся мире компьютерных технологий уже сложно представить, чтобы деятельность даже небольшого предприятия велась вручную, а тем более таких крупных торговых предприятий как «Супермаркет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оэтому в этой презентации мы рассмотрим 4 фирмы предоставляющие свои услуги в области автоматизации торговых предприятий и их клиентов — супермаркеты города Рязань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лиент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1640" cy="75384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1"/>
          <p:cNvSpPr/>
          <p:nvPr/>
        </p:nvSpPr>
        <p:spPr>
          <a:xfrm>
            <a:off x="179280" y="1773360"/>
            <a:ext cx="4572000" cy="52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Межрегиональная сеть экономичных универсамов КОПЕЙКА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 (Москва,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Подмосковье, Калуга,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Рязань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, Тула и др.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Межрегиональная сеть супер- и гипермаркетов GROSSMART (Москва, Тула,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Казань, Екатеринбург, Владимир, Курск и др.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Межрегиональная сеть гипермаркетов ЛИНИЯ (Курск, Белгород, Старый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Оскол и др.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дискаунтеров АВОСЬКА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Мультиформатная сеть супермаркетов КУПЕЦ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гипермаркетов МАКССИТИ (Подмосковье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РАЙЦЕНТР (Нижний Новгоро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дискаунтеров РАЙЦЕН (Нижний Новгоро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АБК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МАРКА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ДОБРЫНЯ (Пермь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ОЛВЭЙС (Нижневарто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РОСИНКА (Чебоксары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КАМИЛЛА (Набережные Челны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ЛАВТЭК СПМ (Нижневарто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ЕМЬ КЛЮЧЕЙ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ЛАВЯНСКИЙ (Каменск-Уральский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ЕЛКИ-ПАЛКИ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ПОММ (Красногорск, Химки, Дмитров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РИНГ (Ор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24 ЧАСА (Волгогра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УМКА (Тамбов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РУБЛЕВСКИЙ (Мин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ОПТИМА (Алма-Ат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АЛЬЯНС-ЭСКОРТ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КАЛИНКА (Нижний Новгоро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ПИКНИК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4572000" y="1736640"/>
            <a:ext cx="45720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КАРАВАН (Ом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ГОРОДОК (Астрахань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НИГО (Надым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ИВУШКА (Иркут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АНКОР (Новый Уренгой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УНИВЕРСАМ 38 (Рязань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ПУТНИК (Калуг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ЕГОРЬЕВСКИЙ (Тул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АКВАМАРИН (Обнин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КУПЧИНО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ГАМА (Владивосто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МАГАЗИН (Хабаро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упермаркетов СЕВЕРОМОРЕЦ (Северомор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гипермаркетов Cash&amp;Carry ГЕОМАРТ (Ом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Дистрибьюторский центр ОМСКИЙ БЕКОН (Ом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Cash&amp;Carry ЭЛЬДОРАДО-М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гипермаркетов DIY МАКСИДОМ (Санкт-Петер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ХОЗЯЙСТВЕННЫЙ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книжных супермаркетов БУКБЕРИ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парфюмерии, косметики и бытовой химии (drogerie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ОПТИМА (Иже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парфюмерных магазинов YVES ROCHER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парфюмерных супермаркетов ЗОЛОТОЕ ЯБЛОКО (Екатеринбург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СТИЛЬ (Салехар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ЛОДЖИК (Нижневартовск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магазинов NAF NAF (Нижний Новгород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салонов оптики РИММА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ресторанов fast-food BROASTER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кофеен КОФЕМАНИЯ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• </a:t>
            </a: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Сеть ресторанов ЭЛЬДОРАДО (Москва)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и многие другие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611280" y="981000"/>
            <a:ext cx="853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За 16 лет работы в России компания FIT автоматизировала более 1000 предприятий розничной торговли, в том числе более 60 сетевых с централизованными принципами управления логистикой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1640" cy="753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381040" cy="4669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7"/>
          <p:cNvSpPr/>
          <p:nvPr/>
        </p:nvSpPr>
        <p:spPr>
          <a:xfrm>
            <a:off x="2843280" y="1269720"/>
            <a:ext cx="5832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ервый магазин «КОПЕЙКА» был открыт в 1998 году по стандартам таких западных сетей эконом-класса, как Aldi и Lidl, и стал первым российским дискаунтером (магазином низких цен). 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468360" y="256500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годня ОАО «Торговый Дом «КОПЕЙКА» является одной из самых быстрорастущих национальных сетей формата «дискаунтер» в России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732600" y="3572640"/>
            <a:ext cx="645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Число магазинов за 2006 год было увеличено на 178%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468360" y="400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данным на начало июля 2007 года  под управлением Компании работает 404 универсама в следующих областях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611280" y="4653000"/>
            <a:ext cx="223200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ск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ижегород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амар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вер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уль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2484360" y="4653000"/>
            <a:ext cx="2087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алуж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язан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ладимир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оронеж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росла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4427640" y="4653000"/>
            <a:ext cx="2808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елгород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Иван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ур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рл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амб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6443640" y="4653000"/>
            <a:ext cx="2266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стром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Брян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молен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ипец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льяновской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768240" y="6021360"/>
            <a:ext cx="75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мпания имеет 13 торговых точек в Рязани и 2 в обла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320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331640" cy="753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2"/>
          <a:stretch/>
        </p:blipFill>
        <p:spPr>
          <a:xfrm>
            <a:off x="179280" y="170028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7"/>
          <p:cNvSpPr/>
          <p:nvPr/>
        </p:nvSpPr>
        <p:spPr>
          <a:xfrm>
            <a:off x="5079240" y="2420280"/>
            <a:ext cx="382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упермаркет «Универсам 38»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4992120" y="299484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ощадь магазина — 850 м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4937040" y="349992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лощадь торгового зал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упермаркета 500 м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мпания «Сервис Плюс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лиент в г. Рязань —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пермакеты «Соро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0" y="0"/>
            <a:ext cx="12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II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Rectangle 5"/>
          <p:cNvSpPr/>
          <p:nvPr/>
        </p:nvSpPr>
        <p:spPr>
          <a:xfrm>
            <a:off x="68436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её информационная система «Супермаг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омп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5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240000" cy="94140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6"/>
          <p:cNvSpPr/>
          <p:nvPr/>
        </p:nvSpPr>
        <p:spPr>
          <a:xfrm>
            <a:off x="3708360" y="1229760"/>
            <a:ext cx="5435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Компания «Сервис Плюс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читает своей миссией наиболее полное удовлетворение потребностей клиентов в области автоматизации торговли путем предоставления высококачественных решений на базе надежного оборудования и отличного сервиса. К вашим услугам новейшие технологии для торговли и первоклассный сервис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755640" y="2997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ания Образована в 1992 г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741240" y="3357000"/>
            <a:ext cx="84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нимается разработкой технологий автоматизированного учета и автоматической идентификации на базе штрихового кодирования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054080" y="3969000"/>
            <a:ext cx="69530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ходит в число 50 крупнейших ИТ- компаний в Росс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ежегодный рост не менее 30 %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чший дистрибьютор POS-терминало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чший дистрибьютор электронных весов с печатью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чший сервис в г. Москве и регион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716436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системе «СуперМаг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65880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250920" y="1026360"/>
            <a:ext cx="82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ервая версия торговой системы СУПЕРМАГ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была создана в 1995 году и стала одной из первых систем управления товародвижением в магазинах самообслуживания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250920" y="1917000"/>
            <a:ext cx="820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 1999 году с появлением новых форматов торговли была начата разработка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торговой системы СУПЕРМАГ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нового поколения на промышленной платформе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Oracle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250920" y="2852640"/>
            <a:ext cx="806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Торговая система аккумулировала в себе самые современные достижения в розничной торговле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250920" y="3574080"/>
            <a:ext cx="813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Она спроектирована для управления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розничной сетью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и оперирует такими объектами, как магазин, центральный офис, распределительный центр, склад, поставщик и др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250920" y="4509360"/>
            <a:ext cx="8232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Торговая система СУПЕРМАГ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контролирует и управляет всеми базовыми функциями торгового предприятия: продажами, закупками, складом, персоналом, отношениями с клиентами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250920" y="5639400"/>
            <a:ext cx="840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Система аккумулировала в себе самые современные западные технологии управления с учетом российской специфики и десятилетний опыт разработчиков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торговой системы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автоматизации торговых предприятий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лиент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6588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755640" y="1268280"/>
            <a:ext cx="736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реди пользователей системы «Супермаг» выделяются такие известные торговые предприятия как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494520" y="2348640"/>
            <a:ext cx="477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Торговые сети мебели IKEA в Росси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2"/>
          <a:stretch/>
        </p:blipFill>
        <p:spPr>
          <a:xfrm>
            <a:off x="755640" y="2924280"/>
            <a:ext cx="2232000" cy="6969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0"/>
          <p:cNvSpPr/>
          <p:nvPr/>
        </p:nvSpPr>
        <p:spPr>
          <a:xfrm>
            <a:off x="3458880" y="3067560"/>
            <a:ext cx="39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агазины METRO Cash&amp;Carr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11" descr=""/>
          <p:cNvPicPr/>
          <p:nvPr/>
        </p:nvPicPr>
        <p:blipFill>
          <a:blip r:embed="rId3"/>
          <a:stretch/>
        </p:blipFill>
        <p:spPr>
          <a:xfrm>
            <a:off x="755640" y="3716280"/>
            <a:ext cx="2232000" cy="6573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2"/>
          <p:cNvSpPr/>
          <p:nvPr/>
        </p:nvSpPr>
        <p:spPr>
          <a:xfrm>
            <a:off x="3476880" y="3789360"/>
            <a:ext cx="434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еть супермаркетов «Гроссмарт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539640" y="4797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язани торговая система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Супермаг-2000»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спользуется в сети супермаркетов 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Сорока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7" name="Picture 14" descr=""/>
          <p:cNvPicPr/>
          <p:nvPr/>
        </p:nvPicPr>
        <p:blipFill>
          <a:blip r:embed="rId4"/>
          <a:stretch/>
        </p:blipFill>
        <p:spPr>
          <a:xfrm>
            <a:off x="755640" y="2349360"/>
            <a:ext cx="22320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2268360" cy="658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3528720" cy="26481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8"/>
          <p:cNvSpPr/>
          <p:nvPr/>
        </p:nvSpPr>
        <p:spPr>
          <a:xfrm>
            <a:off x="4018320" y="242100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годня сеть супермаркетов «Сорока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считывает 10 торговых точек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958560" y="335772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бщая торговая площадь супермаркетов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ставляет 5000 м</a:t>
            </a:r>
            <a:r>
              <a:rPr b="0" lang="ru-RU" sz="1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137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Фирма «1С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116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лиент в г. Рязань —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пермакеты «Барс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0" y="0"/>
            <a:ext cx="12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V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68436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её платформа «1С:Предприятие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омп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Picture 7" descr="Безымянное"/>
          <p:cNvPicPr/>
          <p:nvPr/>
        </p:nvPicPr>
        <p:blipFill>
          <a:blip r:embed="rId1"/>
          <a:stretch/>
        </p:blipFill>
        <p:spPr>
          <a:xfrm>
            <a:off x="250920" y="1125360"/>
            <a:ext cx="3168720" cy="17956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3780000" y="1405440"/>
            <a:ext cx="50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снованная в 1991г., «1С» – чисто российская фирма со штатом более 700 человек, опирающаяся исключительно на собственные профессиональные успех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250920" y="3068280"/>
            <a:ext cx="833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 данным многочисленных опросов «1С» занимает первое место в софтверном секторе российской компьютерной индустрии и отличается рекордной отдачей от одного сотрудника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Rectangle 10"/>
          <p:cNvSpPr/>
          <p:nvPr/>
        </p:nvSpPr>
        <p:spPr>
          <a:xfrm>
            <a:off x="217440" y="4149360"/>
            <a:ext cx="89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становлением Правительства России от 21 марта 2002 года коллективу разработчиков – сотрудников «1С» была присуждена Премия Правительства РФ в области науки и техники за создание и внедрение в отраслях экономики системы программ «1С:Предприятие»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250920" y="55159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ирма «1С» стала одной из первых негосударственных организаций, получивших эту высокую награду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мпания «Кристалл Сервис»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её клиент в г. Рязань — супермаркеты «Дикси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0" y="0"/>
            <a:ext cx="12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92480" y="-360"/>
            <a:ext cx="6851520" cy="142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 платформе «1С: Предприятие»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4" name="Picture 5" descr="Безымянное"/>
          <p:cNvPicPr/>
          <p:nvPr/>
        </p:nvPicPr>
        <p:blipFill>
          <a:blip r:embed="rId1"/>
          <a:stretch/>
        </p:blipFill>
        <p:spPr>
          <a:xfrm>
            <a:off x="0" y="0"/>
            <a:ext cx="2124000" cy="12034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611280" y="1773000"/>
            <a:ext cx="826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1С:Предприятия — это универсальная платформа для автоматизации бизнеса предприяти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611280" y="2500200"/>
            <a:ext cx="788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временная версия платформы 1С:Предприятие 8 была создана с учетом 6-летнего опыта применения системы программ 1С:Предприятие 7.7, которую используют десятки тысяч разработчиков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Rectangle 8"/>
          <p:cNvSpPr/>
          <p:nvPr/>
        </p:nvSpPr>
        <p:spPr>
          <a:xfrm>
            <a:off x="611280" y="3789000"/>
            <a:ext cx="76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настоящее время более 1 000 000 организаций использует для автоматизации своей деятельности продукты, входящие в систему программ «1С:Предприятие»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611280" y="47973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Для торговых предприятий фирмой была разработана типовая конфигурация «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Управление торговлей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76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лиент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0" name="Picture 5" descr="Безымянное"/>
          <p:cNvPicPr/>
          <p:nvPr/>
        </p:nvPicPr>
        <p:blipFill>
          <a:blip r:embed="rId1"/>
          <a:stretch/>
        </p:blipFill>
        <p:spPr>
          <a:xfrm>
            <a:off x="0" y="0"/>
            <a:ext cx="2124000" cy="120348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6"/>
          <p:cNvSpPr/>
          <p:nvPr/>
        </p:nvSpPr>
        <p:spPr>
          <a:xfrm>
            <a:off x="32400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реди торговых предприятий использующих платформу «1С: Предприятия» в г. Рязани можно выдели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1332000" y="2635920"/>
            <a:ext cx="623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агазин джинсовой одежды "Whitney"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1332000" y="3339720"/>
            <a:ext cx="47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Автосалон "Ноев Ковчег"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1332000" y="4005360"/>
            <a:ext cx="74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еть торгово-развлекательных комплексов «Самохвал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Rectangle 12"/>
          <p:cNvSpPr/>
          <p:nvPr/>
        </p:nvSpPr>
        <p:spPr>
          <a:xfrm>
            <a:off x="1332000" y="4955400"/>
            <a:ext cx="50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Супермаркеты «Барс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97" name="Picture 5" descr="Безымянное"/>
          <p:cNvPicPr/>
          <p:nvPr/>
        </p:nvPicPr>
        <p:blipFill>
          <a:blip r:embed="rId1"/>
          <a:stretch/>
        </p:blipFill>
        <p:spPr>
          <a:xfrm>
            <a:off x="0" y="0"/>
            <a:ext cx="2124000" cy="12034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2"/>
          <a:stretch/>
        </p:blipFill>
        <p:spPr>
          <a:xfrm>
            <a:off x="179280" y="1844640"/>
            <a:ext cx="3745080" cy="28098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8"/>
          <p:cNvSpPr/>
          <p:nvPr/>
        </p:nvSpPr>
        <p:spPr>
          <a:xfrm>
            <a:off x="4246560" y="2205000"/>
            <a:ext cx="480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г. Рязань имеется 22 супермаркета «Барс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4246560" y="3363840"/>
            <a:ext cx="489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России действует множество предприятий по автоматизации торговых предприятий типа «Супермаркет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се они предоставляют системы более широкого профиля и годятся как для автоматизации предприятий меньшего масштаба типа отдельный магазин города, так и большего — типа сети гипермаркетов в масштабах страны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Более того — многие из них не ограничиваются приминением в торговых предприятиях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Любые более или менее крупные торговое предприятия, в том числе г. Рязани, предпочитают использовать проверенные информационные системы от производителей всероссийского или всемирного масштаб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омп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2" name="Picture 8" descr="Безымянное"/>
          <p:cNvPicPr/>
          <p:nvPr/>
        </p:nvPicPr>
        <p:blipFill>
          <a:blip r:embed="rId1"/>
          <a:stretch/>
        </p:blipFill>
        <p:spPr>
          <a:xfrm>
            <a:off x="395280" y="1341360"/>
            <a:ext cx="2881440" cy="14479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971640" y="306828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олее чем 10-летний опыт реализации проектов по автоматизации и их дальнейшего сопровожде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971640" y="39398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Ответственность за эффективность всей IT-инфраструктуры в целом, включая такие аспекты, как быстродействие, надежность, прозрачность, простота настройки, удобство для пользователя и т.д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4011120" y="2133720"/>
            <a:ext cx="39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ания «Кристалл Сервис» это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971640" y="522900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Единая команда сервис-инженеров, работающая в ходе внедрения, сервисного сопровождения и на горячей линии, непрерывное внутрикорпоративное обучение, постоянный рост квалификаци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 услуг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Picture 5" descr="Безымянное"/>
          <p:cNvPicPr/>
          <p:nvPr/>
        </p:nvPicPr>
        <p:blipFill>
          <a:blip r:embed="rId1"/>
          <a:stretch/>
        </p:blipFill>
        <p:spPr>
          <a:xfrm>
            <a:off x="611280" y="404640"/>
            <a:ext cx="1944720" cy="97632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6"/>
          <p:cNvSpPr/>
          <p:nvPr/>
        </p:nvSpPr>
        <p:spPr>
          <a:xfrm>
            <a:off x="1276200" y="2348640"/>
            <a:ext cx="63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лексная автоматизация торгового предприят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209240" y="2851920"/>
            <a:ext cx="414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Управление торговым процессом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1234080" y="3357000"/>
            <a:ext cx="442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редотвращение потерь в торговле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1239120" y="3859920"/>
            <a:ext cx="49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обильные рабочие места для магазина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1253880" y="4291920"/>
            <a:ext cx="55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Автоматизация автозаправочных комплексов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лиентах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5" descr="Безымянное"/>
          <p:cNvPicPr/>
          <p:nvPr/>
        </p:nvPicPr>
        <p:blipFill>
          <a:blip r:embed="rId1"/>
          <a:stretch/>
        </p:blipFill>
        <p:spPr>
          <a:xfrm>
            <a:off x="539640" y="404640"/>
            <a:ext cx="1944720" cy="976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6"/>
          <p:cNvSpPr/>
          <p:nvPr/>
        </p:nvSpPr>
        <p:spPr>
          <a:xfrm>
            <a:off x="324000" y="155736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реди клиентов компании есть такие известные предприятия как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3168360" cy="7603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9"/>
          <p:cNvSpPr/>
          <p:nvPr/>
        </p:nvSpPr>
        <p:spPr>
          <a:xfrm>
            <a:off x="3794040" y="2637000"/>
            <a:ext cx="49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еть магазинов бытовой электронной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ехники «Эльдорадо» (г. Санкт-Петербург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12" descr="Безымянное"/>
          <p:cNvPicPr/>
          <p:nvPr/>
        </p:nvPicPr>
        <p:blipFill>
          <a:blip r:embed="rId3"/>
          <a:stretch/>
        </p:blipFill>
        <p:spPr>
          <a:xfrm>
            <a:off x="755640" y="3502080"/>
            <a:ext cx="144000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"/>
          <p:cNvPicPr/>
          <p:nvPr/>
        </p:nvPicPr>
        <p:blipFill>
          <a:blip r:embed="rId4"/>
          <a:stretch/>
        </p:blipFill>
        <p:spPr>
          <a:xfrm>
            <a:off x="755640" y="4437000"/>
            <a:ext cx="1440000" cy="10508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4"/>
          <p:cNvSpPr/>
          <p:nvPr/>
        </p:nvSpPr>
        <p:spPr>
          <a:xfrm>
            <a:off x="2584080" y="3789360"/>
            <a:ext cx="411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ирма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ebok (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. Санкт-Петербург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2526840" y="4581360"/>
            <a:ext cx="404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ипермаркет «Наш Гипермаркет»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г. Санкт-Петербург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16" descr=""/>
          <p:cNvPicPr/>
          <p:nvPr/>
        </p:nvPicPr>
        <p:blipFill>
          <a:blip r:embed="rId5"/>
          <a:stretch/>
        </p:blipFill>
        <p:spPr>
          <a:xfrm>
            <a:off x="900000" y="5589720"/>
            <a:ext cx="1086120" cy="10857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7"/>
          <p:cNvSpPr/>
          <p:nvPr/>
        </p:nvSpPr>
        <p:spPr>
          <a:xfrm>
            <a:off x="2124000" y="5589720"/>
            <a:ext cx="49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сийская Сеть продовольственных супермаркетов «Дикси»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124000" y="6308640"/>
            <a:ext cx="60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(Калуга, Карелия, Кострома, Москва, </a:t>
            </a: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язань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, Санкт-Петербург, Смоленск, Челябинск Ярославль)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дробнее о клиен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7" name="Picture 5" descr="Безымянное"/>
          <p:cNvPicPr/>
          <p:nvPr/>
        </p:nvPicPr>
        <p:blipFill>
          <a:blip r:embed="rId1"/>
          <a:stretch/>
        </p:blipFill>
        <p:spPr>
          <a:xfrm>
            <a:off x="179280" y="260280"/>
            <a:ext cx="1513080" cy="760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0" y="1484280"/>
            <a:ext cx="1085760" cy="10857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1496520" y="1483560"/>
            <a:ext cx="68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мпания была основана в 1992 году, в Санкт-Петербург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1297080" y="1915920"/>
            <a:ext cx="55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оначально усилия были направлены на организацию оптового и дистрибуционного бизнесов в Санкт-Петербург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73080" y="3133080"/>
            <a:ext cx="84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ервый розничный магазин ДИКСИ был открыт в 1999 г. в Москве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438480" y="3645000"/>
            <a:ext cx="786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а сегодня эта сеть насчитывает более 300 магазинов в следующи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егионах Росси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395280" y="4363920"/>
            <a:ext cx="237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скв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осковская облас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Рязан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Ярославл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остром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Rectangle 12"/>
          <p:cNvSpPr/>
          <p:nvPr/>
        </p:nvSpPr>
        <p:spPr>
          <a:xfrm>
            <a:off x="3059280" y="436572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алуга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моленс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анкт-Петер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Ленинградская област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Карелия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5761080" y="4421160"/>
            <a:ext cx="2663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сков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Екатеринбург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юмень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Челябинск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1812600" y="5877000"/>
            <a:ext cx="54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Рязани сеть насчитывает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18 магазинов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Компания 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FI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 клиенты в г. Рязань — Универсамы «Копейка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упермаркет «Универсам 38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0" y="0"/>
            <a:ext cx="124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II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84360" y="1413000"/>
            <a:ext cx="7772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её информационная система «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ESTORI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Компан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097080" cy="1753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9"/>
          <p:cNvSpPr/>
          <p:nvPr/>
        </p:nvSpPr>
        <p:spPr>
          <a:xfrm>
            <a:off x="3743280" y="1478160"/>
            <a:ext cx="54007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Французская компания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T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нимается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недрением передовых информационных ритейл-технологий для усиления конкурентных преимуществ своих клиентов на рынке розничной торговли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792000" y="3429000"/>
            <a:ext cx="664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Российское подразделения FIT было создано в 1989 году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539640" y="39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 2004 году компания отмечена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Дипломом Российского фонда защиты прав потребителей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12" descr=""/>
          <p:cNvPicPr/>
          <p:nvPr/>
        </p:nvPicPr>
        <p:blipFill>
          <a:blip r:embed="rId2"/>
          <a:stretch/>
        </p:blipFill>
        <p:spPr>
          <a:xfrm>
            <a:off x="611280" y="4724280"/>
            <a:ext cx="952560" cy="18385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3"/>
          <p:cNvSpPr/>
          <p:nvPr/>
        </p:nvSpPr>
        <p:spPr>
          <a:xfrm>
            <a:off x="1835280" y="5084640"/>
            <a:ext cx="62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емь лет подряд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(2001-2007 гг.) были отмечены профессиональной премией 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"Золотые Весы"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в номинациях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за комплексную автоматизацию сетей супер- и гипермаркетов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 системе «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ESTOR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332000" cy="75420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395280" y="141300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истема GESTORI — это проверенное временем решение для управления товародвижением и внутренней логистикой в розничных торговых предприятиях любого размера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(Первое внедрение системы в России произошло в 1991 г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179280" y="3284640"/>
            <a:ext cx="896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нформационная интеграция территориально распределенных магазинов, складов, ресторанов и других объектов розничной торговли с целью функционирования в рамках единой логистической системы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179280" y="4116240"/>
            <a:ext cx="889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Полный контроль, учет и анализ всех видов движения товаров в количественном и стоимостном выражении вплоть до управления в реальном режиме времен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79280" y="4764240"/>
            <a:ext cx="889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Ускорение и совершенствование качества обслуживания покупателей, повышение уровня их лояльности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79280" y="541188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Увеличение производительности труда и снижение количества ошибок персонал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179280" y="584352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Защита от недобросовестных действий персонал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552240" y="2708280"/>
            <a:ext cx="408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истема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ESTORI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беспечивает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14:54:10Z</dcterms:created>
  <dc:creator>unDEFER</dc:creator>
  <dc:description/>
  <dc:language>en-US</dc:language>
  <cp:lastModifiedBy>Юлия</cp:lastModifiedBy>
  <dcterms:modified xsi:type="dcterms:W3CDTF">2017-02-16T21:00:02Z</dcterms:modified>
  <cp:revision>6</cp:revision>
  <dc:subject/>
  <dc:title>О компании</dc:title>
</cp:coreProperties>
</file>