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C847-2533-4882-BFF7-B71A00558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4D86-1C78-46C6-BB25-678099F1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2A0C-00E8-419E-9BE8-1EC88AA55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6C3F-CC3D-4DBF-8E3F-1E15C1621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2A88-7646-41EB-8294-94F208D03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FE23-C549-4E07-8EFA-59F3DC35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1189-B4A2-4790-AD1E-C24099D6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4190-73EA-4A43-BEB5-A353ED5B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2CA8-152F-4275-B479-48D691D1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A909-F8BF-49C0-AB59-ACB75A24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52CD-D34A-4ECD-A8F5-7C0A79E7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0D2C-9660-48ED-AF93-829C88FF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48B4-0D85-46DF-82A5-2E80E7C7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1BD9-8448-4150-BA62-045F9378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EF39-F4F7-4C5E-8AEA-5EA35FBF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3FF0-A264-42EE-9298-7C780B84A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C012-5F4F-4E02-A243-CDEF10BDD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64DC-29EB-410B-B24D-7AADE589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7875-4D84-47DB-9E9A-8B0FA0C6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52D0-5D63-48B8-BD4C-63DE15E5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A06E-54EC-4334-88DE-6BC9B088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6402-8E00-4FAD-ADF1-BDC447CD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63A9-D585-4BD7-A44E-4090A736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1FD6-239F-4188-AAAD-68EE3DDB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AB4D-CDB9-4CF0-A02D-37B15A8555C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A41D-1DE6-440B-9EAF-F4322CE8B669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современном быстроразвивающемся мире компьютерных технологий уже сложно представить, чтобы деятельность даже небольшого предприятия велась вручную, а тем более таких крупных торговых предприятий как «Супермаркет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оэтому в этой презентации мы рассмотрим 4 фирмы предоставляющие свои услуги в области автоматизации торговых предприятий и их клиентов — супермаркеты города Рязан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 Клиентах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8" name="Picture 5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331640" cy="75384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11"/>
          <p:cNvSpPr/>
          <p:nvPr/>
        </p:nvSpPr>
        <p:spPr>
          <a:xfrm>
            <a:off x="179280" y="1773360"/>
            <a:ext cx="4572000" cy="52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Межрегиональная сеть экономичных универсамов КОПЕЙКА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 (Москва,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Подмосковье, Калуга,</a:t>
            </a: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 Рязань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, Тула и др.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Межрегиональная сеть супер- и гипермаркетов GROSSMART (Москва, Тула,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Казань, Екатеринбург, Владимир, Курск и др.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Межрегиональная сеть гипермаркетов ЛИНИЯ (Курск, Белгород, Старый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Оскол и др.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дискаунтеров АВОСЬКА (Москва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Мультиформатная сеть супермаркетов КУПЕЦ (Екатеринбург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гипермаркетов МАКССИТИ (Подмосковье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РАЙЦЕНТР (Нижний Новгород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дискаунтеров РАЙЦЕН (Нижний Новгород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АБК (Москва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МАРКА (Москва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ДОБРЫНЯ (Пермь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ОЛВЭЙС (Нижневартовск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РОСИНКА (Чебоксары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КАМИЛЛА (Набережные Челны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СЛАВТЭК СПМ (Нижневартовск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СЕМЬ КЛЮЧЕЙ (Екатеринбург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СЛАВЯНСКИЙ (Каменск-Уральский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ЕЛКИ-ПАЛКИ (Москва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ПОММ (Красногорск, Химки, Дмитров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РИНГ (Орск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24 ЧАСА (Волгоград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УМКА (Тамбов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РУБЛЕВСКИЙ (Минск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ОПТИМА (Алма-Ата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АЛЬЯНС-ЭСКОРТ (Москва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КАЛИНКА (Нижний Новгород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ПИКНИК (Екатеринбург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4572000" y="1736640"/>
            <a:ext cx="45720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КАРАВАН (Омск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ГОРОДОК (Астрахань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НИГО (Надым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ИВУШКА (Иркутск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АНКОР (Новый Уренгой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УНИВЕРСАМ 38 (Рязань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СПУТНИК (Калуга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ЕГОРЬЕВСКИЙ (Тула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АКВАМАРИН (Обнинск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КУПЧИНО (Москва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ГАМА (Владивосток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МАГАЗИН (Хабаровск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СЕВЕРОМОРЕЦ (Североморск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гипермаркетов Cash&amp;Carry ГЕОМАРТ (Омск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Дистрибьюторский центр ОМСКИЙ БЕКОН (Омск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Cash&amp;Carry ЭЛЬДОРАДО-М (Москва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гипермаркетов DIY МАКСИДОМ (Санкт-Петербург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магазинов ХОЗЯЙСТВЕННЫЙ (Екатеринбург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книжных супермаркетов БУКБЕРИ (Москва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магазинов парфюмерии, косметики и бытовой химии (drogerie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ОПТИМА (Ижевск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парфюмерных магазинов YVES ROCHER (Москва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парфюмерных супермаркетов ЗОЛОТОЕ ЯБЛОКО (Екатеринбург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магазинов СТИЛЬ (Салехард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магазинов ЛОДЖИК (Нижневартовск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магазинов NAF NAF (Нижний Новгород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алонов оптики РИММА (Москва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ресторанов fast-food BROASTER (Москва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кофеен КОФЕМАНИЯ (Москва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ресторанов ЭЛЬДОРАДО (Москва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и многие другие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611280" y="981000"/>
            <a:ext cx="853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За 16 лет работы в России компания FIT автоматизировала более 1000 предприятий розничной торговли, в том числе более 60 сетевых с централизованными принципами управления логистикой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дробнее о Клиент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Picture 5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331640" cy="7538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2381040" cy="46692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7"/>
          <p:cNvSpPr/>
          <p:nvPr/>
        </p:nvSpPr>
        <p:spPr>
          <a:xfrm>
            <a:off x="2843280" y="1269720"/>
            <a:ext cx="583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ервый магазин «КОПЕЙКА» был открыт в 1998 году по стандартам таких западных сетей эконом-класса, как Aldi и Lidl, и стал первым российским дискаунтером (магазином низких цен). 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468360" y="256500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егодня ОАО «Торговый Дом «КОПЕЙКА» является одной из самых быстрорастущих национальных сетей формата «дискаунтер» в Росси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732600" y="3572640"/>
            <a:ext cx="645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Число магазинов за 2006 год было увеличено на 178%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468360" y="40046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 данным на начало июля 2007 года  под управлением Компании работает 404 универсама в следующих областях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611280" y="4653000"/>
            <a:ext cx="22320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Московской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ижегородской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амарской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Тверской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Тульской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2484360" y="4653000"/>
            <a:ext cx="2087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алужской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Рязанской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ладимирской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оронежской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Ярославской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4427640" y="4653000"/>
            <a:ext cx="2808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Белгородской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Ивановской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урской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Орловской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Тамбовской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6443640" y="4653000"/>
            <a:ext cx="2266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остромской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Брянской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моленской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Липецкой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Ульяновской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768240" y="6021360"/>
            <a:ext cx="753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омпания имеет 13 торговых точек в Рязани и 2 в област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дробнее о Клиент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331640" cy="7538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4537080" cy="34034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7"/>
          <p:cNvSpPr/>
          <p:nvPr/>
        </p:nvSpPr>
        <p:spPr>
          <a:xfrm>
            <a:off x="5079240" y="2420280"/>
            <a:ext cx="38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упермаркет «Универсам 38»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4992120" y="2994840"/>
            <a:ext cx="35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лощадь магазина — 850 м²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4937040" y="349992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лощадь торгового зал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упермаркета 500 м²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137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Компания «Сервис Плюс»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116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лиент в г. Рязань —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пермакеты «Сорока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0" y="0"/>
            <a:ext cx="124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III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684360" y="1413000"/>
            <a:ext cx="7772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её информационная система «Супермаг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 Компан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3240000" cy="9414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6"/>
          <p:cNvSpPr/>
          <p:nvPr/>
        </p:nvSpPr>
        <p:spPr>
          <a:xfrm>
            <a:off x="3708360" y="1229760"/>
            <a:ext cx="54356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Компания «Сервис Плюс»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читает своей миссией наиболее полное удовлетворение потребностей клиентов в области автоматизации торговли путем предоставления высококачественных решений на базе надежного оборудования и отличного сервиса. К вашим услугам новейшие технологии для торговли и первоклассный сервис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755640" y="29973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мпания Образована в 1992 г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741240" y="3357000"/>
            <a:ext cx="84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анимается разработкой технологий автоматизированного учета и автоматической идентификации на базе штрихового кодирования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1054080" y="3969000"/>
            <a:ext cx="69530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ходит в число 50 крупнейших ИТ- компаний в Росси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ежегодный рост не менее 30 %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лучший дистрибьютор POS-терминалов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лучший дистрибьютор электронных весов с печатью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лучший сервис в г. Москве и региона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79280" y="0"/>
            <a:ext cx="71643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 системе «СуперМаг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268360" cy="65880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250920" y="1026360"/>
            <a:ext cx="828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ервая версия торговой системы СУПЕРМАГ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была создана в 1995 году и стала одной из первых систем управления товародвижением в магазинах самообслуживания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250920" y="1917000"/>
            <a:ext cx="820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 1999 году с появлением новых форматов торговли была начата разработка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торговой системы СУПЕРМАГ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нового поколения на промышленной платформе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Oracle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250920" y="2852640"/>
            <a:ext cx="806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Торговая система аккумулировала в себе самые современные достижения в розничной торговле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250920" y="3574080"/>
            <a:ext cx="813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на спроектирована для управления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розничной сетью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и оперирует такими объектами, как магазин, центральный офис, распределительный центр, склад, поставщик и др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250920" y="4509360"/>
            <a:ext cx="8232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Торговая система СУПЕРМАГ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контролирует и управляет всеми базовыми функциями торгового предприятия: продажами, закупками, складом, персоналом, отношениями с клиентами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250920" y="5639400"/>
            <a:ext cx="840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Система аккумулировала в себе самые современные западные технологии управления с учетом российской специфики и десятилетний опыт разработчиков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торговой системы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втоматизации торговых предприятий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 Клиентах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268360" cy="6588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6"/>
          <p:cNvSpPr/>
          <p:nvPr/>
        </p:nvSpPr>
        <p:spPr>
          <a:xfrm>
            <a:off x="755640" y="1268280"/>
            <a:ext cx="73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реди пользователей системы «Супермаг» выделяются такие известные торговые предприятия как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494520" y="2348640"/>
            <a:ext cx="477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Торговые сети мебели IKEA в Росси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2" name="Picture 9" descr=""/>
          <p:cNvPicPr/>
          <p:nvPr/>
        </p:nvPicPr>
        <p:blipFill>
          <a:blip r:embed="rId2"/>
          <a:stretch/>
        </p:blipFill>
        <p:spPr>
          <a:xfrm>
            <a:off x="755640" y="2924280"/>
            <a:ext cx="2232000" cy="69696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10"/>
          <p:cNvSpPr/>
          <p:nvPr/>
        </p:nvSpPr>
        <p:spPr>
          <a:xfrm>
            <a:off x="3458880" y="3067560"/>
            <a:ext cx="392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Магазины METRO Cash&amp;Carry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4" name="Picture 11" descr=""/>
          <p:cNvPicPr/>
          <p:nvPr/>
        </p:nvPicPr>
        <p:blipFill>
          <a:blip r:embed="rId3"/>
          <a:stretch/>
        </p:blipFill>
        <p:spPr>
          <a:xfrm>
            <a:off x="755640" y="3716280"/>
            <a:ext cx="2232000" cy="65736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12"/>
          <p:cNvSpPr/>
          <p:nvPr/>
        </p:nvSpPr>
        <p:spPr>
          <a:xfrm>
            <a:off x="3476880" y="3789360"/>
            <a:ext cx="434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еть супермаркетов «Гроссмарт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539640" y="4797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Рязани торговая система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Супермаг-2000»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используется в сети супермаркетов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Сорока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7" name="Picture 14" descr=""/>
          <p:cNvPicPr/>
          <p:nvPr/>
        </p:nvPicPr>
        <p:blipFill>
          <a:blip r:embed="rId4"/>
          <a:stretch/>
        </p:blipFill>
        <p:spPr>
          <a:xfrm>
            <a:off x="755640" y="2349360"/>
            <a:ext cx="223200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763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дробнее о клиент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268360" cy="6588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"/>
          <p:cNvPicPr/>
          <p:nvPr/>
        </p:nvPicPr>
        <p:blipFill>
          <a:blip r:embed="rId2"/>
          <a:stretch/>
        </p:blipFill>
        <p:spPr>
          <a:xfrm>
            <a:off x="324000" y="1989000"/>
            <a:ext cx="3528720" cy="264816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8"/>
          <p:cNvSpPr/>
          <p:nvPr/>
        </p:nvSpPr>
        <p:spPr>
          <a:xfrm>
            <a:off x="4018320" y="242100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егодня сеть супермаркетов «Сорока»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считывает 10 торговых точе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3958560" y="3357720"/>
            <a:ext cx="48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бщая торговая площадь супермаркетов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ставляет 5000 м</a:t>
            </a:r>
            <a:r>
              <a:rPr b="0" lang="ru-RU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137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Фирма «1С»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116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лиент в г. Рязань —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пермакеты «Барс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0" y="0"/>
            <a:ext cx="124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IV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684360" y="1413000"/>
            <a:ext cx="7772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её платформа «1С:Предприятие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 Компан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8" name="Picture 7" descr="Безымянное"/>
          <p:cNvPicPr/>
          <p:nvPr/>
        </p:nvPicPr>
        <p:blipFill>
          <a:blip r:embed="rId1"/>
          <a:stretch/>
        </p:blipFill>
        <p:spPr>
          <a:xfrm>
            <a:off x="250920" y="1125360"/>
            <a:ext cx="3168720" cy="179568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8"/>
          <p:cNvSpPr/>
          <p:nvPr/>
        </p:nvSpPr>
        <p:spPr>
          <a:xfrm>
            <a:off x="3780000" y="1405440"/>
            <a:ext cx="50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снованная в 1991г., «1С» – чисто российская фирма со штатом более 700 человек, опирающаяся исключительно на собственные профессиональные успехи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Rectangle 9"/>
          <p:cNvSpPr/>
          <p:nvPr/>
        </p:nvSpPr>
        <p:spPr>
          <a:xfrm>
            <a:off x="250920" y="3068280"/>
            <a:ext cx="833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 данным многочисленных опросов «1С» занимает первое место в софтверном секторе российской компьютерной индустрии и отличается рекордной отдачей от одного сотрудника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Rectangle 10"/>
          <p:cNvSpPr/>
          <p:nvPr/>
        </p:nvSpPr>
        <p:spPr>
          <a:xfrm>
            <a:off x="217440" y="4149360"/>
            <a:ext cx="892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становлением Правительства России от 21 марта 2002 года коллективу разработчиков – сотрудников «1С» была присуждена Премия Правительства РФ в области науки и техники за создание и внедрение в отраслях экономики системы программ «1С:Предприятие»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Rectangle 11"/>
          <p:cNvSpPr/>
          <p:nvPr/>
        </p:nvSpPr>
        <p:spPr>
          <a:xfrm>
            <a:off x="250920" y="551592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Фирма «1С» стала одной из первых негосударственных организаций, получивших эту высокую награду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36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Компания «Кристалл Сервис»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ё клиент в г. Рязань — супермаркеты «Дикси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0" y="0"/>
            <a:ext cx="124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I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92480" y="-360"/>
            <a:ext cx="6851520" cy="142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 платформе «1С: Предприятие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4" name="Picture 5" descr="Безымянное"/>
          <p:cNvPicPr/>
          <p:nvPr/>
        </p:nvPicPr>
        <p:blipFill>
          <a:blip r:embed="rId1"/>
          <a:stretch/>
        </p:blipFill>
        <p:spPr>
          <a:xfrm>
            <a:off x="0" y="0"/>
            <a:ext cx="2124000" cy="12034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6"/>
          <p:cNvSpPr/>
          <p:nvPr/>
        </p:nvSpPr>
        <p:spPr>
          <a:xfrm>
            <a:off x="611280" y="1773000"/>
            <a:ext cx="826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1С:Предприятия — это универсальная платформа для автоматизации бизнеса предприяти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611280" y="2500200"/>
            <a:ext cx="788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временная версия платформы 1С:Предприятие 8 была создана с учетом 6-летнего опыта применения системы программ 1С:Предприятие 7.7, которую используют десятки тысяч разработчиков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611280" y="3789000"/>
            <a:ext cx="768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настоящее время более 1 000 000 организаций использует для автоматизации своей деятельности продукты, входящие в систему программ «1С:Предприятие»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611280" y="4797360"/>
            <a:ext cx="83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ля торговых предприятий фирмой была разработана типовая конфигурация «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Управление торговлей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76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 клиентах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0" name="Picture 5" descr="Безымянное"/>
          <p:cNvPicPr/>
          <p:nvPr/>
        </p:nvPicPr>
        <p:blipFill>
          <a:blip r:embed="rId1"/>
          <a:stretch/>
        </p:blipFill>
        <p:spPr>
          <a:xfrm>
            <a:off x="0" y="0"/>
            <a:ext cx="2124000" cy="120348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6"/>
          <p:cNvSpPr/>
          <p:nvPr/>
        </p:nvSpPr>
        <p:spPr>
          <a:xfrm>
            <a:off x="324000" y="14130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реди торговых предприятий использующих платформу «1С: Предприятия» в г. Рязани можно выделит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1332000" y="2635920"/>
            <a:ext cx="623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Магазин джинсовой одежды "Whitney"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1332000" y="3339720"/>
            <a:ext cx="47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Автосалон "Ноев Ковчег"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1332000" y="4005360"/>
            <a:ext cx="74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еть торгово-развлекательных комплексов «Самохвал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1332000" y="4955400"/>
            <a:ext cx="50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упермаркеты «Барс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619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дробнее о клиент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7" name="Picture 5" descr="Безымянное"/>
          <p:cNvPicPr/>
          <p:nvPr/>
        </p:nvPicPr>
        <p:blipFill>
          <a:blip r:embed="rId1"/>
          <a:stretch/>
        </p:blipFill>
        <p:spPr>
          <a:xfrm>
            <a:off x="0" y="0"/>
            <a:ext cx="2124000" cy="12034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3745080" cy="280980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8"/>
          <p:cNvSpPr/>
          <p:nvPr/>
        </p:nvSpPr>
        <p:spPr>
          <a:xfrm>
            <a:off x="4246560" y="2205000"/>
            <a:ext cx="480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г. Рязань имеется 22 супермаркета «Барс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Rectangle 9"/>
          <p:cNvSpPr/>
          <p:nvPr/>
        </p:nvSpPr>
        <p:spPr>
          <a:xfrm>
            <a:off x="4246560" y="3363840"/>
            <a:ext cx="4897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России действует множество предприятий по автоматизации торговых предприятий типа «Супермаркет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се они предоставляют системы более широкого профиля и годятся как для автоматизации предприятий меньшего масштаба типа отдельный магазин города, так и большего — типа сети гипермаркетов в масштабах страны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Более того — многие из них не ограничиваются приминением в торговых предприятия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Любые более или менее крупные торговое предприятия, в том числе г. Рязани, предпочитают использовать проверенные информационные системы от производителей всероссийского или всемирного масштаб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 компан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2" name="Picture 8" descr="Безымянное"/>
          <p:cNvPicPr/>
          <p:nvPr/>
        </p:nvPicPr>
        <p:blipFill>
          <a:blip r:embed="rId1"/>
          <a:stretch/>
        </p:blipFill>
        <p:spPr>
          <a:xfrm>
            <a:off x="395280" y="1341360"/>
            <a:ext cx="2881440" cy="14479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971640" y="306828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олее чем 10-летний опыт реализации проектов по автоматизации и их дальнейшего сопровождения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971640" y="393984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тветственность за эффективность всей IT-инфраструктуры в целом, включая такие аспекты, как быстродействие, надежность, прозрачность, простота настройки, удобство для пользователя и т.д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4011120" y="2133720"/>
            <a:ext cx="39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мпания «Кристалл Сервис» это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971640" y="5229000"/>
            <a:ext cx="70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диная команда сервис-инженеров, работающая в ходе внедрения, сервисного сопровождения и на горячей линии, непрерывное внутрикорпоративное обучение, постоянный рост квалификаци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б услугах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8" name="Picture 5" descr="Безымянное"/>
          <p:cNvPicPr/>
          <p:nvPr/>
        </p:nvPicPr>
        <p:blipFill>
          <a:blip r:embed="rId1"/>
          <a:stretch/>
        </p:blipFill>
        <p:spPr>
          <a:xfrm>
            <a:off x="611280" y="404640"/>
            <a:ext cx="1944720" cy="97632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6"/>
          <p:cNvSpPr/>
          <p:nvPr/>
        </p:nvSpPr>
        <p:spPr>
          <a:xfrm>
            <a:off x="1276200" y="2348640"/>
            <a:ext cx="63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мплексная автоматизация торгового предприятия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1209240" y="2851920"/>
            <a:ext cx="414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правление торговым процессом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234080" y="3357000"/>
            <a:ext cx="442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едотвращение потерь в торговл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1239120" y="3859920"/>
            <a:ext cx="49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обильные рабочие места для магазин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1253880" y="4291920"/>
            <a:ext cx="55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втоматизация автозаправочных комплексов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 клиентах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5" name="Picture 5" descr="Безымянное"/>
          <p:cNvPicPr/>
          <p:nvPr/>
        </p:nvPicPr>
        <p:blipFill>
          <a:blip r:embed="rId1"/>
          <a:stretch/>
        </p:blipFill>
        <p:spPr>
          <a:xfrm>
            <a:off x="539640" y="404640"/>
            <a:ext cx="1944720" cy="9763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324000" y="155736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реди клиентов компании есть такие известные предприятия как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2"/>
          <a:stretch/>
        </p:blipFill>
        <p:spPr>
          <a:xfrm>
            <a:off x="324000" y="2565360"/>
            <a:ext cx="3168360" cy="7603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9"/>
          <p:cNvSpPr/>
          <p:nvPr/>
        </p:nvSpPr>
        <p:spPr>
          <a:xfrm>
            <a:off x="3794040" y="2637000"/>
            <a:ext cx="493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еть магазинов бытовой электронно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ехники «Эльдорадо» (г. Санкт-Петербург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Picture 12" descr="Безымянное"/>
          <p:cNvPicPr/>
          <p:nvPr/>
        </p:nvPicPr>
        <p:blipFill>
          <a:blip r:embed="rId3"/>
          <a:stretch/>
        </p:blipFill>
        <p:spPr>
          <a:xfrm>
            <a:off x="755640" y="3502080"/>
            <a:ext cx="1440000" cy="846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"/>
          <p:cNvPicPr/>
          <p:nvPr/>
        </p:nvPicPr>
        <p:blipFill>
          <a:blip r:embed="rId4"/>
          <a:stretch/>
        </p:blipFill>
        <p:spPr>
          <a:xfrm>
            <a:off x="755640" y="4437000"/>
            <a:ext cx="1440000" cy="10508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4"/>
          <p:cNvSpPr/>
          <p:nvPr/>
        </p:nvSpPr>
        <p:spPr>
          <a:xfrm>
            <a:off x="2584080" y="3789360"/>
            <a:ext cx="411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Фирма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ebok (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. Санкт-Петербург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2526840" y="4581360"/>
            <a:ext cx="40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ипермаркет «Наш Гипермаркет»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г. Санкт-Петербург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Picture 16" descr=""/>
          <p:cNvPicPr/>
          <p:nvPr/>
        </p:nvPicPr>
        <p:blipFill>
          <a:blip r:embed="rId5"/>
          <a:stretch/>
        </p:blipFill>
        <p:spPr>
          <a:xfrm>
            <a:off x="900000" y="5589720"/>
            <a:ext cx="1086120" cy="10857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7"/>
          <p:cNvSpPr/>
          <p:nvPr/>
        </p:nvSpPr>
        <p:spPr>
          <a:xfrm>
            <a:off x="2124000" y="5589720"/>
            <a:ext cx="491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оссийская Сеть продовольственных супермаркетов «Дикси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2124000" y="6308640"/>
            <a:ext cx="608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(Калуга, Карелия, Кострома, Москва,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Рязань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, Санкт-Петербург, Смоленск, Челябинск Ярославль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дробнее о клиент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7" name="Picture 5" descr="Безымянное"/>
          <p:cNvPicPr/>
          <p:nvPr/>
        </p:nvPicPr>
        <p:blipFill>
          <a:blip r:embed="rId1"/>
          <a:stretch/>
        </p:blipFill>
        <p:spPr>
          <a:xfrm>
            <a:off x="179280" y="260280"/>
            <a:ext cx="1513080" cy="760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"/>
          <p:cNvPicPr/>
          <p:nvPr/>
        </p:nvPicPr>
        <p:blipFill>
          <a:blip r:embed="rId2"/>
          <a:stretch/>
        </p:blipFill>
        <p:spPr>
          <a:xfrm>
            <a:off x="0" y="1484280"/>
            <a:ext cx="1085760" cy="108576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7"/>
          <p:cNvSpPr/>
          <p:nvPr/>
        </p:nvSpPr>
        <p:spPr>
          <a:xfrm>
            <a:off x="1496520" y="1483560"/>
            <a:ext cx="68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мпания была основана в 1992 году, в Санкт-Петербурге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1297080" y="1915920"/>
            <a:ext cx="55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ервоначально усилия были направлены на организацию оптового и дистрибуционного бизнесов в Санкт-Петербурге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73080" y="313308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ервый розничный магазин ДИКСИ был открыт в 1999 г. в Москве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438480" y="3645000"/>
            <a:ext cx="786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 сегодня эта сеть насчитывает более 300 магазинов в следующи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егионах России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395280" y="4363920"/>
            <a:ext cx="2376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Москва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Московская область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Рязань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Ярославль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острома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Rectangle 12"/>
          <p:cNvSpPr/>
          <p:nvPr/>
        </p:nvSpPr>
        <p:spPr>
          <a:xfrm>
            <a:off x="3059280" y="436572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алуга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моленск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анкт-Петербург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Ленинградская область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арели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5761080" y="4421160"/>
            <a:ext cx="2663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сков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Екатеринбург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Тюмень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Челябинск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Text Box 14"/>
          <p:cNvSpPr/>
          <p:nvPr/>
        </p:nvSpPr>
        <p:spPr>
          <a:xfrm>
            <a:off x="1812600" y="5877000"/>
            <a:ext cx="546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Рязани сеть насчитывает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18 магазино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Компания 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FI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553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лиенты в г. Рязань — Универсамы «Копейка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пермаркет «Универсам 38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0" y="0"/>
            <a:ext cx="124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II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684360" y="1413000"/>
            <a:ext cx="7772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её информационная система «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GESTORI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 Компан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3097080" cy="175392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9"/>
          <p:cNvSpPr/>
          <p:nvPr/>
        </p:nvSpPr>
        <p:spPr>
          <a:xfrm>
            <a:off x="3743280" y="1478160"/>
            <a:ext cx="54007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Французская компания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IT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анимается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недрением передовых информационных ритейл-технологий для усиления конкурентных преимуществ своих клиентов на рынке розничной торговли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792000" y="3429000"/>
            <a:ext cx="664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оссийское подразделения FIT было создано в 1989 год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Rectangle 11"/>
          <p:cNvSpPr/>
          <p:nvPr/>
        </p:nvSpPr>
        <p:spPr>
          <a:xfrm>
            <a:off x="539640" y="39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2004 году компания отмечена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Дипломом Российского фонда защиты прав потребителей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12" descr=""/>
          <p:cNvPicPr/>
          <p:nvPr/>
        </p:nvPicPr>
        <p:blipFill>
          <a:blip r:embed="rId2"/>
          <a:stretch/>
        </p:blipFill>
        <p:spPr>
          <a:xfrm>
            <a:off x="611280" y="4724280"/>
            <a:ext cx="952560" cy="183852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3"/>
          <p:cNvSpPr/>
          <p:nvPr/>
        </p:nvSpPr>
        <p:spPr>
          <a:xfrm>
            <a:off x="1835280" y="5084640"/>
            <a:ext cx="62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емь лет подряд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(2001-2007 гг.) были отмечены профессиональной премией 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"Золотые Весы"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в номинациях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за комплексную автоматизацию сетей супер- и гипермаркетов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 системе «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ESTORI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1332000" cy="7542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395280" y="141300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истема GESTORI — это проверенное временем решение для управления товародвижением и внутренней логистикой в розничных торговых предприятиях любого размер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(Первое внедрение системы в России произошло в 1991 г.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179280" y="3284640"/>
            <a:ext cx="896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Информационная интеграция территориально распределенных магазинов, складов, ресторанов и других объектов розничной торговли с целью функционирования в рамках единой логистической системы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179280" y="4116240"/>
            <a:ext cx="889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Полный контроль, учет и анализ всех видов движения товаров в количественном и стоимостном выражении вплоть до управления в реальном режиме времен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179280" y="4764240"/>
            <a:ext cx="889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Ускорение и совершенствование качества обслуживания покупателей, повышение уровня их лояльност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179280" y="5411880"/>
            <a:ext cx="896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Увеличение производительности труда и снижение количества ошибок персонал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179280" y="5843520"/>
            <a:ext cx="896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Защита от недобросовестных действий персонал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552240" y="2708280"/>
            <a:ext cx="40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истема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GESTORI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беспечивает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14:54:10Z</dcterms:created>
  <dc:creator>unDEFER</dc:creator>
  <dc:description/>
  <dc:language>en-US</dc:language>
  <cp:lastModifiedBy>Юлия</cp:lastModifiedBy>
  <dcterms:modified xsi:type="dcterms:W3CDTF">2017-02-16T21:00:02Z</dcterms:modified>
  <cp:revision>6</cp:revision>
  <dc:subject/>
  <dc:title>О компании</dc:title>
</cp:coreProperties>
</file>