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3DC9-C80C-476E-ABE2-14263B496E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9BD7-EF67-4A46-8B18-D99808C78B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295-DA6E-493D-A857-1C7C3620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F8E2-76E4-4224-B15A-51E174B3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386-FC6E-4016-B7F3-D0AB5B3A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FE06-4249-496E-82CB-DCAAD252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1EE6-1006-4DA3-A213-CE62E303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D33-A634-4781-9745-4C3FD363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1B7-FB42-4F7B-971B-EBC0666A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E8BE-1DDC-40C7-B361-6FFA0FB9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751-86A3-4A37-8222-28005083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D0A-C470-4606-96DC-31F25070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2F1-1903-43FA-9518-C30C6226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ACD-B977-44A0-9D39-91F71225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FA08-E133-4BD4-B7C8-4A751A1FB9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214280" y="1857240"/>
            <a:ext cx="671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спользование инновационной технологии «мнемотехника» для развития речи у до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2428920" y="3643200"/>
            <a:ext cx="4429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сли учить ребёнка каким-нибудь неизвестным 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яти словам – он долго будет и напрасно мучить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 если свяжите двадцать таких слов с картинкам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х он усвоит на ле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. Д. Ушин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1000080" y="14436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SimSun"/>
              </a:rPr>
              <a:t>Пересказ рассказа по теме «Зи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Прямоугольник 3" descr=""/>
          <p:cNvPicPr/>
          <p:nvPr/>
        </p:nvPicPr>
        <p:blipFill>
          <a:blip r:embed="rId1"/>
          <a:stretch/>
        </p:blipFill>
        <p:spPr>
          <a:xfrm>
            <a:off x="-30240" y="49320"/>
            <a:ext cx="8193240" cy="3004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C:\Users\Meridian05ru\Desktop\site159_14_20151029131634_32173.jpg"/>
          <p:cNvPicPr/>
          <p:nvPr/>
        </p:nvPicPr>
        <p:blipFill>
          <a:blip r:embed="rId2"/>
          <a:srcRect l="23696" t="3147" r="22393" b="6293"/>
          <a:stretch/>
        </p:blipFill>
        <p:spPr>
          <a:xfrm>
            <a:off x="2857680" y="857160"/>
            <a:ext cx="1757160" cy="19288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C:\Users\Meridian05ru\Desktop\9994218_38456605.jpg"/>
          <p:cNvPicPr/>
          <p:nvPr/>
        </p:nvPicPr>
        <p:blipFill>
          <a:blip r:embed="rId3"/>
          <a:stretch/>
        </p:blipFill>
        <p:spPr>
          <a:xfrm>
            <a:off x="5500800" y="928800"/>
            <a:ext cx="1909800" cy="17859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7"/>
          <p:cNvSpPr/>
          <p:nvPr/>
        </p:nvSpPr>
        <p:spPr>
          <a:xfrm>
            <a:off x="642960" y="2786040"/>
            <a:ext cx="7500960" cy="1928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8" descr="C:\Users\Meridian05ru\Desktop\iC5JGFPWL.jpg"/>
          <p:cNvPicPr/>
          <p:nvPr/>
        </p:nvPicPr>
        <p:blipFill>
          <a:blip r:embed="rId4"/>
          <a:stretch/>
        </p:blipFill>
        <p:spPr>
          <a:xfrm>
            <a:off x="857160" y="2857680"/>
            <a:ext cx="1971720" cy="17856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9" descr="C:\Users\Meridian05ru\Desktop\zima_i_zayats.jpg"/>
          <p:cNvPicPr/>
          <p:nvPr/>
        </p:nvPicPr>
        <p:blipFill>
          <a:blip r:embed="rId5"/>
          <a:stretch/>
        </p:blipFill>
        <p:spPr>
          <a:xfrm>
            <a:off x="3286080" y="3071880"/>
            <a:ext cx="1866960" cy="14000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0"/>
          <p:cNvSpPr/>
          <p:nvPr/>
        </p:nvSpPr>
        <p:spPr>
          <a:xfrm>
            <a:off x="642960" y="4714920"/>
            <a:ext cx="7500960" cy="1928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1" descr="C:\Users\Meridian05ru\Desktop\12166348c64aee78ebd6c0f0eb098891.jpg"/>
          <p:cNvPicPr/>
          <p:nvPr/>
        </p:nvPicPr>
        <p:blipFill>
          <a:blip r:embed="rId6"/>
          <a:stretch/>
        </p:blipFill>
        <p:spPr>
          <a:xfrm>
            <a:off x="5572080" y="2857680"/>
            <a:ext cx="2190960" cy="17049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2" descr="C:\Users\Meridian05ru\Desktop\73d8062b9f14.jpg"/>
          <p:cNvPicPr/>
          <p:nvPr/>
        </p:nvPicPr>
        <p:blipFill>
          <a:blip r:embed="rId7"/>
          <a:stretch/>
        </p:blipFill>
        <p:spPr>
          <a:xfrm>
            <a:off x="4786200" y="4786200"/>
            <a:ext cx="1609920" cy="16099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3" descr="C:\Users\Meridian05ru\Desktop\image6.jpg"/>
          <p:cNvPicPr/>
          <p:nvPr/>
        </p:nvPicPr>
        <p:blipFill>
          <a:blip r:embed="rId8"/>
          <a:stretch/>
        </p:blipFill>
        <p:spPr>
          <a:xfrm>
            <a:off x="1928880" y="4786200"/>
            <a:ext cx="106668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0"/>
          <p:cNvSpPr/>
          <p:nvPr/>
        </p:nvSpPr>
        <p:spPr>
          <a:xfrm>
            <a:off x="2714760" y="1285920"/>
            <a:ext cx="6286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держание мнемотаблицы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это графическое или частично графическое изображение персонажей сказки, явлений природы, некоторых действий и др. путем выделения главных смысловых звеньев сюжета расск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лавное – нужно было передать условно-наглядную схему, изобразить так, чтобы нарисованное было понятно де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ttps://svirida-ds27-schel.edumsko.ru/uploads/7000/24743/persona/folders/konspekty/mnemotorika/image005.jpg?1486478274388"/>
          <p:cNvPicPr/>
          <p:nvPr/>
        </p:nvPicPr>
        <p:blipFill>
          <a:blip r:embed="rId2"/>
          <a:stretch/>
        </p:blipFill>
        <p:spPr>
          <a:xfrm>
            <a:off x="285840" y="3214800"/>
            <a:ext cx="4659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images.myshared.ru/5/330943/slide_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0" y="6143760"/>
            <a:ext cx="9144000" cy="714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1842480" y="500040"/>
            <a:ext cx="54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-описание пейзажной карт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m3c7ab963.png"/>
          <p:cNvPicPr/>
          <p:nvPr/>
        </p:nvPicPr>
        <p:blipFill>
          <a:blip r:embed="rId1"/>
          <a:stretch/>
        </p:blipFill>
        <p:spPr>
          <a:xfrm>
            <a:off x="2786040" y="1071720"/>
            <a:ext cx="3714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3714840" y="0"/>
            <a:ext cx="165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л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2" descr="img6.jpg"/>
          <p:cNvPicPr/>
          <p:nvPr/>
        </p:nvPicPr>
        <p:blipFill>
          <a:blip r:embed="rId1"/>
          <a:stretch/>
        </p:blipFill>
        <p:spPr>
          <a:xfrm>
            <a:off x="500040" y="714240"/>
            <a:ext cx="825804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2724480" y="0"/>
            <a:ext cx="32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учивание стих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http://obuchaika.info/wp-content/uploads/2017/06/1-13.jpg"/>
          <p:cNvPicPr/>
          <p:nvPr/>
        </p:nvPicPr>
        <p:blipFill>
          <a:blip r:embed="rId1"/>
          <a:stretch/>
        </p:blipFill>
        <p:spPr>
          <a:xfrm>
            <a:off x="642960" y="928800"/>
            <a:ext cx="7358040" cy="48574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3357720" y="5572080"/>
            <a:ext cx="32144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428760" y="-98640"/>
            <a:ext cx="914400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учивание стихотворения “Маша варежку надел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а варежку на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й, куда я пальчики дел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у пальчика, проп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й домишко он попа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а варежку сня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глядите-ка, нашл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2"/>
          <p:cNvSpPr/>
          <p:nvPr/>
        </p:nvSpPr>
        <p:spPr>
          <a:xfrm>
            <a:off x="2225160" y="214200"/>
            <a:ext cx="33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л зайка целы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4929120" y="4572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л зайка целый ден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дом ему не л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оится, что в доми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рется лапой м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ый волк или лис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бегать по ле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у зайки под кус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заяц"/>
          <p:cNvPicPr/>
          <p:nvPr/>
        </p:nvPicPr>
        <p:blipFill>
          <a:blip r:embed="rId1"/>
          <a:stretch/>
        </p:blipFill>
        <p:spPr>
          <a:xfrm>
            <a:off x="2143080" y="857160"/>
            <a:ext cx="602928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s://arhivurokov.ru/videouroki/html/2015/01/19/98699828/98699828_1.png"/>
          <p:cNvPicPr/>
          <p:nvPr/>
        </p:nvPicPr>
        <p:blipFill>
          <a:blip r:embed="rId1"/>
          <a:stretch/>
        </p:blipFill>
        <p:spPr>
          <a:xfrm>
            <a:off x="500040" y="714240"/>
            <a:ext cx="8064360" cy="56437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2"/>
          <p:cNvSpPr/>
          <p:nvPr/>
        </p:nvSpPr>
        <p:spPr>
          <a:xfrm>
            <a:off x="3365280" y="142920"/>
            <a:ext cx="32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МОЗАГ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2"/>
          <p:cNvSpPr/>
          <p:nvPr/>
        </p:nvSpPr>
        <p:spPr>
          <a:xfrm>
            <a:off x="1882800" y="2500200"/>
            <a:ext cx="521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асибо за внима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214720" y="1071720"/>
            <a:ext cx="58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владение приёмами мнемотехники решает задачи, направленные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6"/>
          <p:cNvSpPr/>
          <p:nvPr/>
        </p:nvSpPr>
        <p:spPr>
          <a:xfrm>
            <a:off x="642960" y="2000160"/>
            <a:ext cx="7870680" cy="64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♦ </a:t>
            </a:r>
            <a:r>
              <a:rPr b="0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огащать словарный зап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♦  </a:t>
            </a:r>
            <a:r>
              <a:rPr b="0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вать внимание, мыш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♦  </a:t>
            </a:r>
            <a:r>
              <a:rPr b="0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вать связанную ре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♦  </a:t>
            </a:r>
            <a:r>
              <a:rPr b="0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вать  мелкую мотор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♦  </a:t>
            </a:r>
            <a:r>
              <a:rPr b="0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вать речеслуховую и  зрительную 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♦  </a:t>
            </a:r>
            <a:r>
              <a:rPr b="0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чить устанавливать причинно -следственные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2643120" y="1071720"/>
            <a:ext cx="492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етод мнемотехники включает в себя разные приё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143160" y="2071800"/>
            <a:ext cx="3737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♦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ртинограф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♦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ны-сх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♦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лла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♦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немо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♦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http://www.maaam.ru/upload/blogs/2e3a88dd1623b7418c1f032ba3e9e62b.jpg.jpg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http://www.maaam.ru/upload/blogs/9d418e932d605dbad87e1fcc0a421f7c.jp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slide_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594880" y="1357200"/>
            <a:ext cx="44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ктура мнемотех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6"/>
          <p:cNvSpPr/>
          <p:nvPr/>
        </p:nvSpPr>
        <p:spPr>
          <a:xfrm>
            <a:off x="3143160" y="2143080"/>
            <a:ext cx="2786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НЕМОКВАДР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9"/>
          <p:cNvSpPr/>
          <p:nvPr/>
        </p:nvSpPr>
        <p:spPr>
          <a:xfrm>
            <a:off x="3143160" y="3214800"/>
            <a:ext cx="2786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НЕМОДОРОЖ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10"/>
          <p:cNvSpPr/>
          <p:nvPr/>
        </p:nvSpPr>
        <p:spPr>
          <a:xfrm>
            <a:off x="3214800" y="4286160"/>
            <a:ext cx="2786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НЕМОТАБЛ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arteffact.ru/pics/work861.jpg"/>
          <p:cNvPicPr/>
          <p:nvPr/>
        </p:nvPicPr>
        <p:blipFill>
          <a:blip r:embed="rId1"/>
          <a:stretch/>
        </p:blipFill>
        <p:spPr>
          <a:xfrm>
            <a:off x="785880" y="1000080"/>
            <a:ext cx="7619760" cy="5391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1857240" y="785880"/>
            <a:ext cx="5357880" cy="71424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немоквадраты по теме «ОСЕ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2500200" y="500040"/>
            <a:ext cx="42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емодорожка по теме «Осен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childrenpark.crimea.ru/wp-content/uploads/2016/09/590555_park_derevya_lavochka_skameyka_tropinka_dorojka_li_1920x1080_www.GdeFon.ru_.jpg"/>
          <p:cNvPicPr/>
          <p:nvPr/>
        </p:nvPicPr>
        <p:blipFill>
          <a:blip r:embed="rId1"/>
          <a:stretch/>
        </p:blipFill>
        <p:spPr>
          <a:xfrm>
            <a:off x="2000160" y="1357200"/>
            <a:ext cx="5072040" cy="2853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428760" y="4572000"/>
            <a:ext cx="835812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http://www.parliamorusso.it/wordpress/wp-content/uploads/2017/06/cloud-37011_1280-1024x872.png"/>
          <p:cNvPicPr/>
          <p:nvPr/>
        </p:nvPicPr>
        <p:blipFill>
          <a:blip r:embed="rId2"/>
          <a:stretch/>
        </p:blipFill>
        <p:spPr>
          <a:xfrm>
            <a:off x="571680" y="4714920"/>
            <a:ext cx="1563480" cy="133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www.bookin.org.ru/book/3969516.jpg"/>
          <p:cNvPicPr/>
          <p:nvPr/>
        </p:nvPicPr>
        <p:blipFill>
          <a:blip r:embed="rId3"/>
          <a:stretch/>
        </p:blipFill>
        <p:spPr>
          <a:xfrm>
            <a:off x="2428920" y="47149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s://img1.wbstatic.net/big/new/580000/583515-1.jpg"/>
          <p:cNvPicPr/>
          <p:nvPr/>
        </p:nvPicPr>
        <p:blipFill>
          <a:blip r:embed="rId4"/>
          <a:stretch/>
        </p:blipFill>
        <p:spPr>
          <a:xfrm>
            <a:off x="4286160" y="4714920"/>
            <a:ext cx="1071720" cy="1428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https://cloudstatic.eva.ru/eva/180000-190000/185205/photoalbum/5241749956000250.jpg"/>
          <p:cNvPicPr/>
          <p:nvPr/>
        </p:nvPicPr>
        <p:blipFill>
          <a:blip r:embed="rId5"/>
          <a:stretch/>
        </p:blipFill>
        <p:spPr>
          <a:xfrm>
            <a:off x="5572080" y="4643280"/>
            <a:ext cx="1400400" cy="1500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s://cdn2.flowwow.com/data/flowers/632x632/64/1481136997_86892664.jpg"/>
          <p:cNvPicPr/>
          <p:nvPr/>
        </p:nvPicPr>
        <p:blipFill>
          <a:blip r:embed="rId6"/>
          <a:stretch/>
        </p:blipFill>
        <p:spPr>
          <a:xfrm>
            <a:off x="7215120" y="471492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5T17:52:42Z</dcterms:created>
  <dc:creator>DAY</dc:creator>
  <dc:description/>
  <dc:language>en-US</dc:language>
  <cp:lastModifiedBy>ttagua@outlook.com</cp:lastModifiedBy>
  <dcterms:modified xsi:type="dcterms:W3CDTF">2017-09-30T17:15:01Z</dcterms:modified>
  <cp:revision>20</cp:revision>
  <dc:subject/>
  <dc:title>Слайд 1</dc:title>
</cp:coreProperties>
</file>