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4579-211F-4CAC-8396-E698588F6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F581-C2DF-4A9E-8C2C-4B4FF044A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0C53-C5C0-4851-A80D-C484673EE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E860-4202-4D19-8BD3-38CA7C424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E6FB-08D0-40B7-8B1E-1DBAEB113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6C1C-146F-4A72-9C16-C457298D0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27FF-752E-45EC-BFF6-158D34426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087E-BF27-4396-B3A9-D8989E26C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B8B7-52BE-4CDF-950B-AAFB8E5C8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3ABE-943E-408E-9DB4-747CA26C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3930-7693-49B4-B609-5A9C7B0F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6125-4308-47EF-9127-0CC27373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1BD9E-2B1E-4932-A953-B9C301FD16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4280" y="1856880"/>
            <a:ext cx="7243920" cy="200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астер – класс</a:t>
            </a:r>
            <a:br>
              <a:rPr sz="2000"/>
            </a:b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Изготовление куклы </a:t>
            </a:r>
            <a:br>
              <a:rPr sz="2000"/>
            </a:b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 марийском национальном костюме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Подзаголовок 3" descr=""/>
          <p:cNvPicPr/>
          <p:nvPr/>
        </p:nvPicPr>
        <p:blipFill>
          <a:blip r:embed="rId1"/>
          <a:stretch/>
        </p:blipFill>
        <p:spPr>
          <a:xfrm>
            <a:off x="2498760" y="4432320"/>
            <a:ext cx="5273640" cy="12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4284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1898a"/>
                </a:solidFill>
                <a:latin typeface="Times New Roman"/>
                <a:ea typeface="Times New Roman"/>
              </a:rPr>
              <a:t>Куклы в национальных костюма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Содержимое 3" descr="P1040029.JPG"/>
          <p:cNvPicPr/>
          <p:nvPr/>
        </p:nvPicPr>
        <p:blipFill>
          <a:blip r:embed="rId1"/>
          <a:stretch/>
        </p:blipFill>
        <p:spPr>
          <a:xfrm>
            <a:off x="2584440" y="2738520"/>
            <a:ext cx="4651560" cy="3138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Содержимое 4" descr="P1040040.JPG"/>
          <p:cNvPicPr/>
          <p:nvPr/>
        </p:nvPicPr>
        <p:blipFill>
          <a:blip r:embed="rId1"/>
          <a:stretch/>
        </p:blipFill>
        <p:spPr>
          <a:xfrm>
            <a:off x="3203640" y="2065320"/>
            <a:ext cx="4105080" cy="264168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0200" y="5013000"/>
            <a:ext cx="607248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отовление куклы начинаем с того, что обводим по трафарету все детали и вырезаем. Берём полоску с марийским орнаментом, делаем надрезы  сверху через1,5-2 см и приклеиваем по краю детале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Рисунок 4" descr="P1040053.JPG"/>
          <p:cNvPicPr/>
          <p:nvPr/>
        </p:nvPicPr>
        <p:blipFill>
          <a:blip r:embed="rId1"/>
          <a:stretch/>
        </p:blipFill>
        <p:spPr>
          <a:xfrm>
            <a:off x="3699000" y="2492280"/>
            <a:ext cx="3468600" cy="26654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92360" y="5660640"/>
            <a:ext cx="45086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единяем большой конус и рукава клеем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4" descr="P1040057.JPG"/>
          <p:cNvPicPr/>
          <p:nvPr/>
        </p:nvPicPr>
        <p:blipFill>
          <a:blip r:embed="rId1"/>
          <a:stretch/>
        </p:blipFill>
        <p:spPr>
          <a:xfrm>
            <a:off x="3632040" y="2421000"/>
            <a:ext cx="3657600" cy="259236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500280" y="5367240"/>
            <a:ext cx="377856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ём вырезанный из белого картона круг, приклеиваем волосы и прорисовываем лицо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аль «одеваем» на конус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0120" y="1499760"/>
            <a:ext cx="621504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ём жёлтую гофрированную бумагу, вырезаем 3 полоски, заплетаем косичку, приклеиваем к голове, завязываем бантик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Содержимое 4" descr="P1040060.JPG"/>
          <p:cNvPicPr/>
          <p:nvPr/>
        </p:nvPicPr>
        <p:blipFill>
          <a:blip r:embed="rId1"/>
          <a:stretch/>
        </p:blipFill>
        <p:spPr>
          <a:xfrm>
            <a:off x="428760" y="3789360"/>
            <a:ext cx="2927160" cy="2454120"/>
          </a:xfrm>
          <a:prstGeom prst="rect">
            <a:avLst/>
          </a:prstGeom>
          <a:ln w="0">
            <a:noFill/>
          </a:ln>
        </p:spPr>
      </p:pic>
      <p:pic>
        <p:nvPicPr>
          <p:cNvPr id="75" name="Содержимое 5" descr="P1040061.JPG"/>
          <p:cNvPicPr/>
          <p:nvPr/>
        </p:nvPicPr>
        <p:blipFill>
          <a:blip r:embed="rId2"/>
          <a:stretch/>
        </p:blipFill>
        <p:spPr>
          <a:xfrm>
            <a:off x="4648320" y="3286080"/>
            <a:ext cx="3452760" cy="2747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4" descr="P1040062.JPG"/>
          <p:cNvPicPr/>
          <p:nvPr/>
        </p:nvPicPr>
        <p:blipFill>
          <a:blip r:embed="rId1"/>
          <a:stretch/>
        </p:blipFill>
        <p:spPr>
          <a:xfrm>
            <a:off x="3201840" y="2924280"/>
            <a:ext cx="3132360" cy="20890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2571480" y="5367240"/>
            <a:ext cx="47070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ашаем орнаментом косынку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репляем на голове кукл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28760" y="164304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укла гото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Содержимое 4" descr="P1040064.JPG"/>
          <p:cNvPicPr/>
          <p:nvPr/>
        </p:nvPicPr>
        <p:blipFill>
          <a:blip r:embed="rId1"/>
          <a:stretch/>
        </p:blipFill>
        <p:spPr>
          <a:xfrm>
            <a:off x="1517760" y="2347920"/>
            <a:ext cx="2977920" cy="2233440"/>
          </a:xfrm>
          <a:prstGeom prst="rect">
            <a:avLst/>
          </a:prstGeom>
          <a:ln w="0">
            <a:noFill/>
          </a:ln>
        </p:spPr>
      </p:pic>
      <p:pic>
        <p:nvPicPr>
          <p:cNvPr id="80" name="Содержимое 5" descr="P1040067.JPG"/>
          <p:cNvPicPr/>
          <p:nvPr/>
        </p:nvPicPr>
        <p:blipFill>
          <a:blip r:embed="rId2"/>
          <a:stretch/>
        </p:blipFill>
        <p:spPr>
          <a:xfrm>
            <a:off x="5281560" y="3495600"/>
            <a:ext cx="3035520" cy="23097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2571840" y="2349000"/>
            <a:ext cx="5200560" cy="37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мотивации педагогов к овладению методами и приёмами ознакомления дошкольников с народно– прикладным искусство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Формировать у педагогов систему знаний о современных методах и приёмах ознакомления дошкольников с народно–прикладным искусством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практические умения для организации работы с детьми по данной теме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ть интерес к марийскому национальному искусству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1600"/>
            </a:br>
            <a:r>
              <a:rPr b="1" lang="ru-RU" sz="2800" spc="-1" strike="noStrike">
                <a:solidFill>
                  <a:srgbClr val="898989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Содержимое 4" descr="14616_310067_132428526889988_47893353_n.jpg"/>
          <p:cNvPicPr/>
          <p:nvPr/>
        </p:nvPicPr>
        <p:blipFill>
          <a:blip r:embed="rId1"/>
          <a:stretch/>
        </p:blipFill>
        <p:spPr>
          <a:xfrm>
            <a:off x="1979640" y="2500200"/>
            <a:ext cx="3092400" cy="3660840"/>
          </a:xfrm>
          <a:prstGeom prst="rect">
            <a:avLst/>
          </a:prstGeom>
          <a:ln w="0">
            <a:noFill/>
          </a:ln>
        </p:spPr>
      </p:pic>
      <p:pic>
        <p:nvPicPr>
          <p:cNvPr id="45" name="Содержимое 5" descr="14616_1512290_467399243392913_4100291781763113873_n.jpg"/>
          <p:cNvPicPr/>
          <p:nvPr/>
        </p:nvPicPr>
        <p:blipFill>
          <a:blip r:embed="rId2"/>
          <a:stretch/>
        </p:blipFill>
        <p:spPr>
          <a:xfrm>
            <a:off x="5724360" y="2500200"/>
            <a:ext cx="2919600" cy="361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7176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12d1c"/>
                </a:solidFill>
                <a:latin typeface="Times New Roman"/>
                <a:ea typeface="Times New Roman"/>
              </a:rPr>
              <a:t>Изделия народных промыслов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85840" y="1499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мните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  <a:ea typeface="Times New Roman"/>
              </a:rPr>
              <a:t>“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олотое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  <a:ea typeface="Times New Roman"/>
              </a:rPr>
              <a:t>”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правило: </a:t>
            </a:r>
            <a:br>
              <a:rPr sz="1200"/>
            </a:br>
            <a:br>
              <a:rPr sz="2000"/>
            </a:br>
            <a:br>
              <a:rPr sz="2000"/>
            </a:br>
            <a:r>
              <a:rPr b="0" lang="ru-RU" sz="2400" spc="-1" strike="noStrike">
                <a:solidFill>
                  <a:srgbClr val="712d1c"/>
                </a:solidFill>
                <a:latin typeface="Times New Roman"/>
                <a:ea typeface="Times New Roman"/>
              </a:rPr>
              <a:t>Ярко красочным орнаментом марийцы украшали </a:t>
            </a:r>
            <a:br>
              <a:rPr sz="2400"/>
            </a:br>
            <a:r>
              <a:rPr b="0" lang="ru-RU" sz="2400" spc="-1" strike="noStrike">
                <a:solidFill>
                  <a:srgbClr val="712d1c"/>
                </a:solidFill>
                <a:latin typeface="Times New Roman"/>
                <a:ea typeface="Times New Roman"/>
              </a:rPr>
              <a:t>одежду, жилище.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Содержимое 4" descr="2ce526f9ce21491462982fa321dc77fe.jpg.jpg"/>
          <p:cNvPicPr/>
          <p:nvPr/>
        </p:nvPicPr>
        <p:blipFill>
          <a:blip r:embed="rId1"/>
          <a:stretch/>
        </p:blipFill>
        <p:spPr>
          <a:xfrm>
            <a:off x="2195640" y="2997360"/>
            <a:ext cx="2879640" cy="2444760"/>
          </a:xfrm>
          <a:prstGeom prst="rect">
            <a:avLst/>
          </a:prstGeom>
          <a:ln w="0">
            <a:noFill/>
          </a:ln>
        </p:spPr>
      </p:pic>
      <p:pic>
        <p:nvPicPr>
          <p:cNvPr id="49" name="Содержимое 5" descr="7aefbd763d213f30ff7331a15fb052da.jpg.jpg"/>
          <p:cNvPicPr/>
          <p:nvPr/>
        </p:nvPicPr>
        <p:blipFill>
          <a:blip r:embed="rId2"/>
          <a:stretch/>
        </p:blipFill>
        <p:spPr>
          <a:xfrm>
            <a:off x="5767560" y="2997360"/>
            <a:ext cx="2741400" cy="2376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img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85920" y="1213920"/>
            <a:ext cx="740088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3543"/>
                </a:solidFill>
                <a:latin typeface="Times New Roman"/>
                <a:ea typeface="Times New Roman"/>
              </a:rPr>
              <a:t>Все начинается с семьи, </a:t>
            </a:r>
            <a:br>
              <a:rPr sz="2000"/>
            </a:br>
            <a:r>
              <a:rPr b="0" lang="ru-RU" sz="2000" spc="-1" strike="noStrike">
                <a:solidFill>
                  <a:srgbClr val="323543"/>
                </a:solidFill>
                <a:latin typeface="Times New Roman"/>
                <a:ea typeface="Times New Roman"/>
              </a:rPr>
              <a:t>детского сад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3" descr="P1040001.JPG"/>
          <p:cNvPicPr/>
          <p:nvPr/>
        </p:nvPicPr>
        <p:blipFill>
          <a:blip r:embed="rId1"/>
          <a:stretch/>
        </p:blipFill>
        <p:spPr>
          <a:xfrm>
            <a:off x="3132000" y="2444760"/>
            <a:ext cx="4464360" cy="3292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411280" y="1785600"/>
            <a:ext cx="237672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3543"/>
                </a:solidFill>
                <a:latin typeface="Times New Roman"/>
                <a:ea typeface="Times New Roman"/>
              </a:rPr>
              <a:t>Все начинается с семьи, </a:t>
            </a:r>
            <a:br>
              <a:rPr sz="1400"/>
            </a:br>
            <a:r>
              <a:rPr b="0" lang="ru-RU" sz="1400" spc="-1" strike="noStrike">
                <a:solidFill>
                  <a:srgbClr val="323543"/>
                </a:solidFill>
                <a:latin typeface="Times New Roman"/>
                <a:ea typeface="Times New Roman"/>
              </a:rPr>
              <a:t>детского сад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арод в наиболее чистом виде представляют дети. Когда национальное умирает в детях, то это означает начало смерти нации». Г.Н.Волко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Содержимое 6" descr="P1040005.JPG"/>
          <p:cNvPicPr/>
          <p:nvPr/>
        </p:nvPicPr>
        <p:blipFill>
          <a:blip r:embed="rId1"/>
          <a:stretch/>
        </p:blipFill>
        <p:spPr>
          <a:xfrm>
            <a:off x="5076720" y="2309760"/>
            <a:ext cx="3167280" cy="3422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143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57200" y="5643360"/>
            <a:ext cx="28584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1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ccb400"/>
              </a:solidFill>
              <a:latin typeface="Times New Roman"/>
              <a:ea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499840" y="5643720"/>
            <a:ext cx="5256360" cy="78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такие куклы в национальном костюме получились у дет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Содержимое 7" descr="P1040010.JPG"/>
          <p:cNvPicPr/>
          <p:nvPr/>
        </p:nvPicPr>
        <p:blipFill>
          <a:blip r:embed="rId1"/>
          <a:stretch/>
        </p:blipFill>
        <p:spPr>
          <a:xfrm>
            <a:off x="3301920" y="2097000"/>
            <a:ext cx="3646440" cy="3276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539280" y="2492280"/>
            <a:ext cx="256068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717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овместные работы родителей и дет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Содержимое 4" descr="P1040028.JPG"/>
          <p:cNvPicPr/>
          <p:nvPr/>
        </p:nvPicPr>
        <p:blipFill>
          <a:blip r:embed="rId1"/>
          <a:stretch/>
        </p:blipFill>
        <p:spPr>
          <a:xfrm>
            <a:off x="468360" y="3429000"/>
            <a:ext cx="3403440" cy="2874960"/>
          </a:xfrm>
          <a:prstGeom prst="rect">
            <a:avLst/>
          </a:prstGeom>
          <a:ln w="0">
            <a:noFill/>
          </a:ln>
        </p:spPr>
      </p:pic>
      <p:pic>
        <p:nvPicPr>
          <p:cNvPr id="62" name="Содержимое 5" descr="P1030984.JPG"/>
          <p:cNvPicPr/>
          <p:nvPr/>
        </p:nvPicPr>
        <p:blipFill>
          <a:blip r:embed="rId2"/>
          <a:stretch/>
        </p:blipFill>
        <p:spPr>
          <a:xfrm>
            <a:off x="4859280" y="2637000"/>
            <a:ext cx="3137040" cy="24667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7T18:26:12Z</dcterms:created>
  <dc:creator>Grey Wolf</dc:creator>
  <dc:description/>
  <dc:language>en-US</dc:language>
  <cp:lastModifiedBy>Первый</cp:lastModifiedBy>
  <cp:lastPrinted>2015-09-28T12:31:50Z</cp:lastPrinted>
  <dcterms:modified xsi:type="dcterms:W3CDTF">2017-09-30T18:40:35Z</dcterms:modified>
  <cp:revision>87</cp:revision>
  <dc:subject/>
  <dc:title>Слайд 1</dc:title>
</cp:coreProperties>
</file>