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81F-4050-4C64-8C9B-8BCD5851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972-8AD9-48A7-BEAF-1BB2413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9A0-E350-4020-A569-886827BA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40E-0F15-4169-A42F-723DE308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E4F-49E4-4C4E-89D3-C76F9735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0E4-7C33-4958-BE12-6E556750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C6A-69C3-48BA-BEC9-22BEE909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1C9-DE9D-4E16-9930-71CCD24C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B39-31DE-4326-9A74-CF2D3790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130-C809-4A5F-8A15-CC13BF8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223-466A-4985-A0DD-82B0C77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0E2-F2DC-4569-A03A-A0DC7F7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4C23-D96D-4CA1-8200-681DA2FBA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1856880"/>
            <a:ext cx="724392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тер – класс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зготовление куклы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марийском национальном костюм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3" descr=""/>
          <p:cNvPicPr/>
          <p:nvPr/>
        </p:nvPicPr>
        <p:blipFill>
          <a:blip r:embed="rId1"/>
          <a:stretch/>
        </p:blipFill>
        <p:spPr>
          <a:xfrm>
            <a:off x="2498760" y="4432320"/>
            <a:ext cx="5273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898a"/>
                </a:solidFill>
                <a:latin typeface="Times New Roman"/>
                <a:ea typeface="Times New Roman"/>
              </a:rPr>
              <a:t>Куклы в национальных костюм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P1040029.JPG"/>
          <p:cNvPicPr/>
          <p:nvPr/>
        </p:nvPicPr>
        <p:blipFill>
          <a:blip r:embed="rId1"/>
          <a:stretch/>
        </p:blipFill>
        <p:spPr>
          <a:xfrm>
            <a:off x="2584440" y="2738520"/>
            <a:ext cx="4651560" cy="31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P1040040.JPG"/>
          <p:cNvPicPr/>
          <p:nvPr/>
        </p:nvPicPr>
        <p:blipFill>
          <a:blip r:embed="rId1"/>
          <a:stretch/>
        </p:blipFill>
        <p:spPr>
          <a:xfrm>
            <a:off x="3203640" y="2065320"/>
            <a:ext cx="4105080" cy="2641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0200" y="5013000"/>
            <a:ext cx="60724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уклы начинаем с того, что обводим по трафарету все детали и вырезаем. Берём полоску с марийским орнаментом, делаем надрезы  сверху через1,5-2 см и приклеиваем по краю дет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P1040053.JPG"/>
          <p:cNvPicPr/>
          <p:nvPr/>
        </p:nvPicPr>
        <p:blipFill>
          <a:blip r:embed="rId1"/>
          <a:stretch/>
        </p:blipFill>
        <p:spPr>
          <a:xfrm>
            <a:off x="3699000" y="2492280"/>
            <a:ext cx="3468600" cy="2665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360" y="5660640"/>
            <a:ext cx="4508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яем большой конус и рукава кле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P1040057.JPG"/>
          <p:cNvPicPr/>
          <p:nvPr/>
        </p:nvPicPr>
        <p:blipFill>
          <a:blip r:embed="rId1"/>
          <a:stretch/>
        </p:blipFill>
        <p:spPr>
          <a:xfrm>
            <a:off x="3632040" y="2421000"/>
            <a:ext cx="365760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00280" y="5367240"/>
            <a:ext cx="37785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вырезанный из белого картона круг, приклеиваем волосы и прорисовываем ли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ь «одеваем» на кон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0120" y="1499760"/>
            <a:ext cx="6215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жёлтую гофрированную бумагу, вырезаем 3 полоски, заплетаем косичку, приклеиваем к голове, завязываем банти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P1040060.JPG"/>
          <p:cNvPicPr/>
          <p:nvPr/>
        </p:nvPicPr>
        <p:blipFill>
          <a:blip r:embed="rId1"/>
          <a:stretch/>
        </p:blipFill>
        <p:spPr>
          <a:xfrm>
            <a:off x="428760" y="3789360"/>
            <a:ext cx="2927160" cy="24541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5" descr="P1040061.JPG"/>
          <p:cNvPicPr/>
          <p:nvPr/>
        </p:nvPicPr>
        <p:blipFill>
          <a:blip r:embed="rId2"/>
          <a:stretch/>
        </p:blipFill>
        <p:spPr>
          <a:xfrm>
            <a:off x="4648320" y="3286080"/>
            <a:ext cx="3452760" cy="27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P1040062.JPG"/>
          <p:cNvPicPr/>
          <p:nvPr/>
        </p:nvPicPr>
        <p:blipFill>
          <a:blip r:embed="rId1"/>
          <a:stretch/>
        </p:blipFill>
        <p:spPr>
          <a:xfrm>
            <a:off x="3201840" y="2924280"/>
            <a:ext cx="3132360" cy="208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71480" y="5367240"/>
            <a:ext cx="47070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ем орнаментом косынк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яем на голове кук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кла гот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P1040064.JPG"/>
          <p:cNvPicPr/>
          <p:nvPr/>
        </p:nvPicPr>
        <p:blipFill>
          <a:blip r:embed="rId1"/>
          <a:stretch/>
        </p:blipFill>
        <p:spPr>
          <a:xfrm>
            <a:off x="1517760" y="2347920"/>
            <a:ext cx="297792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P1040067.JPG"/>
          <p:cNvPicPr/>
          <p:nvPr/>
        </p:nvPicPr>
        <p:blipFill>
          <a:blip r:embed="rId2"/>
          <a:stretch/>
        </p:blipFill>
        <p:spPr>
          <a:xfrm>
            <a:off x="5281560" y="3495600"/>
            <a:ext cx="3035520" cy="230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71840" y="2349000"/>
            <a:ext cx="52005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педагогов к овладению методами и приёмами ознакомления дошкольников с народно– прикладным искусств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 педагогов систему знаний о современных методах и приёмах ознакомления дошкольников с народно–прикладным искусств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рактические умения для организации работы с детьми по данной тем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марийскому национальному искусств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4" descr="14616_310067_132428526889988_47893353_n.jpg"/>
          <p:cNvPicPr/>
          <p:nvPr/>
        </p:nvPicPr>
        <p:blipFill>
          <a:blip r:embed="rId1"/>
          <a:stretch/>
        </p:blipFill>
        <p:spPr>
          <a:xfrm>
            <a:off x="1979640" y="2500200"/>
            <a:ext cx="3092400" cy="3660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14616_1512290_467399243392913_4100291781763113873_n.jpg"/>
          <p:cNvPicPr/>
          <p:nvPr/>
        </p:nvPicPr>
        <p:blipFill>
          <a:blip r:embed="rId2"/>
          <a:stretch/>
        </p:blipFill>
        <p:spPr>
          <a:xfrm>
            <a:off x="5724360" y="2500200"/>
            <a:ext cx="2919600" cy="361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Изделия народных промысл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“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о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равило: </a:t>
            </a:r>
            <a:br>
              <a:rPr sz="12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Ярко красочным орнаментом марийцы украшали </a:t>
            </a:r>
            <a:br>
              <a:rPr sz="2400"/>
            </a:b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дежду, жилище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2ce526f9ce21491462982fa321dc77fe.jpg.jpg"/>
          <p:cNvPicPr/>
          <p:nvPr/>
        </p:nvPicPr>
        <p:blipFill>
          <a:blip r:embed="rId1"/>
          <a:stretch/>
        </p:blipFill>
        <p:spPr>
          <a:xfrm>
            <a:off x="2195640" y="2997360"/>
            <a:ext cx="2879640" cy="24447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7aefbd763d213f30ff7331a15fb052da.jpg.jpg"/>
          <p:cNvPicPr/>
          <p:nvPr/>
        </p:nvPicPr>
        <p:blipFill>
          <a:blip r:embed="rId2"/>
          <a:stretch/>
        </p:blipFill>
        <p:spPr>
          <a:xfrm>
            <a:off x="5767560" y="2997360"/>
            <a:ext cx="274140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920" y="1213920"/>
            <a:ext cx="7400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Все начинается с семьи, </a:t>
            </a:r>
            <a:br>
              <a:rPr sz="2000"/>
            </a:br>
            <a:r>
              <a:rPr b="0" lang="ru-RU" sz="20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етского с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P1040001.JPG"/>
          <p:cNvPicPr/>
          <p:nvPr/>
        </p:nvPicPr>
        <p:blipFill>
          <a:blip r:embed="rId1"/>
          <a:stretch/>
        </p:blipFill>
        <p:spPr>
          <a:xfrm>
            <a:off x="3132000" y="2444760"/>
            <a:ext cx="446436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11280" y="1785600"/>
            <a:ext cx="237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Все начинается с семьи, </a:t>
            </a:r>
            <a:br>
              <a:rPr sz="1400"/>
            </a:br>
            <a:r>
              <a:rPr b="0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етского с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од в наиболее чистом виде представляют дети. Когда национальное умирает в детях, то это означает начало смерти нации». Г.Н.Вол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P1040005.JPG"/>
          <p:cNvPicPr/>
          <p:nvPr/>
        </p:nvPicPr>
        <p:blipFill>
          <a:blip r:embed="rId1"/>
          <a:stretch/>
        </p:blipFill>
        <p:spPr>
          <a:xfrm>
            <a:off x="5076720" y="2309760"/>
            <a:ext cx="3167280" cy="342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57200" y="5643360"/>
            <a:ext cx="285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b4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99840" y="5643720"/>
            <a:ext cx="5256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куклы в национальном костюме получились 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P1040010.JPG"/>
          <p:cNvPicPr/>
          <p:nvPr/>
        </p:nvPicPr>
        <p:blipFill>
          <a:blip r:embed="rId1"/>
          <a:stretch/>
        </p:blipFill>
        <p:spPr>
          <a:xfrm>
            <a:off x="3301920" y="209700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280" y="2492280"/>
            <a:ext cx="25606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вместные работы родителей и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P1040028.JPG"/>
          <p:cNvPicPr/>
          <p:nvPr/>
        </p:nvPicPr>
        <p:blipFill>
          <a:blip r:embed="rId1"/>
          <a:stretch/>
        </p:blipFill>
        <p:spPr>
          <a:xfrm>
            <a:off x="468360" y="3429000"/>
            <a:ext cx="3403440" cy="28749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P1030984.JPG"/>
          <p:cNvPicPr/>
          <p:nvPr/>
        </p:nvPicPr>
        <p:blipFill>
          <a:blip r:embed="rId2"/>
          <a:stretch/>
        </p:blipFill>
        <p:spPr>
          <a:xfrm>
            <a:off x="4859280" y="2637000"/>
            <a:ext cx="3137040" cy="246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18:26:12Z</dcterms:created>
  <dc:creator>Grey Wolf</dc:creator>
  <dc:description/>
  <dc:language>en-US</dc:language>
  <cp:lastModifiedBy>Первый</cp:lastModifiedBy>
  <cp:lastPrinted>2015-09-28T12:31:50Z</cp:lastPrinted>
  <dcterms:modified xsi:type="dcterms:W3CDTF">2017-09-30T18:40:35Z</dcterms:modified>
  <cp:revision>87</cp:revision>
  <dc:subject/>
  <dc:title>Слайд 1</dc:title>
</cp:coreProperties>
</file>