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DF2-EA66-4313-961D-9DA255A9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EFD-6E09-49FD-88DD-9E22CD9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3FD-9412-41BA-A208-68D7089C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A64-0BC4-49E0-9D67-E2409158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E9A8-0368-4616-AD3A-3620F098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C234-D890-4361-B868-0597152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AC8-2C19-4DBA-BA00-6A03200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E37-FA5C-4427-AD43-6A91F803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03C5-36BA-42E8-AA30-34DCFC7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C5F-2448-4870-947A-0AD5E15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B22A-32AF-48C4-84F4-725AE7A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B96-CB2D-4B08-A593-EC63FF32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7D4-096A-465C-A630-D80C6F4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150-3951-46C7-AC49-ACFDFE5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6AB-952D-4B27-B9AF-904E5CAB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09C2-D1F8-4068-8BA9-E4C06772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7FBB-CC96-491E-9286-BF5241D0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6EDD-64C8-474C-AFCC-9311F006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591B-F392-4F55-AAEE-58CE1139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A8A3-5B39-44AF-8411-7CA1522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3C8F-9867-4EFF-B7C6-94843A3D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8E00-CD4F-4481-80A2-D20E75C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AF7-839D-403F-B487-432F107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EEF8-091A-427D-9DBC-386FD7A7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B06F-C4F1-48A8-94B0-4C47F77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D9CF-0D5F-4040-89ED-E174FD8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7B4B-AA89-4FC3-8403-542C5C1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F0EF-AC63-4FAD-BABB-2668D65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3380-9CAA-44F0-91F6-62BAD965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1FE1-6D35-480D-9847-C0E0D81A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0CEF-EB0F-42C6-8C66-45713EF8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3926-53B6-4E06-83D6-C92AB928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119E-8EFE-442C-87ED-F89AB12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AB0-A93D-4B4D-A877-BCB52E00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FDD3-EE1D-422D-A187-04629729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78B2-3DA6-458E-BE07-A5AE6E8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D75A-4AD5-413B-9322-E7B576B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ED0E-AB49-478C-8761-AB639E0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2663-97FA-4194-9F5D-160C25E9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C39F-2546-4358-B64A-25E4C8A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B4CF1-B228-4897-9862-D7F6D9E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4A60-5B4E-487A-A3F4-B64594F4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14FC-BA9C-4C8C-8722-3CAD73D1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161-AC1A-44AA-B6F2-A38EE085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EF7-7B45-4EAD-8645-81D3BCF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1AD-664A-4EB0-BE86-6542099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87F-4646-4321-9AEF-91F1258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C8F-BF16-4C1A-961A-083A351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7C1A-DAA8-4C1E-A01A-85C8856F1C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221-3FE1-49A6-9044-2D98DFE8F68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B5D-51DE-45DE-BB63-9E4E6AB346E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E6C-1414-4194-BB0C-0A40B27405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7991640" cy="3968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869000"/>
            <a:ext cx="7056360" cy="1536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спитатель МАДОУ  д/с № 125 Калининград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ерсткина Елена Валентиновна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39640" y="896760"/>
            <a:ext cx="7056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ая игра «Назвать геометрические фиг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звание геометрической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кая фигура больше и какого она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810000" y="189000"/>
            <a:ext cx="75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 и нагляд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C:\Documents and Settings\User\Рабочий стол\Головина ИА\фото Космос\DSC05116.JPG"/>
          <p:cNvPicPr/>
          <p:nvPr/>
        </p:nvPicPr>
        <p:blipFill>
          <a:blip r:embed="rId1"/>
          <a:stretch/>
        </p:blipFill>
        <p:spPr>
          <a:xfrm>
            <a:off x="23653800" y="-15797160"/>
            <a:ext cx="3960720" cy="2227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C:\Users\USER\Desktop\д-сад\IMG_4562.JPG"/>
          <p:cNvPicPr/>
          <p:nvPr/>
        </p:nvPicPr>
        <p:blipFill>
          <a:blip r:embed="rId2"/>
          <a:stretch/>
        </p:blipFill>
        <p:spPr>
          <a:xfrm>
            <a:off x="787320" y="3995640"/>
            <a:ext cx="3478320" cy="2394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C:\Users\USER\Desktop\д-сад\IMG_4565.JPG"/>
          <p:cNvPicPr/>
          <p:nvPr/>
        </p:nvPicPr>
        <p:blipFill>
          <a:blip r:embed="rId3"/>
          <a:stretch/>
        </p:blipFill>
        <p:spPr>
          <a:xfrm>
            <a:off x="5076720" y="3933720"/>
            <a:ext cx="3654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16000" y="5428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 и практически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250920" y="162864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Ребята, Кикимора запуталась. Она не знает, когда наступает ночь, когда день. Путается в частях суток. Давайте ей поможем. Но до нее добраться можно только по кочкам через боло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4" descr="C:\Users\USER\Desktop\д-сад\IMG_4551.JPG"/>
          <p:cNvPicPr/>
          <p:nvPr/>
        </p:nvPicPr>
        <p:blipFill>
          <a:blip r:embed="rId1"/>
          <a:stretch/>
        </p:blipFill>
        <p:spPr>
          <a:xfrm>
            <a:off x="2843280" y="3765600"/>
            <a:ext cx="3313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785880" y="620640"/>
            <a:ext cx="66247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лекс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бята, вам понравилось наш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же мы сегодня дел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могали Гномику, ходили в гости к Кикиморе и Лешему. Считали, составляли карт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то было самым интерес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C:\Users\USER\Desktop\д-сад\IMG_4534.JPG"/>
          <p:cNvPicPr/>
          <p:nvPr/>
        </p:nvPicPr>
        <p:blipFill>
          <a:blip r:embed="rId1"/>
          <a:stretch/>
        </p:blipFill>
        <p:spPr>
          <a:xfrm>
            <a:off x="2362320" y="3860640"/>
            <a:ext cx="4081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684360" y="622440"/>
            <a:ext cx="74167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развивать память, логику 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оспитательны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оспитывать усидчивость, внимательность, любовь к математик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вив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память, внимание и  логическое мышление у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зовательны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Закрепить умение сравнивать предметы по выс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мение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мение правильно определять геометрические фигуры и их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пражняться в порядковом с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Закрепить умение находить равные по количеству элементов группы предметов, употреблять выражения: одинаковое количество, столько же, поров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113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оруд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1280" y="1773360"/>
            <a:ext cx="7618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льтимедийное оборудов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гнитофо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ссажные коврики и гимнастический тонн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ртинки с цвет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Геометрические фиг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рзина с грибами для сче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составления картины предмет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539640" y="7812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интересное для этого возраста «Здравствуй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аемся с детьми героями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C:\Users\USER\Desktop\д-сад\IMG_4572.JPG"/>
          <p:cNvPicPr/>
          <p:nvPr/>
        </p:nvPicPr>
        <p:blipFill>
          <a:blip r:embed="rId1"/>
          <a:stretch/>
        </p:blipFill>
        <p:spPr>
          <a:xfrm>
            <a:off x="2771640" y="2900520"/>
            <a:ext cx="3672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2124000" y="404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54040" y="1519200"/>
            <a:ext cx="51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 презентации: «Мамонте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юбовь к приро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C:\Users\USER\Desktop\д.сад ж-птица\IMG_4646.JPG"/>
          <p:cNvPicPr/>
          <p:nvPr/>
        </p:nvPicPr>
        <p:blipFill>
          <a:blip r:embed="rId1"/>
          <a:stretch/>
        </p:blipFill>
        <p:spPr>
          <a:xfrm>
            <a:off x="2627280" y="3463920"/>
            <a:ext cx="3745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539640" y="549360"/>
            <a:ext cx="7561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й и практический мет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Гномику по уходу за цв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м порядке будут расцветать в лесу цветы и какие / назвать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C:\Users\USER\Desktop\д-сад\IMG_4571.JPG"/>
          <p:cNvPicPr/>
          <p:nvPr/>
        </p:nvPicPr>
        <p:blipFill>
          <a:blip r:embed="rId1"/>
          <a:stretch/>
        </p:blipFill>
        <p:spPr>
          <a:xfrm>
            <a:off x="2508120" y="3500280"/>
            <a:ext cx="36244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79280" y="189000"/>
            <a:ext cx="87138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олоте две подружки, две зеленые ляг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рано умывались, полотенцем растир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жками топали, ручками хлоп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раво, влево наклон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выпрям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здоровья в чем секр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друзьям физкульт! при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6" descr="C:\Users\USER\Desktop\д-сад\IMG_4567.JPG"/>
          <p:cNvPicPr/>
          <p:nvPr/>
        </p:nvPicPr>
        <p:blipFill>
          <a:blip r:embed="rId1"/>
          <a:stretch/>
        </p:blipFill>
        <p:spPr>
          <a:xfrm>
            <a:off x="1476360" y="3745080"/>
            <a:ext cx="3311640" cy="26366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C:\Users\USER\Desktop\д-сад\IMG_4568.JPG"/>
          <p:cNvPicPr/>
          <p:nvPr/>
        </p:nvPicPr>
        <p:blipFill>
          <a:blip r:embed="rId2"/>
          <a:stretch/>
        </p:blipFill>
        <p:spPr>
          <a:xfrm>
            <a:off x="4819680" y="3733920"/>
            <a:ext cx="3564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900000" y="549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и словес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468360" y="1133640"/>
            <a:ext cx="865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такое лес, ребята? Что растет в л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первой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второй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третьей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последней 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ожно сказать об этой ел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USER\Desktop\д-сад\IMG_4537.JPG"/>
          <p:cNvPicPr/>
          <p:nvPr/>
        </p:nvPicPr>
        <p:blipFill>
          <a:blip r:embed="rId1"/>
          <a:stretch/>
        </p:blipFill>
        <p:spPr>
          <a:xfrm>
            <a:off x="1023840" y="3789360"/>
            <a:ext cx="3295800" cy="25988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C:\Users\USER\Desktop\д-сад\IMG_4536.JPG"/>
          <p:cNvPicPr/>
          <p:nvPr/>
        </p:nvPicPr>
        <p:blipFill>
          <a:blip r:embed="rId2"/>
          <a:stretch/>
        </p:blipFill>
        <p:spPr>
          <a:xfrm>
            <a:off x="4319640" y="3789360"/>
            <a:ext cx="3494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468360" y="1052640"/>
            <a:ext cx="7343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дактическая игра «Лиф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закреплять прямой и обратный счет до 7, закрепление основных цветов радуги,   закреплять понятия «вверх», «вниз», запоминать порядковые числительные (первый, второй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ку  предлагается  помочь жителям   поднять или опустить их на лифте,  на нужный этаж, считать этажи, узнать,  сколько живет жильцов на этаж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3" descr="C:\Users\USER\Desktop\д-сад\IMG_4542.JPG"/>
          <p:cNvPicPr/>
          <p:nvPr/>
        </p:nvPicPr>
        <p:blipFill>
          <a:blip r:embed="rId1"/>
          <a:stretch/>
        </p:blipFill>
        <p:spPr>
          <a:xfrm>
            <a:off x="5651640" y="3789360"/>
            <a:ext cx="2455560" cy="2871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C:\Users\USER\Desktop\д-сад\IMG_4548.JPG"/>
          <p:cNvPicPr/>
          <p:nvPr/>
        </p:nvPicPr>
        <p:blipFill>
          <a:blip r:embed="rId2"/>
          <a:stretch/>
        </p:blipFill>
        <p:spPr>
          <a:xfrm>
            <a:off x="971640" y="3995640"/>
            <a:ext cx="3456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20:26Z</dcterms:created>
  <dc:creator>Татьяна</dc:creator>
  <dc:description/>
  <dc:language>en-US</dc:language>
  <cp:lastModifiedBy>USER</cp:lastModifiedBy>
  <dcterms:modified xsi:type="dcterms:W3CDTF">2017-09-30T10:39:48Z</dcterms:modified>
  <cp:revision>78</cp:revision>
  <dc:subject/>
  <dc:title>Презентация по развитию речи в средней группе. Тема: «У солнышка в гостях»</dc:title>
</cp:coreProperties>
</file>