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5A7B-C685-4C01-9CA0-16C42627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C89B-980B-45C3-945C-F71A06B8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2BD-A4FA-407B-A763-54BCEEAF3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41D-1515-454B-850C-6DAFCAF3C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B0B4-B0E8-4016-814B-8CBB9006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F405-4FF1-4532-B53C-BC0E8CA0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4FE22-D8B4-401B-A0A6-B1B37AD5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72818-9478-44CB-A295-9B658A34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6DD7-DE00-4304-B498-5B7F62F9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CA67-37B8-4B6A-9718-09BD6320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0646-D85F-404F-A25E-A094D0FC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EA03-BBB2-4A99-8478-6D9FEEB1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20F9-B4C1-4459-94B0-06E974FC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4F1B-4639-4198-A8BF-76B58A50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62C0-C547-48E2-84D4-45387F62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70FB-C315-406B-913C-1EC572A9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C29B-0070-49A4-AB16-14996D366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55193-FF87-4CE1-A169-9C0E1019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D81B1-74A8-49A3-89BE-A33DC337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F6ACD-4146-4334-BAE2-517540C0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4E36E-030F-42E5-A341-1641A9E3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D829B-1809-4D67-8E09-B1DED83B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8D0B-2843-483D-BBAC-1330F62F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C8A32-75B8-4021-AD1F-E0C13E8B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F5502-D0C6-40A5-B254-6C713100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B5ED8-E68C-4968-9843-DFBE1B41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383C5-A7FB-49EE-AE17-40910B94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A9B93-711B-424E-A53F-39F2BDB0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DF930-FE0F-4B8B-8E71-22302531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915B6-F717-4D03-8690-EF8EA226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88F03-2AFC-468A-9F4D-AA86EE3A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35B48-222C-4B04-A4E3-D6954E05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72531-3946-483F-A757-95471059D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EFAA-FBFC-46F1-8DF1-BE6D0E83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E38DD-AE96-46BD-8D8F-9DE49BE0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F4FBA-91BF-47CC-B656-DB4E6EC6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A97F5-9AFC-4316-A456-0060DA34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28F38-7FE4-456B-A29D-D52B2CFD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A2441-9C04-46E6-B9DC-AA6B9AED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7494F-C5F1-40AB-93CC-FBDED2C8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D62E7-B837-434C-8EC2-D11BDD58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63EC4-CC59-460C-AE66-6592ED93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2DAA2-4DD4-4981-9866-A6DBC5F93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B2C4-D12A-4579-AEA9-0D4C3751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82CE-EA99-4B13-8157-880E173F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98A3-BD9E-4F11-8235-9050BC0B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335-3F70-4501-B496-7F7A1B84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CFE-6F6F-4388-A91D-DC9DF922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82B8-BFB8-43E2-AF9E-1B6852C5161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E5C2-9763-4D2B-9715-5C0C6E038AA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39DF-D39C-4E58-A9F5-2B9E2CAF34D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0A11-E55E-4CAB-B3A3-66D7A8B71AF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469800" y="401760"/>
            <a:ext cx="7991640" cy="39686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10920" y="4869000"/>
            <a:ext cx="7056360" cy="1536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оспитатель МАДОУ  д/с № 125 Калининград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ерсткина Елена Валентиновна 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539640" y="896760"/>
            <a:ext cx="705672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дактическая игра «Назвать геометрические фигу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азвание геометрической фиг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какая фигура больше и какого она ц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"/>
          <p:cNvSpPr/>
          <p:nvPr/>
        </p:nvSpPr>
        <p:spPr>
          <a:xfrm>
            <a:off x="810000" y="189000"/>
            <a:ext cx="754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весный и наглядный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C:\Documents and Settings\User\Рабочий стол\Головина ИА\фото Космос\DSC05116.JPG"/>
          <p:cNvPicPr/>
          <p:nvPr/>
        </p:nvPicPr>
        <p:blipFill>
          <a:blip r:embed="rId1"/>
          <a:stretch/>
        </p:blipFill>
        <p:spPr>
          <a:xfrm>
            <a:off x="23653800" y="-15797160"/>
            <a:ext cx="3960720" cy="22273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5" descr="C:\Users\USER\Desktop\д-сад\IMG_4562.JPG"/>
          <p:cNvPicPr/>
          <p:nvPr/>
        </p:nvPicPr>
        <p:blipFill>
          <a:blip r:embed="rId2"/>
          <a:stretch/>
        </p:blipFill>
        <p:spPr>
          <a:xfrm>
            <a:off x="787320" y="3995640"/>
            <a:ext cx="3478320" cy="23940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6" descr="C:\Users\USER\Desktop\д-сад\IMG_4565.JPG"/>
          <p:cNvPicPr/>
          <p:nvPr/>
        </p:nvPicPr>
        <p:blipFill>
          <a:blip r:embed="rId3"/>
          <a:stretch/>
        </p:blipFill>
        <p:spPr>
          <a:xfrm>
            <a:off x="5076720" y="3933720"/>
            <a:ext cx="365436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216000" y="54288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весный и практический мет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"/>
          <p:cNvSpPr/>
          <p:nvPr/>
        </p:nvSpPr>
        <p:spPr>
          <a:xfrm>
            <a:off x="250920" y="1628640"/>
            <a:ext cx="8642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- Ребята, Кикимора запуталась. Она не знает, когда наступает ночь, когда день. Путается в частях суток. Давайте ей поможем. Но до нее добраться можно только по кочкам через боло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4" descr="C:\Users\USER\Desktop\д-сад\IMG_4551.JPG"/>
          <p:cNvPicPr/>
          <p:nvPr/>
        </p:nvPicPr>
        <p:blipFill>
          <a:blip r:embed="rId1"/>
          <a:stretch/>
        </p:blipFill>
        <p:spPr>
          <a:xfrm>
            <a:off x="2843280" y="3765600"/>
            <a:ext cx="331308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785880" y="620640"/>
            <a:ext cx="662472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флекс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ебята, вам понравилось наше путешестви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же мы сегодня делал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омогали Гномику, ходили в гости к Кикиморе и Лешему. Считали, составляли карт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то было самым интересны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3" descr="C:\Users\USER\Desktop\д-сад\IMG_4534.JPG"/>
          <p:cNvPicPr/>
          <p:nvPr/>
        </p:nvPicPr>
        <p:blipFill>
          <a:blip r:embed="rId1"/>
          <a:stretch/>
        </p:blipFill>
        <p:spPr>
          <a:xfrm>
            <a:off x="2362320" y="3860640"/>
            <a:ext cx="40813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1"/>
          <p:cNvSpPr/>
          <p:nvPr/>
        </p:nvSpPr>
        <p:spPr>
          <a:xfrm>
            <a:off x="684360" y="622440"/>
            <a:ext cx="741672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ь: развивать память, логику , вним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Воспитательные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оспитывать усидчивость, внимательность, любовь к математике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Развивающие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звивать память, внимание и  логическое мышление у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Образовательные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Закрепить умение сравнивать предметы по выс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Умение ориентироваться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Умение правильно определять геометрические фигуры и их цв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Упражняться в порядковом сч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. Закрепить умение находить равные по количеству элементов группы предметов, употреблять выражения: одинаковое количество, столько же, поров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113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Calibri"/>
              </a:rPr>
              <a:t>Оборудовани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11280" y="1773360"/>
            <a:ext cx="76183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15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ультимедийное оборудова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агнитофон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ассажные коврики и гимнастический тоннел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Картинки с цветам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15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  <a:ea typeface="Calibri"/>
              </a:rPr>
              <a:t>Геометрические фигур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рзина с грибами для сче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ля составления картины предмет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2"/>
          <p:cNvSpPr/>
          <p:nvPr/>
        </p:nvSpPr>
        <p:spPr>
          <a:xfrm>
            <a:off x="539640" y="781200"/>
            <a:ext cx="835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ое интересное для этого возраста «Здравствуйт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дороваемся с детьми героями сказ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5" descr="C:\Users\USER\Desktop\д-сад\IMG_4572.JPG"/>
          <p:cNvPicPr/>
          <p:nvPr/>
        </p:nvPicPr>
        <p:blipFill>
          <a:blip r:embed="rId1"/>
          <a:stretch/>
        </p:blipFill>
        <p:spPr>
          <a:xfrm>
            <a:off x="2771640" y="2900520"/>
            <a:ext cx="367200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2"/>
          <p:cNvSpPr/>
          <p:nvPr/>
        </p:nvSpPr>
        <p:spPr>
          <a:xfrm>
            <a:off x="2124000" y="404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И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554040" y="1519200"/>
            <a:ext cx="51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з презентации: «Мамонтен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Любовь к приро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Рисунок 4" descr="C:\Users\USER\Desktop\д.сад ж-птица\IMG_4646.JPG"/>
          <p:cNvPicPr/>
          <p:nvPr/>
        </p:nvPicPr>
        <p:blipFill>
          <a:blip r:embed="rId1"/>
          <a:stretch/>
        </p:blipFill>
        <p:spPr>
          <a:xfrm>
            <a:off x="2627280" y="3463920"/>
            <a:ext cx="374508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1"/>
          <p:cNvSpPr/>
          <p:nvPr/>
        </p:nvSpPr>
        <p:spPr>
          <a:xfrm>
            <a:off x="539640" y="549360"/>
            <a:ext cx="756144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есный и практический мет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щь Гномику по уходу за цве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ком порядке будут расцветать в лесу цветы и какие / назвать 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3" descr="C:\Users\USER\Desktop\д-сад\IMG_4571.JPG"/>
          <p:cNvPicPr/>
          <p:nvPr/>
        </p:nvPicPr>
        <p:blipFill>
          <a:blip r:embed="rId1"/>
          <a:stretch/>
        </p:blipFill>
        <p:spPr>
          <a:xfrm>
            <a:off x="2508120" y="3500280"/>
            <a:ext cx="36244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179280" y="189000"/>
            <a:ext cx="8713800" cy="62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болоте две подружки, две зеленые лягу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ром рано умывались, полотенцем растира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жками топали, ручками хлоп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раво, влево наклоня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потом выпрямля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т здоровья в чем секр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м друзьям физкульт! прив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6" descr="C:\Users\USER\Desktop\д-сад\IMG_4567.JPG"/>
          <p:cNvPicPr/>
          <p:nvPr/>
        </p:nvPicPr>
        <p:blipFill>
          <a:blip r:embed="rId1"/>
          <a:stretch/>
        </p:blipFill>
        <p:spPr>
          <a:xfrm>
            <a:off x="1476360" y="3745080"/>
            <a:ext cx="3311640" cy="263664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7" descr="C:\Users\USER\Desktop\д-сад\IMG_4568.JPG"/>
          <p:cNvPicPr/>
          <p:nvPr/>
        </p:nvPicPr>
        <p:blipFill>
          <a:blip r:embed="rId2"/>
          <a:stretch/>
        </p:blipFill>
        <p:spPr>
          <a:xfrm>
            <a:off x="4819680" y="3733920"/>
            <a:ext cx="356400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>
            <a:off x="900000" y="54936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глядный и словесный мет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"/>
          <p:cNvSpPr/>
          <p:nvPr/>
        </p:nvSpPr>
        <p:spPr>
          <a:xfrm>
            <a:off x="468360" y="1133640"/>
            <a:ext cx="8653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же такое лес, ребята? Что растет в лес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елку Гномик посадил первой? Почем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елку Гномик посадил второй?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елку Гномик посадил третьей? Почем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ую елку Гномик посадил последней ? Почем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можно сказать об этой елк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C:\Users\USER\Desktop\д-сад\IMG_4537.JPG"/>
          <p:cNvPicPr/>
          <p:nvPr/>
        </p:nvPicPr>
        <p:blipFill>
          <a:blip r:embed="rId1"/>
          <a:stretch/>
        </p:blipFill>
        <p:spPr>
          <a:xfrm>
            <a:off x="1023840" y="3789360"/>
            <a:ext cx="3295800" cy="259884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5" descr="C:\Users\USER\Desktop\д-сад\IMG_4536.JPG"/>
          <p:cNvPicPr/>
          <p:nvPr/>
        </p:nvPicPr>
        <p:blipFill>
          <a:blip r:embed="rId2"/>
          <a:stretch/>
        </p:blipFill>
        <p:spPr>
          <a:xfrm>
            <a:off x="4319640" y="3789360"/>
            <a:ext cx="349416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Box 1"/>
          <p:cNvSpPr/>
          <p:nvPr/>
        </p:nvSpPr>
        <p:spPr>
          <a:xfrm>
            <a:off x="468360" y="1052640"/>
            <a:ext cx="734364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идактическая игра «Лиф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 закреплять прямой и обратный счет до 7, закрепление основных цветов радуги,   закреплять понятия «вверх», «вниз», запоминать порядковые числительные (первый, второй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енку  предлагается  помочь жителям   поднять или опустить их на лифте,  на нужный этаж, считать этажи, узнать,  сколько живет жильцов на этаж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Рисунок 3" descr="C:\Users\USER\Desktop\д-сад\IMG_4542.JPG"/>
          <p:cNvPicPr/>
          <p:nvPr/>
        </p:nvPicPr>
        <p:blipFill>
          <a:blip r:embed="rId1"/>
          <a:stretch/>
        </p:blipFill>
        <p:spPr>
          <a:xfrm>
            <a:off x="5651640" y="3789360"/>
            <a:ext cx="2455560" cy="287172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C:\Users\USER\Desktop\д-сад\IMG_4548.JPG"/>
          <p:cNvPicPr/>
          <p:nvPr/>
        </p:nvPicPr>
        <p:blipFill>
          <a:blip r:embed="rId2"/>
          <a:stretch/>
        </p:blipFill>
        <p:spPr>
          <a:xfrm>
            <a:off x="971640" y="3995640"/>
            <a:ext cx="345600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1:20:26Z</dcterms:created>
  <dc:creator>Татьяна</dc:creator>
  <dc:description/>
  <dc:language>en-US</dc:language>
  <cp:lastModifiedBy>USER</cp:lastModifiedBy>
  <dcterms:modified xsi:type="dcterms:W3CDTF">2017-09-30T10:39:48Z</dcterms:modified>
  <cp:revision>78</cp:revision>
  <dc:subject/>
  <dc:title>Презентация по развитию речи в средней группе. Тема: «У солнышка в гостях»</dc:title>
</cp:coreProperties>
</file>