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1EB5-A6B4-4A22-A2FB-694C627D2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0FCD-D570-40C7-91A7-B4AE756C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1FBB-D9DC-46DC-ACF5-E5F2405C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97DD-A5D7-4329-B157-4B69089E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AC4D-FBEA-4466-93A6-E368EFFC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9030-47BB-4F62-A05D-D5793119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CB83-40B4-41AE-9920-62A65AB1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533A-F196-4107-BE59-8C76DCEE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5B61-8EEF-49D0-9852-B9F2F3BF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0B8B-A306-4538-BA3E-B47C883B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47F0-853F-425E-8DFB-D42B3A6B4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A35D-76DE-4A38-AD78-D267E561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1FFC-26E2-4C4D-8D77-97D3B04FC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E993-F9A9-40DB-B3FC-F06FE057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2B84-CC5D-4AD3-8804-C1296917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D88E-CD76-4C06-A42D-E9B9912E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5760-367E-45CE-9D79-C199C56B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75BA-91A4-4925-A53E-71F4EC14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5D9A-F27D-4E7E-9356-B9D19469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017F-870B-47A2-8ABE-F14C3626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0018-DF20-4833-96D9-D438C153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94E9C-D3B4-4D38-8D08-2A0AD8AF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4269-D608-45ED-A36A-19AEB5C24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FF2B-A656-4487-B337-7675496BE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4ECF2-FDCE-4508-B309-F5863AE09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22881-1941-4E2D-8BA7-7E14CFF3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E5DC4-62A5-4CC1-9FB4-7BCF9B63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E5E1D-4210-4EA1-87DB-6D51780B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B576A-82C8-4E61-8A03-E290BF87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F4D1A-DCEE-46A5-A1E8-7B8E01A1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2F931-74F8-4B09-88ED-22F9D095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88B7E-3C5D-4039-A2E0-876EEBF2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B4893-BFDA-4E5B-8931-018916D7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4C00A-847E-4C1C-87CC-0023028B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3DB18-C1E4-44C6-A806-3793E4E81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727C3-E408-4E9B-80E5-62BD68161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81497-D694-43CF-98E5-2DB1D0EA1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3F85D-E747-41EB-AF82-A5AEF33B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C80DC-C891-4E19-BAAF-A4C934A2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51ABB-13FF-4391-B4CB-6A330BD4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5CF2A-ADEB-419C-BCEA-BC2EA5C2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5E7B9-FB07-4AF3-BB96-B26C4897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AB900-D089-46EC-9FA5-D0697519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92B18-B457-474D-9CBB-6265859E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5D091-89A9-408F-89FF-1EA957FC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F812B-E9C0-4C9B-8471-0FF3B6A4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E8074-449C-4551-BDCB-465EFC116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9B8A3-4EC6-4090-B65A-90C4D7232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54AB0-7B7C-4766-A629-A04CB2139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6B844-A175-4A03-89AC-6F3BB45E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730A4-B57E-48F3-8736-12777B2A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790C4-E0CE-4096-B769-F3A63430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78D0D-4CB6-41C5-96AD-9B5655CC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0F90E-94C8-494A-A2B5-B881A621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1EF50-F001-4D4B-8311-AEDB4258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C796C-5D44-4D66-92E4-50864CD4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EB391-485E-4CA1-BD27-165C22DA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E439D-85C4-4570-A14F-73280BB1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E3B4A-8E8A-40FE-A08D-F626E966A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6B24C-9E0E-4A10-B14A-9BC8BC5A0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4D1D3-D7EE-4B15-8C4C-A3041ECDE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E19B6-E4C8-4FF2-8214-A0165CF9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9594B-7A1E-483F-84D3-D18CF004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CD249-50A4-44BA-AF2B-79D8F5BA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581FA-8C48-44DC-9C89-EA959A36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70983-ED0C-4C91-9509-09108782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308A1-8A90-4423-9737-EA9125E9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A24C3-53C0-4A8B-AAFA-40590AE5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16D8B-C26F-4DB0-BF5B-FF569F41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42643-5703-42F4-9B29-EFD49B86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3FE7E-4D29-4298-8E57-536AF02B9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04118-7699-404F-AB45-0372A885E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Рисунок 3" descr="white rectangle.png"/>
          <p:cNvPicPr/>
          <p:nvPr/>
        </p:nvPicPr>
        <p:blipFill>
          <a:blip r:embed="rId2"/>
          <a:srcRect l="0" t="0" r="0" b="10454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22160" y="1905120"/>
            <a:ext cx="804096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1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2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3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4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5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6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3" descr="white rectangle.png"/>
          <p:cNvPicPr/>
          <p:nvPr/>
        </p:nvPicPr>
        <p:blipFill>
          <a:blip r:embed="rId2"/>
          <a:srcRect l="0" t="0" r="0" b="10454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22160" y="1905120"/>
            <a:ext cx="804096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1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2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3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4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5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6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6E66-B81A-4E8F-82F7-54C3D007DE9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3" descr="white rectangle.png"/>
          <p:cNvPicPr/>
          <p:nvPr/>
        </p:nvPicPr>
        <p:blipFill>
          <a:blip r:embed="rId2"/>
          <a:srcRect l="0" t="0" r="0" b="10454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22160" y="1905120"/>
            <a:ext cx="804096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1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2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3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4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5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6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B65D-FB78-4454-9768-78E9177ACF6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3" descr="white rectangle.png"/>
          <p:cNvPicPr/>
          <p:nvPr/>
        </p:nvPicPr>
        <p:blipFill>
          <a:blip r:embed="rId2"/>
          <a:srcRect l="0" t="0" r="0" b="10454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22160" y="1905120"/>
            <a:ext cx="804096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1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2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3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4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5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6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907B-3C5F-4EBC-A13F-BC073BB93DA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Рисунок 3" descr="white rectangle.png"/>
          <p:cNvPicPr/>
          <p:nvPr/>
        </p:nvPicPr>
        <p:blipFill>
          <a:blip r:embed="rId2"/>
          <a:srcRect l="0" t="0" r="0" b="10454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22160" y="1905120"/>
            <a:ext cx="804096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1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2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3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4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5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6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330F-4B79-4C36-ADC8-5854D911AF9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Рисунок 3" descr="white rectangle.png"/>
          <p:cNvPicPr/>
          <p:nvPr/>
        </p:nvPicPr>
        <p:blipFill>
          <a:blip r:embed="rId2"/>
          <a:srcRect l="0" t="0" r="0" b="10454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22160" y="1905120"/>
            <a:ext cx="804096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1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2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3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4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5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6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623C-9DD6-4948-8D90-C6DD7E2CB5C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Рисунок 3" descr="white rectangle.png"/>
          <p:cNvPicPr/>
          <p:nvPr/>
        </p:nvPicPr>
        <p:blipFill>
          <a:blip r:embed="rId2"/>
          <a:srcRect l="0" t="0" r="0" b="10454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22160" y="1905120"/>
            <a:ext cx="804096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1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2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3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4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5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6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6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7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18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7034-D339-4A88-B3DD-B951C40BBFA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00000" y="1557360"/>
            <a:ext cx="7685280" cy="27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4800" spc="-1" strike="noStrike">
                <a:solidFill>
                  <a:srgbClr val="cc00cc"/>
                </a:solidFill>
                <a:latin typeface="Georgia"/>
              </a:rPr>
              <a:t>Развитие элементарных математических представлений у дошкольников в игровой форм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3924360" y="5084640"/>
            <a:ext cx="5005440" cy="17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Разработа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Наседкина Ирина Сергее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воспитатель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МБДОУ «Детский сад «Теремок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г. УваровоТамбовск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2017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4214880" y="4320"/>
            <a:ext cx="471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«Игра - это искра, зажигающая огонёк пытливости и любознательно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В. А. Сухомлински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5" descr=""/>
          <p:cNvPicPr/>
          <p:nvPr/>
        </p:nvPicPr>
        <p:blipFill>
          <a:blip r:embed="rId1"/>
          <a:stretch/>
        </p:blipFill>
        <p:spPr>
          <a:xfrm>
            <a:off x="11160" y="4724280"/>
            <a:ext cx="3002040" cy="213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6849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6600" spc="-1" strike="noStrike">
                <a:solidFill>
                  <a:srgbClr val="ffffff"/>
                </a:solidFill>
                <a:latin typeface="Georgia"/>
              </a:rPr>
              <a:t>Тип проек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785080" cy="54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80000"/>
              </a:lnSpc>
              <a:buClr>
                <a:srgbClr val="ffffcc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Calibri"/>
              </a:rPr>
              <a:t>По количеству участников: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группов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buClr>
                <a:srgbClr val="ffffcc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Calibri"/>
              </a:rPr>
              <a:t>По направленности: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редметный (математическое развити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buClr>
                <a:srgbClr val="ffffcc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Calibri"/>
              </a:rPr>
              <a:t>По приоритету метода: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творческий (создание комплекса упражнений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buClr>
                <a:srgbClr val="ffffcc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Calibri"/>
              </a:rPr>
              <a:t>По характеру контактов: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дной возрастной группы(6-7 лет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buClr>
                <a:srgbClr val="ffffcc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Calibri"/>
              </a:rPr>
              <a:t>По продолжительности: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долгосрочный (сентябрь-май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Calibri"/>
              </a:rPr>
              <a:t>   </a:t>
            </a:r>
            <a:r>
              <a:rPr b="1" i="1" lang="ru-RU" sz="3200" spc="-1" strike="noStrike">
                <a:solidFill>
                  <a:srgbClr val="ffffcc"/>
                </a:solidFill>
                <a:latin typeface="Calibri"/>
              </a:rPr>
              <a:t>База исследования: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Муниципальное Бюджетное  Дошкольное Образовательное Учреждение «Детский сад «Теремок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236160" y="2095560"/>
            <a:ext cx="838188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спользование дидактических игр в развитии элементарных математических представлений у дошкольников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Rectangle 2"/>
          <p:cNvSpPr/>
          <p:nvPr/>
        </p:nvSpPr>
        <p:spPr>
          <a:xfrm>
            <a:off x="971640" y="260280"/>
            <a:ext cx="7684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6600" spc="-1" strike="noStrike">
                <a:solidFill>
                  <a:srgbClr val="ffffff"/>
                </a:solidFill>
                <a:latin typeface="Georgia"/>
                <a:ea typeface="Arial"/>
              </a:rPr>
              <a:t>Цель проект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WordArt 4"/>
          <p:cNvSpPr txBox="1"/>
          <p:nvPr/>
        </p:nvSpPr>
        <p:spPr>
          <a:xfrm>
            <a:off x="684360" y="549360"/>
            <a:ext cx="8280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42960" y="1989000"/>
            <a:ext cx="817704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Georgia"/>
              </a:rPr>
              <a:t>1 этап: подготовительный (сентябрь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зучение литературы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Calibri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иагностика начального уровн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Calibri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зработка путей решения проекта с деть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Calibri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одготовка материально-технической базы прое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Picture 23" descr=""/>
          <p:cNvPicPr/>
          <p:nvPr/>
        </p:nvPicPr>
        <p:blipFill>
          <a:blip r:embed="rId1"/>
          <a:stretch/>
        </p:blipFill>
        <p:spPr>
          <a:xfrm>
            <a:off x="6997680" y="5121360"/>
            <a:ext cx="1957320" cy="151740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2"/>
          <p:cNvSpPr/>
          <p:nvPr/>
        </p:nvSpPr>
        <p:spPr>
          <a:xfrm>
            <a:off x="457200" y="244440"/>
            <a:ext cx="83851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609480" y="396720"/>
            <a:ext cx="83851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  <a:ea typeface="Arial"/>
              </a:rPr>
              <a:t>Этапы и сроки проведения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178920" y="1904760"/>
            <a:ext cx="8666280" cy="39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39672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Georgia"/>
              </a:rPr>
              <a:t>2 этап: основной (октябрь-апрель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комство с разнообразием дидактических игр по развитию элементарных математических представл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знакомление детей с содержанием игры, с дидактическим материалом, который будет использован в игр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анизация и руководство игро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светительская работа с родителями и педколлективо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ние математического угол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формление выпуска математической газет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дение промежуточной диагностик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ка презентации проек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Этапы и сроки проведения проект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0880" y="1628280"/>
            <a:ext cx="8382240" cy="49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396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Georgia"/>
              </a:rPr>
              <a:t>3 этап: заключительный (май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ализ и оценка полученных результат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общение опыта работ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лючительная диагностика дет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тематическая обработка данны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дение презент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екта на м/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Этапы и сроки проведения проект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Picture 5" descr=""/>
          <p:cNvPicPr/>
          <p:nvPr/>
        </p:nvPicPr>
        <p:blipFill>
          <a:blip r:embed="rId1"/>
          <a:stretch/>
        </p:blipFill>
        <p:spPr>
          <a:xfrm>
            <a:off x="5735520" y="4352760"/>
            <a:ext cx="3195720" cy="476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179280" y="1285920"/>
            <a:ext cx="8785440" cy="41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396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ование дидактических игр на занятиях благотворно влияет на усвоение элементарных математических представлений у дошкольников и способствует повышению уровня математического развития де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гулярное использование на занятиях по математике дидактических игр, расширяет математический кругозор дошкольников, способствует математическому развитию, повышает качество математической подготовленности к школе, позволяет детям более уверенно ориентироваться в простейших закономерностях окружающей их действительности и активнее использовать математические знания в повседневной жиз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новление и качественное улучшение системы математического развития дошкольников позволяет педагогам искать наиболее интересные формы работы, что способствует развитию элементарных математических представлени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дактические игры дают большой заряд положительных эмоций, помогают детям закрепить и расширить знания по математик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WordArt 4"/>
          <p:cNvSpPr txBox="1"/>
          <p:nvPr/>
        </p:nvSpPr>
        <p:spPr>
          <a:xfrm>
            <a:off x="1692360" y="333360"/>
            <a:ext cx="55436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49" name="Rectangle 2"/>
          <p:cNvSpPr/>
          <p:nvPr/>
        </p:nvSpPr>
        <p:spPr>
          <a:xfrm>
            <a:off x="971640" y="260280"/>
            <a:ext cx="7684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6600" spc="-1" strike="noStrike">
                <a:solidFill>
                  <a:srgbClr val="ffffff"/>
                </a:solidFill>
                <a:latin typeface="Georgia"/>
                <a:ea typeface="Arial"/>
              </a:rPr>
              <a:t>Вывод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08:05:10Z</dcterms:created>
  <dc:creator>Admin</dc:creator>
  <dc:description/>
  <dc:language>en-US</dc:language>
  <cp:lastModifiedBy>ирина</cp:lastModifiedBy>
  <dcterms:modified xsi:type="dcterms:W3CDTF">2017-09-30T17:22:22Z</dcterms:modified>
  <cp:revision>124</cp:revision>
  <dc:subject/>
  <dc:title>Слайд 1</dc:title>
</cp:coreProperties>
</file>