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F09-2376-416D-A180-07C16747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810-B3A2-4E32-8FE1-2202263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E2E-4685-4EF3-A694-EBE4865A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8A2-E5C1-4113-A282-29D4BCB9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16D4-C645-490A-AD31-FB8910A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60B-449D-4BD3-B61A-52B9830C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645-133C-4687-A32D-20C39719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19C9-234C-4E7C-8F0F-696CCE44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FD6F-2D9B-41DC-A270-AA210209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0870-31D8-4F2E-AE7D-A1E8B28EC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784-EBE5-4A79-86D1-DC6B6A71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BE43-97BD-419D-8394-C67E57CF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8A1B-1E4A-4CA9-8F01-F44D1BEC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D00C-F3E6-4C59-90C2-32162D54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6C8-04FA-4E9B-B933-86B483F4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D72D-121A-4ECD-BBFD-29C4370C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BF99-4432-4D05-BBA8-9ABE76258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4EA6-A021-4745-911A-617B73CE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4E5C5-8198-41E4-86E3-B03E24F0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3056-A704-4ED9-B6CC-4A163955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F828-C111-4BB8-882D-60D9CB21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70D6-D1BA-4E0E-9220-0AEDAD73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9E18-CF80-4333-A25A-CF6E2E6FD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D8F6-CE23-41F6-8F62-B12DA0215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33DDF-D4F1-4661-9CB6-80D5D696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77BA-3BBA-434B-8D1C-354835E8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01B4-3B78-48E2-BD10-5D1B5D5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2C8E-3E4D-4583-8399-312061B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54982-21D4-4C5E-B628-C837C3CB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D3CB-1D1A-4C4D-8C0D-2FBE247D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BA93-42BF-4B8E-826F-8860EA15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BD26A-CA52-4A24-A688-A86A694A5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76F5-6C7D-48E3-8A25-3B3F404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1CB3D-1F56-4670-A618-F3282F2D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77830-F571-4135-B436-062CC838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82B94-3149-4070-AB78-ADC697020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FC251-3AFE-4128-9850-04899591A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8BC93-6646-4251-922A-FD7E5438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DB3F0-A3A3-4C8A-BA4E-C5032C5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D28AE-F2C4-43F8-98D3-068F0B6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0CAB-E2D3-4B11-93D2-CA524EBA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6954-921E-4E9F-999E-674A8DD7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464D0-568A-4229-BDC3-7B873A37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9DC6-6768-45F8-A132-2C89E67C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DAB0D-F72B-4951-833E-DCCE948F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2D311-F232-45A7-89F1-F354A0F8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DB90B-0895-452D-8FC0-00267AF2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C2B0B-52B2-4071-A6C5-F34D1AA8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AB899-79DA-4571-8146-3F8A834A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A76D-F031-41AC-A562-1CADC4B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1DDB8-811D-47F1-9F92-CA0958299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EA3B0-779C-4BEE-9DB6-334CED35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5E2FC-EE78-400E-A886-C7A753AA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CF49C-1DF2-492D-8BD0-0A6F3EE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5C3AA-C1E2-4F02-BB10-32C33112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2D0A3-58CE-4E52-9C3E-DA20D9EF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04EB0-6FFC-4D9D-B2D5-0198B90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5E3A5-384A-498E-8C5D-D2DD8E706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9E770-BEB3-4BD4-B8D5-FE62E5EF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92B1F-5799-4992-B3EE-A43A24A3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6B667-4BB1-4661-977A-2AB76BD0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186E8-643C-49D0-A856-65403DFA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C0D36-8ED9-4441-9A93-10A32E3F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CCCE-4A2B-4261-90DD-C6A33E0E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2BEC4-21FE-4666-A650-AC63F0F5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D4D36-F87A-4096-9F1E-5C287E612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0AC95-C551-4840-A4CD-3E27E75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165C9-57A6-4622-B1F5-FA729290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81206-FAED-4E9F-A001-79154615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703C0-6CAF-4B1F-A724-1B70A07A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8C71-F183-48F5-A3A1-78580F9F6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4FAEC-481A-4C4C-9FCA-923DD09E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FC89-AC27-4DA9-B525-A96281BD971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D8A0-F03B-4203-B93D-D7E5CD68CA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249B-1DDF-4030-87F2-FC10EA1FFED0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26CD-C7B8-4C98-AFB3-B1597EB4039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5501-D677-4560-B006-EA74E13622C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Рисунок 3" descr="white rectangle.png"/>
          <p:cNvPicPr/>
          <p:nvPr/>
        </p:nvPicPr>
        <p:blipFill>
          <a:blip r:embed="rId2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AAD5-B6ED-4929-A148-71DE60A788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85280" cy="27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4800" spc="-1" strike="noStrike">
                <a:solidFill>
                  <a:srgbClr val="cc00cc"/>
                </a:solidFill>
                <a:latin typeface="Georgia"/>
              </a:rPr>
              <a:t>Развитие элементарных математических представлений у дошкольников в игровой форм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3924360" y="5084640"/>
            <a:ext cx="5005440" cy="17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Разработа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Наседкина Ирина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воспитатель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МБДОУ «Детский сад «Тере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г. УваровоТамбов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Calibri"/>
              </a:rPr>
              <a:t>2017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6"/>
          <p:cNvSpPr/>
          <p:nvPr/>
        </p:nvSpPr>
        <p:spPr>
          <a:xfrm>
            <a:off x="4214880" y="4320"/>
            <a:ext cx="47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«Игра - это искра, зажигающая огонёк пытливости и любознательн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В. А. Сухомлинск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11160" y="4724280"/>
            <a:ext cx="300204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</a:rPr>
              <a:t>Тип проек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85080" cy="544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количеству участников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группов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направленност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едметный (математическое развит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приоритету метода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ворческий (создание комплекса упражнени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характеру контактов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дной возрастной группы(6-7 ле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buClr>
                <a:srgbClr val="ffffcc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По продолжительности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олгосрочный (сентябрь-май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ffffcc"/>
                </a:solidFill>
                <a:latin typeface="Calibri"/>
              </a:rPr>
              <a:t>База исследования: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униципальное Бюджетное  Дошкольное Образовательное Учреждение «Детский сад «Терем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8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36160" y="2095560"/>
            <a:ext cx="838188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спользование дидактических игр в развитии элементарных математических представлений у дошкольников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97164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  <a:ea typeface="Arial"/>
              </a:rPr>
              <a:t>Цель проек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WordArt 4"/>
          <p:cNvSpPr txBox="1"/>
          <p:nvPr/>
        </p:nvSpPr>
        <p:spPr>
          <a:xfrm>
            <a:off x="684360" y="549360"/>
            <a:ext cx="8280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42960" y="1989000"/>
            <a:ext cx="817704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1 этап: подготовительный (сентябр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учение литературы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иагностика начального уровн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зработка путей решения проекта с деть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дготовка материально-технической базы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3" descr=""/>
          <p:cNvPicPr/>
          <p:nvPr/>
        </p:nvPicPr>
        <p:blipFill>
          <a:blip r:embed="rId1"/>
          <a:stretch/>
        </p:blipFill>
        <p:spPr>
          <a:xfrm>
            <a:off x="6997680" y="5121360"/>
            <a:ext cx="1957320" cy="15174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"/>
          <p:cNvSpPr/>
          <p:nvPr/>
        </p:nvSpPr>
        <p:spPr>
          <a:xfrm>
            <a:off x="457200" y="244440"/>
            <a:ext cx="83851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609480" y="396720"/>
            <a:ext cx="8385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Georgia"/>
                <a:ea typeface="Arial"/>
              </a:rPr>
              <a:t>Этапы и сроки проведения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78920" y="1904760"/>
            <a:ext cx="8666280" cy="39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2 этап: основной (октябрь-апрел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ство с разнообразием дидактических игр по развитию элементарных математических представл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знакомление детей с содержанием игры, с дидактическим материалом, который будет использован в игр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и руководство игро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светительская работа с родителями и педколлектив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математического угол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формление выпуска математической газе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промежуточной диагност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презентации про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Этапы и сроки проведения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0880" y="1628280"/>
            <a:ext cx="8382240" cy="492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Georgia"/>
              </a:rPr>
              <a:t>3 этап: заключительный (май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и оценка полученных результат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бщение опыта работ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лючительная диагностика дет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тематическая обработка данны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дение презен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екта на м/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Georgia"/>
              </a:rPr>
              <a:t>Этапы и сроки проведения проек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1"/>
          <a:stretch/>
        </p:blipFill>
        <p:spPr>
          <a:xfrm>
            <a:off x="5735520" y="4352760"/>
            <a:ext cx="3195720" cy="476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285920"/>
            <a:ext cx="87854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дидактических игр на занятиях благотворно влияет на усвоение элементарных математических представлений у дошкольников и способствует повышению уровня математического развития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улярное использование на занятиях по математике дидактических игр, расширяет математический кругозор дошкольников, способствует математическому развитию, повышает качество математической подготовленности к школе, позволяет детям более уверенно ориентироваться в простейших закономерностях окружающей их действительности и активнее использовать математические знания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новление и качественное улучшение системы математического развития дошкольников позволяет педагогам искать наиболее интересные формы работы, что способствует развитию элементарных математических представле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идактические игры дают большой заряд положительных эмоций, помогают детям закрепить и расширить знания по математик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WordArt 4"/>
          <p:cNvSpPr txBox="1"/>
          <p:nvPr/>
        </p:nvSpPr>
        <p:spPr>
          <a:xfrm>
            <a:off x="1692360" y="333360"/>
            <a:ext cx="5543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971640" y="260280"/>
            <a:ext cx="7684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6600" spc="-1" strike="noStrike">
                <a:solidFill>
                  <a:srgbClr val="ffffff"/>
                </a:solidFill>
                <a:latin typeface="Georgia"/>
                <a:ea typeface="Arial"/>
              </a:rPr>
              <a:t>Вывод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08:05:10Z</dcterms:created>
  <dc:creator>Admin</dc:creator>
  <dc:description/>
  <dc:language>en-US</dc:language>
  <cp:lastModifiedBy>ирина</cp:lastModifiedBy>
  <dcterms:modified xsi:type="dcterms:W3CDTF">2017-09-30T17:22:22Z</dcterms:modified>
  <cp:revision>124</cp:revision>
  <dc:subject/>
  <dc:title>Слайд 1</dc:title>
</cp:coreProperties>
</file>