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A9E-9480-4FDC-B15E-FCAE9CEB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3EF-D348-4262-AB3C-A54BEE6D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EFF-2FE1-496E-B315-9320958F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CD0-4434-4D35-A2E2-AA966584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A65-0223-46FA-8938-F86EF884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618-00BC-4E37-983E-FD50241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31D-47B3-4E48-BD15-FD17DFCF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383-64B7-4C42-99CB-C6E8524F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B50-1C21-4B27-B66F-12418C6F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A7F-7291-42C8-8859-DDFC9368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D19-1086-447E-998C-F9F48876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566-D2A6-4B90-9FB3-B5C61E88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091C-1716-46DF-B583-24963ABC1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3.xml"/><Relationship Id="rId16" Type="http://schemas.openxmlformats.org/officeDocument/2006/relationships/slide" Target="slide32.xml"/><Relationship Id="rId17" Type="http://schemas.openxmlformats.org/officeDocument/2006/relationships/slide" Target="slide32.xml"/><Relationship Id="rId18" Type="http://schemas.openxmlformats.org/officeDocument/2006/relationships/slide" Target="slide32.xml"/><Relationship Id="rId19" Type="http://schemas.openxmlformats.org/officeDocument/2006/relationships/slide" Target="slide32.xml"/><Relationship Id="rId20" Type="http://schemas.openxmlformats.org/officeDocument/2006/relationships/slide" Target="slide32.xml"/><Relationship Id="rId21" Type="http://schemas.openxmlformats.org/officeDocument/2006/relationships/slide" Target="slide32.xml"/><Relationship Id="rId22" Type="http://schemas.openxmlformats.org/officeDocument/2006/relationships/slide" Target="slide32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3.xml"/><Relationship Id="rId27" Type="http://schemas.openxmlformats.org/officeDocument/2006/relationships/slide" Target="slide33.xml"/><Relationship Id="rId28" Type="http://schemas.openxmlformats.org/officeDocument/2006/relationships/slide" Target="slide33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3.xml"/><Relationship Id="rId3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2.xml"/><Relationship Id="rId13" Type="http://schemas.openxmlformats.org/officeDocument/2006/relationships/slide" Target="slide32.xml"/><Relationship Id="rId14" Type="http://schemas.openxmlformats.org/officeDocument/2006/relationships/slide" Target="slide32.xml"/><Relationship Id="rId15" Type="http://schemas.openxmlformats.org/officeDocument/2006/relationships/slide" Target="slide32.xml"/><Relationship Id="rId16" Type="http://schemas.openxmlformats.org/officeDocument/2006/relationships/slide" Target="slide32.xml"/><Relationship Id="rId17" Type="http://schemas.openxmlformats.org/officeDocument/2006/relationships/slide" Target="slide32.xml"/><Relationship Id="rId18" Type="http://schemas.openxmlformats.org/officeDocument/2006/relationships/slide" Target="slide33.xml"/><Relationship Id="rId19" Type="http://schemas.openxmlformats.org/officeDocument/2006/relationships/slide" Target="slide33.xml"/><Relationship Id="rId20" Type="http://schemas.openxmlformats.org/officeDocument/2006/relationships/slide" Target="slide33.xml"/><Relationship Id="rId21" Type="http://schemas.openxmlformats.org/officeDocument/2006/relationships/slide" Target="slide33.xml"/><Relationship Id="rId22" Type="http://schemas.openxmlformats.org/officeDocument/2006/relationships/slide" Target="slide33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3.xml"/><Relationship Id="rId27" Type="http://schemas.openxmlformats.org/officeDocument/2006/relationships/slide" Target="slide33.xml"/><Relationship Id="rId28" Type="http://schemas.openxmlformats.org/officeDocument/2006/relationships/slide" Target="slide33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3.xm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" Target="slide32.xml"/><Relationship Id="rId11" Type="http://schemas.openxmlformats.org/officeDocument/2006/relationships/slide" Target="slide32.xml"/><Relationship Id="rId12" Type="http://schemas.openxmlformats.org/officeDocument/2006/relationships/slide" Target="slide32.xml"/><Relationship Id="rId13" Type="http://schemas.openxmlformats.org/officeDocument/2006/relationships/slide" Target="slide32.xml"/><Relationship Id="rId14" Type="http://schemas.openxmlformats.org/officeDocument/2006/relationships/slide" Target="slide3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33.xml"/><Relationship Id="rId18" Type="http://schemas.openxmlformats.org/officeDocument/2006/relationships/slide" Target="slide33.xml"/><Relationship Id="rId19" Type="http://schemas.openxmlformats.org/officeDocument/2006/relationships/slide" Target="slide33.xml"/><Relationship Id="rId20" Type="http://schemas.openxmlformats.org/officeDocument/2006/relationships/slide" Target="slide33.xml"/><Relationship Id="rId21" Type="http://schemas.openxmlformats.org/officeDocument/2006/relationships/slide" Target="slide33.xml"/><Relationship Id="rId22" Type="http://schemas.openxmlformats.org/officeDocument/2006/relationships/slide" Target="slide33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3.xml"/><Relationship Id="rId27" Type="http://schemas.openxmlformats.org/officeDocument/2006/relationships/slide" Target="slide33.xml"/><Relationship Id="rId28" Type="http://schemas.openxmlformats.org/officeDocument/2006/relationships/slide" Target="slide33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3.xml"/><Relationship Id="rId32" Type="http://schemas.openxmlformats.org/officeDocument/2006/relationships/slide" Target="slide33.xml"/><Relationship Id="rId33" Type="http://schemas.openxmlformats.org/officeDocument/2006/relationships/slide" Target="slide33.xml"/><Relationship Id="rId34" Type="http://schemas.openxmlformats.org/officeDocument/2006/relationships/slide" Target="slide33.xml"/><Relationship Id="rId35" Type="http://schemas.openxmlformats.org/officeDocument/2006/relationships/slide" Target="slide33.xml"/><Relationship Id="rId36" Type="http://schemas.openxmlformats.org/officeDocument/2006/relationships/slide" Target="slide33.xml"/><Relationship Id="rId37" Type="http://schemas.openxmlformats.org/officeDocument/2006/relationships/slide" Target="slide33.xml"/><Relationship Id="rId38" Type="http://schemas.openxmlformats.org/officeDocument/2006/relationships/slide" Target="slide33.xml"/><Relationship Id="rId39" Type="http://schemas.openxmlformats.org/officeDocument/2006/relationships/slide" Target="slide33.xml"/><Relationship Id="rId40" Type="http://schemas.openxmlformats.org/officeDocument/2006/relationships/slide" Target="slide33.xml"/><Relationship Id="rId4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33.xml"/><Relationship Id="rId18" Type="http://schemas.openxmlformats.org/officeDocument/2006/relationships/slide" Target="slide33.xml"/><Relationship Id="rId19" Type="http://schemas.openxmlformats.org/officeDocument/2006/relationships/slide" Target="slide33.xml"/><Relationship Id="rId20" Type="http://schemas.openxmlformats.org/officeDocument/2006/relationships/slide" Target="slide33.xml"/><Relationship Id="rId21" Type="http://schemas.openxmlformats.org/officeDocument/2006/relationships/slide" Target="slide32.xml"/><Relationship Id="rId22" Type="http://schemas.openxmlformats.org/officeDocument/2006/relationships/slide" Target="slide32.xml"/><Relationship Id="rId23" Type="http://schemas.openxmlformats.org/officeDocument/2006/relationships/slide" Target="slide32.xml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2.xml"/><Relationship Id="rId16" Type="http://schemas.openxmlformats.org/officeDocument/2006/relationships/slide" Target="slide32.xml"/><Relationship Id="rId17" Type="http://schemas.openxmlformats.org/officeDocument/2006/relationships/slide" Target="slide32.xml"/><Relationship Id="rId18" Type="http://schemas.openxmlformats.org/officeDocument/2006/relationships/slide" Target="slide32.xml"/><Relationship Id="rId19" Type="http://schemas.openxmlformats.org/officeDocument/2006/relationships/slide" Target="slide32.xml"/><Relationship Id="rId20" Type="http://schemas.openxmlformats.org/officeDocument/2006/relationships/slide" Target="slide32.xml"/><Relationship Id="rId21" Type="http://schemas.openxmlformats.org/officeDocument/2006/relationships/slide" Target="slide33.xml"/><Relationship Id="rId22" Type="http://schemas.openxmlformats.org/officeDocument/2006/relationships/slide" Target="slide33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33.xml"/><Relationship Id="rId18" Type="http://schemas.openxmlformats.org/officeDocument/2006/relationships/slide" Target="slide33.xml"/><Relationship Id="rId19" Type="http://schemas.openxmlformats.org/officeDocument/2006/relationships/slide" Target="slide33.xml"/><Relationship Id="rId20" Type="http://schemas.openxmlformats.org/officeDocument/2006/relationships/slide" Target="slide33.xml"/><Relationship Id="rId21" Type="http://schemas.openxmlformats.org/officeDocument/2006/relationships/slide" Target="slide33.xml"/><Relationship Id="rId22" Type="http://schemas.openxmlformats.org/officeDocument/2006/relationships/slide" Target="slide33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3.xml"/><Relationship Id="rId27" Type="http://schemas.openxmlformats.org/officeDocument/2006/relationships/slide" Target="slide32.xml"/><Relationship Id="rId28" Type="http://schemas.openxmlformats.org/officeDocument/2006/relationships/slide" Target="slide32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2.xm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41280" y="4005000"/>
            <a:ext cx="5202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Учитель химии МОУ ССОШ№2 РМЭ Мухамедзянова С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92360" y="549360"/>
            <a:ext cx="54644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для подготовк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ГИА по хими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 клас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340000" y="404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5280" y="277920"/>
            <a:ext cx="50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сфат-анионы образуются при электролитической диссоциации со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2060640"/>
            <a:ext cx="38098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Са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(Р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4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)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2) А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g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Р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4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3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Na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Р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4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4) М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g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(Р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4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)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2268360" y="33336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333360"/>
            <a:ext cx="52578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щество, которое образуется в виде осадка в результате реакции между щелочью и солью и при нагревании разлагается на воду и вещество черного цвета, имеет форму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2997360"/>
            <a:ext cx="38102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u(OH)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)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3) CuSO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4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4) CuCI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234000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27792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е из перечисленных ниже свойств характерно для оксида кальция Са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1989000"/>
            <a:ext cx="5040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 жидкость белого цвета, не растворяется в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 твердое вещество белого цвета, реагирует с водой с выделением теп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 жидкость серого цвета, реагирует с водой с выделением теп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)  газ при 20°С, бесцветный, не растворяется в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2268360" y="40464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277920"/>
            <a:ext cx="54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уравнении химической реакци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х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2Н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 +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эффициент х рав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2276640"/>
            <a:ext cx="16556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5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4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)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2268360" y="40464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277920"/>
            <a:ext cx="497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 химическим реакциям ионного обмена относят реакцию, уравнение котор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4400" y="2349360"/>
            <a:ext cx="588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аО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+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С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O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= 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аС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O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2)  NaCI + AgN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О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 = NaNO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 + Ag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3)  C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(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O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)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 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= CuO + H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2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4)  2Na + 2H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О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 = 2NaOH + H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2268360" y="33336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620640"/>
            <a:ext cx="4753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рны ли суждения о химическом загрязнении окружающей среды и его последстви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1844640"/>
            <a:ext cx="51688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.Увеличение относительного содержания углекислого газа в атмосфере Земли может стать одной из причин потепления клим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. Загрязнение водоема органическими веществами, попадающими из животноводческих хозяйств, приводит к гибели рыб, потому что вещества-загрязнители не растворяются в воде и она становится мут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443700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верно только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верно только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верны оба 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) 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524720" y="6165720"/>
            <a:ext cx="1297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2268360" y="33336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404640"/>
            <a:ext cx="497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цессу ржавления на воздухе изделий из железа соответствует химическо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673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4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F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+ 3О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+ 6Н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О = 4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e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(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H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)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)  3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F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+ 2О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= 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e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3)  2Fe(OH)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 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=Fe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2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O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 + 3H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2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4)  Fe(OH)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 + 3HCI = FeCI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+ 3H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241128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27792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ассовая доля кислорода в сульфате натрия 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2133720"/>
            <a:ext cx="1800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90%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45%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3) 3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4) 22%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3640" y="404640"/>
            <a:ext cx="5770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5894"/>
                </a:solidFill>
                <a:latin typeface="Arial"/>
              </a:rPr>
              <a:t>Инструкция по выполнению работы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ь 2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ом к заданиям этой части (В1-В4) является последовательность цифр. При выполнении заданий В1—В2 из предложенного перечня ответов выберите два правильных и запишите цифры, под которыми они указан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3933720"/>
            <a:ext cx="471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5894"/>
                </a:solidFill>
                <a:latin typeface="Arial"/>
              </a:rPr>
              <a:t>Желаем успех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3564000" y="404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476280"/>
            <a:ext cx="410544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я ряда химических элементов фто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хло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бр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йод характерны следующие закономерности изменения характеристи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увеличение числа электронных сло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меньшение числа электронов во внешнем сл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уменьшение окислительной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увеличение значения электроотриц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значения высшей степени окис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68320" y="5950080"/>
            <a:ext cx="187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5894"/>
                </a:solidFill>
                <a:latin typeface="Arial"/>
              </a:rPr>
              <a:t>Ответ:</a:t>
            </a:r>
            <a:r>
              <a:rPr b="1" lang="en-US" sz="1800" spc="-1" strike="noStrike">
                <a:solidFill>
                  <a:srgbClr val="1c5894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c5894"/>
                </a:solidFill>
                <a:latin typeface="Arial"/>
              </a:rPr>
              <a:t>______.</a:t>
            </a:r>
            <a:r>
              <a:rPr b="0" lang="ru-RU" sz="1800" spc="-1" strike="noStrike">
                <a:solidFill>
                  <a:srgbClr val="1c589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2000" y="260280"/>
            <a:ext cx="57708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5894"/>
                </a:solidFill>
                <a:latin typeface="Arial"/>
              </a:rPr>
              <a:t>Инструкция по выполнению рабо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1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 выполнении заданий этой части (А1-А15) из четырёх предложенных вариантов выберите один вер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3112920"/>
            <a:ext cx="5770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40360" y="3860640"/>
            <a:ext cx="471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5894"/>
                </a:solidFill>
                <a:latin typeface="Arial"/>
              </a:rPr>
              <a:t>Желаем успех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2700360" y="549360"/>
            <a:ext cx="11509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476280"/>
            <a:ext cx="4535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я метана верны следующие утвер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молекула содержит два атома углерода и четыре атома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является предельным угле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атомы водорода соединены между собой одинарной связ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вступает в реакцию присоединени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горит с образованием углекислого газа и в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8680" y="566100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5894"/>
                </a:solidFill>
                <a:latin typeface="Arial"/>
              </a:rPr>
              <a:t>Ответ:</a:t>
            </a:r>
            <a:r>
              <a:rPr b="1" lang="en-US" sz="1800" spc="-1" strike="noStrike">
                <a:solidFill>
                  <a:srgbClr val="1c5894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c5894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1c5894"/>
                </a:solidFill>
                <a:latin typeface="Arial"/>
              </a:rPr>
              <a:t>_</a:t>
            </a:r>
            <a:r>
              <a:rPr b="1" lang="ru-RU" sz="1800" spc="-1" strike="noStrike">
                <a:solidFill>
                  <a:srgbClr val="1c589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708360" y="1052640"/>
            <a:ext cx="4924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5894"/>
                </a:solidFill>
                <a:latin typeface="Arial"/>
              </a:rPr>
              <a:t>Инструкция по выполнению работы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ь 2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ом к заданиям этой части (В1-В4) является последовательность цифр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выполнении заданий ВЗ-В4 к каждому элементу первого столбца подберите соответствующий элемент из второго столбца. Выбранные цифры запишите в таблицу под соответствующими букв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291636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 rot="10800000">
            <a:off x="4286160" y="475920"/>
            <a:ext cx="429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схемой химической реакции и веществом-восстановителем в н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565360"/>
            <a:ext cx="5364000" cy="17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→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 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I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→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2421000"/>
            <a:ext cx="3097440" cy="20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H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HCl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508720" y="5373720"/>
          <a:ext cx="3024000" cy="73008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655240" y="4941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5894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291636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476280"/>
            <a:ext cx="43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становите   соответствие   между   названием   вещества   и   реагентами, с которыми это вещество может взаимодей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349360"/>
            <a:ext cx="45720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ба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ксид сер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гидроксид алюми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48360" y="2421000"/>
            <a:ext cx="3600360" cy="174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Г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а(ОН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КОН, Са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Са(ОН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Н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12320" y="4365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5894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508720" y="4797360"/>
          <a:ext cx="3024000" cy="73008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5796000" y="5877000"/>
            <a:ext cx="302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5894"/>
                </a:solidFill>
                <a:latin typeface="Arial"/>
              </a:rPr>
              <a:t>Проверь себя В1-В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5796000" y="5877000"/>
            <a:ext cx="302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5894"/>
                </a:solidFill>
                <a:latin typeface="Arial"/>
              </a:rPr>
              <a:t>Проверь себя В1-В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51280" y="549360"/>
            <a:ext cx="47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3924360" y="1484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3924360" y="2276640"/>
            <a:ext cx="11509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3924360" y="3068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3924360" y="4076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219640" y="4076640"/>
          <a:ext cx="3024360" cy="943200"/>
        </p:xfrm>
        <a:graphic>
          <a:graphicData uri="http://schemas.openxmlformats.org/drawingml/2006/table">
            <a:tbl>
              <a:tblPr/>
              <a:tblGrid>
                <a:gridCol w="1008000"/>
                <a:gridCol w="100836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219640" y="3068640"/>
          <a:ext cx="3024360" cy="942840"/>
        </p:xfrm>
        <a:graphic>
          <a:graphicData uri="http://schemas.openxmlformats.org/drawingml/2006/table">
            <a:tbl>
              <a:tblPr/>
              <a:tblGrid>
                <a:gridCol w="1008000"/>
                <a:gridCol w="100836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140360" y="54936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c5894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148360" y="1484280"/>
          <a:ext cx="2016000" cy="5810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148360" y="2276640"/>
          <a:ext cx="2016000" cy="5810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373560" y="907920"/>
            <a:ext cx="5770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5894"/>
                </a:solidFill>
                <a:latin typeface="Arial"/>
              </a:rPr>
              <a:t>Инструкция по выполнению работы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ь 3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ля ответов на задания этой части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1—СЗ) запишите сначала номер задания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1 и т. д.), затем развёрнутый ответ к нем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4076640"/>
            <a:ext cx="471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5894"/>
                </a:solidFill>
                <a:latin typeface="Arial"/>
              </a:rPr>
              <a:t>Желаем успех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255600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49360"/>
            <a:ext cx="525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на схема превращ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NaAl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ишите молекулярные уравнения реакций, с помощью которых можно осуществить указанные превращения. Для первого превращения составьте сокращённое ионное уравнен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3780000" y="3500280"/>
            <a:ext cx="1296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291636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549360"/>
            <a:ext cx="42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рез раствор гидроксида натрия пропустили углекислый газ. Образовалось 324 г раствора гидрокарбоната натрия с массовой долей 2%. Вычислите объём прореагировавшего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314172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291636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4560" y="365040"/>
            <a:ext cx="478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определения качественного состава неизвестной соли, учащимся выдали белое кристаллическое вещество, хорошо растворимое в воде и известное под названием «нашатырь». Часть выданной соли нагрели, смешав с твёрдым гидроксидом кальция. При этом выделился газ с резким запахом. Другую часть соли растворили в воде и к полученному раствору прилили прозрачный раствор нитрата серебра. Образовался белый «творожистый» осадок. Запишите химическую формулу и название выданной соли. Составьте два уравнения реакций, которые были проведены в процессе её распозна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5661000"/>
            <a:ext cx="1295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Заголовок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5894"/>
                </a:solidFill>
                <a:latin typeface="Arial"/>
              </a:rPr>
              <a:t>Ответы(Часть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620640"/>
          <a:ext cx="8001000" cy="3701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пускаются иные формулировки ответа, не искажающие его смыс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саны уравнения реакций, соответствующие схеме превраще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H 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3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3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aAl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Составлено сокращенное ионное уравнение для третьего превращ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                 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l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68360" y="4005360"/>
          <a:ext cx="7991280" cy="2387160"/>
        </p:xfrm>
        <a:graphic>
          <a:graphicData uri="http://schemas.openxmlformats.org/drawingml/2006/table">
            <a:tbl>
              <a:tblPr/>
              <a:tblGrid>
                <a:gridCol w="5900760"/>
                <a:gridCol w="20905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правильный и полный, включает все названные элемен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ы 3 уравнения реак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ы 2 уравнения реак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о 1 уравнение реак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элементы ответа записаны невер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93" name="Прямоугольник 11"/>
          <p:cNvSpPr/>
          <p:nvPr/>
        </p:nvSpPr>
        <p:spPr>
          <a:xfrm>
            <a:off x="0" y="0"/>
            <a:ext cx="1152360" cy="71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227640" y="1803240"/>
            <a:ext cx="1873440" cy="177012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7956720" y="5805360"/>
            <a:ext cx="865080" cy="57492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32495" h="21600">
                <a:moveTo>
                  <a:pt x="0" y="0"/>
                </a:moveTo>
                <a:lnTo>
                  <a:pt x="32495" y="0"/>
                </a:lnTo>
                <a:lnTo>
                  <a:pt x="32495" y="21600"/>
                </a:lnTo>
                <a:lnTo>
                  <a:pt x="0" y="21600"/>
                </a:lnTo>
                <a:close/>
              </a:path>
              <a:path fill="lightenLess" w="32495" h="21600">
                <a:moveTo>
                  <a:pt x="0" y="0"/>
                </a:moveTo>
                <a:lnTo>
                  <a:pt x="32495" y="0"/>
                </a:lnTo>
                <a:lnTo>
                  <a:pt x="31095" y="1400"/>
                </a:lnTo>
                <a:lnTo>
                  <a:pt x="1400" y="1400"/>
                </a:lnTo>
                <a:close/>
              </a:path>
              <a:path fill="darken" w="32495" h="21600">
                <a:moveTo>
                  <a:pt x="32495" y="0"/>
                </a:moveTo>
                <a:lnTo>
                  <a:pt x="32495" y="21600"/>
                </a:lnTo>
                <a:lnTo>
                  <a:pt x="31095" y="20200"/>
                </a:lnTo>
                <a:lnTo>
                  <a:pt x="31095" y="1400"/>
                </a:lnTo>
                <a:close/>
              </a:path>
              <a:path fill="darkenLess" w="32495" h="21600">
                <a:moveTo>
                  <a:pt x="3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5" y="20200"/>
                </a:lnTo>
                <a:close/>
              </a:path>
              <a:path fill="lighten" w="3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95" h="21600">
                <a:moveTo>
                  <a:pt x="9241" y="7493"/>
                </a:moveTo>
                <a:lnTo>
                  <a:pt x="12748" y="7493"/>
                </a:lnTo>
                <a:lnTo>
                  <a:pt x="12748" y="12828"/>
                </a:lnTo>
                <a:cubicBezTo>
                  <a:pt x="12748" y="13751"/>
                  <a:pt x="13549" y="14482"/>
                  <a:pt x="14585" y="14482"/>
                </a:cubicBezTo>
                <a:lnTo>
                  <a:pt x="16247" y="14482"/>
                </a:lnTo>
                <a:cubicBezTo>
                  <a:pt x="17283" y="14482"/>
                  <a:pt x="18084" y="13751"/>
                  <a:pt x="18084" y="12828"/>
                </a:cubicBezTo>
                <a:lnTo>
                  <a:pt x="18084" y="7493"/>
                </a:lnTo>
                <a:lnTo>
                  <a:pt x="16247" y="7493"/>
                </a:lnTo>
                <a:lnTo>
                  <a:pt x="19755" y="3985"/>
                </a:lnTo>
                <a:lnTo>
                  <a:pt x="23428" y="7493"/>
                </a:lnTo>
                <a:lnTo>
                  <a:pt x="21591" y="7493"/>
                </a:lnTo>
                <a:lnTo>
                  <a:pt x="21591" y="12828"/>
                </a:lnTo>
                <a:cubicBezTo>
                  <a:pt x="21591" y="15596"/>
                  <a:pt x="19015" y="18155"/>
                  <a:pt x="16247" y="18155"/>
                </a:cubicBezTo>
                <a:lnTo>
                  <a:pt x="14585" y="18155"/>
                </a:lnTo>
                <a:cubicBezTo>
                  <a:pt x="11817" y="18155"/>
                  <a:pt x="9241" y="15596"/>
                  <a:pt x="92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2195640" y="260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277920"/>
            <a:ext cx="55450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имическому элементу 3-го период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группы соответствует схема распределения электронов в атоме по сло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327400"/>
            <a:ext cx="262260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,8,5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)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,8,3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3)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,5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4)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611280" y="189000"/>
          <a:ext cx="8001000" cy="50400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2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пускаются иные формулировки ответа, не искажающие его смыс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о уравнение реакц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+ 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Рассчитана масса и количество вещества гидрокарбоната натрия, содержащегося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(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m(p-pа) · ω/100 = 324 · 0,02 =6,48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(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m (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/ M (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6,48:84 = 0,077 м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Определен объем прореагировавшего газ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уравнению реакции n (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n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0,077 м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n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0,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4 = 1,72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611280" y="4292640"/>
          <a:ext cx="8001000" cy="2313000"/>
        </p:xfrm>
        <a:graphic>
          <a:graphicData uri="http://schemas.openxmlformats.org/drawingml/2006/table">
            <a:tbl>
              <a:tblPr/>
              <a:tblGrid>
                <a:gridCol w="5907240"/>
                <a:gridCol w="209376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правильный и полный, включает все названные элемен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ы 1-й и 2-й элементы из названных выш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 один из названных выше элементов (1-й и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элементы ответа записаны невер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99" name="Прямоугольник 5"/>
          <p:cNvSpPr/>
          <p:nvPr/>
        </p:nvSpPr>
        <p:spPr>
          <a:xfrm>
            <a:off x="0" y="0"/>
            <a:ext cx="1116000" cy="69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865080" cy="5745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515" h="21600">
                <a:moveTo>
                  <a:pt x="0" y="0"/>
                </a:moveTo>
                <a:lnTo>
                  <a:pt x="32515" y="0"/>
                </a:lnTo>
                <a:lnTo>
                  <a:pt x="32515" y="21600"/>
                </a:lnTo>
                <a:lnTo>
                  <a:pt x="0" y="21600"/>
                </a:lnTo>
                <a:close/>
              </a:path>
              <a:path fill="lightenLess" w="32515" h="21600">
                <a:moveTo>
                  <a:pt x="0" y="0"/>
                </a:moveTo>
                <a:lnTo>
                  <a:pt x="32515" y="0"/>
                </a:lnTo>
                <a:lnTo>
                  <a:pt x="31115" y="1400"/>
                </a:lnTo>
                <a:lnTo>
                  <a:pt x="1400" y="1400"/>
                </a:lnTo>
                <a:close/>
              </a:path>
              <a:path fill="darken" w="32515" h="21600">
                <a:moveTo>
                  <a:pt x="32515" y="0"/>
                </a:moveTo>
                <a:lnTo>
                  <a:pt x="32515" y="21600"/>
                </a:lnTo>
                <a:lnTo>
                  <a:pt x="31115" y="20200"/>
                </a:lnTo>
                <a:lnTo>
                  <a:pt x="31115" y="1400"/>
                </a:lnTo>
                <a:close/>
              </a:path>
              <a:path fill="darkenLess" w="32515" h="21600">
                <a:moveTo>
                  <a:pt x="32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5" y="20200"/>
                </a:lnTo>
                <a:close/>
              </a:path>
              <a:path fill="lighten" w="32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15" h="21600">
                <a:moveTo>
                  <a:pt x="9251" y="7493"/>
                </a:moveTo>
                <a:lnTo>
                  <a:pt x="12759" y="7493"/>
                </a:lnTo>
                <a:lnTo>
                  <a:pt x="12759" y="12828"/>
                </a:lnTo>
                <a:cubicBezTo>
                  <a:pt x="12759" y="13751"/>
                  <a:pt x="13559" y="14482"/>
                  <a:pt x="14595" y="14482"/>
                </a:cubicBezTo>
                <a:lnTo>
                  <a:pt x="16257" y="14482"/>
                </a:lnTo>
                <a:cubicBezTo>
                  <a:pt x="17293" y="14482"/>
                  <a:pt x="18094" y="13751"/>
                  <a:pt x="18094" y="12828"/>
                </a:cubicBezTo>
                <a:lnTo>
                  <a:pt x="18094" y="7493"/>
                </a:lnTo>
                <a:lnTo>
                  <a:pt x="16257" y="7493"/>
                </a:lnTo>
                <a:lnTo>
                  <a:pt x="19765" y="3985"/>
                </a:lnTo>
                <a:lnTo>
                  <a:pt x="23438" y="7493"/>
                </a:lnTo>
                <a:lnTo>
                  <a:pt x="21602" y="7493"/>
                </a:lnTo>
                <a:lnTo>
                  <a:pt x="21602" y="12828"/>
                </a:lnTo>
                <a:cubicBezTo>
                  <a:pt x="21602" y="15596"/>
                  <a:pt x="19025" y="18155"/>
                  <a:pt x="16257" y="18155"/>
                </a:cubicBezTo>
                <a:lnTo>
                  <a:pt x="14595" y="18155"/>
                </a:lnTo>
                <a:cubicBezTo>
                  <a:pt x="11827" y="18155"/>
                  <a:pt x="9251" y="15596"/>
                  <a:pt x="925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611280" y="333360"/>
          <a:ext cx="7921440" cy="3166560"/>
        </p:xfrm>
        <a:graphic>
          <a:graphicData uri="http://schemas.openxmlformats.org/drawingml/2006/table">
            <a:tbl>
              <a:tblPr/>
              <a:tblGrid>
                <a:gridCol w="7921440"/>
              </a:tblGrid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пускаются иные формулировки ответа, не искажающие его смыс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8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Записана химическая формула и название выданной со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д амм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ы уравнения реакций, которые были проведены в процессе её распознава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 + Са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N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AgCl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4" name="Прямоугольник 5"/>
          <p:cNvSpPr/>
          <p:nvPr/>
        </p:nvSpPr>
        <p:spPr>
          <a:xfrm>
            <a:off x="0" y="0"/>
            <a:ext cx="1079640" cy="58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020000" y="2276640"/>
            <a:ext cx="1439640" cy="129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611280" y="3789360"/>
          <a:ext cx="8001000" cy="2160360"/>
        </p:xfrm>
        <a:graphic>
          <a:graphicData uri="http://schemas.openxmlformats.org/drawingml/2006/table">
            <a:tbl>
              <a:tblPr/>
              <a:tblGrid>
                <a:gridCol w="5906880"/>
                <a:gridCol w="2094120"/>
              </a:tblGrid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правильный и полный, включает все названные элемен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ы 2 из названных выш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 один из названных выше эле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элементы ответа записаны невер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740720" y="5373720"/>
            <a:ext cx="865080" cy="5745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515" h="21600">
                <a:moveTo>
                  <a:pt x="0" y="0"/>
                </a:moveTo>
                <a:lnTo>
                  <a:pt x="32515" y="0"/>
                </a:lnTo>
                <a:lnTo>
                  <a:pt x="32515" y="21600"/>
                </a:lnTo>
                <a:lnTo>
                  <a:pt x="0" y="21600"/>
                </a:lnTo>
                <a:close/>
              </a:path>
              <a:path fill="lightenLess" w="32515" h="21600">
                <a:moveTo>
                  <a:pt x="0" y="0"/>
                </a:moveTo>
                <a:lnTo>
                  <a:pt x="32515" y="0"/>
                </a:lnTo>
                <a:lnTo>
                  <a:pt x="31115" y="1400"/>
                </a:lnTo>
                <a:lnTo>
                  <a:pt x="1400" y="1400"/>
                </a:lnTo>
                <a:close/>
              </a:path>
              <a:path fill="darken" w="32515" h="21600">
                <a:moveTo>
                  <a:pt x="32515" y="0"/>
                </a:moveTo>
                <a:lnTo>
                  <a:pt x="32515" y="21600"/>
                </a:lnTo>
                <a:lnTo>
                  <a:pt x="31115" y="20200"/>
                </a:lnTo>
                <a:lnTo>
                  <a:pt x="31115" y="1400"/>
                </a:lnTo>
                <a:close/>
              </a:path>
              <a:path fill="darkenLess" w="32515" h="21600">
                <a:moveTo>
                  <a:pt x="32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5" y="20200"/>
                </a:lnTo>
                <a:close/>
              </a:path>
              <a:path fill="lighten" w="32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15" h="21600">
                <a:moveTo>
                  <a:pt x="9251" y="7493"/>
                </a:moveTo>
                <a:lnTo>
                  <a:pt x="12759" y="7493"/>
                </a:lnTo>
                <a:lnTo>
                  <a:pt x="12759" y="12828"/>
                </a:lnTo>
                <a:cubicBezTo>
                  <a:pt x="12759" y="13751"/>
                  <a:pt x="13559" y="14482"/>
                  <a:pt x="14595" y="14482"/>
                </a:cubicBezTo>
                <a:lnTo>
                  <a:pt x="16257" y="14482"/>
                </a:lnTo>
                <a:cubicBezTo>
                  <a:pt x="17293" y="14482"/>
                  <a:pt x="18094" y="13751"/>
                  <a:pt x="18094" y="12828"/>
                </a:cubicBezTo>
                <a:lnTo>
                  <a:pt x="18094" y="7493"/>
                </a:lnTo>
                <a:lnTo>
                  <a:pt x="16257" y="7493"/>
                </a:lnTo>
                <a:lnTo>
                  <a:pt x="19765" y="3985"/>
                </a:lnTo>
                <a:lnTo>
                  <a:pt x="23438" y="7493"/>
                </a:lnTo>
                <a:lnTo>
                  <a:pt x="21602" y="7493"/>
                </a:lnTo>
                <a:lnTo>
                  <a:pt x="21602" y="12828"/>
                </a:lnTo>
                <a:cubicBezTo>
                  <a:pt x="21602" y="15596"/>
                  <a:pt x="19025" y="18155"/>
                  <a:pt x="16257" y="18155"/>
                </a:cubicBezTo>
                <a:lnTo>
                  <a:pt x="14595" y="18155"/>
                </a:lnTo>
                <a:cubicBezTo>
                  <a:pt x="11827" y="18155"/>
                  <a:pt x="9251" y="15596"/>
                  <a:pt x="925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F:\РИСУНКИ-анимашки\анимашки\Entertainment-02.gif"/>
          <p:cNvPicPr/>
          <p:nvPr/>
        </p:nvPicPr>
        <p:blipFill>
          <a:blip r:embed="rId2"/>
          <a:stretch/>
        </p:blipFill>
        <p:spPr>
          <a:xfrm>
            <a:off x="6084720" y="3860640"/>
            <a:ext cx="2808360" cy="2700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51280" y="234936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arg-5-50-trans[1]"/>
          <p:cNvPicPr/>
          <p:nvPr/>
        </p:nvPicPr>
        <p:blipFill>
          <a:blip r:embed="rId3"/>
          <a:stretch/>
        </p:blipFill>
        <p:spPr>
          <a:xfrm>
            <a:off x="539640" y="1125360"/>
            <a:ext cx="3086280" cy="2675160"/>
          </a:xfrm>
          <a:prstGeom prst="rect">
            <a:avLst/>
          </a:prstGeom>
          <a:ln w="0">
            <a:noFill/>
          </a:ln>
        </p:spPr>
      </p:pic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1042920" y="5950080"/>
            <a:ext cx="865080" cy="5745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515" h="21600">
                <a:moveTo>
                  <a:pt x="0" y="0"/>
                </a:moveTo>
                <a:lnTo>
                  <a:pt x="32515" y="0"/>
                </a:lnTo>
                <a:lnTo>
                  <a:pt x="32515" y="21600"/>
                </a:lnTo>
                <a:lnTo>
                  <a:pt x="0" y="21600"/>
                </a:lnTo>
                <a:close/>
              </a:path>
              <a:path fill="lightenLess" w="32515" h="21600">
                <a:moveTo>
                  <a:pt x="0" y="0"/>
                </a:moveTo>
                <a:lnTo>
                  <a:pt x="32515" y="0"/>
                </a:lnTo>
                <a:lnTo>
                  <a:pt x="31115" y="1400"/>
                </a:lnTo>
                <a:lnTo>
                  <a:pt x="1400" y="1400"/>
                </a:lnTo>
                <a:close/>
              </a:path>
              <a:path fill="darken" w="32515" h="21600">
                <a:moveTo>
                  <a:pt x="32515" y="0"/>
                </a:moveTo>
                <a:lnTo>
                  <a:pt x="32515" y="21600"/>
                </a:lnTo>
                <a:lnTo>
                  <a:pt x="31115" y="20200"/>
                </a:lnTo>
                <a:lnTo>
                  <a:pt x="31115" y="1400"/>
                </a:lnTo>
                <a:close/>
              </a:path>
              <a:path fill="darkenLess" w="32515" h="21600">
                <a:moveTo>
                  <a:pt x="32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5" y="20200"/>
                </a:lnTo>
                <a:close/>
              </a:path>
              <a:path fill="lighten" w="32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15" h="21600">
                <a:moveTo>
                  <a:pt x="9251" y="7493"/>
                </a:moveTo>
                <a:lnTo>
                  <a:pt x="12759" y="7493"/>
                </a:lnTo>
                <a:lnTo>
                  <a:pt x="12759" y="12828"/>
                </a:lnTo>
                <a:cubicBezTo>
                  <a:pt x="12759" y="13751"/>
                  <a:pt x="13559" y="14482"/>
                  <a:pt x="14595" y="14482"/>
                </a:cubicBezTo>
                <a:lnTo>
                  <a:pt x="16257" y="14482"/>
                </a:lnTo>
                <a:cubicBezTo>
                  <a:pt x="17293" y="14482"/>
                  <a:pt x="18094" y="13751"/>
                  <a:pt x="18094" y="12828"/>
                </a:cubicBezTo>
                <a:lnTo>
                  <a:pt x="18094" y="7493"/>
                </a:lnTo>
                <a:lnTo>
                  <a:pt x="16257" y="7493"/>
                </a:lnTo>
                <a:lnTo>
                  <a:pt x="19765" y="3985"/>
                </a:lnTo>
                <a:lnTo>
                  <a:pt x="23438" y="7493"/>
                </a:lnTo>
                <a:lnTo>
                  <a:pt x="21602" y="7493"/>
                </a:lnTo>
                <a:lnTo>
                  <a:pt x="21602" y="12828"/>
                </a:lnTo>
                <a:cubicBezTo>
                  <a:pt x="21602" y="15596"/>
                  <a:pt x="19025" y="18155"/>
                  <a:pt x="16257" y="18155"/>
                </a:cubicBezTo>
                <a:lnTo>
                  <a:pt x="14595" y="18155"/>
                </a:lnTo>
                <a:cubicBezTo>
                  <a:pt x="11827" y="18155"/>
                  <a:pt x="9251" y="15596"/>
                  <a:pt x="925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435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5158 0.2625 E">
                                      <p:cBhvr>
                                        <p:cTn id="1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734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2349360"/>
            <a:ext cx="47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AN056"/>
          <p:cNvPicPr/>
          <p:nvPr/>
        </p:nvPicPr>
        <p:blipFill>
          <a:blip r:embed="rId2"/>
          <a:stretch/>
        </p:blipFill>
        <p:spPr>
          <a:xfrm>
            <a:off x="6032520" y="3429000"/>
            <a:ext cx="3111480" cy="342900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1042920" y="5950080"/>
            <a:ext cx="865080" cy="5745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515" h="21600">
                <a:moveTo>
                  <a:pt x="0" y="0"/>
                </a:moveTo>
                <a:lnTo>
                  <a:pt x="32515" y="0"/>
                </a:lnTo>
                <a:lnTo>
                  <a:pt x="32515" y="21600"/>
                </a:lnTo>
                <a:lnTo>
                  <a:pt x="0" y="21600"/>
                </a:lnTo>
                <a:close/>
              </a:path>
              <a:path fill="lightenLess" w="32515" h="21600">
                <a:moveTo>
                  <a:pt x="0" y="0"/>
                </a:moveTo>
                <a:lnTo>
                  <a:pt x="32515" y="0"/>
                </a:lnTo>
                <a:lnTo>
                  <a:pt x="31115" y="1400"/>
                </a:lnTo>
                <a:lnTo>
                  <a:pt x="1400" y="1400"/>
                </a:lnTo>
                <a:close/>
              </a:path>
              <a:path fill="darken" w="32515" h="21600">
                <a:moveTo>
                  <a:pt x="32515" y="0"/>
                </a:moveTo>
                <a:lnTo>
                  <a:pt x="32515" y="21600"/>
                </a:lnTo>
                <a:lnTo>
                  <a:pt x="31115" y="20200"/>
                </a:lnTo>
                <a:lnTo>
                  <a:pt x="31115" y="1400"/>
                </a:lnTo>
                <a:close/>
              </a:path>
              <a:path fill="darkenLess" w="32515" h="21600">
                <a:moveTo>
                  <a:pt x="32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5" y="20200"/>
                </a:lnTo>
                <a:close/>
              </a:path>
              <a:path fill="lighten" w="32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15" h="21600">
                <a:moveTo>
                  <a:pt x="9251" y="7493"/>
                </a:moveTo>
                <a:lnTo>
                  <a:pt x="12759" y="7493"/>
                </a:lnTo>
                <a:lnTo>
                  <a:pt x="12759" y="12828"/>
                </a:lnTo>
                <a:cubicBezTo>
                  <a:pt x="12759" y="13751"/>
                  <a:pt x="13559" y="14482"/>
                  <a:pt x="14595" y="14482"/>
                </a:cubicBezTo>
                <a:lnTo>
                  <a:pt x="16257" y="14482"/>
                </a:lnTo>
                <a:cubicBezTo>
                  <a:pt x="17293" y="14482"/>
                  <a:pt x="18094" y="13751"/>
                  <a:pt x="18094" y="12828"/>
                </a:cubicBezTo>
                <a:lnTo>
                  <a:pt x="18094" y="7493"/>
                </a:lnTo>
                <a:lnTo>
                  <a:pt x="16257" y="7493"/>
                </a:lnTo>
                <a:lnTo>
                  <a:pt x="19765" y="3985"/>
                </a:lnTo>
                <a:lnTo>
                  <a:pt x="23438" y="7493"/>
                </a:lnTo>
                <a:lnTo>
                  <a:pt x="21602" y="7493"/>
                </a:lnTo>
                <a:lnTo>
                  <a:pt x="21602" y="12828"/>
                </a:lnTo>
                <a:cubicBezTo>
                  <a:pt x="21602" y="15596"/>
                  <a:pt x="19025" y="18155"/>
                  <a:pt x="16257" y="18155"/>
                </a:cubicBezTo>
                <a:lnTo>
                  <a:pt x="14595" y="18155"/>
                </a:lnTo>
                <a:cubicBezTo>
                  <a:pt x="11827" y="18155"/>
                  <a:pt x="9251" y="15596"/>
                  <a:pt x="925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5435640" y="6110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6097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51280" y="263700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2195640" y="33336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77920"/>
            <a:ext cx="519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подгруппе периодической системы с увеличением заряда ядра атомов происход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87640" y="2205000"/>
            <a:ext cx="6156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усиление неметаллических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уменьшение числа протонов в яд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увеличение радиус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) периодическое изменение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2195640" y="404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692280"/>
            <a:ext cx="56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ид химической связи в соединении кислорода с элементом, в атоме которого распределение электронов по слоям 2, 8,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2565360"/>
            <a:ext cx="4608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металл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ковалентная по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ковалентная неполяр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268360" y="47628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333360"/>
            <a:ext cx="54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лекулярную кристаллическую решетку имее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2133720"/>
            <a:ext cx="38098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 поваренная 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алм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хлорид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4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2268360" y="40464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549360"/>
            <a:ext cx="50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вы значения степеней окисления азота в ряду соединений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2565360"/>
            <a:ext cx="444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+4, +1, +2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-3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+3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+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2) +5, +4, +3, -3, +1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3) +2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+4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+1, +3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+5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4) +4, +2, +3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+1, +5,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2268360" y="26028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277920"/>
            <a:ext cx="497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основным оксидам относится каждое из двух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67280" y="1916280"/>
            <a:ext cx="4248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i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и 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N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) СО 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О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3) М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О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ВаО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;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4) СО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 и 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Zn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195640" y="404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476280"/>
            <a:ext cx="54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ая химическая реакция протекает между растворами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2205000"/>
            <a:ext cx="4176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NaO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BaCI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M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N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)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 и КВ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r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3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HN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 и К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Р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4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4) КОН 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NH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4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CI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8:06:12Z</dcterms:created>
  <dc:creator>Admin</dc:creator>
  <dc:description/>
  <dc:language>en-US</dc:language>
  <cp:lastModifiedBy>Admin</cp:lastModifiedBy>
  <dcterms:modified xsi:type="dcterms:W3CDTF">2013-01-28T18:10:56Z</dcterms:modified>
  <cp:revision>25</cp:revision>
  <dc:subject/>
  <dc:title>Вариант экзаменационных работ по химии</dc:title>
</cp:coreProperties>
</file>