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EE5-3674-4392-8702-8BB3B68C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808-74C0-4AA7-B4AB-B750A0E3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927-FAAB-4ED8-AA7C-CA623FD5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851-29C6-4786-9203-3A8D5FF0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7AF49-3DCB-4C4B-984E-1FB22AEF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B91B9-0875-4C94-9168-76BB9795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4C88B-6017-4C52-B165-121D5353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BDC20-4973-41C9-B327-68245B0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9D2F7-FFB0-48C8-8F32-4DDA8FC3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E7FF2-9493-456B-855C-56702D5C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5870-77D6-4D92-871D-7EC1EAE6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944-4EDC-4BB1-8032-BB3623D0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897D1-4A19-4EFF-934F-F606D50A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9EC90-E487-4619-939E-B2347C62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C5E46-C32F-450A-A8E0-1B73890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A8ECE-EC46-4613-B5D6-6485785E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3988B-48AE-4E01-8300-451074ED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347B-6279-40B4-915F-C192F3BA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7736-0DAB-48F5-A31E-B70F4B2F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2D5A-1AAF-49DC-AE52-CDAC43F8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945F-2172-4DFD-B1FD-4097B43B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167B-61C2-4A3B-BF2F-12B77B9B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BE8-EAAC-4080-8516-2A3B49C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0865-D170-435E-8A8C-7F8707E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B13D-30C3-481A-94B4-D00426C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F9B9-EFDC-4C2A-892D-62B805B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33AF-DF57-46E1-8415-0F8E9483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B451-F81B-4D2C-9387-237D728C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3D0B-8C7E-43AA-99CE-D9C83F42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B46C-DEB5-4F52-A967-68EB0ACB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755-BB93-415D-AB29-17CA5000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3A4-2AAF-458F-B01D-C45F6F24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B25-5380-4BBF-BF3C-EB978FF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C6F-1245-4265-8FDF-89CC2E0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D9A-B7D1-4937-9CF3-10BCF57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9D6-9D4B-48BE-B2BC-61804B70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A2FB-F70E-45E9-987C-42E66AB14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239F-EE68-49CC-874E-54B0B7843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3DA-0F92-42A2-9137-62D766A7F2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Органы кровообращения и транспорт веществ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в организме 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571560" y="3885840"/>
            <a:ext cx="53578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Школа № 101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йлова Ольга Михайл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2" descr="C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785880" y="3571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енка сердца состоит из трёх слоё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ужный соединительнотканный (…………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редний мышечный (…………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нутренний эпителиальный (…………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тенка сердца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8" descr="стенка-сердца"/>
          <p:cNvPicPr/>
          <p:nvPr/>
        </p:nvPicPr>
        <p:blipFill>
          <a:blip r:embed="rId1"/>
          <a:stretch/>
        </p:blipFill>
        <p:spPr>
          <a:xfrm>
            <a:off x="1835280" y="981000"/>
            <a:ext cx="5155920" cy="532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оение серд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8" descr="heart3"/>
          <p:cNvPicPr/>
          <p:nvPr/>
        </p:nvPicPr>
        <p:blipFill>
          <a:blip r:embed="rId1"/>
          <a:srcRect l="2673" t="9494" r="1417" b="5689"/>
          <a:stretch/>
        </p:blipFill>
        <p:spPr>
          <a:xfrm>
            <a:off x="2143080" y="1285920"/>
            <a:ext cx="4824360" cy="44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108000" y="1700280"/>
            <a:ext cx="19429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050920" y="2276640"/>
            <a:ext cx="165744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108000" y="393372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050920" y="4508640"/>
            <a:ext cx="2449800" cy="43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7093080" y="184464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5148360" y="2421000"/>
            <a:ext cx="1944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7093080" y="4005360"/>
            <a:ext cx="194292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6"/>
          <p:cNvSpPr/>
          <p:nvPr/>
        </p:nvSpPr>
        <p:spPr>
          <a:xfrm flipH="1" flipV="1">
            <a:off x="5076360" y="4221000"/>
            <a:ext cx="2016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4140360" y="5950080"/>
            <a:ext cx="3456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8"/>
          <p:cNvSpPr/>
          <p:nvPr/>
        </p:nvSpPr>
        <p:spPr>
          <a:xfrm flipH="1" flipV="1">
            <a:off x="4859280" y="4436640"/>
            <a:ext cx="720720" cy="15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оение серд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8" descr="heart3"/>
          <p:cNvPicPr/>
          <p:nvPr/>
        </p:nvPicPr>
        <p:blipFill>
          <a:blip r:embed="rId1"/>
          <a:srcRect l="2673" t="9494" r="1417" b="5689"/>
          <a:stretch/>
        </p:blipFill>
        <p:spPr>
          <a:xfrm>
            <a:off x="2143080" y="1285920"/>
            <a:ext cx="4824360" cy="44654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108000" y="1700280"/>
            <a:ext cx="19429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ерд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050920" y="2276640"/>
            <a:ext cx="165744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108000" y="393372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уд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508640"/>
            <a:ext cx="2449800" cy="43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7093080" y="184464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ерд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5148360" y="2421000"/>
            <a:ext cx="1944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7093080" y="4005360"/>
            <a:ext cx="194292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уд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16"/>
          <p:cNvSpPr/>
          <p:nvPr/>
        </p:nvSpPr>
        <p:spPr>
          <a:xfrm flipH="1" flipV="1">
            <a:off x="5076360" y="4221000"/>
            <a:ext cx="2016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140360" y="5950080"/>
            <a:ext cx="3456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город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18"/>
          <p:cNvSpPr/>
          <p:nvPr/>
        </p:nvSpPr>
        <p:spPr>
          <a:xfrm flipH="1" flipV="1">
            <a:off x="4859280" y="4436640"/>
            <a:ext cx="720720" cy="15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41767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паны серд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heart4"/>
          <p:cNvPicPr/>
          <p:nvPr/>
        </p:nvPicPr>
        <p:blipFill>
          <a:blip r:embed="rId1"/>
          <a:stretch/>
        </p:blipFill>
        <p:spPr>
          <a:xfrm>
            <a:off x="3276720" y="1052640"/>
            <a:ext cx="5618160" cy="44956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4859280" y="5661000"/>
            <a:ext cx="287964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10"/>
          <p:cNvSpPr/>
          <p:nvPr/>
        </p:nvSpPr>
        <p:spPr>
          <a:xfrm flipH="1" flipV="1">
            <a:off x="5003640" y="4220640"/>
            <a:ext cx="935280" cy="151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6300720" y="3789000"/>
            <a:ext cx="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4716360" y="189000"/>
            <a:ext cx="309564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5364000" y="981000"/>
            <a:ext cx="720720" cy="2735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4"/>
          <p:cNvSpPr/>
          <p:nvPr/>
        </p:nvSpPr>
        <p:spPr>
          <a:xfrm flipH="1">
            <a:off x="5866920" y="981000"/>
            <a:ext cx="289080" cy="2808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41767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паны серд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6" descr="heart4"/>
          <p:cNvPicPr/>
          <p:nvPr/>
        </p:nvPicPr>
        <p:blipFill>
          <a:blip r:embed="rId1"/>
          <a:stretch/>
        </p:blipFill>
        <p:spPr>
          <a:xfrm>
            <a:off x="3276720" y="1052640"/>
            <a:ext cx="5618160" cy="4495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4859280" y="5661000"/>
            <a:ext cx="287964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ворчат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п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10"/>
          <p:cNvSpPr/>
          <p:nvPr/>
        </p:nvSpPr>
        <p:spPr>
          <a:xfrm flipH="1" flipV="1">
            <a:off x="5003640" y="4220640"/>
            <a:ext cx="935280" cy="151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11"/>
          <p:cNvSpPr/>
          <p:nvPr/>
        </p:nvSpPr>
        <p:spPr>
          <a:xfrm flipV="1">
            <a:off x="6300720" y="3789000"/>
            <a:ext cx="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716360" y="189000"/>
            <a:ext cx="309564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лу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п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5364000" y="981000"/>
            <a:ext cx="720720" cy="2735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14"/>
          <p:cNvSpPr/>
          <p:nvPr/>
        </p:nvSpPr>
        <p:spPr>
          <a:xfrm flipH="1">
            <a:off x="5866920" y="981000"/>
            <a:ext cx="289080" cy="2808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bicuspid_aortic_valve"/>
          <p:cNvPicPr/>
          <p:nvPr/>
        </p:nvPicPr>
        <p:blipFill>
          <a:blip r:embed="rId1"/>
          <a:stretch/>
        </p:blipFill>
        <p:spPr>
          <a:xfrm>
            <a:off x="684360" y="620640"/>
            <a:ext cx="7200720" cy="593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свойства сердечной мышц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2560" y="19051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будимость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переходить из состояния покоя в рабочее состояние под влиянием различных раздраж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димость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распространять по всему сердцу возбуждение, которое возникло в какой-либо его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кратимость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мышечной ткани сердца сокращаться под влиянием возбу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матия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сердца сокращаться под влиянием импульсов, возникающих в самом сердц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ровеносные сосу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Артерии – это сосуды, несущие кровь от серд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ены – это сосуды, несущие кровь к серд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лляры – это мелкие сосуды, осуществляющие обмен веществ между кровью и ткан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27367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рте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artery-vein"/>
          <p:cNvPicPr/>
          <p:nvPr/>
        </p:nvPicPr>
        <p:blipFill>
          <a:blip r:embed="rId1"/>
          <a:srcRect l="8606" t="0" r="2157" b="14005"/>
          <a:stretch/>
        </p:blipFill>
        <p:spPr>
          <a:xfrm>
            <a:off x="1619280" y="1052640"/>
            <a:ext cx="5977080" cy="4319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5508720" y="260280"/>
            <a:ext cx="251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203640" y="5516640"/>
            <a:ext cx="331308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шечный с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2"/>
          <p:cNvSpPr/>
          <p:nvPr/>
        </p:nvSpPr>
        <p:spPr>
          <a:xfrm flipH="1" flipV="1">
            <a:off x="3347640" y="3357360"/>
            <a:ext cx="1079640" cy="21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4859280" y="3428640"/>
            <a:ext cx="93672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C:\Documents and Settings\Admin\Рабочий стол\lev1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38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37432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пилля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capillary"/>
          <p:cNvPicPr/>
          <p:nvPr/>
        </p:nvPicPr>
        <p:blipFill>
          <a:blip r:embed="rId1"/>
          <a:srcRect l="0" t="0" r="16465" b="-584"/>
          <a:stretch/>
        </p:blipFill>
        <p:spPr>
          <a:xfrm>
            <a:off x="179280" y="907920"/>
            <a:ext cx="5113440" cy="4249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5580000" y="981000"/>
            <a:ext cx="316872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пилляр име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слойн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нк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718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Кровообращение – это непрерывное движение крови по замкнутой системе сосудов. 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1488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8" descr="круги"/>
          <p:cNvPicPr/>
          <p:nvPr/>
        </p:nvPicPr>
        <p:blipFill>
          <a:blip r:embed="rId1"/>
          <a:stretch/>
        </p:blipFill>
        <p:spPr>
          <a:xfrm>
            <a:off x="4429080" y="357120"/>
            <a:ext cx="4195800" cy="55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1532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уги кровообращ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4"/>
          <p:cNvSpPr/>
          <p:nvPr/>
        </p:nvSpPr>
        <p:spPr>
          <a:xfrm flipH="1">
            <a:off x="1979280" y="1268280"/>
            <a:ext cx="180036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39640" y="3068640"/>
            <a:ext cx="374508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ой к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580000" y="1125360"/>
            <a:ext cx="1440000" cy="194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716360" y="3141720"/>
            <a:ext cx="3959280" cy="143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ый (лёгоч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чины движения кро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ердечные сок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Сокращения мешечных стенок самих артер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исасывающая роль правого желуд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Сокращение скелетных мышц, прилегающих к вен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ок крови в кругах кровообращ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907920"/>
          <a:ext cx="8785440" cy="56563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ок крови в кругах кровообращ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9280" y="907920"/>
          <a:ext cx="8785440" cy="57168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ёгки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голове, конечностях, органах т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териальная кровь  - кровь, насыщенная 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бедная С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нозная кровь – кровь, насыщенная С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бедная 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ровообращение – это непрерывное движение крови по замкнутой системе сосуд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ранспортные функции выполняет система кровообращения, которая состоит из сердца и сосудов (три типа)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ровь транспортирует различные вещества, растворенные в ней по замкнутой системе сосудов за счет энергии, сообщаемой ей сердцем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-стр.127-1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960" y="3571920"/>
          <a:ext cx="7881840" cy="3360600"/>
        </p:xfrm>
        <a:graphic>
          <a:graphicData uri="http://schemas.openxmlformats.org/drawingml/2006/table">
            <a:tbl>
              <a:tblPr/>
              <a:tblGrid>
                <a:gridCol w="1969920"/>
                <a:gridCol w="1971720"/>
                <a:gridCol w="1970280"/>
                <a:gridCol w="196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уги кровообра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ы, их образу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ие движения к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д к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0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6"/>
          <p:cNvSpPr txBox="1"/>
          <p:nvPr/>
        </p:nvSpPr>
        <p:spPr>
          <a:xfrm>
            <a:off x="1258920" y="2133720"/>
            <a:ext cx="68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Человек живёт-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ока бьётся сердце!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44" name="Picture 7" descr="HEART16"/>
          <p:cNvPicPr/>
          <p:nvPr/>
        </p:nvPicPr>
        <p:blipFill>
          <a:blip r:embed="rId5"/>
          <a:stretch/>
        </p:blipFill>
        <p:spPr>
          <a:xfrm>
            <a:off x="468360" y="620640"/>
            <a:ext cx="895320" cy="590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C:\Documents and Settings\Admin\Рабочий стол\ist2_8820355-human-heart.jpg"/>
          <p:cNvPicPr/>
          <p:nvPr/>
        </p:nvPicPr>
        <p:blipFill>
          <a:blip r:embed="rId1"/>
          <a:stretch/>
        </p:blipFill>
        <p:spPr>
          <a:xfrm>
            <a:off x="0" y="23760"/>
            <a:ext cx="9112320" cy="683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истема органов кровообращ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2268360" y="1557360"/>
            <a:ext cx="194328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8360" y="3068640"/>
            <a:ext cx="3816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5364000" y="1484280"/>
            <a:ext cx="208764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364000" y="2997360"/>
            <a:ext cx="3600720" cy="107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5219280" y="4076640"/>
            <a:ext cx="1081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6588000" y="4076640"/>
            <a:ext cx="43200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7524720" y="4076640"/>
            <a:ext cx="863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067280" y="5084640"/>
            <a:ext cx="194472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940360" y="587700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7451640" y="5300640"/>
            <a:ext cx="1692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истема органов кровообращ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2268360" y="1557360"/>
            <a:ext cx="194328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3068640"/>
            <a:ext cx="3816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дц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5364000" y="1484280"/>
            <a:ext cx="208764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364000" y="2997360"/>
            <a:ext cx="3600720" cy="107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су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5219280" y="4076640"/>
            <a:ext cx="1081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6588000" y="4076640"/>
            <a:ext cx="43200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7524720" y="4076640"/>
            <a:ext cx="863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067280" y="5084640"/>
            <a:ext cx="194472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5940360" y="587700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7451640" y="5300640"/>
            <a:ext cx="1692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пилля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рд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81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ый мышечный орган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зделён на …. камеры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сположен в ……..</a:t>
            </a:r>
            <a:r>
              <a:rPr b="1" i="1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овине грудной клетки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serdce1"/>
          <p:cNvPicPr/>
          <p:nvPr/>
        </p:nvPicPr>
        <p:blipFill>
          <a:blip r:embed="rId1"/>
          <a:stretch/>
        </p:blipFill>
        <p:spPr>
          <a:xfrm>
            <a:off x="4286160" y="1857240"/>
            <a:ext cx="4681800" cy="39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рд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81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ый мышечный орган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зделён на четыре камеры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сположен в левой</a:t>
            </a:r>
            <a:r>
              <a:rPr b="1" i="1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овине грудной клетки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serdce1"/>
          <p:cNvPicPr/>
          <p:nvPr/>
        </p:nvPicPr>
        <p:blipFill>
          <a:blip r:embed="rId1"/>
          <a:stretch/>
        </p:blipFill>
        <p:spPr>
          <a:xfrm>
            <a:off x="4286160" y="1857240"/>
            <a:ext cx="4681800" cy="39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енка сердца состоит из трёх слоё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ужный соединительнотканный (Эпикард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редний мышечный (Миокард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нутренний эпителиальный (Эндокард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ходится в околосердечной сумке  -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перикар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0006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Tahoma"/>
              </a:rPr>
              <a:t>Перикард выделяет…………, ослабляющую ….. сердц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pericardium"/>
          <p:cNvPicPr/>
          <p:nvPr/>
        </p:nvPicPr>
        <p:blipFill>
          <a:blip r:embed="rId1"/>
          <a:stretch/>
        </p:blipFill>
        <p:spPr>
          <a:xfrm>
            <a:off x="3995640" y="2349360"/>
            <a:ext cx="4969080" cy="365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7:21:37Z</dcterms:created>
  <dc:creator>Ольга</dc:creator>
  <dc:description/>
  <dc:language>en-US</dc:language>
  <cp:lastModifiedBy>Olga</cp:lastModifiedBy>
  <dcterms:modified xsi:type="dcterms:W3CDTF">2017-09-30T19:54:37Z</dcterms:modified>
  <cp:revision>69</cp:revision>
  <dc:subject/>
  <dc:title>Слайд 1</dc:title>
</cp:coreProperties>
</file>