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73C8-4DD0-4148-B32E-B392C79B6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22FB-F4BD-4E5F-AD66-CF1848BC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A00B-AF5A-4658-8E26-DBFF4DDD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6DBE-19A4-4C2E-9FD6-27CD8C58E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A7284-3EAF-4DD6-9906-6301F5DFC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F9779-8C45-4C75-9407-418C68E4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F89DF-1C55-40CD-ABE1-3C29BA6D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7B9FF6-0056-426C-961B-154544F2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3CAFB-75AD-443A-B76C-AE21B3ED8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B5C76-7BB9-493F-AC98-19116136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CF6D8-D7B4-4169-9C2B-3081740A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4DDD-3DA0-4E54-8670-D774975D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34F9E-2A99-4C09-9D45-3571FC80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3CF3D-D008-4586-B520-F211F9ED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59E92-6843-4E61-AE32-66F23F1A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6C038-F3F6-4CC8-826C-23024944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2D637-DC83-4F23-98E6-B5C6A693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F9B84-7B2C-4B8B-A7FB-A1555154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2B627-9F6A-43ED-A17E-51ACD53F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41405-A7F5-42CC-B15F-870BC503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973BE-E809-46F6-A180-0956AD7D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2FC92-A4C0-47FD-BB0D-9D742679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729F-576E-4A70-A89F-9B57D1AE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5EA0F-94A2-4359-B195-AE3E034D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ADBF2-B0D0-4A81-9696-018FD3D3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F201A-FEF8-4822-9E6F-C0EE3A0D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73205-730B-4108-A0D9-D2EFD2E2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B4895-D36B-449E-AF34-8D9FCC01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3E0CF-C535-4C71-AE3A-DDFDE64A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313B8-3607-4954-986B-B4919E953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0480-C4EC-426C-BE78-4DA88FBB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EB7D-0899-404A-8714-3D140F45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1FCB-0480-4C7C-A379-69B1DEA0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6B49-B5DA-434E-8A53-37B8F0D9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8DA8-A955-4463-B8E4-01D794EE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CFAA-863E-4098-8B66-E9996CD0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6D17-C47F-4EE2-9C7C-9D4276BF4D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EA1E-AB56-4FD2-A501-D5637BE7E4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BB73-9615-4FA1-B7E1-022B156962D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Tahoma"/>
              </a:rPr>
              <a:t>Органы кровообращения и транспорт веществ</a:t>
            </a:r>
            <a:br>
              <a:rPr sz="4900"/>
            </a:br>
            <a:r>
              <a:rPr b="0" lang="ru-RU" sz="4900" spc="-1" strike="noStrike">
                <a:solidFill>
                  <a:srgbClr val="ffffff"/>
                </a:solidFill>
                <a:latin typeface="Tahoma"/>
              </a:rPr>
              <a:t>в организме 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3571560" y="3885840"/>
            <a:ext cx="535788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полни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БОУ «Школа № 101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хайлова Ольга Михайлов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2" descr="C:\Documents and Settings\Admin\Рабочий стол\images.jpg"/>
          <p:cNvPicPr/>
          <p:nvPr/>
        </p:nvPicPr>
        <p:blipFill>
          <a:blip r:embed="rId1"/>
          <a:stretch/>
        </p:blipFill>
        <p:spPr>
          <a:xfrm>
            <a:off x="785880" y="3571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тенка сердца состоит из трёх слоёв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ружный соединительнотканный (…………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редний мышечный (…………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нутренний эпителиальный (…………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15364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ffff"/>
                </a:solidFill>
                <a:latin typeface="Tahoma"/>
              </a:rPr>
              <a:t>Стенка сердца</a:t>
            </a:r>
            <a:endParaRPr b="0" lang="en-US" sz="4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Picture 8" descr="стенка-сердца"/>
          <p:cNvPicPr/>
          <p:nvPr/>
        </p:nvPicPr>
        <p:blipFill>
          <a:blip r:embed="rId1"/>
          <a:stretch/>
        </p:blipFill>
        <p:spPr>
          <a:xfrm>
            <a:off x="1835280" y="981000"/>
            <a:ext cx="5155920" cy="5327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5364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троение сердц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8" descr="heart3"/>
          <p:cNvPicPr/>
          <p:nvPr/>
        </p:nvPicPr>
        <p:blipFill>
          <a:blip r:embed="rId1"/>
          <a:srcRect l="2673" t="9494" r="1417" b="5689"/>
          <a:stretch/>
        </p:blipFill>
        <p:spPr>
          <a:xfrm>
            <a:off x="2143080" y="1285920"/>
            <a:ext cx="4824360" cy="44654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9"/>
          <p:cNvSpPr/>
          <p:nvPr/>
        </p:nvSpPr>
        <p:spPr>
          <a:xfrm>
            <a:off x="108000" y="1700280"/>
            <a:ext cx="1942920" cy="1008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Line 10"/>
          <p:cNvSpPr/>
          <p:nvPr/>
        </p:nvSpPr>
        <p:spPr>
          <a:xfrm>
            <a:off x="2050920" y="2276640"/>
            <a:ext cx="1657440" cy="1439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108000" y="3933720"/>
            <a:ext cx="1942920" cy="1079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Line 12"/>
          <p:cNvSpPr/>
          <p:nvPr/>
        </p:nvSpPr>
        <p:spPr>
          <a:xfrm>
            <a:off x="2050920" y="4508640"/>
            <a:ext cx="2449800" cy="433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7093080" y="1844640"/>
            <a:ext cx="1942920" cy="1079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Line 14"/>
          <p:cNvSpPr/>
          <p:nvPr/>
        </p:nvSpPr>
        <p:spPr>
          <a:xfrm flipH="1">
            <a:off x="5148360" y="2421000"/>
            <a:ext cx="1944720" cy="72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15"/>
          <p:cNvSpPr/>
          <p:nvPr/>
        </p:nvSpPr>
        <p:spPr>
          <a:xfrm>
            <a:off x="7093080" y="4005360"/>
            <a:ext cx="1942920" cy="115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Line 16"/>
          <p:cNvSpPr/>
          <p:nvPr/>
        </p:nvSpPr>
        <p:spPr>
          <a:xfrm flipH="1" flipV="1">
            <a:off x="5076360" y="4221000"/>
            <a:ext cx="2016360" cy="43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4140360" y="5950080"/>
            <a:ext cx="345600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Line 18"/>
          <p:cNvSpPr/>
          <p:nvPr/>
        </p:nvSpPr>
        <p:spPr>
          <a:xfrm flipH="1" flipV="1">
            <a:off x="4859280" y="4436640"/>
            <a:ext cx="720720" cy="1513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5364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троение сердц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8" descr="heart3"/>
          <p:cNvPicPr/>
          <p:nvPr/>
        </p:nvPicPr>
        <p:blipFill>
          <a:blip r:embed="rId1"/>
          <a:srcRect l="2673" t="9494" r="1417" b="5689"/>
          <a:stretch/>
        </p:blipFill>
        <p:spPr>
          <a:xfrm>
            <a:off x="2143080" y="1285920"/>
            <a:ext cx="4824360" cy="446544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9"/>
          <p:cNvSpPr/>
          <p:nvPr/>
        </p:nvSpPr>
        <p:spPr>
          <a:xfrm>
            <a:off x="108000" y="1700280"/>
            <a:ext cx="1942920" cy="1008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о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серд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Line 10"/>
          <p:cNvSpPr/>
          <p:nvPr/>
        </p:nvSpPr>
        <p:spPr>
          <a:xfrm>
            <a:off x="2050920" y="2276640"/>
            <a:ext cx="1657440" cy="1439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108000" y="3933720"/>
            <a:ext cx="1942920" cy="1079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ы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елудоч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2050920" y="4508640"/>
            <a:ext cx="2449800" cy="433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7093080" y="1844640"/>
            <a:ext cx="1942920" cy="1079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вое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серд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Line 14"/>
          <p:cNvSpPr/>
          <p:nvPr/>
        </p:nvSpPr>
        <p:spPr>
          <a:xfrm flipH="1">
            <a:off x="5148360" y="2421000"/>
            <a:ext cx="1944720" cy="7207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7093080" y="4005360"/>
            <a:ext cx="1942920" cy="115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Левы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желудоч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Line 16"/>
          <p:cNvSpPr/>
          <p:nvPr/>
        </p:nvSpPr>
        <p:spPr>
          <a:xfrm flipH="1" flipV="1">
            <a:off x="5076360" y="4221000"/>
            <a:ext cx="2016360" cy="432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4140360" y="5950080"/>
            <a:ext cx="3456000" cy="647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егород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Line 18"/>
          <p:cNvSpPr/>
          <p:nvPr/>
        </p:nvSpPr>
        <p:spPr>
          <a:xfrm flipH="1" flipV="1">
            <a:off x="4859280" y="4436640"/>
            <a:ext cx="720720" cy="1513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41767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лапаны сердц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6" descr="heart4"/>
          <p:cNvPicPr/>
          <p:nvPr/>
        </p:nvPicPr>
        <p:blipFill>
          <a:blip r:embed="rId1"/>
          <a:stretch/>
        </p:blipFill>
        <p:spPr>
          <a:xfrm>
            <a:off x="3276720" y="1052640"/>
            <a:ext cx="5618160" cy="449568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7"/>
          <p:cNvSpPr/>
          <p:nvPr/>
        </p:nvSpPr>
        <p:spPr>
          <a:xfrm>
            <a:off x="4859280" y="5661000"/>
            <a:ext cx="2879640" cy="1008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Line 10"/>
          <p:cNvSpPr/>
          <p:nvPr/>
        </p:nvSpPr>
        <p:spPr>
          <a:xfrm flipH="1" flipV="1">
            <a:off x="5003640" y="4220640"/>
            <a:ext cx="935280" cy="151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Line 11"/>
          <p:cNvSpPr/>
          <p:nvPr/>
        </p:nvSpPr>
        <p:spPr>
          <a:xfrm flipV="1">
            <a:off x="6300720" y="3789000"/>
            <a:ext cx="0" cy="187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4716360" y="189000"/>
            <a:ext cx="309564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Line 13"/>
          <p:cNvSpPr/>
          <p:nvPr/>
        </p:nvSpPr>
        <p:spPr>
          <a:xfrm flipH="1">
            <a:off x="5364000" y="981000"/>
            <a:ext cx="720720" cy="273528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Line 14"/>
          <p:cNvSpPr/>
          <p:nvPr/>
        </p:nvSpPr>
        <p:spPr>
          <a:xfrm flipH="1">
            <a:off x="5866920" y="981000"/>
            <a:ext cx="289080" cy="280836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417672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лапаны сердц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Picture 6" descr="heart4"/>
          <p:cNvPicPr/>
          <p:nvPr/>
        </p:nvPicPr>
        <p:blipFill>
          <a:blip r:embed="rId1"/>
          <a:stretch/>
        </p:blipFill>
        <p:spPr>
          <a:xfrm>
            <a:off x="3276720" y="1052640"/>
            <a:ext cx="5618160" cy="44956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7"/>
          <p:cNvSpPr/>
          <p:nvPr/>
        </p:nvSpPr>
        <p:spPr>
          <a:xfrm>
            <a:off x="4859280" y="5661000"/>
            <a:ext cx="2879640" cy="1008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ворчат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лапа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Line 10"/>
          <p:cNvSpPr/>
          <p:nvPr/>
        </p:nvSpPr>
        <p:spPr>
          <a:xfrm flipH="1" flipV="1">
            <a:off x="5003640" y="4220640"/>
            <a:ext cx="935280" cy="151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Line 11"/>
          <p:cNvSpPr/>
          <p:nvPr/>
        </p:nvSpPr>
        <p:spPr>
          <a:xfrm flipV="1">
            <a:off x="6300720" y="3789000"/>
            <a:ext cx="0" cy="187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Rectangle 12"/>
          <p:cNvSpPr/>
          <p:nvPr/>
        </p:nvSpPr>
        <p:spPr>
          <a:xfrm>
            <a:off x="4716360" y="189000"/>
            <a:ext cx="309564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лулу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лапа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Line 13"/>
          <p:cNvSpPr/>
          <p:nvPr/>
        </p:nvSpPr>
        <p:spPr>
          <a:xfrm flipH="1">
            <a:off x="5364000" y="981000"/>
            <a:ext cx="720720" cy="273528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Line 14"/>
          <p:cNvSpPr/>
          <p:nvPr/>
        </p:nvSpPr>
        <p:spPr>
          <a:xfrm flipH="1">
            <a:off x="5866920" y="981000"/>
            <a:ext cx="289080" cy="2808360"/>
          </a:xfrm>
          <a:prstGeom prst="line">
            <a:avLst/>
          </a:prstGeom>
          <a:ln w="572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7" descr="bicuspid_aortic_valve"/>
          <p:cNvPicPr/>
          <p:nvPr/>
        </p:nvPicPr>
        <p:blipFill>
          <a:blip r:embed="rId1"/>
          <a:stretch/>
        </p:blipFill>
        <p:spPr>
          <a:xfrm>
            <a:off x="684360" y="620640"/>
            <a:ext cx="7200720" cy="5934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сновные свойства сердечной мышц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42560" y="1905120"/>
            <a:ext cx="854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будимость-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особность переходить из состояния покоя в рабочее состояние под влиянием различных раздражителе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водимость-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особность распространять по всему сердцу возбуждение, которое возникло в какой-либо его обла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кратимость-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особность мышечной ткани сердца сокращаться под влиянием возбужд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втоматия-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особность сердца сокращаться под влиянием импульсов, возникающих в самом сердц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5364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Кровеносные сосуд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520" y="1196640"/>
            <a:ext cx="815328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Артерии – это сосуды, несущие кровь от серд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Вены – это сосуды, несущие кровь к сердц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Капилляры – это мелкие сосуды, осуществляющие обмен веществ между кровью и тканям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32000" y="259920"/>
            <a:ext cx="273672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ртер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9" descr="artery-vein"/>
          <p:cNvPicPr/>
          <p:nvPr/>
        </p:nvPicPr>
        <p:blipFill>
          <a:blip r:embed="rId1"/>
          <a:srcRect l="8606" t="0" r="2157" b="14005"/>
          <a:stretch/>
        </p:blipFill>
        <p:spPr>
          <a:xfrm>
            <a:off x="1619280" y="1052640"/>
            <a:ext cx="5977080" cy="431964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0"/>
          <p:cNvSpPr/>
          <p:nvPr/>
        </p:nvSpPr>
        <p:spPr>
          <a:xfrm>
            <a:off x="5508720" y="260280"/>
            <a:ext cx="2519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ен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3203640" y="5516640"/>
            <a:ext cx="3313080" cy="1008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ышечный сл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Line 12"/>
          <p:cNvSpPr/>
          <p:nvPr/>
        </p:nvSpPr>
        <p:spPr>
          <a:xfrm flipH="1" flipV="1">
            <a:off x="3347640" y="3357360"/>
            <a:ext cx="1079640" cy="21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Line 13"/>
          <p:cNvSpPr/>
          <p:nvPr/>
        </p:nvSpPr>
        <p:spPr>
          <a:xfrm flipV="1">
            <a:off x="4859280" y="3428640"/>
            <a:ext cx="936720" cy="208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2" descr="C:\Documents and Settings\Admin\Рабочий стол\lev1.jpg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5938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37432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пилля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Picture 6" descr="capillary"/>
          <p:cNvPicPr/>
          <p:nvPr/>
        </p:nvPicPr>
        <p:blipFill>
          <a:blip r:embed="rId1"/>
          <a:srcRect l="0" t="0" r="16465" b="-584"/>
          <a:stretch/>
        </p:blipFill>
        <p:spPr>
          <a:xfrm>
            <a:off x="179280" y="907920"/>
            <a:ext cx="5113440" cy="42498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8"/>
          <p:cNvSpPr/>
          <p:nvPr/>
        </p:nvSpPr>
        <p:spPr>
          <a:xfrm>
            <a:off x="5580000" y="981000"/>
            <a:ext cx="3168720" cy="4176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пилляр име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нослойную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енку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ircle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3471840" cy="536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ff"/>
                </a:solidFill>
                <a:latin typeface="Tahoma"/>
              </a:rPr>
              <a:t>Кровообращение – это непрерывное движение крови по замкнутой системе сосудов. </a:t>
            </a:r>
            <a:br>
              <a:rPr sz="3100"/>
            </a:b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21488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4" name="Picture 8" descr="круги"/>
          <p:cNvPicPr/>
          <p:nvPr/>
        </p:nvPicPr>
        <p:blipFill>
          <a:blip r:embed="rId1"/>
          <a:stretch/>
        </p:blipFill>
        <p:spPr>
          <a:xfrm>
            <a:off x="4429080" y="357120"/>
            <a:ext cx="4195800" cy="55436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815328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руги кровообращ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Line 4"/>
          <p:cNvSpPr/>
          <p:nvPr/>
        </p:nvSpPr>
        <p:spPr>
          <a:xfrm flipH="1">
            <a:off x="1979280" y="1268280"/>
            <a:ext cx="1800360" cy="172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539640" y="3068640"/>
            <a:ext cx="3745080" cy="1368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ольшой кру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овообращ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Line 6"/>
          <p:cNvSpPr/>
          <p:nvPr/>
        </p:nvSpPr>
        <p:spPr>
          <a:xfrm>
            <a:off x="5580000" y="1125360"/>
            <a:ext cx="1440000" cy="1943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4716360" y="3141720"/>
            <a:ext cx="3959280" cy="1439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лый (лёгочный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уг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овообращ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ичины движения кров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Сердечные сокращ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Сокращения мешечных стенок самих артер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Присасывающая роль правого желудоч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Сокращение скелетных мышц, прилегающих к вена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Ток крови в кругах кровообращ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79280" y="907920"/>
          <a:ext cx="8785440" cy="565632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к кров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лый кру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ольшой кру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каком отделе сердца начинает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каком отделе сердца заканчивает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2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апилляр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акая кровь движется по артерия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акая кровь движется по вена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0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Ток крови в кругах кровообращ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79280" y="907920"/>
          <a:ext cx="8785440" cy="571680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ок кров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лый кру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ольшой кру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каком отделе сердца начинает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правом желудочк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левом желудочк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 каком отделе сердца заканчивает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левом предсерд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правом предсердии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апилляр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лёгки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голове, конечностях, органах тел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акая кровь движется по артерия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ноз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ртериаль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Какая кровь движется по вена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ртериаль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енозна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ртериальная кровь  - кровь, насыщенная О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бедная СО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нозная кровь – кровь, насыщенная СО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и бедная О</a:t>
            </a:r>
            <a:r>
              <a:rPr b="0" lang="ru-RU" sz="32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Кровообращение – это непрерывное движение крови по замкнутой системе сосудов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Транспортные функции выполняет система кровообращения, которая состоит из сердца и сосудов (три типа)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Кровь транспортирует различные вещества, растворенные в ней по замкнутой системе сосудов за счет энергии, сообщаемой ей сердцем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ебник-стр.127-129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42960" y="3571920"/>
          <a:ext cx="7881840" cy="3360600"/>
        </p:xfrm>
        <a:graphic>
          <a:graphicData uri="http://schemas.openxmlformats.org/drawingml/2006/table">
            <a:tbl>
              <a:tblPr/>
              <a:tblGrid>
                <a:gridCol w="1969920"/>
                <a:gridCol w="1971720"/>
                <a:gridCol w="1970280"/>
                <a:gridCol w="1969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руги кровообращ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рганы, их образующ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аправление движения кров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ид кров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0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41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</p:spTree>
  </p:cSld>
  <p:transition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6"/>
          <p:cNvSpPr txBox="1"/>
          <p:nvPr/>
        </p:nvSpPr>
        <p:spPr>
          <a:xfrm>
            <a:off x="1258920" y="2133720"/>
            <a:ext cx="684216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Человек живёт-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пока бьётся сердце!</a:t>
            </a:r>
            <a:endParaRPr b="1" i="1" lang="en-US" sz="1800" spc="1" strike="noStrike">
              <a:ln w="19080">
                <a:solidFill>
                  <a:srgbClr val="ff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244" name="Picture 7" descr="HEART16"/>
          <p:cNvPicPr/>
          <p:nvPr/>
        </p:nvPicPr>
        <p:blipFill>
          <a:blip r:embed="rId5"/>
          <a:stretch/>
        </p:blipFill>
        <p:spPr>
          <a:xfrm>
            <a:off x="468360" y="620640"/>
            <a:ext cx="895320" cy="5907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2" descr="C:\Documents and Settings\Admin\Рабочий стол\ist2_8820355-human-heart.jpg"/>
          <p:cNvPicPr/>
          <p:nvPr/>
        </p:nvPicPr>
        <p:blipFill>
          <a:blip r:embed="rId1"/>
          <a:stretch/>
        </p:blipFill>
        <p:spPr>
          <a:xfrm>
            <a:off x="0" y="23760"/>
            <a:ext cx="9112320" cy="68342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истема органов кровообращ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Line 4"/>
          <p:cNvSpPr/>
          <p:nvPr/>
        </p:nvSpPr>
        <p:spPr>
          <a:xfrm flipH="1">
            <a:off x="2268360" y="1557360"/>
            <a:ext cx="1943280" cy="1295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468360" y="3068640"/>
            <a:ext cx="3816360" cy="1008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6"/>
          <p:cNvSpPr/>
          <p:nvPr/>
        </p:nvSpPr>
        <p:spPr>
          <a:xfrm>
            <a:off x="5364000" y="1484280"/>
            <a:ext cx="2087640" cy="1368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5364000" y="2997360"/>
            <a:ext cx="3600720" cy="1079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Line 8"/>
          <p:cNvSpPr/>
          <p:nvPr/>
        </p:nvSpPr>
        <p:spPr>
          <a:xfrm flipH="1">
            <a:off x="5219280" y="4076640"/>
            <a:ext cx="10810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Line 9"/>
          <p:cNvSpPr/>
          <p:nvPr/>
        </p:nvSpPr>
        <p:spPr>
          <a:xfrm flipH="1">
            <a:off x="6588000" y="4076640"/>
            <a:ext cx="43200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7524720" y="4076640"/>
            <a:ext cx="86364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11"/>
          <p:cNvSpPr/>
          <p:nvPr/>
        </p:nvSpPr>
        <p:spPr>
          <a:xfrm>
            <a:off x="4067280" y="5084640"/>
            <a:ext cx="1944720" cy="6494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5940360" y="5877000"/>
            <a:ext cx="144000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7451640" y="5300640"/>
            <a:ext cx="169236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истема органов кровообращ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Line 4"/>
          <p:cNvSpPr/>
          <p:nvPr/>
        </p:nvSpPr>
        <p:spPr>
          <a:xfrm flipH="1">
            <a:off x="2268360" y="1557360"/>
            <a:ext cx="1943280" cy="1295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68360" y="3068640"/>
            <a:ext cx="3816360" cy="1008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ердц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5364000" y="1484280"/>
            <a:ext cx="2087640" cy="1368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5364000" y="2997360"/>
            <a:ext cx="3600720" cy="10792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осу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Line 8"/>
          <p:cNvSpPr/>
          <p:nvPr/>
        </p:nvSpPr>
        <p:spPr>
          <a:xfrm flipH="1">
            <a:off x="5219280" y="4076640"/>
            <a:ext cx="1081080" cy="100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6588000" y="4076640"/>
            <a:ext cx="43200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Line 10"/>
          <p:cNvSpPr/>
          <p:nvPr/>
        </p:nvSpPr>
        <p:spPr>
          <a:xfrm>
            <a:off x="7524720" y="4076640"/>
            <a:ext cx="86364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4067280" y="5084640"/>
            <a:ext cx="1944720" cy="6494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ртер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5940360" y="5877000"/>
            <a:ext cx="144000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н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13"/>
          <p:cNvSpPr/>
          <p:nvPr/>
        </p:nvSpPr>
        <p:spPr>
          <a:xfrm>
            <a:off x="7451640" y="5300640"/>
            <a:ext cx="1692360" cy="576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пилля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ircl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ердц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3816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700" spc="-1" strike="noStrike">
                <a:solidFill>
                  <a:srgbClr val="ffffff"/>
                </a:solidFill>
                <a:latin typeface="Tahoma"/>
              </a:rPr>
              <a:t>полый мышечный орган,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ffff"/>
                </a:solidFill>
                <a:latin typeface="Tahoma"/>
              </a:rPr>
              <a:t>разделён на …. камеры,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ffff"/>
                </a:solidFill>
                <a:latin typeface="Tahoma"/>
              </a:rPr>
              <a:t>расположен в ……..</a:t>
            </a:r>
            <a:r>
              <a:rPr b="1" i="1" lang="en-US" sz="2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700" spc="-1" strike="noStrike">
                <a:solidFill>
                  <a:srgbClr val="ffffff"/>
                </a:solidFill>
                <a:latin typeface="Tahoma"/>
              </a:rPr>
              <a:t>половине грудной клетки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5" descr="serdce1"/>
          <p:cNvPicPr/>
          <p:nvPr/>
        </p:nvPicPr>
        <p:blipFill>
          <a:blip r:embed="rId1"/>
          <a:stretch/>
        </p:blipFill>
        <p:spPr>
          <a:xfrm>
            <a:off x="4286160" y="1857240"/>
            <a:ext cx="4681800" cy="3900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ердц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3816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700" spc="-1" strike="noStrike">
                <a:solidFill>
                  <a:srgbClr val="ffffff"/>
                </a:solidFill>
                <a:latin typeface="Tahoma"/>
              </a:rPr>
              <a:t>полый мышечный орган,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ffff"/>
                </a:solidFill>
                <a:latin typeface="Tahoma"/>
              </a:rPr>
              <a:t>разделён на четыре камеры,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ffff"/>
                </a:solidFill>
                <a:latin typeface="Tahoma"/>
              </a:rPr>
              <a:t>расположен в левой</a:t>
            </a:r>
            <a:r>
              <a:rPr b="1" i="1" lang="en-US" sz="2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700" spc="-1" strike="noStrike">
                <a:solidFill>
                  <a:srgbClr val="ffffff"/>
                </a:solidFill>
                <a:latin typeface="Tahoma"/>
              </a:rPr>
              <a:t>половине грудной клетки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Picture 5" descr="serdce1"/>
          <p:cNvPicPr/>
          <p:nvPr/>
        </p:nvPicPr>
        <p:blipFill>
          <a:blip r:embed="rId1"/>
          <a:stretch/>
        </p:blipFill>
        <p:spPr>
          <a:xfrm>
            <a:off x="4286160" y="1857240"/>
            <a:ext cx="4681800" cy="39006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Стенка сердца состоит из трёх слоёв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Наружный соединительнотканный (Эпикард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редний мышечный (Миокард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нутренний эпителиальный (Эндокард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Находится в околосердечной сумке  - </a:t>
            </a: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перикард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8920" y="1773000"/>
            <a:ext cx="40006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ffffff"/>
                </a:solidFill>
                <a:latin typeface="Tahoma"/>
              </a:rPr>
              <a:t>Перикард выделяет…………, ослабляющую ….. сердца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7" descr="pericardium"/>
          <p:cNvPicPr/>
          <p:nvPr/>
        </p:nvPicPr>
        <p:blipFill>
          <a:blip r:embed="rId1"/>
          <a:stretch/>
        </p:blipFill>
        <p:spPr>
          <a:xfrm>
            <a:off x="3995640" y="2349360"/>
            <a:ext cx="4969080" cy="3654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98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07:21:37Z</dcterms:created>
  <dc:creator>Ольга</dc:creator>
  <dc:description/>
  <dc:language>en-US</dc:language>
  <cp:lastModifiedBy>Olga</cp:lastModifiedBy>
  <dcterms:modified xsi:type="dcterms:W3CDTF">2017-09-30T19:54:37Z</dcterms:modified>
  <cp:revision>69</cp:revision>
  <dc:subject/>
  <dc:title>Слайд 1</dc:title>
</cp:coreProperties>
</file>