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6FF-848D-4FA6-B7CE-5845F939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0793-8D26-4EBE-9A55-B046974B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CEEA-F07B-40FA-8EAF-E87312FB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17B2-8D2B-4D72-977E-96E8E8B8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2C46-DBC0-4238-A06E-196F922C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6D62-6FDA-40DA-9CD3-072C0420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D57A-FF7E-4BD3-B7C3-FC4535D5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0C15-B4D4-4048-8136-76B192AF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D452-8AEB-44E7-9BAD-432DA292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0E5D-6D19-4A9B-B3CF-6E087D8E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17EF-685E-4B61-A471-5C9EEAAA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441-8F4B-4D9C-8D1B-7EC53A67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98D9-68F1-4E80-9569-9351F44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31C4-DDFF-42AC-8A7C-0A896440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DF60-B90D-4F77-8110-2B63A598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6D82-D170-49B1-A131-31B56CAFC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7708-5AAD-405B-B0FB-F02F5770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611A0-3E23-471E-92AC-19C0FBC9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321F6-C30C-4BC3-A377-DB09B504B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D87A9-29AB-4A22-8436-7CF611B8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3B776-C01C-4B7C-9D33-87E69AC0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040B9-03ED-4631-9751-A9BF4F2E1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1657-9E9C-4E82-BF1D-1CF7A1D8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DE60A-5084-42CC-9B9A-86ABA1AB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F0E4-F4EE-4789-A855-AF0B8BE7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5116-6E04-450C-8F93-8DAE1B82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C128-0857-4A52-A8F7-85B03A60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A2F2-D1EA-411E-8727-78097379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EE14-F50C-4E27-8B57-A53969A3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C111D-F222-443A-B994-7B8B6CDE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525F9-8DDD-49D8-88AC-58091DAD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8E63-B9CB-48C3-B297-B941C34D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6FCB-1AD1-4E77-9071-392647B3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1693-C511-44B9-8491-6B3240AE2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C505-BE89-45EE-90CF-2C9EAC67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73960-1E0B-4D16-A649-D188CF09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2D1E5-CED7-4469-B04D-59FBCA85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9F013-EDE6-4BED-8B9E-64D4562B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4DC8-1F89-4AF6-809D-1569C5D3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60362-09CA-4096-8FD7-C20D2EAC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18542-CBF7-49EF-B62B-753B28F3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1BE4-5FC9-4DA7-8690-EB914450B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1914F-7879-4EBD-80AB-B4E98D12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5AC3-BE79-4549-97EC-212C9689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D92-EE7F-4F42-A2E0-C853FA90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F0DE4-2254-4375-944A-F9B64BFFF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9C8BA-6580-4FB4-A45F-D3102103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001FA-2950-4866-A570-5431C9D3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3D9E8-88B4-4A58-8D16-8DB7E4AB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4666-8422-42DD-A290-2DA0A092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F1D80-1D14-4F3E-B21D-0BC35517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D13CB-0ABA-4BEE-A436-7A3C0B98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B90EE-54BA-49A8-A0D1-66B04E68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2EBD9-04F8-4D2C-9F33-2D3B6B33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BFDEB-D06D-4FBE-B73D-09F07127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6EA0-BEED-48BB-9AE8-E62B16BF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62DE8-06EE-4FC8-9FA3-D4B65424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66D-F4D3-40E5-837F-A4089D8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7F4-223C-4EC1-9D9A-BAE8F343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B18-C07A-441A-83B3-11087326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7342-7F41-4AFC-8D9C-2014B85660C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234A-0183-4C07-90F8-1495FD14651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2645-D375-4002-8A8F-7E06FD001A7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BFE-5D02-4FBC-AB7C-E0A35487C6FD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E7BD-8054-40E9-B084-F56692E3DA8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artfound.ru/cvetovoj-krug/" TargetMode="External"/><Relationship Id="rId2" Type="http://schemas.openxmlformats.org/officeDocument/2006/relationships/hyperlink" Target="http://3dmax.1bs.ru/node/406" TargetMode="External"/><Relationship Id="rId3" Type="http://schemas.openxmlformats.org/officeDocument/2006/relationships/hyperlink" Target="http://bremanicosmetics.com/img/color_wheel_2.jpg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4"/>
          <p:cNvSpPr/>
          <p:nvPr/>
        </p:nvSpPr>
        <p:spPr>
          <a:xfrm>
            <a:off x="285840" y="357120"/>
            <a:ext cx="8572320" cy="6143760"/>
          </a:xfrm>
          <a:prstGeom prst="rect">
            <a:avLst/>
          </a:prstGeom>
          <a:solidFill>
            <a:srgbClr val="f9b268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Скругленный прямоугольник 5"/>
          <p:cNvGrpSpPr/>
          <p:nvPr/>
        </p:nvGrpSpPr>
        <p:grpSpPr>
          <a:xfrm>
            <a:off x="1779480" y="731880"/>
            <a:ext cx="5730840" cy="3163680"/>
            <a:chOff x="1779480" y="731880"/>
            <a:chExt cx="5730840" cy="3163680"/>
          </a:xfrm>
        </p:grpSpPr>
        <p:pic>
          <p:nvPicPr>
            <p:cNvPr id="222" name="Скругленный 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1779480" y="731880"/>
              <a:ext cx="5730840" cy="31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2003400" y="932040"/>
              <a:ext cx="5280120" cy="270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Полны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цветовой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Verdana"/>
                </a:rPr>
                <a:t>круг</a:t>
              </a:r>
              <a:r>
                <a:rPr b="1" lang="ru-RU" sz="6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Прямоугольник 6"/>
          <p:cNvSpPr/>
          <p:nvPr/>
        </p:nvSpPr>
        <p:spPr>
          <a:xfrm>
            <a:off x="2357280" y="3929040"/>
            <a:ext cx="4500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рок Изо в 6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2214720" y="4714920"/>
            <a:ext cx="47862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Рисунок 1" descr="C:\Documents and Settings\Филонов Г Н\Рабочий стол\папочка\80315.jpg"/>
          <p:cNvPicPr/>
          <p:nvPr/>
        </p:nvPicPr>
        <p:blipFill>
          <a:blip r:embed="rId1"/>
          <a:stretch/>
        </p:blipFill>
        <p:spPr>
          <a:xfrm>
            <a:off x="3714840" y="3857760"/>
            <a:ext cx="4429080" cy="2133360"/>
          </a:xfrm>
          <a:prstGeom prst="rect">
            <a:avLst/>
          </a:prstGeom>
          <a:ln w="0">
            <a:noFill/>
          </a:ln>
        </p:spPr>
      </p:pic>
      <p:sp>
        <p:nvSpPr>
          <p:cNvPr id="265" name="Прямоугольник 2"/>
          <p:cNvSpPr/>
          <p:nvPr/>
        </p:nvSpPr>
        <p:spPr>
          <a:xfrm>
            <a:off x="2428920" y="428760"/>
            <a:ext cx="4357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нтрастные ц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3"/>
          <p:cNvSpPr/>
          <p:nvPr/>
        </p:nvSpPr>
        <p:spPr>
          <a:xfrm>
            <a:off x="785880" y="2071800"/>
            <a:ext cx="750096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ни взаимно подчеркивают яркость друг друга, усиливают ее.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добные пары цветов очень часто использовались в одежде скоморохов, эти сочетания максимально броски и навязчи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785880" y="11430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а расположенные в цветовом круге напротив друг друга, т.е. отстоящие на 180 градусов, являются контрастны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C:\Documents and Settings\Филонов Г Н\Рабочий стол\1  ые уроки\original.jpg"/>
          <p:cNvPicPr/>
          <p:nvPr/>
        </p:nvPicPr>
        <p:blipFill>
          <a:blip r:embed="rId2"/>
          <a:stretch/>
        </p:blipFill>
        <p:spPr>
          <a:xfrm>
            <a:off x="857160" y="3714840"/>
            <a:ext cx="2381400" cy="23810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2428920" y="571680"/>
            <a:ext cx="450036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лиженные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родственные) ц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714240" y="1500120"/>
            <a:ext cx="75009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те цвета, которые в спектре находятся р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" descr="C:\Documents and Settings\Филонов Г Н\Рабочий стол\1  ые уроки\3 родств цвета.jpg"/>
          <p:cNvPicPr/>
          <p:nvPr/>
        </p:nvPicPr>
        <p:blipFill>
          <a:blip r:embed="rId1"/>
          <a:stretch/>
        </p:blipFill>
        <p:spPr>
          <a:xfrm>
            <a:off x="571680" y="2714760"/>
            <a:ext cx="3190680" cy="31906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C:\Documents and Settings\Филонов Г Н\Рабочий стол\1  ые уроки\600838_6744-800x600.jpg"/>
          <p:cNvPicPr/>
          <p:nvPr/>
        </p:nvPicPr>
        <p:blipFill>
          <a:blip r:embed="rId2"/>
          <a:stretch/>
        </p:blipFill>
        <p:spPr>
          <a:xfrm>
            <a:off x="4071960" y="2428920"/>
            <a:ext cx="472284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1"/>
          <p:cNvSpPr/>
          <p:nvPr/>
        </p:nvSpPr>
        <p:spPr>
          <a:xfrm>
            <a:off x="2000160" y="571680"/>
            <a:ext cx="521496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актическ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2"/>
          <p:cNvSpPr/>
          <p:nvPr/>
        </p:nvSpPr>
        <p:spPr>
          <a:xfrm>
            <a:off x="428760" y="1571760"/>
            <a:ext cx="357120" cy="428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4"/>
          <p:cNvSpPr/>
          <p:nvPr/>
        </p:nvSpPr>
        <p:spPr>
          <a:xfrm>
            <a:off x="4643280" y="4286160"/>
            <a:ext cx="357480" cy="42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6"/>
          <p:cNvSpPr/>
          <p:nvPr/>
        </p:nvSpPr>
        <p:spPr>
          <a:xfrm>
            <a:off x="1357200" y="4357800"/>
            <a:ext cx="357480" cy="428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7"/>
          <p:cNvSpPr/>
          <p:nvPr/>
        </p:nvSpPr>
        <p:spPr>
          <a:xfrm>
            <a:off x="6072120" y="1571760"/>
            <a:ext cx="357120" cy="428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8"/>
          <p:cNvSpPr/>
          <p:nvPr/>
        </p:nvSpPr>
        <p:spPr>
          <a:xfrm>
            <a:off x="3286080" y="1571760"/>
            <a:ext cx="357120" cy="42840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9"/>
          <p:cNvSpPr/>
          <p:nvPr/>
        </p:nvSpPr>
        <p:spPr>
          <a:xfrm>
            <a:off x="642960" y="1714680"/>
            <a:ext cx="2071800" cy="22143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Овал 10"/>
          <p:cNvSpPr/>
          <p:nvPr/>
        </p:nvSpPr>
        <p:spPr>
          <a:xfrm>
            <a:off x="6500880" y="1714680"/>
            <a:ext cx="2071800" cy="22143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1"/>
          <p:cNvSpPr/>
          <p:nvPr/>
        </p:nvSpPr>
        <p:spPr>
          <a:xfrm>
            <a:off x="3571920" y="1643040"/>
            <a:ext cx="2071800" cy="22147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ая соединительная линия 13"/>
          <p:cNvSpPr/>
          <p:nvPr/>
        </p:nvSpPr>
        <p:spPr>
          <a:xfrm>
            <a:off x="1677960" y="1714680"/>
            <a:ext cx="1440" cy="22158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Овал 14"/>
          <p:cNvSpPr/>
          <p:nvPr/>
        </p:nvSpPr>
        <p:spPr>
          <a:xfrm flipH="1">
            <a:off x="1642320" y="2786040"/>
            <a:ext cx="71640" cy="46080"/>
          </a:xfrm>
          <a:prstGeom prst="ellips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ая соединительная линия 17"/>
          <p:cNvSpPr/>
          <p:nvPr/>
        </p:nvSpPr>
        <p:spPr>
          <a:xfrm>
            <a:off x="4606920" y="1643040"/>
            <a:ext cx="1440" cy="22161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ая соединительная линия 23"/>
          <p:cNvSpPr/>
          <p:nvPr/>
        </p:nvSpPr>
        <p:spPr>
          <a:xfrm>
            <a:off x="3786120" y="2214720"/>
            <a:ext cx="1785960" cy="10713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ая соединительная линия 25"/>
          <p:cNvSpPr/>
          <p:nvPr/>
        </p:nvSpPr>
        <p:spPr>
          <a:xfrm flipV="1">
            <a:off x="3714840" y="2143080"/>
            <a:ext cx="1714320" cy="12477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34"/>
          <p:cNvSpPr/>
          <p:nvPr/>
        </p:nvSpPr>
        <p:spPr>
          <a:xfrm>
            <a:off x="2286000" y="4357800"/>
            <a:ext cx="1643040" cy="17859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35"/>
          <p:cNvSpPr/>
          <p:nvPr/>
        </p:nvSpPr>
        <p:spPr>
          <a:xfrm>
            <a:off x="7286760" y="2643120"/>
            <a:ext cx="428400" cy="4287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ая соединительная линия 37"/>
          <p:cNvSpPr/>
          <p:nvPr/>
        </p:nvSpPr>
        <p:spPr>
          <a:xfrm>
            <a:off x="7500960" y="1714680"/>
            <a:ext cx="1440" cy="22143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ая соединительная линия 39"/>
          <p:cNvSpPr/>
          <p:nvPr/>
        </p:nvSpPr>
        <p:spPr>
          <a:xfrm>
            <a:off x="6643800" y="2214720"/>
            <a:ext cx="1714320" cy="12855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41"/>
          <p:cNvSpPr/>
          <p:nvPr/>
        </p:nvSpPr>
        <p:spPr>
          <a:xfrm flipV="1">
            <a:off x="6715080" y="2143080"/>
            <a:ext cx="1643040" cy="12859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Овал 44"/>
          <p:cNvSpPr/>
          <p:nvPr/>
        </p:nvSpPr>
        <p:spPr>
          <a:xfrm>
            <a:off x="2071800" y="4143240"/>
            <a:ext cx="2071440" cy="221472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Овал 45"/>
          <p:cNvSpPr/>
          <p:nvPr/>
        </p:nvSpPr>
        <p:spPr>
          <a:xfrm>
            <a:off x="6715080" y="1928880"/>
            <a:ext cx="1643040" cy="17859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Овал 46"/>
          <p:cNvSpPr/>
          <p:nvPr/>
        </p:nvSpPr>
        <p:spPr>
          <a:xfrm>
            <a:off x="2857680" y="5000760"/>
            <a:ext cx="428400" cy="42840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47"/>
          <p:cNvSpPr/>
          <p:nvPr/>
        </p:nvSpPr>
        <p:spPr>
          <a:xfrm>
            <a:off x="5000760" y="4214880"/>
            <a:ext cx="2071440" cy="22143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48"/>
          <p:cNvSpPr/>
          <p:nvPr/>
        </p:nvSpPr>
        <p:spPr>
          <a:xfrm>
            <a:off x="5214960" y="4429080"/>
            <a:ext cx="1643040" cy="1785960"/>
          </a:xfrm>
          <a:prstGeom prst="ellipse">
            <a:avLst/>
          </a:prstGeom>
          <a:noFill/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49"/>
          <p:cNvSpPr/>
          <p:nvPr/>
        </p:nvSpPr>
        <p:spPr>
          <a:xfrm>
            <a:off x="5857920" y="5072040"/>
            <a:ext cx="428760" cy="42876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ая соединительная линия 51"/>
          <p:cNvSpPr/>
          <p:nvPr/>
        </p:nvSpPr>
        <p:spPr>
          <a:xfrm>
            <a:off x="3106800" y="4145040"/>
            <a:ext cx="1440" cy="221436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53"/>
          <p:cNvSpPr/>
          <p:nvPr/>
        </p:nvSpPr>
        <p:spPr>
          <a:xfrm>
            <a:off x="2286000" y="4572000"/>
            <a:ext cx="1643040" cy="13572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ая соединительная линия 56"/>
          <p:cNvSpPr/>
          <p:nvPr/>
        </p:nvSpPr>
        <p:spPr>
          <a:xfrm flipV="1">
            <a:off x="2286000" y="4572000"/>
            <a:ext cx="1643040" cy="135720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57"/>
          <p:cNvSpPr/>
          <p:nvPr/>
        </p:nvSpPr>
        <p:spPr>
          <a:xfrm>
            <a:off x="2714760" y="4500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58"/>
          <p:cNvSpPr/>
          <p:nvPr/>
        </p:nvSpPr>
        <p:spPr>
          <a:xfrm>
            <a:off x="3357720" y="50007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оугольник 60"/>
          <p:cNvSpPr/>
          <p:nvPr/>
        </p:nvSpPr>
        <p:spPr>
          <a:xfrm>
            <a:off x="2643120" y="5572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62"/>
          <p:cNvSpPr/>
          <p:nvPr/>
        </p:nvSpPr>
        <p:spPr>
          <a:xfrm>
            <a:off x="5572080" y="5572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+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оугольник 64"/>
          <p:cNvSpPr/>
          <p:nvPr/>
        </p:nvSpPr>
        <p:spPr>
          <a:xfrm>
            <a:off x="6357960" y="50720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ж+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67"/>
          <p:cNvSpPr/>
          <p:nvPr/>
        </p:nvSpPr>
        <p:spPr>
          <a:xfrm>
            <a:off x="5572080" y="45007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+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70"/>
          <p:cNvSpPr/>
          <p:nvPr/>
        </p:nvSpPr>
        <p:spPr>
          <a:xfrm>
            <a:off x="6035760" y="4216320"/>
            <a:ext cx="1440" cy="22147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72"/>
          <p:cNvSpPr/>
          <p:nvPr/>
        </p:nvSpPr>
        <p:spPr>
          <a:xfrm>
            <a:off x="5214960" y="4643280"/>
            <a:ext cx="1714320" cy="12859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74"/>
          <p:cNvSpPr/>
          <p:nvPr/>
        </p:nvSpPr>
        <p:spPr>
          <a:xfrm flipV="1">
            <a:off x="5214960" y="4643280"/>
            <a:ext cx="1643040" cy="1285920"/>
          </a:xfrm>
          <a:prstGeom prst="line">
            <a:avLst/>
          </a:prstGeom>
          <a:ln w="936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5"/>
          <p:cNvSpPr/>
          <p:nvPr/>
        </p:nvSpPr>
        <p:spPr>
          <a:xfrm>
            <a:off x="6072120" y="45007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оугольник 76"/>
          <p:cNvSpPr/>
          <p:nvPr/>
        </p:nvSpPr>
        <p:spPr>
          <a:xfrm>
            <a:off x="6072120" y="56437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77"/>
          <p:cNvSpPr/>
          <p:nvPr/>
        </p:nvSpPr>
        <p:spPr>
          <a:xfrm>
            <a:off x="5286240" y="50720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Прямоугольник 1"/>
          <p:cNvSpPr/>
          <p:nvPr/>
        </p:nvSpPr>
        <p:spPr>
          <a:xfrm>
            <a:off x="2000160" y="357120"/>
            <a:ext cx="5429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нет – ресур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1082880" y="1643040"/>
            <a:ext cx="4263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artfound.ru/cvetovoj-krug/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5"/>
          <p:cNvSpPr/>
          <p:nvPr/>
        </p:nvSpPr>
        <p:spPr>
          <a:xfrm>
            <a:off x="857160" y="2071800"/>
            <a:ext cx="428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3dmax.1bs.ru/node/4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Прямоугольник 6"/>
          <p:cNvSpPr/>
          <p:nvPr/>
        </p:nvSpPr>
        <p:spPr>
          <a:xfrm>
            <a:off x="857160" y="2500200"/>
            <a:ext cx="7572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bremanicosmetics.com/img/color_wheel_2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Прямоугольник 7"/>
          <p:cNvSpPr/>
          <p:nvPr/>
        </p:nvSpPr>
        <p:spPr>
          <a:xfrm>
            <a:off x="857160" y="29289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http://www.izomir.narod.ru/Knigi/Iskusstvo/Iskusstvo_cveta/03.htm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8"/>
          <p:cNvSpPr/>
          <p:nvPr/>
        </p:nvSpPr>
        <p:spPr>
          <a:xfrm>
            <a:off x="857160" y="3571920"/>
            <a:ext cx="46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http://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vtdesign.ucoz.r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9"/>
          <p:cNvSpPr/>
          <p:nvPr/>
        </p:nvSpPr>
        <p:spPr>
          <a:xfrm>
            <a:off x="857160" y="3929040"/>
            <a:ext cx="7858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http://www.myjulia.ru/data/cache/2010/12/13/600838_6744-800x600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0"/>
          <p:cNvSpPr/>
          <p:nvPr/>
        </p:nvSpPr>
        <p:spPr>
          <a:xfrm>
            <a:off x="857160" y="4572000"/>
            <a:ext cx="77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http://leric.diary.ru/p174813291.htm?o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C:\Documents and Settings\Филонов Г Н\Рабочий стол\папочка\17734.jpg"/>
          <p:cNvPicPr/>
          <p:nvPr/>
        </p:nvPicPr>
        <p:blipFill>
          <a:blip r:embed="rId1"/>
          <a:stretch/>
        </p:blipFill>
        <p:spPr>
          <a:xfrm>
            <a:off x="4714920" y="2428920"/>
            <a:ext cx="3857760" cy="392904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2"/>
          <p:cNvSpPr/>
          <p:nvPr/>
        </p:nvSpPr>
        <p:spPr>
          <a:xfrm>
            <a:off x="2071800" y="214200"/>
            <a:ext cx="5429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ный цветовой 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C:\Documents and Settings\Филонов Г Н\Рабочий стол\1  ые уроки\спектр1.jpg"/>
          <p:cNvPicPr/>
          <p:nvPr/>
        </p:nvPicPr>
        <p:blipFill>
          <a:blip r:embed="rId2"/>
          <a:stretch/>
        </p:blipFill>
        <p:spPr>
          <a:xfrm>
            <a:off x="571680" y="2571840"/>
            <a:ext cx="3643200" cy="37148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714240" y="861480"/>
            <a:ext cx="771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Цветовой круг — это схема, показывающая, как связаны между собой цвета видимого спектра. Таких схем в теории цвета существует множеств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C:\Documents and Settings\Филонов Г Н\Рабочий стол\1  ые уроки\схема ньютона.jpg"/>
          <p:cNvPicPr/>
          <p:nvPr/>
        </p:nvPicPr>
        <p:blipFill>
          <a:blip r:embed="rId1"/>
          <a:stretch/>
        </p:blipFill>
        <p:spPr>
          <a:xfrm>
            <a:off x="642960" y="6429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3"/>
          <p:cNvSpPr/>
          <p:nvPr/>
        </p:nvSpPr>
        <p:spPr>
          <a:xfrm>
            <a:off x="642960" y="3143160"/>
            <a:ext cx="25002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рвый цветовой круг  И. Ньют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C:\Documents and Settings\Филонов Г Н\Рабочий стол\1  ые уроки\spectr.jpg"/>
          <p:cNvPicPr/>
          <p:nvPr/>
        </p:nvPicPr>
        <p:blipFill>
          <a:blip r:embed="rId2"/>
          <a:stretch/>
        </p:blipFill>
        <p:spPr>
          <a:xfrm>
            <a:off x="3929040" y="928800"/>
            <a:ext cx="4286160" cy="85716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5"/>
          <p:cNvSpPr/>
          <p:nvPr/>
        </p:nvSpPr>
        <p:spPr>
          <a:xfrm>
            <a:off x="3571920" y="178596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Цветовой круг получается, если полосу спектра вообразить в виде гибкой пластины и согнуть ее в окруж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Documents and Settings\Филонов Г Н\Рабочий стол\1  ые уроки\таюел зуркало.jpg"/>
          <p:cNvPicPr/>
          <p:nvPr/>
        </p:nvPicPr>
        <p:blipFill>
          <a:blip r:embed="rId3"/>
          <a:stretch/>
        </p:blipFill>
        <p:spPr>
          <a:xfrm>
            <a:off x="5500800" y="3000240"/>
            <a:ext cx="3159000" cy="321480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8"/>
          <p:cNvSpPr/>
          <p:nvPr/>
        </p:nvSpPr>
        <p:spPr>
          <a:xfrm>
            <a:off x="357120" y="450072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понять основные принципы работы с цветовым кругом, его заменяют обычно упрощенной модел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9"/>
          <p:cNvSpPr/>
          <p:nvPr/>
        </p:nvSpPr>
        <p:spPr>
          <a:xfrm>
            <a:off x="5500800" y="6072120"/>
            <a:ext cx="30002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Verdana"/>
              </a:rPr>
              <a:t>Цветовой круг Итт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1000080" y="57168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новная классификация цветов делит все цвета на хроматические и ахроматическ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"/>
          <p:cNvSpPr/>
          <p:nvPr/>
        </p:nvSpPr>
        <p:spPr>
          <a:xfrm>
            <a:off x="500040" y="1785960"/>
            <a:ext cx="36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хроматические – это белый, черный и вся гамма оттенков сер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Рисунок 3" descr="C:\Documents and Settings\Филонов Г Н\Рабочий стол\папочка\66895.jpg"/>
          <p:cNvPicPr/>
          <p:nvPr/>
        </p:nvPicPr>
        <p:blipFill>
          <a:blip r:embed="rId1"/>
          <a:stretch/>
        </p:blipFill>
        <p:spPr>
          <a:xfrm>
            <a:off x="1285920" y="3214800"/>
            <a:ext cx="1928880" cy="3162240"/>
          </a:xfrm>
          <a:prstGeom prst="rect">
            <a:avLst/>
          </a:prstGeom>
          <a:ln w="9360">
            <a:solidFill>
              <a:srgbClr val="474747"/>
            </a:solidFill>
            <a:miter/>
          </a:ln>
        </p:spPr>
      </p:pic>
      <p:sp>
        <p:nvSpPr>
          <p:cNvPr id="240" name="Прямоугольник 5"/>
          <p:cNvSpPr/>
          <p:nvPr/>
        </p:nvSpPr>
        <p:spPr>
          <a:xfrm>
            <a:off x="4429080" y="1643040"/>
            <a:ext cx="4143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К хроматическим цветам относятся все цвета видимого спектра от красного до фиолетового и их оттен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Рисунок 7" descr="C:\Documents and Settings\Филонов Г Н\Рабочий стол\папочка\70832.jpg"/>
          <p:cNvPicPr/>
          <p:nvPr/>
        </p:nvPicPr>
        <p:blipFill>
          <a:blip r:embed="rId2"/>
          <a:stretch/>
        </p:blipFill>
        <p:spPr>
          <a:xfrm>
            <a:off x="5715000" y="3214800"/>
            <a:ext cx="2000160" cy="3143160"/>
          </a:xfrm>
          <a:prstGeom prst="rect">
            <a:avLst/>
          </a:prstGeom>
          <a:ln w="9360">
            <a:solidFill>
              <a:srgbClr val="656565"/>
            </a:solidFill>
            <a:miter/>
          </a:ln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785880" y="653040"/>
            <a:ext cx="76438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сно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авные, основные, цвета на цветовом круге: красный, желтый, синий. На то они и основные, что составляют основу цветового круга. Имея в руках краски только этих цветов плюс белый и черный, опытный художник создаст все остальные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2" descr="C:\Documents and Settings\Филонов Г Н\Рабочий стол\папочка\s86322.jpg"/>
          <p:cNvPicPr/>
          <p:nvPr/>
        </p:nvPicPr>
        <p:blipFill>
          <a:blip r:embed="rId1"/>
          <a:stretch/>
        </p:blipFill>
        <p:spPr>
          <a:xfrm>
            <a:off x="3714840" y="3786120"/>
            <a:ext cx="4857840" cy="1785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C:\Documents and Settings\Филонов Г Н\Рабочий стол\1  ые уроки\таюел зуркало.jpg"/>
          <p:cNvPicPr/>
          <p:nvPr/>
        </p:nvPicPr>
        <p:blipFill>
          <a:blip r:embed="rId2"/>
          <a:stretch/>
        </p:blipFill>
        <p:spPr>
          <a:xfrm>
            <a:off x="428760" y="3214800"/>
            <a:ext cx="315900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642960" y="36468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ста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Цвета второго порядка: зеленый, фиолетовый, оранжевый. Получаются путем смешивания попарно трех основных цветов: красного, желтого и синего. Например, при смешении желтого и синего - получается зеленый. Составных цветов всего три: оранжевый, зеленый и фиолетов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2" descr="C:\Documents and Settings\Филонов Г Н\Рабочий стол\папочка\s63697.jpg"/>
          <p:cNvPicPr/>
          <p:nvPr/>
        </p:nvPicPr>
        <p:blipFill>
          <a:blip r:embed="rId1"/>
          <a:stretch/>
        </p:blipFill>
        <p:spPr>
          <a:xfrm>
            <a:off x="3857760" y="2428920"/>
            <a:ext cx="4500360" cy="1285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C:\Documents and Settings\Филонов Г Н\Рабочий стол\1  ые уроки\класс триада.jpg"/>
          <p:cNvPicPr/>
          <p:nvPr/>
        </p:nvPicPr>
        <p:blipFill>
          <a:blip r:embed="rId2"/>
          <a:stretch/>
        </p:blipFill>
        <p:spPr>
          <a:xfrm>
            <a:off x="642960" y="278604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C:\Documents and Settings\Филонов Г Н\Рабочий стол\1  ые уроки\таюел зуркало.jpg"/>
          <p:cNvPicPr/>
          <p:nvPr/>
        </p:nvPicPr>
        <p:blipFill>
          <a:blip r:embed="rId3"/>
          <a:stretch/>
        </p:blipFill>
        <p:spPr>
          <a:xfrm>
            <a:off x="4578480" y="3929040"/>
            <a:ext cx="2535120" cy="25797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C:\Documents and Settings\Филонов Г Н\Рабочий стол\1  ые уроки\color_wheel_2.jpg"/>
          <p:cNvPicPr/>
          <p:nvPr/>
        </p:nvPicPr>
        <p:blipFill>
          <a:blip r:embed="rId1"/>
          <a:stretch/>
        </p:blipFill>
        <p:spPr>
          <a:xfrm>
            <a:off x="714240" y="1571760"/>
            <a:ext cx="4334040" cy="433368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2"/>
          <p:cNvSpPr/>
          <p:nvPr/>
        </p:nvSpPr>
        <p:spPr>
          <a:xfrm>
            <a:off x="2071800" y="285840"/>
            <a:ext cx="50720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плые и холодные т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5143680" y="1177560"/>
            <a:ext cx="35715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Цвета делятся на теплые и холодные. Принято считать, что красный, оранжевый и желтый цвета – теплые, а зеленый, голубой, синий и фиолетовый – холодные. Но часто художники выделяют среди оттенков каждого цвета и холодные, и теплые. Например, холодный синий – ультрамарин, теплый синий – кобальт. Красный так же может быть как холодным, так и теп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1"/>
          <p:cNvSpPr/>
          <p:nvPr/>
        </p:nvSpPr>
        <p:spPr>
          <a:xfrm>
            <a:off x="1500120" y="500040"/>
            <a:ext cx="61437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плые цвет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3"/>
          <p:cNvSpPr/>
          <p:nvPr/>
        </p:nvSpPr>
        <p:spPr>
          <a:xfrm>
            <a:off x="1214280" y="2500200"/>
            <a:ext cx="2214720" cy="214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3429000" y="2500200"/>
            <a:ext cx="2286000" cy="21430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5715000" y="2500200"/>
            <a:ext cx="2214720" cy="214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7"/>
          <p:cNvSpPr/>
          <p:nvPr/>
        </p:nvSpPr>
        <p:spPr>
          <a:xfrm>
            <a:off x="1071720" y="1071720"/>
            <a:ext cx="692928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Цвета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н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Эти цвета напоминают солнце, огонь, жа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"/>
          <p:cNvSpPr/>
          <p:nvPr/>
        </p:nvSpPr>
        <p:spPr>
          <a:xfrm>
            <a:off x="1214280" y="5074200"/>
            <a:ext cx="671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Если к любому из выбранных нами цветов добавить цвет ОГНЯ - он будет тепл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2214720" y="500040"/>
            <a:ext cx="47145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Холодные цвета</a:t>
            </a:r>
            <a:r>
              <a:rPr b="1" lang="ru-RU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71760" y="1428840"/>
            <a:ext cx="59292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Цвета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ль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 эти цвета – цвета зимы, луны, сумерек, мор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4"/>
          <p:cNvSpPr/>
          <p:nvPr/>
        </p:nvSpPr>
        <p:spPr>
          <a:xfrm>
            <a:off x="1143000" y="2714760"/>
            <a:ext cx="2214720" cy="2143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5"/>
          <p:cNvSpPr/>
          <p:nvPr/>
        </p:nvSpPr>
        <p:spPr>
          <a:xfrm>
            <a:off x="3357720" y="2714760"/>
            <a:ext cx="2286000" cy="21430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6"/>
          <p:cNvSpPr/>
          <p:nvPr/>
        </p:nvSpPr>
        <p:spPr>
          <a:xfrm>
            <a:off x="5643720" y="2714760"/>
            <a:ext cx="2214360" cy="2143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"/>
          <p:cNvSpPr/>
          <p:nvPr/>
        </p:nvSpPr>
        <p:spPr>
          <a:xfrm>
            <a:off x="1214280" y="5431320"/>
            <a:ext cx="66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Если к любому из выбранных нами цветов добавить цвет ЛЬДА - он будет холод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ристина</cp:lastModifiedBy>
  <dcterms:modified xsi:type="dcterms:W3CDTF">2013-09-15T07:34:09Z</dcterms:modified>
  <cp:revision>41</cp:revision>
  <dc:subject/>
  <dc:title>Слайд 1</dc:title>
</cp:coreProperties>
</file>