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21D-6BB1-4F92-9518-48CE563C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26E-DE3A-4909-8A98-949A8C9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49A-48C7-4C81-9724-6682C186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C0C-2530-44C5-AE19-21392611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0E7-579F-48D2-AE4E-4215BCC7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1EDB-D76D-4137-9774-BF7BFD93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87D9-9BD2-426E-AEA0-7747E2D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375A-9EE4-4D0B-9FBA-9E671D5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9C8D-29CD-4DE0-B4CF-20E1301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FE4C-8CA2-49A2-95F1-8E7F0707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C922-357A-44A4-9820-8B07C91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1DA-CC38-4FA6-9E00-9436D5F3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920E-8D84-4A00-8150-0A4901A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02E-02A6-46D6-8836-0441240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16A-E8F9-4F58-819C-C6DF27C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207D-4BDF-4DFA-84BF-D93A9A9B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466-6FF3-4CF5-B222-0E5DFD9C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71DC-531D-49E6-A631-73CD2AD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13BF-8CFC-48EC-A171-D3ADC1E1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6CEB-DBA5-47C4-9AE3-70E3823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B186-0824-4D80-8F98-0706743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5059-6EEF-4071-9AC7-B5E6E49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FCB-4351-4506-AB26-F95C17A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0CACD-6C98-495E-A6D4-6869690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ACC6-9F03-4238-82E6-0AF1FDE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3E6F-DCA0-4318-989D-A680A8F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8B2B-FD9B-43C3-A63A-9697A74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AA25-D525-4A74-B9FC-0633B01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8C5A-355F-4AD8-A92C-63835615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B5C2-F5A3-48ED-8587-0AE39019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7D25-3354-41F2-8227-9543575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35E0-25F6-4802-83A2-F8C30C4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6682-72B6-46AB-9EF5-A259DD4B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3E9-CF00-4413-99F4-35B61E6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4290-1177-4C77-B622-A229979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CD9D-6610-4D25-A767-6A21824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7DD6-BD30-4050-8CA9-EFF41B0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864A-8F05-49EC-A793-B045344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CF7E-607C-4FE6-9353-3AB5C80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42D5-960D-4481-AE4B-8E26E56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1031-9C92-48E9-8DF7-508679D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9962-C279-46E6-A964-FE7561F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42B7-45FD-4D45-B536-02ADFE82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802B-194D-47FB-A1C3-5938612F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693-9DB7-4918-A1F6-CC59F94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65AC-1026-4D75-BC26-4D5428B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DDA6-7DE8-4640-95E1-1CBBFB49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5E984-E34F-48C0-8089-C3C2B597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902B8-5407-4D22-B241-12FBCCA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E8AE-DD03-4A5A-9AE4-80373B8E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674A-54B2-4AD6-A1E4-FBB7543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5BCE-BC1A-4816-BA55-03AC97D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CCEA1-4849-4AB7-833A-B2792FD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1449-5BC5-43D4-9B92-655E6F6E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B016-33A7-447A-B52D-6BEF6933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A0C-5579-4591-9B83-AB550C96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04D0-4BEC-4352-97D5-F70935C6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DF8-75AE-451F-9166-7137DD8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734-DC92-4733-8AE3-2C315B3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A1-18F4-4D18-83B1-6BD0C26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0AB-0225-4E73-B63D-0547416DBD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C05-57DA-4F24-A7B6-6B9657BFA2B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A43-6667-4D14-A877-E6E7D3707EC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AA1C-E437-47BC-9970-02F5B7710D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8650-EC8E-47CF-9DBA-C1FB453225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found.ru/cvetovoj-krug/" TargetMode="External"/><Relationship Id="rId2" Type="http://schemas.openxmlformats.org/officeDocument/2006/relationships/hyperlink" Target="http://3dmax.1bs.ru/node/406" TargetMode="External"/><Relationship Id="rId3" Type="http://schemas.openxmlformats.org/officeDocument/2006/relationships/hyperlink" Target="http://bremanicosmetics.com/img/color_wheel_2.jpg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285840" y="357120"/>
            <a:ext cx="8572320" cy="6143760"/>
          </a:xfrm>
          <a:prstGeom prst="rect">
            <a:avLst/>
          </a:prstGeom>
          <a:solidFill>
            <a:srgbClr val="f9b268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5"/>
          <p:cNvGrpSpPr/>
          <p:nvPr/>
        </p:nvGrpSpPr>
        <p:grpSpPr>
          <a:xfrm>
            <a:off x="1779480" y="731880"/>
            <a:ext cx="5730840" cy="3163680"/>
            <a:chOff x="1779480" y="731880"/>
            <a:chExt cx="5730840" cy="3163680"/>
          </a:xfrm>
        </p:grpSpPr>
        <p:pic>
          <p:nvPicPr>
            <p:cNvPr id="222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779480" y="731880"/>
              <a:ext cx="573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003400" y="932040"/>
              <a:ext cx="528012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Полны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цветово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круг</a:t>
              </a: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Прямоугольник 6"/>
          <p:cNvSpPr/>
          <p:nvPr/>
        </p:nvSpPr>
        <p:spPr>
          <a:xfrm>
            <a:off x="2357280" y="3929040"/>
            <a:ext cx="4500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Изо 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214720" y="4714920"/>
            <a:ext cx="4786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C:\Documents and Settings\Филонов Г Н\Рабочий стол\папочка\80315.jpg"/>
          <p:cNvPicPr/>
          <p:nvPr/>
        </p:nvPicPr>
        <p:blipFill>
          <a:blip r:embed="rId1"/>
          <a:stretch/>
        </p:blipFill>
        <p:spPr>
          <a:xfrm>
            <a:off x="3714840" y="3857760"/>
            <a:ext cx="4429080" cy="21333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2428920" y="428760"/>
            <a:ext cx="43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астные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785880" y="2071800"/>
            <a:ext cx="7500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взаимно подчеркивают яркость друг друга, усиливают ее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обные пары цветов очень часто использовались в одежде скоморохов, эти сочетания максимально броски и навязчи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785880" y="11430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а расположенные в цветовом круге напротив друг друга, т.е. отстоящие на 180 градусов, являются контра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Documents and Settings\Филонов Г Н\Рабочий стол\1  ые уроки\original.jpg"/>
          <p:cNvPicPr/>
          <p:nvPr/>
        </p:nvPicPr>
        <p:blipFill>
          <a:blip r:embed="rId2"/>
          <a:stretch/>
        </p:blipFill>
        <p:spPr>
          <a:xfrm>
            <a:off x="857160" y="371484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428920" y="571680"/>
            <a:ext cx="4500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лиженны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родственные)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714240" y="1500120"/>
            <a:ext cx="7500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те цвета, которые в спектре находятся 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Documents and Settings\Филонов Г Н\Рабочий стол\1  ые уроки\3 родств цвета.jpg"/>
          <p:cNvPicPr/>
          <p:nvPr/>
        </p:nvPicPr>
        <p:blipFill>
          <a:blip r:embed="rId1"/>
          <a:stretch/>
        </p:blipFill>
        <p:spPr>
          <a:xfrm>
            <a:off x="571680" y="2714760"/>
            <a:ext cx="3190680" cy="3190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Documents and Settings\Филонов Г Н\Рабочий стол\1  ые уроки\600838_6744-800x600.jpg"/>
          <p:cNvPicPr/>
          <p:nvPr/>
        </p:nvPicPr>
        <p:blipFill>
          <a:blip r:embed="rId2"/>
          <a:stretch/>
        </p:blipFill>
        <p:spPr>
          <a:xfrm>
            <a:off x="4071960" y="2428920"/>
            <a:ext cx="472284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2000160" y="571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42876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4643280" y="4286160"/>
            <a:ext cx="357480" cy="42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357200" y="4357800"/>
            <a:ext cx="35748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607212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328608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9"/>
          <p:cNvSpPr/>
          <p:nvPr/>
        </p:nvSpPr>
        <p:spPr>
          <a:xfrm>
            <a:off x="642960" y="1714680"/>
            <a:ext cx="207180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0"/>
          <p:cNvSpPr/>
          <p:nvPr/>
        </p:nvSpPr>
        <p:spPr>
          <a:xfrm>
            <a:off x="6500880" y="1714680"/>
            <a:ext cx="207180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1"/>
          <p:cNvSpPr/>
          <p:nvPr/>
        </p:nvSpPr>
        <p:spPr>
          <a:xfrm>
            <a:off x="3571920" y="1643040"/>
            <a:ext cx="2071800" cy="22147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3"/>
          <p:cNvSpPr/>
          <p:nvPr/>
        </p:nvSpPr>
        <p:spPr>
          <a:xfrm>
            <a:off x="1677960" y="1714680"/>
            <a:ext cx="1440" cy="2215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14"/>
          <p:cNvSpPr/>
          <p:nvPr/>
        </p:nvSpPr>
        <p:spPr>
          <a:xfrm flipH="1">
            <a:off x="1642320" y="2786040"/>
            <a:ext cx="71640" cy="460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17"/>
          <p:cNvSpPr/>
          <p:nvPr/>
        </p:nvSpPr>
        <p:spPr>
          <a:xfrm>
            <a:off x="4606920" y="1643040"/>
            <a:ext cx="1440" cy="2216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3"/>
          <p:cNvSpPr/>
          <p:nvPr/>
        </p:nvSpPr>
        <p:spPr>
          <a:xfrm>
            <a:off x="3786120" y="2214720"/>
            <a:ext cx="1785960" cy="1071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5"/>
          <p:cNvSpPr/>
          <p:nvPr/>
        </p:nvSpPr>
        <p:spPr>
          <a:xfrm flipV="1">
            <a:off x="3714840" y="2143080"/>
            <a:ext cx="1714320" cy="12477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34"/>
          <p:cNvSpPr/>
          <p:nvPr/>
        </p:nvSpPr>
        <p:spPr>
          <a:xfrm>
            <a:off x="2286000" y="435780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35"/>
          <p:cNvSpPr/>
          <p:nvPr/>
        </p:nvSpPr>
        <p:spPr>
          <a:xfrm>
            <a:off x="7286760" y="2643120"/>
            <a:ext cx="42840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7"/>
          <p:cNvSpPr/>
          <p:nvPr/>
        </p:nvSpPr>
        <p:spPr>
          <a:xfrm>
            <a:off x="7500960" y="1714680"/>
            <a:ext cx="1440" cy="2214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9"/>
          <p:cNvSpPr/>
          <p:nvPr/>
        </p:nvSpPr>
        <p:spPr>
          <a:xfrm>
            <a:off x="6643800" y="2214720"/>
            <a:ext cx="1714320" cy="1285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41"/>
          <p:cNvSpPr/>
          <p:nvPr/>
        </p:nvSpPr>
        <p:spPr>
          <a:xfrm flipV="1">
            <a:off x="6715080" y="2143080"/>
            <a:ext cx="164304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44"/>
          <p:cNvSpPr/>
          <p:nvPr/>
        </p:nvSpPr>
        <p:spPr>
          <a:xfrm>
            <a:off x="2071800" y="4143240"/>
            <a:ext cx="2071440" cy="22147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45"/>
          <p:cNvSpPr/>
          <p:nvPr/>
        </p:nvSpPr>
        <p:spPr>
          <a:xfrm>
            <a:off x="6715080" y="192888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46"/>
          <p:cNvSpPr/>
          <p:nvPr/>
        </p:nvSpPr>
        <p:spPr>
          <a:xfrm>
            <a:off x="2857680" y="5000760"/>
            <a:ext cx="42840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47"/>
          <p:cNvSpPr/>
          <p:nvPr/>
        </p:nvSpPr>
        <p:spPr>
          <a:xfrm>
            <a:off x="5000760" y="4214880"/>
            <a:ext cx="207144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48"/>
          <p:cNvSpPr/>
          <p:nvPr/>
        </p:nvSpPr>
        <p:spPr>
          <a:xfrm>
            <a:off x="5214960" y="442908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49"/>
          <p:cNvSpPr/>
          <p:nvPr/>
        </p:nvSpPr>
        <p:spPr>
          <a:xfrm>
            <a:off x="5857920" y="5072040"/>
            <a:ext cx="428760" cy="4287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51"/>
          <p:cNvSpPr/>
          <p:nvPr/>
        </p:nvSpPr>
        <p:spPr>
          <a:xfrm>
            <a:off x="3106800" y="4145040"/>
            <a:ext cx="1440" cy="2214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53"/>
          <p:cNvSpPr/>
          <p:nvPr/>
        </p:nvSpPr>
        <p:spPr>
          <a:xfrm>
            <a:off x="2286000" y="4572000"/>
            <a:ext cx="1643040" cy="13572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56"/>
          <p:cNvSpPr/>
          <p:nvPr/>
        </p:nvSpPr>
        <p:spPr>
          <a:xfrm flipV="1">
            <a:off x="2286000" y="4572000"/>
            <a:ext cx="1643040" cy="13572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7"/>
          <p:cNvSpPr/>
          <p:nvPr/>
        </p:nvSpPr>
        <p:spPr>
          <a:xfrm>
            <a:off x="2714760" y="4500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8"/>
          <p:cNvSpPr/>
          <p:nvPr/>
        </p:nvSpPr>
        <p:spPr>
          <a:xfrm>
            <a:off x="3357720" y="50007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0"/>
          <p:cNvSpPr/>
          <p:nvPr/>
        </p:nvSpPr>
        <p:spPr>
          <a:xfrm>
            <a:off x="2643120" y="5572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62"/>
          <p:cNvSpPr/>
          <p:nvPr/>
        </p:nvSpPr>
        <p:spPr>
          <a:xfrm>
            <a:off x="5572080" y="5572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+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4"/>
          <p:cNvSpPr/>
          <p:nvPr/>
        </p:nvSpPr>
        <p:spPr>
          <a:xfrm>
            <a:off x="6357960" y="50720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+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67"/>
          <p:cNvSpPr/>
          <p:nvPr/>
        </p:nvSpPr>
        <p:spPr>
          <a:xfrm>
            <a:off x="5572080" y="4500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+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0"/>
          <p:cNvSpPr/>
          <p:nvPr/>
        </p:nvSpPr>
        <p:spPr>
          <a:xfrm>
            <a:off x="6035760" y="4216320"/>
            <a:ext cx="1440" cy="2214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72"/>
          <p:cNvSpPr/>
          <p:nvPr/>
        </p:nvSpPr>
        <p:spPr>
          <a:xfrm>
            <a:off x="5214960" y="4643280"/>
            <a:ext cx="171432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4"/>
          <p:cNvSpPr/>
          <p:nvPr/>
        </p:nvSpPr>
        <p:spPr>
          <a:xfrm flipV="1">
            <a:off x="5214960" y="4643280"/>
            <a:ext cx="164304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5"/>
          <p:cNvSpPr/>
          <p:nvPr/>
        </p:nvSpPr>
        <p:spPr>
          <a:xfrm>
            <a:off x="6072120" y="4500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6"/>
          <p:cNvSpPr/>
          <p:nvPr/>
        </p:nvSpPr>
        <p:spPr>
          <a:xfrm>
            <a:off x="6072120" y="5643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7"/>
          <p:cNvSpPr/>
          <p:nvPr/>
        </p:nvSpPr>
        <p:spPr>
          <a:xfrm>
            <a:off x="5286240" y="50720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2000160" y="357120"/>
            <a:ext cx="542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нет –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082880" y="1643040"/>
            <a:ext cx="42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artfound.ru/cvetovoj-krug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57160" y="2071800"/>
            <a:ext cx="428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3dmax.1bs.ru/node/4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857160" y="2500200"/>
            <a:ext cx="7572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bremanicosmetics.com/img/color_wheel_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857160" y="29289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www.izomir.narod.ru/Knigi/Iskusstvo/Iskusstvo_cveta/03.ht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8"/>
          <p:cNvSpPr/>
          <p:nvPr/>
        </p:nvSpPr>
        <p:spPr>
          <a:xfrm>
            <a:off x="857160" y="35719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vtdesign.ucoz.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857160" y="392904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www.myjulia.ru/data/cache/2010/12/13/600838_6744-800x60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0"/>
          <p:cNvSpPr/>
          <p:nvPr/>
        </p:nvSpPr>
        <p:spPr>
          <a:xfrm>
            <a:off x="857160" y="4572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leric.diary.ru/p174813291.htm?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C:\Documents and Settings\Филонов Г Н\Рабочий стол\папочка\17734.jpg"/>
          <p:cNvPicPr/>
          <p:nvPr/>
        </p:nvPicPr>
        <p:blipFill>
          <a:blip r:embed="rId1"/>
          <a:stretch/>
        </p:blipFill>
        <p:spPr>
          <a:xfrm>
            <a:off x="4714920" y="2428920"/>
            <a:ext cx="3857760" cy="39290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"/>
          <p:cNvSpPr/>
          <p:nvPr/>
        </p:nvSpPr>
        <p:spPr>
          <a:xfrm>
            <a:off x="2071800" y="214200"/>
            <a:ext cx="5429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ный цветовой 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Documents and Settings\Филонов Г Н\Рабочий стол\1  ые уроки\спектр1.jpg"/>
          <p:cNvPicPr/>
          <p:nvPr/>
        </p:nvPicPr>
        <p:blipFill>
          <a:blip r:embed="rId2"/>
          <a:stretch/>
        </p:blipFill>
        <p:spPr>
          <a:xfrm>
            <a:off x="571680" y="2571840"/>
            <a:ext cx="3643200" cy="37148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714240" y="86148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овой круг — это схема, показывающая, как связаны между собой цвета видимого спектра. Таких схем в теории цвета существует множеств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Филонов Г Н\Рабочий стол\1  ые уроки\схема ньютона.jpg"/>
          <p:cNvPicPr/>
          <p:nvPr/>
        </p:nvPicPr>
        <p:blipFill>
          <a:blip r:embed="rId1"/>
          <a:stretch/>
        </p:blipFill>
        <p:spPr>
          <a:xfrm>
            <a:off x="642960" y="6429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642960" y="3143160"/>
            <a:ext cx="25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рвый цветовой круг  И.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Documents and Settings\Филонов Г Н\Рабочий стол\1  ые уроки\spectr.jpg"/>
          <p:cNvPicPr/>
          <p:nvPr/>
        </p:nvPicPr>
        <p:blipFill>
          <a:blip r:embed="rId2"/>
          <a:stretch/>
        </p:blipFill>
        <p:spPr>
          <a:xfrm>
            <a:off x="3929040" y="928800"/>
            <a:ext cx="4286160" cy="857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3571920" y="178596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овой круг получается, если полосу спектра вообразить в виде гибкой пластины и согнуть ее в окру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Филонов Г Н\Рабочий стол\1  ые уроки\таюел зуркало.jpg"/>
          <p:cNvPicPr/>
          <p:nvPr/>
        </p:nvPicPr>
        <p:blipFill>
          <a:blip r:embed="rId3"/>
          <a:stretch/>
        </p:blipFill>
        <p:spPr>
          <a:xfrm>
            <a:off x="5500800" y="3000240"/>
            <a:ext cx="3159000" cy="32148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8"/>
          <p:cNvSpPr/>
          <p:nvPr/>
        </p:nvSpPr>
        <p:spPr>
          <a:xfrm>
            <a:off x="357120" y="450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понять основные принципы работы с цветовым кругом, его заменяют обычно упрощенной мод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5500800" y="6072120"/>
            <a:ext cx="300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Цветовой круг Ит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000080" y="5716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ая классификация цветов делит все цвета на хроматические и ахроматиче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1785960"/>
            <a:ext cx="36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хроматические – это белый, черный и вся гамма оттенков сер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C:\Documents and Settings\Филонов Г Н\Рабочий стол\папочка\66895.jpg"/>
          <p:cNvPicPr/>
          <p:nvPr/>
        </p:nvPicPr>
        <p:blipFill>
          <a:blip r:embed="rId1"/>
          <a:stretch/>
        </p:blipFill>
        <p:spPr>
          <a:xfrm>
            <a:off x="1285920" y="3214800"/>
            <a:ext cx="1928880" cy="3162240"/>
          </a:xfrm>
          <a:prstGeom prst="rect">
            <a:avLst/>
          </a:prstGeom>
          <a:ln w="9360">
            <a:solidFill>
              <a:srgbClr val="474747"/>
            </a:solidFill>
            <a:miter/>
          </a:ln>
        </p:spPr>
      </p:pic>
      <p:sp>
        <p:nvSpPr>
          <p:cNvPr id="240" name="Прямоугольник 5"/>
          <p:cNvSpPr/>
          <p:nvPr/>
        </p:nvSpPr>
        <p:spPr>
          <a:xfrm>
            <a:off x="4429080" y="1643040"/>
            <a:ext cx="4143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 хроматическим цветам относятся все цвета видимого спектра от красного до фиолетового и их отт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7" descr="C:\Documents and Settings\Филонов Г Н\Рабочий стол\папочка\70832.jpg"/>
          <p:cNvPicPr/>
          <p:nvPr/>
        </p:nvPicPr>
        <p:blipFill>
          <a:blip r:embed="rId2"/>
          <a:stretch/>
        </p:blipFill>
        <p:spPr>
          <a:xfrm>
            <a:off x="5715000" y="3214800"/>
            <a:ext cx="2000160" cy="3143160"/>
          </a:xfrm>
          <a:prstGeom prst="rect">
            <a:avLst/>
          </a:prstGeom>
          <a:ln w="9360">
            <a:solidFill>
              <a:srgbClr val="656565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785880" y="653040"/>
            <a:ext cx="76438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авные, основные, цвета на цветовом круге: красный, желтый, синий. На то они и основные, что составляют основу цветового круга. Имея в руках краски только этих цветов плюс белый и черный, опытный художник создаст все остальны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C:\Documents and Settings\Филонов Г Н\Рабочий стол\папочка\s86322.jpg"/>
          <p:cNvPicPr/>
          <p:nvPr/>
        </p:nvPicPr>
        <p:blipFill>
          <a:blip r:embed="rId1"/>
          <a:stretch/>
        </p:blipFill>
        <p:spPr>
          <a:xfrm>
            <a:off x="3714840" y="3786120"/>
            <a:ext cx="485784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Филонов Г Н\Рабочий стол\1  ые уроки\таюел зуркало.jpg"/>
          <p:cNvPicPr/>
          <p:nvPr/>
        </p:nvPicPr>
        <p:blipFill>
          <a:blip r:embed="rId2"/>
          <a:stretch/>
        </p:blipFill>
        <p:spPr>
          <a:xfrm>
            <a:off x="428760" y="3214800"/>
            <a:ext cx="315900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642960" y="36468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т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а второго порядка: зеленый, фиолетовый, оранжевый. Получаются путем смешивания попарно трех основных цветов: красного, желтого и синего. Например, при смешении желтого и синего - получается зеленый. Составных цветов всего три: оранжевый, зеленый и фиолет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2" descr="C:\Documents and Settings\Филонов Г Н\Рабочий стол\папочка\s63697.jpg"/>
          <p:cNvPicPr/>
          <p:nvPr/>
        </p:nvPicPr>
        <p:blipFill>
          <a:blip r:embed="rId1"/>
          <a:stretch/>
        </p:blipFill>
        <p:spPr>
          <a:xfrm>
            <a:off x="3857760" y="2428920"/>
            <a:ext cx="450036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Филонов Г Н\Рабочий стол\1  ые уроки\класс триада.jpg"/>
          <p:cNvPicPr/>
          <p:nvPr/>
        </p:nvPicPr>
        <p:blipFill>
          <a:blip r:embed="rId2"/>
          <a:stretch/>
        </p:blipFill>
        <p:spPr>
          <a:xfrm>
            <a:off x="642960" y="2786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Филонов Г Н\Рабочий стол\1  ые уроки\таюел зуркало.jpg"/>
          <p:cNvPicPr/>
          <p:nvPr/>
        </p:nvPicPr>
        <p:blipFill>
          <a:blip r:embed="rId3"/>
          <a:stretch/>
        </p:blipFill>
        <p:spPr>
          <a:xfrm>
            <a:off x="4578480" y="3929040"/>
            <a:ext cx="2535120" cy="257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Филонов Г Н\Рабочий стол\1  ые уроки\color_wheel_2.jpg"/>
          <p:cNvPicPr/>
          <p:nvPr/>
        </p:nvPicPr>
        <p:blipFill>
          <a:blip r:embed="rId1"/>
          <a:stretch/>
        </p:blipFill>
        <p:spPr>
          <a:xfrm>
            <a:off x="714240" y="1571760"/>
            <a:ext cx="4334040" cy="43336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2071800" y="285840"/>
            <a:ext cx="5072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плые и холодные 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143680" y="1177560"/>
            <a:ext cx="3571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а делятся на теплые и холодные. Принято считать, что красный, оранжевый и желтый цвета – теплые, а зеленый, голубой, синий и фиолетовый – холодные. Но часто художники выделяют среди оттенков каждого цвета и холодные, и теплые. Например, холодный синий – ультрамарин, теплый синий – кобальт. Красный так же может быть как холодным, так и теп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500120" y="500040"/>
            <a:ext cx="6143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плые цв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1214280" y="2500200"/>
            <a:ext cx="2214720" cy="214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3429000" y="2500200"/>
            <a:ext cx="2286000" cy="21430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5715000" y="2500200"/>
            <a:ext cx="2214720" cy="21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1071720" y="1071720"/>
            <a:ext cx="6929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Цвет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и цвета напоминают солнце, огонь, ж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1214280" y="5074200"/>
            <a:ext cx="67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сли к любому из выбранных нами цветов добавить цвет ОГНЯ - он будет тепл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214720" y="500040"/>
            <a:ext cx="4714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лодные цвет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71760" y="1428840"/>
            <a:ext cx="59292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Цвет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ль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цвета – цвета зимы, луны, сумерек,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1143000" y="2714760"/>
            <a:ext cx="2214720" cy="214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3357720" y="2714760"/>
            <a:ext cx="2286000" cy="2143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5643720" y="2714760"/>
            <a:ext cx="2214360" cy="2143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1214280" y="543132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сли к любому из выбранных нами цветов добавить цвет ЛЬДА - он будет холод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стина</cp:lastModifiedBy>
  <dcterms:modified xsi:type="dcterms:W3CDTF">2013-09-15T07:34:09Z</dcterms:modified>
  <cp:revision>41</cp:revision>
  <dc:subject/>
  <dc:title>Слайд 1</dc:title>
</cp:coreProperties>
</file>