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7.jpeg" ContentType="image/jpeg"/>
  <Override PartName="/ppt/media/image28.jpeg" ContentType="image/jpeg"/>
  <Override PartName="/ppt/media/image26.jpeg" ContentType="image/jpeg"/>
  <Override PartName="/ppt/media/image24.jpeg" ContentType="image/jpeg"/>
  <Override PartName="/ppt/media/image4.wmf" ContentType="image/x-wmf"/>
  <Override PartName="/ppt/media/image5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348-74D8-4C2B-A12A-DE33DDE8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F1FF-68BE-4113-89C9-6B721FE3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8CF5-3649-484A-9447-B50D92F7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503C-ECE8-4BBB-859C-1E209F74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056-C4A8-4007-B7EF-A8F4F495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5381-822A-4E68-A2D5-04F0DB4E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19F1-8752-421F-B215-667D2256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F14A-5AFE-44B9-A970-E2F257D1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84B-3FA1-458D-84D0-602EBAA5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251-563E-4904-A3CB-61AA829A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92E-7F53-4DD7-B371-CA4D98A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A73C-6006-44A7-BD24-2B1C664B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AF2-0CC5-4681-BFC6-0D1BCEA2F68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4140360" y="3103920"/>
            <a:ext cx="4824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Автор проекта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: </a:t>
            </a:r>
            <a:r>
              <a:rPr b="1" lang="ru-RU" sz="2400" spc="-1" strike="noStrike">
                <a:solidFill>
                  <a:srgbClr val="7030a0"/>
                </a:solidFill>
                <a:latin typeface="Arial Black"/>
              </a:rPr>
              <a:t>воспитатель Черных Н.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           </a:t>
            </a:r>
            <a:r>
              <a:rPr b="1" lang="ru-RU" sz="2400" spc="-1" strike="noStrike">
                <a:solidFill>
                  <a:srgbClr val="002060"/>
                </a:solidFill>
                <a:latin typeface="Arial Black"/>
              </a:rPr>
              <a:t>Участники проекта: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емья</a:t>
            </a:r>
            <a:r>
              <a:rPr b="1" lang="en-US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тепановых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                      (папа –Степанов Николай Серафимович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мама – Степанова Надежда Викторовн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ын – Степанов Даниил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WordArt 8"/>
          <p:cNvSpPr txBox="1"/>
          <p:nvPr/>
        </p:nvSpPr>
        <p:spPr>
          <a:xfrm>
            <a:off x="755640" y="115920"/>
            <a:ext cx="763272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О Г А Т Ы РИ  З Е М Л И  Р У С С К О Й</a:t>
            </a:r>
            <a:endParaRPr b="0" lang="en-US" sz="2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38782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916000" y="549000"/>
            <a:ext cx="577044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сего в русских былинах упоминается более 20 богатырей, среди них: Святогор, Мишута Данилович, Микула Селянинович, Ставр Годинович, новгородский богатырь Садко и друг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Но  наиболее любимые и известные – Илья Муромец, Добрыня Никитич и Алеша Попович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6" descr="OAAAAAIXtk27wgnufqR6yD0vFWS3NAFvgdbNcO6lH5DszlCu2YY0-T3zpxRT"/>
          <p:cNvPicPr/>
          <p:nvPr/>
        </p:nvPicPr>
        <p:blipFill>
          <a:blip r:embed="rId1"/>
          <a:stretch/>
        </p:blipFill>
        <p:spPr>
          <a:xfrm>
            <a:off x="250920" y="1413000"/>
            <a:ext cx="2484360" cy="24825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6877080" y="4221000"/>
            <a:ext cx="1963800" cy="24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3"/>
          <p:cNvSpPr txBox="1"/>
          <p:nvPr/>
        </p:nvSpPr>
        <p:spPr>
          <a:xfrm>
            <a:off x="4140360" y="260280"/>
            <a:ext cx="47624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ЛЬЯ МУРОМЕ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4859280" y="907920"/>
            <a:ext cx="4284720" cy="55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Главным богатырем признают Илью Муромца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Согласно одним былинам силу Илья получил от калик перехожих (бродячих богомольцев), по другой версии – от старинного богатыря Святого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00ccff"/>
              </a:buClr>
              <a:buSzPct val="120000"/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" name="Picture 16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808440" cy="41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Илья Муромец - идеал русского богатыря. Наделенный огромной физической силой, он смолоду выделялся стойкостью духа. Простота, спокойный нрав, сдержанность, отеческая забота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 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о тех, кто слабее его, и полное равнодушие к материальным благам сделали Муромца любимцем народных сказаний. Тем более что и происхождения он был простого - крестьянский сын из деревни Карачарово, что, под градом Муромо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5" descr="j0293844"/>
          <p:cNvPicPr/>
          <p:nvPr/>
        </p:nvPicPr>
        <p:blipFill>
          <a:blip r:embed="rId1"/>
          <a:stretch/>
        </p:blipFill>
        <p:spPr>
          <a:xfrm>
            <a:off x="6732720" y="5045040"/>
            <a:ext cx="2160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284720" y="18900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В Илье воплотились лучшие черты русского человека. Он говорил о себе: «Мое богатство – сила богатырская, мое дело – Руси служить, ее от врагов оборонять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Его подвиги во все времена вдохновляли  на борьбу за свою Родин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Именно поэтому Илья Муромец, несмотря на то, что является былинным героем, причислен Русской Православной церковью к лику свят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8" descr="NwAAAATeK6suUtDpvPEiP63VRz7JgsEs8bc79In1WHUYK_NJgTaP07TBAup"/>
          <p:cNvPicPr/>
          <p:nvPr/>
        </p:nvPicPr>
        <p:blipFill>
          <a:blip r:embed="rId1"/>
          <a:stretch/>
        </p:blipFill>
        <p:spPr>
          <a:xfrm>
            <a:off x="324000" y="692280"/>
            <a:ext cx="3527280" cy="54734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Times New Roman"/>
              </a:rPr>
              <a:t>В народных сказках Илья   Муромец предстаёт: сильным, смелым, могучим. Он побеждает Соловья разбойника, помогает слабым, обиженным. Защищает Русь от враг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6300720" y="3716280"/>
            <a:ext cx="2519280" cy="2852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4"/>
          <p:cNvSpPr txBox="1"/>
          <p:nvPr/>
        </p:nvSpPr>
        <p:spPr>
          <a:xfrm>
            <a:off x="3851280" y="404640"/>
            <a:ext cx="4788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БРЫНЯ НИКИТ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3635280" y="981000"/>
            <a:ext cx="532944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Добрыня Никитич  – один из главных героев русских былин («Добрыня Никитич и Тугарин Змеевич», «Бой Добрыни с Ильей Муромцем»).                               Этот богатырь не с печки слез, а воспитывался в палатах княжеских. Говорят, он был родным дядькой самого Владимира Красно Солнышко.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Picture 12" descr="NwAAAPPG8Jn8sqiWqXt48SNJpTFXKT6zHrM-ItpIzwdI3pAkdTMkFNqT34w"/>
          <p:cNvPicPr/>
          <p:nvPr/>
        </p:nvPicPr>
        <p:blipFill>
          <a:blip r:embed="rId1"/>
          <a:stretch/>
        </p:blipFill>
        <p:spPr>
          <a:xfrm>
            <a:off x="468360" y="1413000"/>
            <a:ext cx="2631960" cy="4032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780000" y="404640"/>
            <a:ext cx="4906800" cy="29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н владел редкими для богатыря качествами: знание иностранных языков, умение танцевать и играть на музыкальных инструментах, хорошие манеры. Добрыня то Забаву Путятичну, племянницу Владимира, из беды выручал, то дань привозил, которую другие и силой выбить не могли. При случае и он мог похвастать искусством владения меча. Самого Змея Горыныча уложить суме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3760" y="47520"/>
            <a:ext cx="3681360" cy="798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3924360" y="404640"/>
            <a:ext cx="4762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АЛЕША ПОПОВИ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51280" y="1268280"/>
            <a:ext cx="500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Алеша Попович – богатырь, герой русских был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Его исторический прототип – Александр Попович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В былинах Алеша побеждает не столько силой, сколько хитростью.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8" descr="NwAAAOD3zDgO_uQ4WPZ1-kH6knw6nRJ4CaoF41_nzK-u_pLR_dqMCJQkOI5"/>
          <p:cNvPicPr/>
          <p:nvPr/>
        </p:nvPicPr>
        <p:blipFill>
          <a:blip r:embed="rId1"/>
          <a:stretch/>
        </p:blipFill>
        <p:spPr>
          <a:xfrm>
            <a:off x="539640" y="1700280"/>
            <a:ext cx="2678400" cy="3959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Алеша считается в богатырской троице третьим по значению, младшенький по возрасту. Былины описывают его как физически слабого и даже хромого юношу, который добился звания богатыря благодаря уму и сообразительности, находчивости за что старшие товарищи любили Алешу как сына. Именно он свел со свету Тугарина Змия, известного многообразием своих злобных выходок: и огнем русские селения жег, и дымом душил, и искрами пугал...</a:t>
            </a:r>
            <a:r>
              <a:rPr b="0" lang="ru-RU" sz="2800" spc="-1" strike="noStrike">
                <a:solidFill>
                  <a:srgbClr val="00ccff"/>
                </a:solidFill>
                <a:latin typeface="Arial Black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j0293844"/>
          <p:cNvPicPr/>
          <p:nvPr/>
        </p:nvPicPr>
        <p:blipFill>
          <a:blip r:embed="rId1"/>
          <a:stretch/>
        </p:blipFill>
        <p:spPr>
          <a:xfrm>
            <a:off x="6300720" y="5045040"/>
            <a:ext cx="216072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42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Яркие образы богатырей нашли отражение в живописных полотнах. Самое знаменитое произведение В.М. Васнецова «Богатыри», которое создавалось почти два десятилетия (с 1881-1898 гг.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21" descr=""/>
          <p:cNvPicPr/>
          <p:nvPr/>
        </p:nvPicPr>
        <p:blipFill>
          <a:blip r:embed="rId1"/>
          <a:stretch/>
        </p:blipFill>
        <p:spPr>
          <a:xfrm>
            <a:off x="1187280" y="2060640"/>
            <a:ext cx="6986880" cy="4481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464760"/>
            <a:ext cx="807732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878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Тип проекта: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индивидуальный, информационно-исследовательск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Продолжительность проектной деятельности:</a:t>
            </a:r>
            <a:r>
              <a:rPr b="1" lang="ru-RU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краткосрочны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Творческое название проекта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: «Богатыри земли Русской»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Unicode MS"/>
              </a:rPr>
              <a:t>Основополагающий вопрос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Unicode MS"/>
              </a:rPr>
              <a:t>«Кем бы  могли стать богатыри  в  наше время?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50920" y="33336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Unicode MS"/>
              </a:rPr>
              <a:t>Тема проекта</a:t>
            </a: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:  «Образ русского героя в былинах и сказках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4356000" y="476280"/>
            <a:ext cx="47880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У Ильи с руки свисает палица, которая у древних воинов предназначалась только для смертельной схват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В Древней Руси одним из самых  распространенных видов вооружения было копье – колющее или метательное оружие, длиной от полутора до пяти мет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24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38066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003640" y="1197000"/>
            <a:ext cx="3683160" cy="48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Добрыня Никитич, изображенный на картине, держится за меч, это не просто оружие, а древний символ доблести и че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9" descr=""/>
          <p:cNvPicPr/>
          <p:nvPr/>
        </p:nvPicPr>
        <p:blipFill>
          <a:blip r:embed="rId1"/>
          <a:stretch/>
        </p:blipFill>
        <p:spPr>
          <a:xfrm>
            <a:off x="412920" y="260280"/>
            <a:ext cx="4414680" cy="5977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26920" y="1125360"/>
          <a:ext cx="324036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25360"/>
                    <a:ext cx="3240360" cy="4319640"/>
                  </a:xfrm>
                  <a:prstGeom prst="rect">
                    <a:avLst/>
                  </a:prstGeom>
                  <a:ln w="9360">
                    <a:solidFill>
                      <a:srgbClr val="00206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9" name="Rectangle 7"/>
          <p:cNvSpPr/>
          <p:nvPr/>
        </p:nvSpPr>
        <p:spPr>
          <a:xfrm>
            <a:off x="4462560" y="1341360"/>
            <a:ext cx="422424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  <a:ea typeface="Times New Roman"/>
              </a:rPr>
              <a:t>У Алеши Поповича в руках лук, представлявший собой деревянную палку, согнутую в дугу, концы которой стягивались тетевой.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На картине В. М. Васнецова богатыри   изображены в роле защитников страны. Их вид символизирует стойкость и могущество русского наро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j0293844"/>
          <p:cNvPicPr/>
          <p:nvPr/>
        </p:nvPicPr>
        <p:blipFill>
          <a:blip r:embed="rId1"/>
          <a:stretch/>
        </p:blipFill>
        <p:spPr>
          <a:xfrm>
            <a:off x="6012000" y="3860640"/>
            <a:ext cx="2520720" cy="21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2843280" y="2133720"/>
            <a:ext cx="3241440" cy="2808000"/>
          </a:xfrm>
          <a:prstGeom prst="sun">
            <a:avLst>
              <a:gd name="adj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огатыр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егодн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468360" y="1197000"/>
            <a:ext cx="223200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ртсме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Oval 9"/>
          <p:cNvSpPr/>
          <p:nvPr/>
        </p:nvSpPr>
        <p:spPr>
          <a:xfrm>
            <a:off x="6227640" y="1197000"/>
            <a:ext cx="230508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трудни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ли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324000" y="4724280"/>
            <a:ext cx="2376360" cy="107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ни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хра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6227640" y="4724280"/>
            <a:ext cx="2089440" cy="1081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еннослужащ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3"/>
          <p:cNvSpPr/>
          <p:nvPr/>
        </p:nvSpPr>
        <p:spPr>
          <a:xfrm flipH="1">
            <a:off x="2268000" y="450864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4"/>
          <p:cNvSpPr/>
          <p:nvPr/>
        </p:nvSpPr>
        <p:spPr>
          <a:xfrm flipH="1" flipV="1">
            <a:off x="2556000" y="1988640"/>
            <a:ext cx="57600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5"/>
          <p:cNvSpPr/>
          <p:nvPr/>
        </p:nvSpPr>
        <p:spPr>
          <a:xfrm>
            <a:off x="5364000" y="4508640"/>
            <a:ext cx="1079640" cy="43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16"/>
          <p:cNvSpPr/>
          <p:nvPr/>
        </p:nvSpPr>
        <p:spPr>
          <a:xfrm flipV="1">
            <a:off x="5364000" y="1988640"/>
            <a:ext cx="93672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«Кем бы стали  богатыри в наше время?»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2268360" y="404640"/>
            <a:ext cx="482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Ы В О Д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оведя исследование, ознакомившись с былинами и сказками, мультфильмами, репродукциями картин о богатырях  можно сделать выво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ерои былин имеют реальные исторические образ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ерои былин представляют разные группы населения Древней Руси. (Илья – сын крестьянина, Добрыня – сын торговца, Алёша – сын священника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 былинах герои действуют чаще всего по отдельности, но традиционно их объединяют. Наглядный пример – картина Васнецова В. М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 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« Богатыри»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Их объединяет стремление защищать Родин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ывод: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32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00ccff"/>
                </a:solidFill>
                <a:latin typeface="Arial Black"/>
              </a:rPr>
              <a:t>Русские богатыри и в настоящее время нашли бы достойное место в нашей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1476360" y="4437000"/>
            <a:ext cx="5457960" cy="15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ипотеза подтвердилась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Источники информации 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Былины и сказки: «Илья Муромец», «Соловей разбойник», «Илья Муромец и Змей Горыныч», «Князь Владимир»</a:t>
            </a: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«Добрыня Никитич и Тугарин Змеевич», «Алёша Попович», «Садко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рамзапись былины «Илья Муромец и Соловей-разбойник»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Репродукция картины В.М. Васнецова: «Три Богатыря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Художественные фильмы-сказки: «Илья Муромец», 1957г., «Садко», 1952г.реж. А. Птушко «Мосфильм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Мультфильмы: «Три богатыря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(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мультипликационный цикл), «Василиса Микулишна», «Детство Ратибора», «Два богатыря». 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 Black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Википедия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ikipedia.r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liveinternet.r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ikipedia.org/wiki/Три_богатыря(мультипликационный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_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цикл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www.peremeny.ru/book/muromets/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8" descr="1257366097_sadko"/>
          <p:cNvPicPr/>
          <p:nvPr/>
        </p:nvPicPr>
        <p:blipFill>
          <a:blip r:embed="rId1"/>
          <a:stretch/>
        </p:blipFill>
        <p:spPr>
          <a:xfrm>
            <a:off x="3348000" y="189000"/>
            <a:ext cx="2286000" cy="3168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Picture 9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2603520" cy="295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"/>
          <p:cNvPicPr/>
          <p:nvPr/>
        </p:nvPicPr>
        <p:blipFill>
          <a:blip r:embed="rId3"/>
          <a:stretch/>
        </p:blipFill>
        <p:spPr>
          <a:xfrm>
            <a:off x="6227640" y="260280"/>
            <a:ext cx="2303640" cy="3097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"/>
          <p:cNvPicPr/>
          <p:nvPr/>
        </p:nvPicPr>
        <p:blipFill>
          <a:blip r:embed="rId4"/>
          <a:stretch/>
        </p:blipFill>
        <p:spPr>
          <a:xfrm>
            <a:off x="3419640" y="3860640"/>
            <a:ext cx="2663640" cy="2643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5"/>
          <a:stretch/>
        </p:blipFill>
        <p:spPr>
          <a:xfrm>
            <a:off x="324000" y="3860640"/>
            <a:ext cx="2879640" cy="2568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"/>
          <p:cNvPicPr/>
          <p:nvPr/>
        </p:nvPicPr>
        <p:blipFill>
          <a:blip r:embed="rId6"/>
          <a:stretch/>
        </p:blipFill>
        <p:spPr>
          <a:xfrm>
            <a:off x="6442200" y="3860640"/>
            <a:ext cx="252252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ffff"/>
                </a:solidFill>
                <a:latin typeface="Tahoma"/>
              </a:rPr>
              <a:t>Краткая аннотация проек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4360" y="1284120"/>
            <a:ext cx="63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аш проект о том, какими качествами обладали и чем славились герои русских были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Среди друзей моего  сына популярны мультфильмы и компьютерные игры, герои которых Илья Муромец, Добрыня Никитич, Алеша Попович – былинные богатыр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о мы с сыном знаем о них немного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Unicode MS"/>
              </a:rPr>
              <a:t>Нас заинтересовало, какими же они были русские богатыри, защитники Родины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" name="Picture 5" descr="OAAAAOQt0wCpqLsOk0ghOiDgTBjrNTVStsSrKmbfopz-eCEtUwoobcMkFOtE"/>
          <p:cNvPicPr/>
          <p:nvPr/>
        </p:nvPicPr>
        <p:blipFill>
          <a:blip r:embed="rId1"/>
          <a:stretch/>
        </p:blipFill>
        <p:spPr>
          <a:xfrm>
            <a:off x="7093080" y="3716280"/>
            <a:ext cx="2050920" cy="3141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Формирование у детей образа героя, защитника своего государства на основе ярких впечатлений, конкретных исторических фак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Unicode MS"/>
              </a:rPr>
              <a:t>Воспитание чувства гордости за историю становления страны и потребность защищать Родину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WordArt 4"/>
          <p:cNvSpPr txBox="1"/>
          <p:nvPr/>
        </p:nvSpPr>
        <p:spPr>
          <a:xfrm>
            <a:off x="2556000" y="476280"/>
            <a:ext cx="4105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 Е Л Ь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Узнать о героях былин - богатырях, прочитав былины и русские народные сказки, просмотрев художественные фильмы-сказки, мультфильмы, репродукции карти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Узнать об исторических образах героев, особенностях жизни, внешности, старинного оружия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Представить кем могли стать богатыри в настоящее время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WordArt 4"/>
          <p:cNvSpPr txBox="1"/>
          <p:nvPr/>
        </p:nvSpPr>
        <p:spPr>
          <a:xfrm>
            <a:off x="3203640" y="476280"/>
            <a:ext cx="27367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99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ДАЧИ: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99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Гипотез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Если бы богатыри жили</a:t>
            </a: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в настоящее время, то они нашли бы достойное место в нашей жиз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5" descr="j0293844"/>
          <p:cNvPicPr/>
          <p:nvPr/>
        </p:nvPicPr>
        <p:blipFill>
          <a:blip r:embed="rId1"/>
          <a:stretch/>
        </p:blipFill>
        <p:spPr>
          <a:xfrm>
            <a:off x="5435640" y="4365720"/>
            <a:ext cx="216072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Ход исслед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знакомились с былинами и сказками: «Илья Муромец», «Соловей разбойник», «Илья Муромец и Змей Горыныч», «Князь Владимир»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«Добрыня Никитич и Тугарин Змеевич», «Алёша Попович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рослушали в грамзаписи былину «Илья Муромец и Соловей-разбойник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смотрели художественный фильм-сказку «Илья Муромец», «Садк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смотрели мультфильмы о богатыря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Рассмотрели картину В.М. Васнецова  «Три богатыря»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Дали характеристику богатырям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оказали возможную роль богатырей  в современном мир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444840" cy="516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5943600" y="3949560"/>
            <a:ext cx="2981160" cy="5396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5224320" y="291960"/>
            <a:ext cx="3443400" cy="5224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255600" y="3882960"/>
            <a:ext cx="2695680" cy="566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2773440" y="2816280"/>
            <a:ext cx="3303360" cy="57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Arial Black"/>
              </a:rPr>
              <a:t>Результаты исследования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Богатыри – герои былин  – исторических русских песен, созданных в период Русского государства (с 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IX</a:t>
            </a: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 по </a:t>
            </a:r>
            <a:r>
              <a:rPr b="1" lang="en-US" sz="2800" spc="-1" strike="noStrike">
                <a:solidFill>
                  <a:srgbClr val="00ccff"/>
                </a:solidFill>
                <a:latin typeface="Times New Roman"/>
              </a:rPr>
              <a:t>XIV</a:t>
            </a:r>
            <a:r>
              <a:rPr b="1" lang="ru-RU" sz="2800" spc="-1" strike="noStrike">
                <a:solidFill>
                  <a:srgbClr val="00ccff"/>
                </a:solidFill>
                <a:latin typeface="Times New Roman"/>
              </a:rPr>
              <a:t> вв.)                   Их пели под  аккомпанемент гуслей народные сказители – баян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1"/>
          <a:stretch/>
        </p:blipFill>
        <p:spPr>
          <a:xfrm>
            <a:off x="2124000" y="3573360"/>
            <a:ext cx="452916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06:42:10Z</dcterms:created>
  <dc:creator>Admin</dc:creator>
  <dc:description/>
  <dc:language>en-US</dc:language>
  <cp:lastModifiedBy>Надежда</cp:lastModifiedBy>
  <dcterms:modified xsi:type="dcterms:W3CDTF">2017-10-01T07:05:37Z</dcterms:modified>
  <cp:revision>81</cp:revision>
  <dc:subject/>
  <dc:title>Кем бы стал Илья Муромец в  наше время ?</dc:title>
</cp:coreProperties>
</file>