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95C5-DF14-452F-B554-52129D97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24AF-A172-4E25-A1AB-C01EC131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6D30-0496-4369-85A9-21DA9B46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F5FD-51A5-45D3-9866-4E53B827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E98-EF24-4B02-930E-110F132F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D48-419A-4E5E-958A-9E054623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F95C-54E0-45AE-ADA4-F8932884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7488-B081-4C4E-89BB-F3F1C1CE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21B3-5FA4-4301-8A3A-0525FAFC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944-14F9-4BF5-A7BF-906A5485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6F27-61B8-4896-BE73-715C0F12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6F2-6FDC-4066-8002-820479AF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83BD-D502-4159-8A11-74B592B59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428760" y="52560"/>
            <a:ext cx="9429840" cy="687672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1262160" y="-231840"/>
            <a:ext cx="7040520" cy="427356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0" y="5429160"/>
            <a:ext cx="4286160" cy="9471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МБОУСОШ№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оугольник 3"/>
          <p:cNvSpPr/>
          <p:nvPr/>
        </p:nvSpPr>
        <p:spPr>
          <a:xfrm>
            <a:off x="214200" y="3429000"/>
            <a:ext cx="1017720" cy="857160"/>
          </a:xfrm>
          <a:prstGeom prst="rect">
            <a:avLst/>
          </a:prstGeom>
          <a:solidFill>
            <a:srgbClr val="fdead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4"/>
          <p:cNvSpPr/>
          <p:nvPr/>
        </p:nvSpPr>
        <p:spPr>
          <a:xfrm>
            <a:off x="1231920" y="3429000"/>
            <a:ext cx="1017720" cy="857160"/>
          </a:xfrm>
          <a:prstGeom prst="rect">
            <a:avLst/>
          </a:prstGeom>
          <a:solidFill>
            <a:srgbClr val="fdead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5"/>
          <p:cNvSpPr/>
          <p:nvPr/>
        </p:nvSpPr>
        <p:spPr>
          <a:xfrm>
            <a:off x="2249640" y="3429000"/>
            <a:ext cx="1019160" cy="857160"/>
          </a:xfrm>
          <a:prstGeom prst="rect">
            <a:avLst/>
          </a:prstGeom>
          <a:solidFill>
            <a:srgbClr val="fdead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6"/>
          <p:cNvSpPr/>
          <p:nvPr/>
        </p:nvSpPr>
        <p:spPr>
          <a:xfrm>
            <a:off x="3268800" y="3429000"/>
            <a:ext cx="1017360" cy="857160"/>
          </a:xfrm>
          <a:prstGeom prst="rect">
            <a:avLst/>
          </a:prstGeom>
          <a:solidFill>
            <a:srgbClr val="fdead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7"/>
          <p:cNvSpPr/>
          <p:nvPr/>
        </p:nvSpPr>
        <p:spPr>
          <a:xfrm>
            <a:off x="4286160" y="3429000"/>
            <a:ext cx="1017720" cy="857160"/>
          </a:xfrm>
          <a:prstGeom prst="rect">
            <a:avLst/>
          </a:prstGeom>
          <a:solidFill>
            <a:srgbClr val="fdead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8"/>
          <p:cNvSpPr/>
          <p:nvPr/>
        </p:nvSpPr>
        <p:spPr>
          <a:xfrm>
            <a:off x="5303880" y="3429000"/>
            <a:ext cx="1019160" cy="857160"/>
          </a:xfrm>
          <a:prstGeom prst="rect">
            <a:avLst/>
          </a:prstGeom>
          <a:solidFill>
            <a:srgbClr val="fdead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9"/>
          <p:cNvSpPr/>
          <p:nvPr/>
        </p:nvSpPr>
        <p:spPr>
          <a:xfrm>
            <a:off x="6323040" y="3429000"/>
            <a:ext cx="1017720" cy="857160"/>
          </a:xfrm>
          <a:prstGeom prst="rect">
            <a:avLst/>
          </a:prstGeom>
          <a:solidFill>
            <a:srgbClr val="fdead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10"/>
          <p:cNvSpPr/>
          <p:nvPr/>
        </p:nvSpPr>
        <p:spPr>
          <a:xfrm>
            <a:off x="7340760" y="3429000"/>
            <a:ext cx="1017360" cy="857160"/>
          </a:xfrm>
          <a:prstGeom prst="rect">
            <a:avLst/>
          </a:prstGeom>
          <a:solidFill>
            <a:srgbClr val="fdead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11"/>
          <p:cNvSpPr/>
          <p:nvPr/>
        </p:nvSpPr>
        <p:spPr>
          <a:xfrm>
            <a:off x="214200" y="4286160"/>
            <a:ext cx="101772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12"/>
          <p:cNvSpPr/>
          <p:nvPr/>
        </p:nvSpPr>
        <p:spPr>
          <a:xfrm>
            <a:off x="214200" y="514368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13"/>
          <p:cNvSpPr/>
          <p:nvPr/>
        </p:nvSpPr>
        <p:spPr>
          <a:xfrm>
            <a:off x="2249640" y="2571840"/>
            <a:ext cx="101916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14"/>
          <p:cNvSpPr/>
          <p:nvPr/>
        </p:nvSpPr>
        <p:spPr>
          <a:xfrm>
            <a:off x="2249640" y="4286160"/>
            <a:ext cx="101916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5"/>
          <p:cNvSpPr/>
          <p:nvPr/>
        </p:nvSpPr>
        <p:spPr>
          <a:xfrm>
            <a:off x="2249640" y="5143680"/>
            <a:ext cx="101916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6"/>
          <p:cNvSpPr/>
          <p:nvPr/>
        </p:nvSpPr>
        <p:spPr>
          <a:xfrm>
            <a:off x="3268800" y="2571840"/>
            <a:ext cx="101736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7"/>
          <p:cNvSpPr/>
          <p:nvPr/>
        </p:nvSpPr>
        <p:spPr>
          <a:xfrm>
            <a:off x="3268800" y="1714680"/>
            <a:ext cx="101736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8"/>
          <p:cNvSpPr/>
          <p:nvPr/>
        </p:nvSpPr>
        <p:spPr>
          <a:xfrm>
            <a:off x="3268800" y="857160"/>
            <a:ext cx="101736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9"/>
          <p:cNvSpPr/>
          <p:nvPr/>
        </p:nvSpPr>
        <p:spPr>
          <a:xfrm>
            <a:off x="3268800" y="4286160"/>
            <a:ext cx="101736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0"/>
          <p:cNvSpPr/>
          <p:nvPr/>
        </p:nvSpPr>
        <p:spPr>
          <a:xfrm>
            <a:off x="4286160" y="257184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21"/>
          <p:cNvSpPr/>
          <p:nvPr/>
        </p:nvSpPr>
        <p:spPr>
          <a:xfrm>
            <a:off x="4286160" y="4286160"/>
            <a:ext cx="101772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2"/>
          <p:cNvSpPr/>
          <p:nvPr/>
        </p:nvSpPr>
        <p:spPr>
          <a:xfrm>
            <a:off x="4286160" y="514368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3"/>
          <p:cNvSpPr/>
          <p:nvPr/>
        </p:nvSpPr>
        <p:spPr>
          <a:xfrm>
            <a:off x="1231920" y="4286160"/>
            <a:ext cx="101772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24"/>
          <p:cNvSpPr/>
          <p:nvPr/>
        </p:nvSpPr>
        <p:spPr>
          <a:xfrm>
            <a:off x="1231920" y="257184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5"/>
          <p:cNvSpPr/>
          <p:nvPr/>
        </p:nvSpPr>
        <p:spPr>
          <a:xfrm>
            <a:off x="1231920" y="171468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6"/>
          <p:cNvSpPr/>
          <p:nvPr/>
        </p:nvSpPr>
        <p:spPr>
          <a:xfrm>
            <a:off x="1231920" y="857160"/>
            <a:ext cx="101772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27"/>
          <p:cNvSpPr/>
          <p:nvPr/>
        </p:nvSpPr>
        <p:spPr>
          <a:xfrm>
            <a:off x="1231920" y="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9"/>
          <p:cNvSpPr/>
          <p:nvPr/>
        </p:nvSpPr>
        <p:spPr>
          <a:xfrm>
            <a:off x="218880" y="3467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30"/>
          <p:cNvSpPr/>
          <p:nvPr/>
        </p:nvSpPr>
        <p:spPr>
          <a:xfrm>
            <a:off x="1217160" y="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1"/>
          <p:cNvSpPr/>
          <p:nvPr/>
        </p:nvSpPr>
        <p:spPr>
          <a:xfrm>
            <a:off x="2290320" y="2610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2"/>
          <p:cNvSpPr/>
          <p:nvPr/>
        </p:nvSpPr>
        <p:spPr>
          <a:xfrm>
            <a:off x="3288960" y="9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3"/>
          <p:cNvSpPr/>
          <p:nvPr/>
        </p:nvSpPr>
        <p:spPr>
          <a:xfrm>
            <a:off x="4289040" y="2610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34"/>
          <p:cNvSpPr/>
          <p:nvPr/>
        </p:nvSpPr>
        <p:spPr>
          <a:xfrm>
            <a:off x="6340320" y="4286160"/>
            <a:ext cx="101772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35"/>
          <p:cNvSpPr/>
          <p:nvPr/>
        </p:nvSpPr>
        <p:spPr>
          <a:xfrm>
            <a:off x="6340320" y="257184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6"/>
          <p:cNvSpPr/>
          <p:nvPr/>
        </p:nvSpPr>
        <p:spPr>
          <a:xfrm>
            <a:off x="6340320" y="171468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37"/>
          <p:cNvSpPr/>
          <p:nvPr/>
        </p:nvSpPr>
        <p:spPr>
          <a:xfrm>
            <a:off x="6340320" y="857160"/>
            <a:ext cx="101772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38"/>
          <p:cNvSpPr/>
          <p:nvPr/>
        </p:nvSpPr>
        <p:spPr>
          <a:xfrm>
            <a:off x="6340320" y="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9"/>
          <p:cNvSpPr/>
          <p:nvPr/>
        </p:nvSpPr>
        <p:spPr>
          <a:xfrm>
            <a:off x="7358040" y="257184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40"/>
          <p:cNvSpPr/>
          <p:nvPr/>
        </p:nvSpPr>
        <p:spPr>
          <a:xfrm>
            <a:off x="7358040" y="4286160"/>
            <a:ext cx="101772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41"/>
          <p:cNvSpPr/>
          <p:nvPr/>
        </p:nvSpPr>
        <p:spPr>
          <a:xfrm>
            <a:off x="7358040" y="514368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42"/>
          <p:cNvSpPr/>
          <p:nvPr/>
        </p:nvSpPr>
        <p:spPr>
          <a:xfrm>
            <a:off x="7358040" y="600084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3"/>
          <p:cNvSpPr/>
          <p:nvPr/>
        </p:nvSpPr>
        <p:spPr>
          <a:xfrm>
            <a:off x="6360840" y="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4"/>
          <p:cNvSpPr/>
          <p:nvPr/>
        </p:nvSpPr>
        <p:spPr>
          <a:xfrm>
            <a:off x="7360920" y="2538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46"/>
          <p:cNvSpPr/>
          <p:nvPr/>
        </p:nvSpPr>
        <p:spPr>
          <a:xfrm>
            <a:off x="5286240" y="4286160"/>
            <a:ext cx="1017720" cy="857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7"/>
          <p:cNvSpPr/>
          <p:nvPr/>
        </p:nvSpPr>
        <p:spPr>
          <a:xfrm>
            <a:off x="5286240" y="5143680"/>
            <a:ext cx="1017720" cy="8571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48"/>
          <p:cNvSpPr/>
          <p:nvPr/>
        </p:nvSpPr>
        <p:spPr>
          <a:xfrm>
            <a:off x="5290920" y="3395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Группа 52"/>
          <p:cNvGrpSpPr/>
          <p:nvPr/>
        </p:nvGrpSpPr>
        <p:grpSpPr>
          <a:xfrm>
            <a:off x="357120" y="3357720"/>
            <a:ext cx="642960" cy="2707200"/>
            <a:chOff x="357120" y="3357720"/>
            <a:chExt cx="642960" cy="2707200"/>
          </a:xfrm>
        </p:grpSpPr>
        <p:sp>
          <p:nvSpPr>
            <p:cNvPr id="163" name="TextBox 49"/>
            <p:cNvSpPr/>
            <p:nvPr/>
          </p:nvSpPr>
          <p:spPr>
            <a:xfrm>
              <a:off x="357120" y="3357720"/>
              <a:ext cx="571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Э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50"/>
            <p:cNvSpPr/>
            <p:nvPr/>
          </p:nvSpPr>
          <p:spPr>
            <a:xfrm>
              <a:off x="428400" y="4214880"/>
              <a:ext cx="571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51"/>
            <p:cNvSpPr/>
            <p:nvPr/>
          </p:nvSpPr>
          <p:spPr>
            <a:xfrm>
              <a:off x="357120" y="5056560"/>
              <a:ext cx="571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Группа 59"/>
          <p:cNvGrpSpPr/>
          <p:nvPr/>
        </p:nvGrpSpPr>
        <p:grpSpPr>
          <a:xfrm>
            <a:off x="1361880" y="-87480"/>
            <a:ext cx="844920" cy="5366520"/>
            <a:chOff x="1361880" y="-87480"/>
            <a:chExt cx="844920" cy="5366520"/>
          </a:xfrm>
        </p:grpSpPr>
        <p:sp>
          <p:nvSpPr>
            <p:cNvPr id="167" name="TextBox 53"/>
            <p:cNvSpPr/>
            <p:nvPr/>
          </p:nvSpPr>
          <p:spPr>
            <a:xfrm>
              <a:off x="1406880" y="-874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54"/>
            <p:cNvSpPr/>
            <p:nvPr/>
          </p:nvSpPr>
          <p:spPr>
            <a:xfrm>
              <a:off x="1433160" y="769680"/>
              <a:ext cx="773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55"/>
            <p:cNvSpPr/>
            <p:nvPr/>
          </p:nvSpPr>
          <p:spPr>
            <a:xfrm>
              <a:off x="1433160" y="164268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Box 56"/>
            <p:cNvSpPr/>
            <p:nvPr/>
          </p:nvSpPr>
          <p:spPr>
            <a:xfrm>
              <a:off x="1361880" y="2484360"/>
              <a:ext cx="773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57"/>
            <p:cNvSpPr/>
            <p:nvPr/>
          </p:nvSpPr>
          <p:spPr>
            <a:xfrm>
              <a:off x="1442520" y="3341880"/>
              <a:ext cx="624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58"/>
            <p:cNvSpPr/>
            <p:nvPr/>
          </p:nvSpPr>
          <p:spPr>
            <a:xfrm>
              <a:off x="1433160" y="427068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Группа 64"/>
          <p:cNvGrpSpPr/>
          <p:nvPr/>
        </p:nvGrpSpPr>
        <p:grpSpPr>
          <a:xfrm>
            <a:off x="2379240" y="2500200"/>
            <a:ext cx="902160" cy="3509280"/>
            <a:chOff x="2379240" y="2500200"/>
            <a:chExt cx="902160" cy="3509280"/>
          </a:xfrm>
        </p:grpSpPr>
        <p:sp>
          <p:nvSpPr>
            <p:cNvPr id="174" name="TextBox 60"/>
            <p:cNvSpPr/>
            <p:nvPr/>
          </p:nvSpPr>
          <p:spPr>
            <a:xfrm>
              <a:off x="2465280" y="2500200"/>
              <a:ext cx="816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61"/>
            <p:cNvSpPr/>
            <p:nvPr/>
          </p:nvSpPr>
          <p:spPr>
            <a:xfrm>
              <a:off x="2436480" y="3341880"/>
              <a:ext cx="773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62"/>
            <p:cNvSpPr/>
            <p:nvPr/>
          </p:nvSpPr>
          <p:spPr>
            <a:xfrm>
              <a:off x="2433600" y="419940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63"/>
            <p:cNvSpPr/>
            <p:nvPr/>
          </p:nvSpPr>
          <p:spPr>
            <a:xfrm>
              <a:off x="2379240" y="500112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Группа 74"/>
          <p:cNvGrpSpPr/>
          <p:nvPr/>
        </p:nvGrpSpPr>
        <p:grpSpPr>
          <a:xfrm>
            <a:off x="3505320" y="785880"/>
            <a:ext cx="727920" cy="4366440"/>
            <a:chOff x="3505320" y="785880"/>
            <a:chExt cx="727920" cy="4366440"/>
          </a:xfrm>
        </p:grpSpPr>
        <p:sp>
          <p:nvSpPr>
            <p:cNvPr id="179" name="TextBox 65"/>
            <p:cNvSpPr/>
            <p:nvPr/>
          </p:nvSpPr>
          <p:spPr>
            <a:xfrm>
              <a:off x="3505320" y="785880"/>
              <a:ext cx="72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66"/>
            <p:cNvSpPr/>
            <p:nvPr/>
          </p:nvSpPr>
          <p:spPr>
            <a:xfrm>
              <a:off x="3505320" y="162756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Ч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67"/>
            <p:cNvSpPr/>
            <p:nvPr/>
          </p:nvSpPr>
          <p:spPr>
            <a:xfrm>
              <a:off x="3505320" y="248508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68"/>
            <p:cNvSpPr/>
            <p:nvPr/>
          </p:nvSpPr>
          <p:spPr>
            <a:xfrm>
              <a:off x="3508920" y="3342240"/>
              <a:ext cx="68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69"/>
            <p:cNvSpPr/>
            <p:nvPr/>
          </p:nvSpPr>
          <p:spPr>
            <a:xfrm>
              <a:off x="3505320" y="414396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Группа 75"/>
          <p:cNvGrpSpPr/>
          <p:nvPr/>
        </p:nvGrpSpPr>
        <p:grpSpPr>
          <a:xfrm>
            <a:off x="4433760" y="2500200"/>
            <a:ext cx="790560" cy="3509280"/>
            <a:chOff x="4433760" y="2500200"/>
            <a:chExt cx="790560" cy="3509280"/>
          </a:xfrm>
        </p:grpSpPr>
        <p:sp>
          <p:nvSpPr>
            <p:cNvPr id="185" name="TextBox 70"/>
            <p:cNvSpPr/>
            <p:nvPr/>
          </p:nvSpPr>
          <p:spPr>
            <a:xfrm>
              <a:off x="4450680" y="250020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71"/>
            <p:cNvSpPr/>
            <p:nvPr/>
          </p:nvSpPr>
          <p:spPr>
            <a:xfrm>
              <a:off x="4450680" y="3357360"/>
              <a:ext cx="773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72"/>
            <p:cNvSpPr/>
            <p:nvPr/>
          </p:nvSpPr>
          <p:spPr>
            <a:xfrm>
              <a:off x="4433760" y="4143600"/>
              <a:ext cx="697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73"/>
            <p:cNvSpPr/>
            <p:nvPr/>
          </p:nvSpPr>
          <p:spPr>
            <a:xfrm>
              <a:off x="4438080" y="500112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Группа 90"/>
          <p:cNvGrpSpPr/>
          <p:nvPr/>
        </p:nvGrpSpPr>
        <p:grpSpPr>
          <a:xfrm>
            <a:off x="5504760" y="3357720"/>
            <a:ext cx="688680" cy="2707200"/>
            <a:chOff x="5504760" y="3357720"/>
            <a:chExt cx="688680" cy="2707200"/>
          </a:xfrm>
        </p:grpSpPr>
        <p:sp>
          <p:nvSpPr>
            <p:cNvPr id="190" name="TextBox 76"/>
            <p:cNvSpPr/>
            <p:nvPr/>
          </p:nvSpPr>
          <p:spPr>
            <a:xfrm>
              <a:off x="5575680" y="3357720"/>
              <a:ext cx="593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77"/>
            <p:cNvSpPr/>
            <p:nvPr/>
          </p:nvSpPr>
          <p:spPr>
            <a:xfrm>
              <a:off x="5505120" y="419940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78"/>
            <p:cNvSpPr/>
            <p:nvPr/>
          </p:nvSpPr>
          <p:spPr>
            <a:xfrm>
              <a:off x="5504760" y="5056560"/>
              <a:ext cx="64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З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Группа 91"/>
          <p:cNvGrpSpPr/>
          <p:nvPr/>
        </p:nvGrpSpPr>
        <p:grpSpPr>
          <a:xfrm>
            <a:off x="6576480" y="-87480"/>
            <a:ext cx="731880" cy="5295240"/>
            <a:chOff x="6576480" y="-87480"/>
            <a:chExt cx="731880" cy="5295240"/>
          </a:xfrm>
        </p:grpSpPr>
        <p:sp>
          <p:nvSpPr>
            <p:cNvPr id="194" name="TextBox 79"/>
            <p:cNvSpPr/>
            <p:nvPr/>
          </p:nvSpPr>
          <p:spPr>
            <a:xfrm>
              <a:off x="6576480" y="-87480"/>
              <a:ext cx="593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80"/>
            <p:cNvSpPr/>
            <p:nvPr/>
          </p:nvSpPr>
          <p:spPr>
            <a:xfrm>
              <a:off x="6577200" y="78516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81"/>
            <p:cNvSpPr/>
            <p:nvPr/>
          </p:nvSpPr>
          <p:spPr>
            <a:xfrm>
              <a:off x="6577200" y="162720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82"/>
            <p:cNvSpPr/>
            <p:nvPr/>
          </p:nvSpPr>
          <p:spPr>
            <a:xfrm>
              <a:off x="6577560" y="248436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83"/>
            <p:cNvSpPr/>
            <p:nvPr/>
          </p:nvSpPr>
          <p:spPr>
            <a:xfrm>
              <a:off x="6579000" y="3357360"/>
              <a:ext cx="727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Box 84"/>
            <p:cNvSpPr/>
            <p:nvPr/>
          </p:nvSpPr>
          <p:spPr>
            <a:xfrm>
              <a:off x="6576840" y="4199400"/>
              <a:ext cx="645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Группа 92"/>
          <p:cNvGrpSpPr/>
          <p:nvPr/>
        </p:nvGrpSpPr>
        <p:grpSpPr>
          <a:xfrm>
            <a:off x="7576560" y="2428920"/>
            <a:ext cx="731880" cy="4493160"/>
            <a:chOff x="7576560" y="2428920"/>
            <a:chExt cx="731880" cy="4493160"/>
          </a:xfrm>
        </p:grpSpPr>
        <p:sp>
          <p:nvSpPr>
            <p:cNvPr id="201" name="TextBox 85"/>
            <p:cNvSpPr/>
            <p:nvPr/>
          </p:nvSpPr>
          <p:spPr>
            <a:xfrm>
              <a:off x="7576560" y="2428920"/>
              <a:ext cx="697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Д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Box 86"/>
            <p:cNvSpPr/>
            <p:nvPr/>
          </p:nvSpPr>
          <p:spPr>
            <a:xfrm>
              <a:off x="7577640" y="33418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Я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Box 87"/>
            <p:cNvSpPr/>
            <p:nvPr/>
          </p:nvSpPr>
          <p:spPr>
            <a:xfrm>
              <a:off x="7576920" y="4199040"/>
              <a:ext cx="645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88"/>
            <p:cNvSpPr/>
            <p:nvPr/>
          </p:nvSpPr>
          <p:spPr>
            <a:xfrm>
              <a:off x="7577280" y="5056560"/>
              <a:ext cx="68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89"/>
            <p:cNvSpPr/>
            <p:nvPr/>
          </p:nvSpPr>
          <p:spPr>
            <a:xfrm>
              <a:off x="7580880" y="5913720"/>
              <a:ext cx="68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000000"/>
                  </a:solidFill>
                  <a:latin typeface="Arial"/>
                </a:rPr>
                <a:t>Л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://arxangelo.files.wordpress.com/2010/04/42867944_59.gif"/>
          <p:cNvPicPr/>
          <p:nvPr/>
        </p:nvPicPr>
        <p:blipFill>
          <a:blip r:embed="rId1"/>
          <a:stretch/>
        </p:blipFill>
        <p:spPr>
          <a:xfrm>
            <a:off x="-14400" y="-71280"/>
            <a:ext cx="9444240" cy="72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3"/>
          <p:cNvSpPr/>
          <p:nvPr/>
        </p:nvSpPr>
        <p:spPr>
          <a:xfrm>
            <a:off x="1659240" y="500040"/>
            <a:ext cx="56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заимосвязи в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758520" y="1857240"/>
            <a:ext cx="145188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506520" y="4059360"/>
            <a:ext cx="190116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Жив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507120" y="1844640"/>
            <a:ext cx="191952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8"/>
          <p:cNvSpPr/>
          <p:nvPr/>
        </p:nvSpPr>
        <p:spPr>
          <a:xfrm>
            <a:off x="3431520" y="4059360"/>
            <a:ext cx="205056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9"/>
          <p:cNvSpPr/>
          <p:nvPr/>
        </p:nvSpPr>
        <p:spPr>
          <a:xfrm>
            <a:off x="6644520" y="1857240"/>
            <a:ext cx="170172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0"/>
          <p:cNvSpPr/>
          <p:nvPr/>
        </p:nvSpPr>
        <p:spPr>
          <a:xfrm>
            <a:off x="6647400" y="4059360"/>
            <a:ext cx="1768680" cy="58140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Круговая стрелка 12"/>
          <p:cNvSpPr/>
          <p:nvPr/>
        </p:nvSpPr>
        <p:spPr>
          <a:xfrm rot="5721600">
            <a:off x="1251720" y="2326320"/>
            <a:ext cx="1643040" cy="1714320"/>
          </a:xfrm>
          <a:custGeom>
            <a:avLst/>
            <a:gdLst/>
            <a:ahLst/>
            <a:rect l="l" t="t" r="r" b="b"/>
            <a:pathLst>
              <a:path w="1643063" h="1714500">
                <a:moveTo>
                  <a:pt x="102691" y="857250"/>
                </a:moveTo>
                <a:cubicBezTo>
                  <a:pt x="102691" y="483762"/>
                  <a:pt x="362990" y="166469"/>
                  <a:pt x="714858" y="111045"/>
                </a:cubicBezTo>
                <a:cubicBezTo>
                  <a:pt x="1073940" y="54485"/>
                  <a:pt x="1416824" y="287896"/>
                  <a:pt x="1514096" y="655109"/>
                </a:cubicBezTo>
                <a:lnTo>
                  <a:pt x="1612690" y="655109"/>
                </a:lnTo>
                <a:lnTo>
                  <a:pt x="1437680" y="857250"/>
                </a:lnTo>
                <a:lnTo>
                  <a:pt x="1201925" y="655109"/>
                </a:lnTo>
                <a:lnTo>
                  <a:pt x="1298941" y="655109"/>
                </a:lnTo>
                <a:cubicBezTo>
                  <a:pt x="1206411" y="405113"/>
                  <a:pt x="958258" y="263532"/>
                  <a:pt x="712596" y="320576"/>
                </a:cubicBezTo>
                <a:cubicBezTo>
                  <a:pt x="476500" y="375399"/>
                  <a:pt x="308075" y="598847"/>
                  <a:pt x="308075" y="857250"/>
                </a:cubicBezTo>
                <a:lnTo>
                  <a:pt x="102691" y="85725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Круговая стрелка 13"/>
          <p:cNvSpPr/>
          <p:nvPr/>
        </p:nvSpPr>
        <p:spPr>
          <a:xfrm flipH="1" flipV="1" rot="5721600">
            <a:off x="-34200" y="2396880"/>
            <a:ext cx="1643040" cy="1714680"/>
          </a:xfrm>
          <a:custGeom>
            <a:avLst/>
            <a:gdLst/>
            <a:ahLst/>
            <a:rect l="l" t="t" r="r" b="b"/>
            <a:pathLst>
              <a:path w="1643062" h="1714500">
                <a:moveTo>
                  <a:pt x="102691" y="857250"/>
                </a:moveTo>
                <a:cubicBezTo>
                  <a:pt x="102691" y="483762"/>
                  <a:pt x="362990" y="166469"/>
                  <a:pt x="714858" y="111045"/>
                </a:cubicBezTo>
                <a:cubicBezTo>
                  <a:pt x="1073940" y="54485"/>
                  <a:pt x="1416824" y="287896"/>
                  <a:pt x="1514096" y="655109"/>
                </a:cubicBezTo>
                <a:lnTo>
                  <a:pt x="1612689" y="655109"/>
                </a:lnTo>
                <a:lnTo>
                  <a:pt x="1437679" y="857250"/>
                </a:lnTo>
                <a:lnTo>
                  <a:pt x="1201924" y="655109"/>
                </a:lnTo>
                <a:lnTo>
                  <a:pt x="1298940" y="655109"/>
                </a:lnTo>
                <a:cubicBezTo>
                  <a:pt x="1206410" y="405113"/>
                  <a:pt x="958257" y="263532"/>
                  <a:pt x="712595" y="320576"/>
                </a:cubicBezTo>
                <a:cubicBezTo>
                  <a:pt x="476499" y="375399"/>
                  <a:pt x="308074" y="598847"/>
                  <a:pt x="308074" y="857250"/>
                </a:cubicBezTo>
                <a:lnTo>
                  <a:pt x="102691" y="85725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Круговая стрелка 14"/>
          <p:cNvSpPr/>
          <p:nvPr/>
        </p:nvSpPr>
        <p:spPr>
          <a:xfrm rot="5721600">
            <a:off x="4251600" y="2326320"/>
            <a:ext cx="1643040" cy="1714680"/>
          </a:xfrm>
          <a:custGeom>
            <a:avLst/>
            <a:gdLst/>
            <a:ahLst/>
            <a:rect l="l" t="t" r="r" b="b"/>
            <a:pathLst>
              <a:path w="1643063" h="1714500">
                <a:moveTo>
                  <a:pt x="102691" y="857250"/>
                </a:moveTo>
                <a:cubicBezTo>
                  <a:pt x="102691" y="483762"/>
                  <a:pt x="362990" y="166469"/>
                  <a:pt x="714858" y="111045"/>
                </a:cubicBezTo>
                <a:cubicBezTo>
                  <a:pt x="1073940" y="54485"/>
                  <a:pt x="1416824" y="287896"/>
                  <a:pt x="1514096" y="655109"/>
                </a:cubicBezTo>
                <a:lnTo>
                  <a:pt x="1612690" y="655109"/>
                </a:lnTo>
                <a:lnTo>
                  <a:pt x="1437680" y="857250"/>
                </a:lnTo>
                <a:lnTo>
                  <a:pt x="1201925" y="655109"/>
                </a:lnTo>
                <a:lnTo>
                  <a:pt x="1298941" y="655109"/>
                </a:lnTo>
                <a:cubicBezTo>
                  <a:pt x="1206411" y="405113"/>
                  <a:pt x="958258" y="263532"/>
                  <a:pt x="712596" y="320576"/>
                </a:cubicBezTo>
                <a:cubicBezTo>
                  <a:pt x="476500" y="375399"/>
                  <a:pt x="308075" y="598847"/>
                  <a:pt x="308075" y="857250"/>
                </a:cubicBezTo>
                <a:lnTo>
                  <a:pt x="102691" y="85725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Круговая стрелка 15"/>
          <p:cNvSpPr/>
          <p:nvPr/>
        </p:nvSpPr>
        <p:spPr>
          <a:xfrm flipH="1" flipV="1" rot="5721600">
            <a:off x="2965680" y="2396520"/>
            <a:ext cx="1643040" cy="1715040"/>
          </a:xfrm>
          <a:custGeom>
            <a:avLst/>
            <a:gdLst/>
            <a:ahLst/>
            <a:rect l="l" t="t" r="r" b="b"/>
            <a:pathLst>
              <a:path w="1643062" h="1714500">
                <a:moveTo>
                  <a:pt x="102691" y="857250"/>
                </a:moveTo>
                <a:cubicBezTo>
                  <a:pt x="102691" y="483762"/>
                  <a:pt x="362990" y="166469"/>
                  <a:pt x="714858" y="111045"/>
                </a:cubicBezTo>
                <a:cubicBezTo>
                  <a:pt x="1073940" y="54485"/>
                  <a:pt x="1416824" y="287896"/>
                  <a:pt x="1514096" y="655109"/>
                </a:cubicBezTo>
                <a:lnTo>
                  <a:pt x="1612689" y="655109"/>
                </a:lnTo>
                <a:lnTo>
                  <a:pt x="1437679" y="857250"/>
                </a:lnTo>
                <a:lnTo>
                  <a:pt x="1201924" y="655109"/>
                </a:lnTo>
                <a:lnTo>
                  <a:pt x="1298940" y="655109"/>
                </a:lnTo>
                <a:cubicBezTo>
                  <a:pt x="1206410" y="405113"/>
                  <a:pt x="958257" y="263532"/>
                  <a:pt x="712595" y="320576"/>
                </a:cubicBezTo>
                <a:cubicBezTo>
                  <a:pt x="476499" y="375399"/>
                  <a:pt x="308074" y="598847"/>
                  <a:pt x="308074" y="857250"/>
                </a:cubicBezTo>
                <a:lnTo>
                  <a:pt x="102691" y="85725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Круговая стрелка 16"/>
          <p:cNvSpPr/>
          <p:nvPr/>
        </p:nvSpPr>
        <p:spPr>
          <a:xfrm rot="5721600">
            <a:off x="7323480" y="2316600"/>
            <a:ext cx="1643040" cy="1714680"/>
          </a:xfrm>
          <a:custGeom>
            <a:avLst/>
            <a:gdLst/>
            <a:ahLst/>
            <a:rect l="l" t="t" r="r" b="b"/>
            <a:pathLst>
              <a:path w="1643063" h="1714500">
                <a:moveTo>
                  <a:pt x="102691" y="857250"/>
                </a:moveTo>
                <a:cubicBezTo>
                  <a:pt x="102691" y="483762"/>
                  <a:pt x="362990" y="166469"/>
                  <a:pt x="714858" y="111045"/>
                </a:cubicBezTo>
                <a:cubicBezTo>
                  <a:pt x="1073940" y="54485"/>
                  <a:pt x="1416824" y="287896"/>
                  <a:pt x="1514096" y="655109"/>
                </a:cubicBezTo>
                <a:lnTo>
                  <a:pt x="1612690" y="655109"/>
                </a:lnTo>
                <a:lnTo>
                  <a:pt x="1437680" y="857250"/>
                </a:lnTo>
                <a:lnTo>
                  <a:pt x="1201925" y="655109"/>
                </a:lnTo>
                <a:lnTo>
                  <a:pt x="1298941" y="655109"/>
                </a:lnTo>
                <a:cubicBezTo>
                  <a:pt x="1206411" y="405113"/>
                  <a:pt x="958258" y="263532"/>
                  <a:pt x="712596" y="320576"/>
                </a:cubicBezTo>
                <a:cubicBezTo>
                  <a:pt x="476500" y="375399"/>
                  <a:pt x="308075" y="598847"/>
                  <a:pt x="308075" y="857250"/>
                </a:cubicBezTo>
                <a:lnTo>
                  <a:pt x="102691" y="85725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Круговая стрелка 17"/>
          <p:cNvSpPr/>
          <p:nvPr/>
        </p:nvSpPr>
        <p:spPr>
          <a:xfrm flipH="1" flipV="1" rot="5721600">
            <a:off x="6037560" y="2387160"/>
            <a:ext cx="1643040" cy="1715040"/>
          </a:xfrm>
          <a:custGeom>
            <a:avLst/>
            <a:gdLst/>
            <a:ahLst/>
            <a:rect l="l" t="t" r="r" b="b"/>
            <a:pathLst>
              <a:path w="1643062" h="1714500">
                <a:moveTo>
                  <a:pt x="102691" y="857250"/>
                </a:moveTo>
                <a:cubicBezTo>
                  <a:pt x="102691" y="483762"/>
                  <a:pt x="362990" y="166469"/>
                  <a:pt x="714858" y="111045"/>
                </a:cubicBezTo>
                <a:cubicBezTo>
                  <a:pt x="1073940" y="54485"/>
                  <a:pt x="1416824" y="287896"/>
                  <a:pt x="1514096" y="655109"/>
                </a:cubicBezTo>
                <a:lnTo>
                  <a:pt x="1612689" y="655109"/>
                </a:lnTo>
                <a:lnTo>
                  <a:pt x="1437679" y="857250"/>
                </a:lnTo>
                <a:lnTo>
                  <a:pt x="1201924" y="655109"/>
                </a:lnTo>
                <a:lnTo>
                  <a:pt x="1298940" y="655109"/>
                </a:lnTo>
                <a:cubicBezTo>
                  <a:pt x="1206410" y="405113"/>
                  <a:pt x="958257" y="263532"/>
                  <a:pt x="712595" y="320576"/>
                </a:cubicBezTo>
                <a:cubicBezTo>
                  <a:pt x="476499" y="375399"/>
                  <a:pt x="308074" y="598847"/>
                  <a:pt x="308074" y="857250"/>
                </a:cubicBezTo>
                <a:lnTo>
                  <a:pt x="102691" y="85725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-34200" y="5187960"/>
            <a:ext cx="923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чём состоит значение неживой природы для жив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живая природа влияет на неживу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238680" y="5929200"/>
            <a:ext cx="85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Эколог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наука о связях между живыми существ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окружающей их средой, между человеком и природой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893520" y="142920"/>
            <a:ext cx="19530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экос» - 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http://iconizer.net/files/Human_o2/orig/old-go-home.png"/>
          <p:cNvPicPr/>
          <p:nvPr/>
        </p:nvPicPr>
        <p:blipFill>
          <a:blip r:embed="rId2"/>
          <a:stretch/>
        </p:blipFill>
        <p:spPr>
          <a:xfrm>
            <a:off x="1071720" y="812880"/>
            <a:ext cx="2000160" cy="2000160"/>
          </a:xfrm>
          <a:prstGeom prst="rect">
            <a:avLst/>
          </a:prstGeom>
          <a:ln w="0">
            <a:noFill/>
          </a:ln>
        </p:spPr>
      </p:pic>
      <p:sp>
        <p:nvSpPr>
          <p:cNvPr id="63" name="TextBox 18"/>
          <p:cNvSpPr/>
          <p:nvPr/>
        </p:nvSpPr>
        <p:spPr>
          <a:xfrm>
            <a:off x="2378880" y="2955960"/>
            <a:ext cx="40348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я – «наука о дом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5793120" y="142920"/>
            <a:ext cx="240732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логос» - нау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http://www.copah.info/system/files/upload/2011-07-14/science_labwork(1).gif"/>
          <p:cNvPicPr/>
          <p:nvPr/>
        </p:nvPicPr>
        <p:blipFill>
          <a:blip r:embed="rId3"/>
          <a:stretch/>
        </p:blipFill>
        <p:spPr>
          <a:xfrm>
            <a:off x="5214960" y="741240"/>
            <a:ext cx="3429000" cy="214308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1"/>
          <p:cNvSpPr/>
          <p:nvPr/>
        </p:nvSpPr>
        <p:spPr>
          <a:xfrm>
            <a:off x="3643200" y="1285920"/>
            <a:ext cx="12146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22"/>
          <p:cNvSpPr/>
          <p:nvPr/>
        </p:nvSpPr>
        <p:spPr>
          <a:xfrm rot="5400000">
            <a:off x="3643200" y="1285920"/>
            <a:ext cx="12146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http://www.nrooanti.lact.ru/uploads/f1/s/5/323/image/1084/289/medium_earth.gif"/>
          <p:cNvPicPr/>
          <p:nvPr/>
        </p:nvPicPr>
        <p:blipFill>
          <a:blip r:embed="rId4"/>
          <a:stretch/>
        </p:blipFill>
        <p:spPr>
          <a:xfrm>
            <a:off x="3071880" y="3357720"/>
            <a:ext cx="271440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91800" y="-71280"/>
            <a:ext cx="918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кружающая сре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часть среды, непосредств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ающей некоторую живую систему (человека, живот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тение) и состоящей из объектов живой и неживой прир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g.alibaba.com/photo/51007803/Sculpture_Thinker_.jpg"/>
          <p:cNvPicPr/>
          <p:nvPr/>
        </p:nvPicPr>
        <p:blipFill>
          <a:blip r:embed="rId2"/>
          <a:stretch/>
        </p:blipFill>
        <p:spPr>
          <a:xfrm>
            <a:off x="3224160" y="1736640"/>
            <a:ext cx="2622600" cy="3389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oblepiha.com/uploads/posts/2010-11/1289874519_01.jpg"/>
          <p:cNvPicPr/>
          <p:nvPr/>
        </p:nvPicPr>
        <p:blipFill>
          <a:blip r:embed="rId3"/>
          <a:stretch/>
        </p:blipFill>
        <p:spPr>
          <a:xfrm>
            <a:off x="1504800" y="4376880"/>
            <a:ext cx="2560680" cy="3309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moesolnyshko.com/wp-content/uploads/2011/01/zayats1.png"/>
          <p:cNvPicPr/>
          <p:nvPr/>
        </p:nvPicPr>
        <p:blipFill>
          <a:blip r:embed="rId4"/>
          <a:stretch/>
        </p:blipFill>
        <p:spPr>
          <a:xfrm>
            <a:off x="5132520" y="4599000"/>
            <a:ext cx="2011320" cy="1733400"/>
          </a:xfrm>
          <a:prstGeom prst="rect">
            <a:avLst/>
          </a:prstGeom>
          <a:ln w="0">
            <a:noFill/>
          </a:ln>
        </p:spPr>
      </p:pic>
      <p:sp>
        <p:nvSpPr>
          <p:cNvPr id="74" name="Овал 8"/>
          <p:cNvSpPr/>
          <p:nvPr/>
        </p:nvSpPr>
        <p:spPr>
          <a:xfrm>
            <a:off x="3286080" y="1643040"/>
            <a:ext cx="2500200" cy="2428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0"/>
          <p:cNvSpPr/>
          <p:nvPr/>
        </p:nvSpPr>
        <p:spPr>
          <a:xfrm>
            <a:off x="1500120" y="4143240"/>
            <a:ext cx="2643120" cy="2714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1"/>
          <p:cNvSpPr/>
          <p:nvPr/>
        </p:nvSpPr>
        <p:spPr>
          <a:xfrm>
            <a:off x="1071720" y="3786120"/>
            <a:ext cx="3500280" cy="3286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2"/>
          <p:cNvSpPr/>
          <p:nvPr/>
        </p:nvSpPr>
        <p:spPr>
          <a:xfrm>
            <a:off x="2857680" y="1214280"/>
            <a:ext cx="3429000" cy="333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3"/>
          <p:cNvSpPr/>
          <p:nvPr/>
        </p:nvSpPr>
        <p:spPr>
          <a:xfrm>
            <a:off x="4357800" y="3813120"/>
            <a:ext cx="3429000" cy="333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4"/>
          <p:cNvSpPr/>
          <p:nvPr/>
        </p:nvSpPr>
        <p:spPr>
          <a:xfrm>
            <a:off x="4857840" y="4313160"/>
            <a:ext cx="2500200" cy="2428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321840" y="214200"/>
            <a:ext cx="857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с – это сообщество растений из деревьев, кустарник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в, мхов, грибов, лишай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img-fotki.yandex.ru/get/4206/yes06.135/0_2d3cc_a22cb7e0_XL.jpg"/>
          <p:cNvPicPr/>
          <p:nvPr/>
        </p:nvPicPr>
        <p:blipFill>
          <a:blip r:embed="rId2"/>
          <a:stretch/>
        </p:blipFill>
        <p:spPr>
          <a:xfrm>
            <a:off x="0" y="1143000"/>
            <a:ext cx="90486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2223360" y="428760"/>
            <a:ext cx="49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ль леса в природ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71280" y="1285920"/>
            <a:ext cx="2214720" cy="39290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ac090"/>
              </a:gs>
            </a:gsLst>
            <a:lin ang="8100000"/>
          </a:gra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82440" y="2585880"/>
            <a:ext cx="20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ЛЕ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2357280" y="1428840"/>
            <a:ext cx="671544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 для растений, животных, гри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357280" y="2119320"/>
            <a:ext cx="6715440" cy="520560"/>
          </a:xfrm>
          <a:prstGeom prst="rect">
            <a:avLst/>
          </a:prstGeom>
          <a:gradFill rotWithShape="0">
            <a:gsLst>
              <a:gs pos="0">
                <a:srgbClr val="eb70ee"/>
              </a:gs>
              <a:gs pos="100000">
                <a:srgbClr val="eb70e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ник воздуха, водоемов и поч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2357280" y="2833560"/>
            <a:ext cx="671544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отдых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2357280" y="3500280"/>
            <a:ext cx="6715440" cy="947160"/>
          </a:xfrm>
          <a:prstGeom prst="rect">
            <a:avLst/>
          </a:prstGeom>
          <a:gradFill rotWithShape="0">
            <a:gsLst>
              <a:gs pos="0">
                <a:srgbClr val="eb70ee"/>
              </a:gs>
              <a:gs pos="100000">
                <a:srgbClr val="eb70ee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ягод, грибов, лекарственн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2357280" y="4619520"/>
            <a:ext cx="6715440" cy="520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точник древес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4"/>
          <p:cNvSpPr/>
          <p:nvPr/>
        </p:nvSpPr>
        <p:spPr>
          <a:xfrm>
            <a:off x="1243080" y="71280"/>
            <a:ext cx="70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вила поведения в лес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Группа 14"/>
          <p:cNvGrpSpPr/>
          <p:nvPr/>
        </p:nvGrpSpPr>
        <p:grpSpPr>
          <a:xfrm>
            <a:off x="500040" y="714240"/>
            <a:ext cx="2571840" cy="2426760"/>
            <a:chOff x="500040" y="714240"/>
            <a:chExt cx="2571840" cy="2426760"/>
          </a:xfrm>
        </p:grpSpPr>
        <p:pic>
          <p:nvPicPr>
            <p:cNvPr id="95" name="Picture 4" descr="http://goodsi.ru/wp-content/uploads/2010/09/portablemusicplayer_01525_600x450px_lg.jpg"/>
            <p:cNvPicPr/>
            <p:nvPr/>
          </p:nvPicPr>
          <p:blipFill>
            <a:blip r:embed="rId2"/>
            <a:stretch/>
          </p:blipFill>
          <p:spPr>
            <a:xfrm>
              <a:off x="500040" y="714240"/>
              <a:ext cx="2571840" cy="19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6"/>
            <p:cNvSpPr/>
            <p:nvPr/>
          </p:nvSpPr>
          <p:spPr>
            <a:xfrm>
              <a:off x="507960" y="2681280"/>
              <a:ext cx="241632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шуми в лес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Группа 17"/>
          <p:cNvGrpSpPr/>
          <p:nvPr/>
        </p:nvGrpSpPr>
        <p:grpSpPr>
          <a:xfrm>
            <a:off x="368640" y="3500280"/>
            <a:ext cx="2485080" cy="3254760"/>
            <a:chOff x="368640" y="3500280"/>
            <a:chExt cx="2485080" cy="3254760"/>
          </a:xfrm>
        </p:grpSpPr>
        <p:pic>
          <p:nvPicPr>
            <p:cNvPr id="98" name="Picture 6" descr="http://shiitake.h1.ru/muh.jpg"/>
            <p:cNvPicPr/>
            <p:nvPr/>
          </p:nvPicPr>
          <p:blipFill>
            <a:blip r:embed="rId3"/>
            <a:stretch/>
          </p:blipFill>
          <p:spPr>
            <a:xfrm>
              <a:off x="714240" y="3500280"/>
              <a:ext cx="1929240" cy="25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Box 8"/>
            <p:cNvSpPr/>
            <p:nvPr/>
          </p:nvSpPr>
          <p:spPr>
            <a:xfrm>
              <a:off x="368640" y="5929560"/>
              <a:ext cx="24850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лома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ядовитые гриб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Группа 15"/>
          <p:cNvGrpSpPr/>
          <p:nvPr/>
        </p:nvGrpSpPr>
        <p:grpSpPr>
          <a:xfrm>
            <a:off x="3764160" y="714240"/>
            <a:ext cx="1799280" cy="2826000"/>
            <a:chOff x="3764160" y="714240"/>
            <a:chExt cx="1799280" cy="2826000"/>
          </a:xfrm>
        </p:grpSpPr>
        <p:pic>
          <p:nvPicPr>
            <p:cNvPr id="101" name="Picture 7" descr=""/>
            <p:cNvPicPr/>
            <p:nvPr/>
          </p:nvPicPr>
          <p:blipFill>
            <a:blip r:embed="rId4"/>
            <a:stretch/>
          </p:blipFill>
          <p:spPr>
            <a:xfrm>
              <a:off x="3928680" y="714240"/>
              <a:ext cx="1571760" cy="20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10"/>
            <p:cNvSpPr/>
            <p:nvPr/>
          </p:nvSpPr>
          <p:spPr>
            <a:xfrm>
              <a:off x="3764160" y="2714760"/>
              <a:ext cx="179928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обижа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живот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Группа 18"/>
          <p:cNvGrpSpPr/>
          <p:nvPr/>
        </p:nvGrpSpPr>
        <p:grpSpPr>
          <a:xfrm>
            <a:off x="3500280" y="4500720"/>
            <a:ext cx="2428920" cy="1931400"/>
            <a:chOff x="3500280" y="4500720"/>
            <a:chExt cx="2428920" cy="1931400"/>
          </a:xfrm>
        </p:grpSpPr>
        <p:pic>
          <p:nvPicPr>
            <p:cNvPr id="104" name="Picture 13" descr=""/>
            <p:cNvPicPr/>
            <p:nvPr/>
          </p:nvPicPr>
          <p:blipFill>
            <a:blip r:embed="rId5"/>
            <a:stretch/>
          </p:blipFill>
          <p:spPr>
            <a:xfrm>
              <a:off x="3500280" y="4500720"/>
              <a:ext cx="2428920" cy="15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12"/>
            <p:cNvSpPr/>
            <p:nvPr/>
          </p:nvSpPr>
          <p:spPr>
            <a:xfrm>
              <a:off x="3738600" y="5972400"/>
              <a:ext cx="1678680" cy="459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мусор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Группа 19"/>
          <p:cNvGrpSpPr/>
          <p:nvPr/>
        </p:nvGrpSpPr>
        <p:grpSpPr>
          <a:xfrm>
            <a:off x="6357960" y="3714840"/>
            <a:ext cx="2357280" cy="2968560"/>
            <a:chOff x="6357960" y="3714840"/>
            <a:chExt cx="2357280" cy="2968560"/>
          </a:xfrm>
        </p:grpSpPr>
        <p:pic>
          <p:nvPicPr>
            <p:cNvPr id="107" name="Picture 12" descr="http://beccasheppard.files.wordpress.com/2011/06/4613bird_nest.jpg"/>
            <p:cNvPicPr/>
            <p:nvPr/>
          </p:nvPicPr>
          <p:blipFill>
            <a:blip r:embed="rId6"/>
            <a:stretch/>
          </p:blipFill>
          <p:spPr>
            <a:xfrm>
              <a:off x="6357960" y="3714840"/>
              <a:ext cx="2357280" cy="23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Box 13"/>
            <p:cNvSpPr/>
            <p:nvPr/>
          </p:nvSpPr>
          <p:spPr>
            <a:xfrm>
              <a:off x="6590880" y="5857920"/>
              <a:ext cx="180684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разоря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гнез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Группа 16"/>
          <p:cNvGrpSpPr/>
          <p:nvPr/>
        </p:nvGrpSpPr>
        <p:grpSpPr>
          <a:xfrm>
            <a:off x="6429240" y="785880"/>
            <a:ext cx="2071800" cy="2781360"/>
            <a:chOff x="6429240" y="785880"/>
            <a:chExt cx="2071800" cy="2781360"/>
          </a:xfrm>
        </p:grpSpPr>
        <p:pic>
          <p:nvPicPr>
            <p:cNvPr id="110" name="Picture 10" descr="http://static.freepik.com/free-photo/fire-june-holiday-s_17-1024113521.jpg"/>
            <p:cNvPicPr/>
            <p:nvPr/>
          </p:nvPicPr>
          <p:blipFill>
            <a:blip r:embed="rId7"/>
            <a:stretch/>
          </p:blipFill>
          <p:spPr>
            <a:xfrm>
              <a:off x="6429240" y="785880"/>
              <a:ext cx="2071800" cy="23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Box 14"/>
            <p:cNvSpPr/>
            <p:nvPr/>
          </p:nvSpPr>
          <p:spPr>
            <a:xfrm>
              <a:off x="6504480" y="2741760"/>
              <a:ext cx="1812960" cy="82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 развод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ого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egeteka.ru/upload/medialibrary/639/63981e4f88ac9b9970a02312adab91b4.png"/>
          <p:cNvPicPr/>
          <p:nvPr/>
        </p:nvPicPr>
        <p:blipFill>
          <a:blip r:embed="rId2"/>
          <a:stretch/>
        </p:blipFill>
        <p:spPr>
          <a:xfrm>
            <a:off x="2000160" y="133200"/>
            <a:ext cx="5010120" cy="5010480"/>
          </a:xfrm>
          <a:prstGeom prst="rect">
            <a:avLst/>
          </a:prstGeom>
          <a:ln w="0">
            <a:noFill/>
          </a:ln>
        </p:spPr>
      </p:pic>
      <p:pic>
        <p:nvPicPr>
          <p:cNvPr id="114" name="TextBox 3" descr=""/>
          <p:cNvPicPr/>
          <p:nvPr/>
        </p:nvPicPr>
        <p:blipFill>
          <a:blip r:embed="rId3"/>
          <a:stretch/>
        </p:blipFill>
        <p:spPr>
          <a:xfrm>
            <a:off x="938160" y="4863960"/>
            <a:ext cx="713268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http://img-fotki.yandex.ru/get/5817/69535909.69/0_a1a49_4be46a48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"/>
          <p:cNvSpPr/>
          <p:nvPr/>
        </p:nvSpPr>
        <p:spPr>
          <a:xfrm>
            <a:off x="49680" y="2487960"/>
            <a:ext cx="9307800" cy="1008360"/>
          </a:xfrm>
          <a:prstGeom prst="rect">
            <a:avLst/>
          </a:prstGeom>
          <a:solidFill>
            <a:srgbClr val="fde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Игра «Называй – не зевай!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8:28:23Z</dcterms:created>
  <dc:creator>User</dc:creator>
  <dc:description/>
  <dc:language>en-US</dc:language>
  <cp:lastModifiedBy>COOL</cp:lastModifiedBy>
  <dcterms:modified xsi:type="dcterms:W3CDTF">2017-09-29T16:03:12Z</dcterms:modified>
  <cp:revision>43</cp:revision>
  <dc:subject/>
  <dc:title>Слайд 1</dc:title>
</cp:coreProperties>
</file>