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B9B-7A57-45CF-A2B9-DE07B425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29E-6D60-49FF-93B5-DF26E361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797-9386-41D5-B1A5-C522631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38D-E567-4220-9BBA-87780981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BA0-9E4F-4059-A0A2-6E9E2D59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B86-377E-4E14-87C4-8C6AA94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F78-4B90-48C2-A14F-F491F95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641-6CF1-4A6C-BF10-19D5A527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E89-B099-487A-BB2C-BE90303D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A77-BC83-481C-9842-D7B6622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3BE-F7B7-4225-A723-2ECF57E8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712-7AE3-4AE4-B771-E9B9668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55B2-2D19-4AF4-BB96-4BEA35FBF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428760" y="52560"/>
            <a:ext cx="9429840" cy="6876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262160" y="-231840"/>
            <a:ext cx="7040520" cy="4273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0" y="5429160"/>
            <a:ext cx="4286160" cy="9471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БОУСОШ№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21420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23192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49640" y="3429000"/>
            <a:ext cx="10191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3268800" y="3429000"/>
            <a:ext cx="10173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428616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5303880" y="3429000"/>
            <a:ext cx="10191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632304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7340760" y="3429000"/>
            <a:ext cx="10173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21420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21420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3"/>
          <p:cNvSpPr/>
          <p:nvPr/>
        </p:nvSpPr>
        <p:spPr>
          <a:xfrm>
            <a:off x="2249640" y="2571840"/>
            <a:ext cx="10191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4"/>
          <p:cNvSpPr/>
          <p:nvPr/>
        </p:nvSpPr>
        <p:spPr>
          <a:xfrm>
            <a:off x="2249640" y="4286160"/>
            <a:ext cx="101916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2249640" y="5143680"/>
            <a:ext cx="10191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3268800" y="2571840"/>
            <a:ext cx="10173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3268800" y="1714680"/>
            <a:ext cx="10173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3268800" y="857160"/>
            <a:ext cx="101736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3268800" y="4286160"/>
            <a:ext cx="101736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428616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1"/>
          <p:cNvSpPr/>
          <p:nvPr/>
        </p:nvSpPr>
        <p:spPr>
          <a:xfrm>
            <a:off x="428616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2"/>
          <p:cNvSpPr/>
          <p:nvPr/>
        </p:nvSpPr>
        <p:spPr>
          <a:xfrm>
            <a:off x="428616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3"/>
          <p:cNvSpPr/>
          <p:nvPr/>
        </p:nvSpPr>
        <p:spPr>
          <a:xfrm>
            <a:off x="123192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123192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1231920" y="1714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1231920" y="857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7"/>
          <p:cNvSpPr/>
          <p:nvPr/>
        </p:nvSpPr>
        <p:spPr>
          <a:xfrm>
            <a:off x="1231920" y="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218880" y="3467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121716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2290320" y="261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3288960" y="9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4289040" y="261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4"/>
          <p:cNvSpPr/>
          <p:nvPr/>
        </p:nvSpPr>
        <p:spPr>
          <a:xfrm>
            <a:off x="634032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5"/>
          <p:cNvSpPr/>
          <p:nvPr/>
        </p:nvSpPr>
        <p:spPr>
          <a:xfrm>
            <a:off x="634032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6"/>
          <p:cNvSpPr/>
          <p:nvPr/>
        </p:nvSpPr>
        <p:spPr>
          <a:xfrm>
            <a:off x="6340320" y="1714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7"/>
          <p:cNvSpPr/>
          <p:nvPr/>
        </p:nvSpPr>
        <p:spPr>
          <a:xfrm>
            <a:off x="6340320" y="857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8"/>
          <p:cNvSpPr/>
          <p:nvPr/>
        </p:nvSpPr>
        <p:spPr>
          <a:xfrm>
            <a:off x="6340320" y="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9"/>
          <p:cNvSpPr/>
          <p:nvPr/>
        </p:nvSpPr>
        <p:spPr>
          <a:xfrm>
            <a:off x="735804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0"/>
          <p:cNvSpPr/>
          <p:nvPr/>
        </p:nvSpPr>
        <p:spPr>
          <a:xfrm>
            <a:off x="735804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1"/>
          <p:cNvSpPr/>
          <p:nvPr/>
        </p:nvSpPr>
        <p:spPr>
          <a:xfrm>
            <a:off x="735804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2"/>
          <p:cNvSpPr/>
          <p:nvPr/>
        </p:nvSpPr>
        <p:spPr>
          <a:xfrm>
            <a:off x="7358040" y="6000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3"/>
          <p:cNvSpPr/>
          <p:nvPr/>
        </p:nvSpPr>
        <p:spPr>
          <a:xfrm>
            <a:off x="636084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4"/>
          <p:cNvSpPr/>
          <p:nvPr/>
        </p:nvSpPr>
        <p:spPr>
          <a:xfrm>
            <a:off x="7360920" y="253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6"/>
          <p:cNvSpPr/>
          <p:nvPr/>
        </p:nvSpPr>
        <p:spPr>
          <a:xfrm>
            <a:off x="528624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7"/>
          <p:cNvSpPr/>
          <p:nvPr/>
        </p:nvSpPr>
        <p:spPr>
          <a:xfrm>
            <a:off x="528624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8"/>
          <p:cNvSpPr/>
          <p:nvPr/>
        </p:nvSpPr>
        <p:spPr>
          <a:xfrm>
            <a:off x="5290920" y="339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Группа 52"/>
          <p:cNvGrpSpPr/>
          <p:nvPr/>
        </p:nvGrpSpPr>
        <p:grpSpPr>
          <a:xfrm>
            <a:off x="357120" y="3357720"/>
            <a:ext cx="642960" cy="2707200"/>
            <a:chOff x="357120" y="3357720"/>
            <a:chExt cx="642960" cy="2707200"/>
          </a:xfrm>
        </p:grpSpPr>
        <p:sp>
          <p:nvSpPr>
            <p:cNvPr id="163" name="TextBox 49"/>
            <p:cNvSpPr/>
            <p:nvPr/>
          </p:nvSpPr>
          <p:spPr>
            <a:xfrm>
              <a:off x="357120" y="335772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0"/>
            <p:cNvSpPr/>
            <p:nvPr/>
          </p:nvSpPr>
          <p:spPr>
            <a:xfrm>
              <a:off x="428400" y="42148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51"/>
            <p:cNvSpPr/>
            <p:nvPr/>
          </p:nvSpPr>
          <p:spPr>
            <a:xfrm>
              <a:off x="357120" y="505656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59"/>
          <p:cNvGrpSpPr/>
          <p:nvPr/>
        </p:nvGrpSpPr>
        <p:grpSpPr>
          <a:xfrm>
            <a:off x="1361880" y="-87480"/>
            <a:ext cx="844920" cy="5366520"/>
            <a:chOff x="1361880" y="-87480"/>
            <a:chExt cx="844920" cy="5366520"/>
          </a:xfrm>
        </p:grpSpPr>
        <p:sp>
          <p:nvSpPr>
            <p:cNvPr id="167" name="TextBox 53"/>
            <p:cNvSpPr/>
            <p:nvPr/>
          </p:nvSpPr>
          <p:spPr>
            <a:xfrm>
              <a:off x="1406880" y="-874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54"/>
            <p:cNvSpPr/>
            <p:nvPr/>
          </p:nvSpPr>
          <p:spPr>
            <a:xfrm>
              <a:off x="1433160" y="76968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55"/>
            <p:cNvSpPr/>
            <p:nvPr/>
          </p:nvSpPr>
          <p:spPr>
            <a:xfrm>
              <a:off x="1433160" y="16426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6"/>
            <p:cNvSpPr/>
            <p:nvPr/>
          </p:nvSpPr>
          <p:spPr>
            <a:xfrm>
              <a:off x="1361880" y="248436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57"/>
            <p:cNvSpPr/>
            <p:nvPr/>
          </p:nvSpPr>
          <p:spPr>
            <a:xfrm>
              <a:off x="1442520" y="3341880"/>
              <a:ext cx="62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58"/>
            <p:cNvSpPr/>
            <p:nvPr/>
          </p:nvSpPr>
          <p:spPr>
            <a:xfrm>
              <a:off x="1433160" y="42706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64"/>
          <p:cNvGrpSpPr/>
          <p:nvPr/>
        </p:nvGrpSpPr>
        <p:grpSpPr>
          <a:xfrm>
            <a:off x="2379240" y="2500200"/>
            <a:ext cx="902160" cy="3509280"/>
            <a:chOff x="2379240" y="2500200"/>
            <a:chExt cx="902160" cy="3509280"/>
          </a:xfrm>
        </p:grpSpPr>
        <p:sp>
          <p:nvSpPr>
            <p:cNvPr id="174" name="TextBox 60"/>
            <p:cNvSpPr/>
            <p:nvPr/>
          </p:nvSpPr>
          <p:spPr>
            <a:xfrm>
              <a:off x="2465280" y="25002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61"/>
            <p:cNvSpPr/>
            <p:nvPr/>
          </p:nvSpPr>
          <p:spPr>
            <a:xfrm>
              <a:off x="2436480" y="334188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2"/>
            <p:cNvSpPr/>
            <p:nvPr/>
          </p:nvSpPr>
          <p:spPr>
            <a:xfrm>
              <a:off x="2433600" y="41994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3"/>
            <p:cNvSpPr/>
            <p:nvPr/>
          </p:nvSpPr>
          <p:spPr>
            <a:xfrm>
              <a:off x="2379240" y="500112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Группа 74"/>
          <p:cNvGrpSpPr/>
          <p:nvPr/>
        </p:nvGrpSpPr>
        <p:grpSpPr>
          <a:xfrm>
            <a:off x="3505320" y="785880"/>
            <a:ext cx="727920" cy="4366440"/>
            <a:chOff x="3505320" y="785880"/>
            <a:chExt cx="727920" cy="4366440"/>
          </a:xfrm>
        </p:grpSpPr>
        <p:sp>
          <p:nvSpPr>
            <p:cNvPr id="179" name="TextBox 65"/>
            <p:cNvSpPr/>
            <p:nvPr/>
          </p:nvSpPr>
          <p:spPr>
            <a:xfrm>
              <a:off x="3505320" y="785880"/>
              <a:ext cx="72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66"/>
            <p:cNvSpPr/>
            <p:nvPr/>
          </p:nvSpPr>
          <p:spPr>
            <a:xfrm>
              <a:off x="3505320" y="16275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67"/>
            <p:cNvSpPr/>
            <p:nvPr/>
          </p:nvSpPr>
          <p:spPr>
            <a:xfrm>
              <a:off x="3505320" y="24850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68"/>
            <p:cNvSpPr/>
            <p:nvPr/>
          </p:nvSpPr>
          <p:spPr>
            <a:xfrm>
              <a:off x="3508920" y="3342240"/>
              <a:ext cx="68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69"/>
            <p:cNvSpPr/>
            <p:nvPr/>
          </p:nvSpPr>
          <p:spPr>
            <a:xfrm>
              <a:off x="3505320" y="41439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Группа 75"/>
          <p:cNvGrpSpPr/>
          <p:nvPr/>
        </p:nvGrpSpPr>
        <p:grpSpPr>
          <a:xfrm>
            <a:off x="4433760" y="2500200"/>
            <a:ext cx="790560" cy="3509280"/>
            <a:chOff x="4433760" y="2500200"/>
            <a:chExt cx="790560" cy="3509280"/>
          </a:xfrm>
        </p:grpSpPr>
        <p:sp>
          <p:nvSpPr>
            <p:cNvPr id="185" name="TextBox 70"/>
            <p:cNvSpPr/>
            <p:nvPr/>
          </p:nvSpPr>
          <p:spPr>
            <a:xfrm>
              <a:off x="4450680" y="25002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71"/>
            <p:cNvSpPr/>
            <p:nvPr/>
          </p:nvSpPr>
          <p:spPr>
            <a:xfrm>
              <a:off x="4450680" y="335736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72"/>
            <p:cNvSpPr/>
            <p:nvPr/>
          </p:nvSpPr>
          <p:spPr>
            <a:xfrm>
              <a:off x="4433760" y="4143600"/>
              <a:ext cx="69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73"/>
            <p:cNvSpPr/>
            <p:nvPr/>
          </p:nvSpPr>
          <p:spPr>
            <a:xfrm>
              <a:off x="4438080" y="500112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Группа 90"/>
          <p:cNvGrpSpPr/>
          <p:nvPr/>
        </p:nvGrpSpPr>
        <p:grpSpPr>
          <a:xfrm>
            <a:off x="5504760" y="3357720"/>
            <a:ext cx="688680" cy="2707200"/>
            <a:chOff x="5504760" y="3357720"/>
            <a:chExt cx="688680" cy="2707200"/>
          </a:xfrm>
        </p:grpSpPr>
        <p:sp>
          <p:nvSpPr>
            <p:cNvPr id="190" name="TextBox 76"/>
            <p:cNvSpPr/>
            <p:nvPr/>
          </p:nvSpPr>
          <p:spPr>
            <a:xfrm>
              <a:off x="5575680" y="3357720"/>
              <a:ext cx="59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77"/>
            <p:cNvSpPr/>
            <p:nvPr/>
          </p:nvSpPr>
          <p:spPr>
            <a:xfrm>
              <a:off x="5505120" y="41994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78"/>
            <p:cNvSpPr/>
            <p:nvPr/>
          </p:nvSpPr>
          <p:spPr>
            <a:xfrm>
              <a:off x="5504760" y="5056560"/>
              <a:ext cx="64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91"/>
          <p:cNvGrpSpPr/>
          <p:nvPr/>
        </p:nvGrpSpPr>
        <p:grpSpPr>
          <a:xfrm>
            <a:off x="6576480" y="-87480"/>
            <a:ext cx="731880" cy="5295240"/>
            <a:chOff x="6576480" y="-87480"/>
            <a:chExt cx="731880" cy="5295240"/>
          </a:xfrm>
        </p:grpSpPr>
        <p:sp>
          <p:nvSpPr>
            <p:cNvPr id="194" name="TextBox 79"/>
            <p:cNvSpPr/>
            <p:nvPr/>
          </p:nvSpPr>
          <p:spPr>
            <a:xfrm>
              <a:off x="6576480" y="-87480"/>
              <a:ext cx="59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80"/>
            <p:cNvSpPr/>
            <p:nvPr/>
          </p:nvSpPr>
          <p:spPr>
            <a:xfrm>
              <a:off x="6577200" y="7851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81"/>
            <p:cNvSpPr/>
            <p:nvPr/>
          </p:nvSpPr>
          <p:spPr>
            <a:xfrm>
              <a:off x="6577200" y="16272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82"/>
            <p:cNvSpPr/>
            <p:nvPr/>
          </p:nvSpPr>
          <p:spPr>
            <a:xfrm>
              <a:off x="6577560" y="248436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83"/>
            <p:cNvSpPr/>
            <p:nvPr/>
          </p:nvSpPr>
          <p:spPr>
            <a:xfrm>
              <a:off x="6579000" y="3357360"/>
              <a:ext cx="72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84"/>
            <p:cNvSpPr/>
            <p:nvPr/>
          </p:nvSpPr>
          <p:spPr>
            <a:xfrm>
              <a:off x="6576840" y="4199400"/>
              <a:ext cx="64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Группа 92"/>
          <p:cNvGrpSpPr/>
          <p:nvPr/>
        </p:nvGrpSpPr>
        <p:grpSpPr>
          <a:xfrm>
            <a:off x="7576560" y="2428920"/>
            <a:ext cx="731880" cy="4493160"/>
            <a:chOff x="7576560" y="2428920"/>
            <a:chExt cx="731880" cy="4493160"/>
          </a:xfrm>
        </p:grpSpPr>
        <p:sp>
          <p:nvSpPr>
            <p:cNvPr id="201" name="TextBox 85"/>
            <p:cNvSpPr/>
            <p:nvPr/>
          </p:nvSpPr>
          <p:spPr>
            <a:xfrm>
              <a:off x="7576560" y="2428920"/>
              <a:ext cx="69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86"/>
            <p:cNvSpPr/>
            <p:nvPr/>
          </p:nvSpPr>
          <p:spPr>
            <a:xfrm>
              <a:off x="7577640" y="3341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87"/>
            <p:cNvSpPr/>
            <p:nvPr/>
          </p:nvSpPr>
          <p:spPr>
            <a:xfrm>
              <a:off x="7576920" y="4199040"/>
              <a:ext cx="64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88"/>
            <p:cNvSpPr/>
            <p:nvPr/>
          </p:nvSpPr>
          <p:spPr>
            <a:xfrm>
              <a:off x="7577280" y="50565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89"/>
            <p:cNvSpPr/>
            <p:nvPr/>
          </p:nvSpPr>
          <p:spPr>
            <a:xfrm>
              <a:off x="7580880" y="5913720"/>
              <a:ext cx="68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arxangelo.files.wordpress.com/2010/04/42867944_59.gif"/>
          <p:cNvPicPr/>
          <p:nvPr/>
        </p:nvPicPr>
        <p:blipFill>
          <a:blip r:embed="rId1"/>
          <a:stretch/>
        </p:blipFill>
        <p:spPr>
          <a:xfrm>
            <a:off x="-14400" y="-71280"/>
            <a:ext cx="944424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9240" y="500040"/>
            <a:ext cx="56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заимосвязи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58520" y="1857240"/>
            <a:ext cx="14518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6520" y="4059360"/>
            <a:ext cx="19011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507120" y="1844640"/>
            <a:ext cx="19195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431520" y="4059360"/>
            <a:ext cx="20505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644520" y="1857240"/>
            <a:ext cx="17017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647400" y="4059360"/>
            <a:ext cx="17686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Круговая стрелка 12"/>
          <p:cNvSpPr/>
          <p:nvPr/>
        </p:nvSpPr>
        <p:spPr>
          <a:xfrm rot="5721600">
            <a:off x="1251720" y="2326320"/>
            <a:ext cx="1643040" cy="1714320"/>
          </a:xfrm>
          <a:custGeom>
            <a:avLst/>
            <a:gdLst/>
            <a:ahLst/>
            <a:rect l="l" t="t" r="r" b="b"/>
            <a:pathLst>
              <a:path w="1643063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90" y="655109"/>
                </a:lnTo>
                <a:lnTo>
                  <a:pt x="1437680" y="857250"/>
                </a:lnTo>
                <a:lnTo>
                  <a:pt x="1201925" y="655109"/>
                </a:lnTo>
                <a:lnTo>
                  <a:pt x="1298941" y="655109"/>
                </a:lnTo>
                <a:cubicBezTo>
                  <a:pt x="1206411" y="405113"/>
                  <a:pt x="958258" y="263532"/>
                  <a:pt x="712596" y="320576"/>
                </a:cubicBezTo>
                <a:cubicBezTo>
                  <a:pt x="476500" y="375399"/>
                  <a:pt x="308075" y="598847"/>
                  <a:pt x="308075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Круговая стрелка 13"/>
          <p:cNvSpPr/>
          <p:nvPr/>
        </p:nvSpPr>
        <p:spPr>
          <a:xfrm flipH="1" flipV="1" rot="5721600">
            <a:off x="-34200" y="2396880"/>
            <a:ext cx="1643040" cy="1714680"/>
          </a:xfrm>
          <a:custGeom>
            <a:avLst/>
            <a:gdLst/>
            <a:ahLst/>
            <a:rect l="l" t="t" r="r" b="b"/>
            <a:pathLst>
              <a:path w="1643062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89" y="655109"/>
                </a:lnTo>
                <a:lnTo>
                  <a:pt x="1437679" y="857250"/>
                </a:lnTo>
                <a:lnTo>
                  <a:pt x="1201924" y="655109"/>
                </a:lnTo>
                <a:lnTo>
                  <a:pt x="1298940" y="655109"/>
                </a:lnTo>
                <a:cubicBezTo>
                  <a:pt x="1206410" y="405113"/>
                  <a:pt x="958257" y="263532"/>
                  <a:pt x="712595" y="320576"/>
                </a:cubicBezTo>
                <a:cubicBezTo>
                  <a:pt x="476499" y="375399"/>
                  <a:pt x="308074" y="598847"/>
                  <a:pt x="308074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Круговая стрелка 14"/>
          <p:cNvSpPr/>
          <p:nvPr/>
        </p:nvSpPr>
        <p:spPr>
          <a:xfrm rot="5721600">
            <a:off x="4251600" y="2326320"/>
            <a:ext cx="1643040" cy="1714680"/>
          </a:xfrm>
          <a:custGeom>
            <a:avLst/>
            <a:gdLst/>
            <a:ahLst/>
            <a:rect l="l" t="t" r="r" b="b"/>
            <a:pathLst>
              <a:path w="1643063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90" y="655109"/>
                </a:lnTo>
                <a:lnTo>
                  <a:pt x="1437680" y="857250"/>
                </a:lnTo>
                <a:lnTo>
                  <a:pt x="1201925" y="655109"/>
                </a:lnTo>
                <a:lnTo>
                  <a:pt x="1298941" y="655109"/>
                </a:lnTo>
                <a:cubicBezTo>
                  <a:pt x="1206411" y="405113"/>
                  <a:pt x="958258" y="263532"/>
                  <a:pt x="712596" y="320576"/>
                </a:cubicBezTo>
                <a:cubicBezTo>
                  <a:pt x="476500" y="375399"/>
                  <a:pt x="308075" y="598847"/>
                  <a:pt x="308075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Круговая стрелка 15"/>
          <p:cNvSpPr/>
          <p:nvPr/>
        </p:nvSpPr>
        <p:spPr>
          <a:xfrm flipH="1" flipV="1" rot="5721600">
            <a:off x="2965680" y="2396520"/>
            <a:ext cx="1643040" cy="1715040"/>
          </a:xfrm>
          <a:custGeom>
            <a:avLst/>
            <a:gdLst/>
            <a:ahLst/>
            <a:rect l="l" t="t" r="r" b="b"/>
            <a:pathLst>
              <a:path w="1643062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89" y="655109"/>
                </a:lnTo>
                <a:lnTo>
                  <a:pt x="1437679" y="857250"/>
                </a:lnTo>
                <a:lnTo>
                  <a:pt x="1201924" y="655109"/>
                </a:lnTo>
                <a:lnTo>
                  <a:pt x="1298940" y="655109"/>
                </a:lnTo>
                <a:cubicBezTo>
                  <a:pt x="1206410" y="405113"/>
                  <a:pt x="958257" y="263532"/>
                  <a:pt x="712595" y="320576"/>
                </a:cubicBezTo>
                <a:cubicBezTo>
                  <a:pt x="476499" y="375399"/>
                  <a:pt x="308074" y="598847"/>
                  <a:pt x="308074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Круговая стрелка 16"/>
          <p:cNvSpPr/>
          <p:nvPr/>
        </p:nvSpPr>
        <p:spPr>
          <a:xfrm rot="5721600">
            <a:off x="7323480" y="2316600"/>
            <a:ext cx="1643040" cy="1714680"/>
          </a:xfrm>
          <a:custGeom>
            <a:avLst/>
            <a:gdLst/>
            <a:ahLst/>
            <a:rect l="l" t="t" r="r" b="b"/>
            <a:pathLst>
              <a:path w="1643063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90" y="655109"/>
                </a:lnTo>
                <a:lnTo>
                  <a:pt x="1437680" y="857250"/>
                </a:lnTo>
                <a:lnTo>
                  <a:pt x="1201925" y="655109"/>
                </a:lnTo>
                <a:lnTo>
                  <a:pt x="1298941" y="655109"/>
                </a:lnTo>
                <a:cubicBezTo>
                  <a:pt x="1206411" y="405113"/>
                  <a:pt x="958258" y="263532"/>
                  <a:pt x="712596" y="320576"/>
                </a:cubicBezTo>
                <a:cubicBezTo>
                  <a:pt x="476500" y="375399"/>
                  <a:pt x="308075" y="598847"/>
                  <a:pt x="308075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Круговая стрелка 17"/>
          <p:cNvSpPr/>
          <p:nvPr/>
        </p:nvSpPr>
        <p:spPr>
          <a:xfrm flipH="1" flipV="1" rot="5721600">
            <a:off x="6037560" y="2387160"/>
            <a:ext cx="1643040" cy="1715040"/>
          </a:xfrm>
          <a:custGeom>
            <a:avLst/>
            <a:gdLst/>
            <a:ahLst/>
            <a:rect l="l" t="t" r="r" b="b"/>
            <a:pathLst>
              <a:path w="1643062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89" y="655109"/>
                </a:lnTo>
                <a:lnTo>
                  <a:pt x="1437679" y="857250"/>
                </a:lnTo>
                <a:lnTo>
                  <a:pt x="1201924" y="655109"/>
                </a:lnTo>
                <a:lnTo>
                  <a:pt x="1298940" y="655109"/>
                </a:lnTo>
                <a:cubicBezTo>
                  <a:pt x="1206410" y="405113"/>
                  <a:pt x="958257" y="263532"/>
                  <a:pt x="712595" y="320576"/>
                </a:cubicBezTo>
                <a:cubicBezTo>
                  <a:pt x="476499" y="375399"/>
                  <a:pt x="308074" y="598847"/>
                  <a:pt x="308074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-34200" y="5187960"/>
            <a:ext cx="923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ём состоит значение неживой природы для жи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живая природа влияет на неживу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38680" y="5929200"/>
            <a:ext cx="85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наука о связях между живыми суще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кружающей их средой, между человеком и природ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893520" y="142920"/>
            <a:ext cx="1953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экос» -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http://iconizer.net/files/Human_o2/orig/old-go-home.png"/>
          <p:cNvPicPr/>
          <p:nvPr/>
        </p:nvPicPr>
        <p:blipFill>
          <a:blip r:embed="rId2"/>
          <a:stretch/>
        </p:blipFill>
        <p:spPr>
          <a:xfrm>
            <a:off x="1071720" y="8128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8"/>
          <p:cNvSpPr/>
          <p:nvPr/>
        </p:nvSpPr>
        <p:spPr>
          <a:xfrm>
            <a:off x="2378880" y="2955960"/>
            <a:ext cx="4034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 – «наука о до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5793120" y="142920"/>
            <a:ext cx="2407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логос» -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http://www.copah.info/system/files/upload/2011-07-14/science_labwork(1).gif"/>
          <p:cNvPicPr/>
          <p:nvPr/>
        </p:nvPicPr>
        <p:blipFill>
          <a:blip r:embed="rId3"/>
          <a:stretch/>
        </p:blipFill>
        <p:spPr>
          <a:xfrm>
            <a:off x="5214960" y="7412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1"/>
          <p:cNvSpPr/>
          <p:nvPr/>
        </p:nvSpPr>
        <p:spPr>
          <a:xfrm>
            <a:off x="3643200" y="1285920"/>
            <a:ext cx="12146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rot="5400000">
            <a:off x="3643200" y="1285920"/>
            <a:ext cx="12146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ttp://www.nrooanti.lact.ru/uploads/f1/s/5/323/image/1084/289/medium_earth.gif"/>
          <p:cNvPicPr/>
          <p:nvPr/>
        </p:nvPicPr>
        <p:blipFill>
          <a:blip r:embed="rId4"/>
          <a:stretch/>
        </p:blipFill>
        <p:spPr>
          <a:xfrm>
            <a:off x="3071880" y="335772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91800" y="-71280"/>
            <a:ext cx="91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кружающая 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асть среды, непосред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ей некоторую живую систему (человека, живо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е) и состоящей из объектов живой и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g.alibaba.com/photo/51007803/Sculpture_Thinker_.jpg"/>
          <p:cNvPicPr/>
          <p:nvPr/>
        </p:nvPicPr>
        <p:blipFill>
          <a:blip r:embed="rId2"/>
          <a:stretch/>
        </p:blipFill>
        <p:spPr>
          <a:xfrm>
            <a:off x="3224160" y="1736640"/>
            <a:ext cx="2622600" cy="338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oblepiha.com/uploads/posts/2010-11/1289874519_01.jpg"/>
          <p:cNvPicPr/>
          <p:nvPr/>
        </p:nvPicPr>
        <p:blipFill>
          <a:blip r:embed="rId3"/>
          <a:stretch/>
        </p:blipFill>
        <p:spPr>
          <a:xfrm>
            <a:off x="1504800" y="4376880"/>
            <a:ext cx="2560680" cy="330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moesolnyshko.com/wp-content/uploads/2011/01/zayats1.png"/>
          <p:cNvPicPr/>
          <p:nvPr/>
        </p:nvPicPr>
        <p:blipFill>
          <a:blip r:embed="rId4"/>
          <a:stretch/>
        </p:blipFill>
        <p:spPr>
          <a:xfrm>
            <a:off x="5132520" y="4599000"/>
            <a:ext cx="20113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Овал 8"/>
          <p:cNvSpPr/>
          <p:nvPr/>
        </p:nvSpPr>
        <p:spPr>
          <a:xfrm>
            <a:off x="3286080" y="1643040"/>
            <a:ext cx="2500200" cy="2428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"/>
          <p:cNvSpPr/>
          <p:nvPr/>
        </p:nvSpPr>
        <p:spPr>
          <a:xfrm>
            <a:off x="1500120" y="4143240"/>
            <a:ext cx="2643120" cy="2714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1071720" y="3786120"/>
            <a:ext cx="3500280" cy="3286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857680" y="1214280"/>
            <a:ext cx="3429000" cy="333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4357800" y="3813120"/>
            <a:ext cx="3429000" cy="333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4857840" y="4313160"/>
            <a:ext cx="2500200" cy="2428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21840" y="214200"/>
            <a:ext cx="85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 – это сообщество растений из деревьев, кустар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, мхов, грибов, лишай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img-fotki.yandex.ru/get/4206/yes06.135/0_2d3cc_a22cb7e0_XL.jpg"/>
          <p:cNvPicPr/>
          <p:nvPr/>
        </p:nvPicPr>
        <p:blipFill>
          <a:blip r:embed="rId2"/>
          <a:stretch/>
        </p:blipFill>
        <p:spPr>
          <a:xfrm>
            <a:off x="0" y="1143000"/>
            <a:ext cx="9048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223360" y="428760"/>
            <a:ext cx="49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ль леса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71280" y="1285920"/>
            <a:ext cx="2214720" cy="3929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ac090"/>
              </a:gs>
            </a:gsLst>
            <a:lin ang="8100000"/>
          </a:gra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82440" y="25858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357280" y="1428840"/>
            <a:ext cx="671544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для растений, животных, гри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357280" y="2119320"/>
            <a:ext cx="6715440" cy="520560"/>
          </a:xfrm>
          <a:prstGeom prst="rect">
            <a:avLst/>
          </a:prstGeom>
          <a:gradFill rotWithShape="0">
            <a:gsLst>
              <a:gs pos="0">
                <a:srgbClr val="eb70ee"/>
              </a:gs>
              <a:gs pos="100000">
                <a:srgbClr val="eb70e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ник воздуха, водоемов и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357280" y="2833560"/>
            <a:ext cx="671544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отдых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357280" y="3500280"/>
            <a:ext cx="6715440" cy="947160"/>
          </a:xfrm>
          <a:prstGeom prst="rect">
            <a:avLst/>
          </a:prstGeom>
          <a:gradFill rotWithShape="0">
            <a:gsLst>
              <a:gs pos="0">
                <a:srgbClr val="eb70ee"/>
              </a:gs>
              <a:gs pos="100000">
                <a:srgbClr val="eb70e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357280" y="4619520"/>
            <a:ext cx="671544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243080" y="71280"/>
            <a:ext cx="70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4"/>
          <p:cNvGrpSpPr/>
          <p:nvPr/>
        </p:nvGrpSpPr>
        <p:grpSpPr>
          <a:xfrm>
            <a:off x="500040" y="714240"/>
            <a:ext cx="2571840" cy="2426760"/>
            <a:chOff x="500040" y="714240"/>
            <a:chExt cx="2571840" cy="2426760"/>
          </a:xfrm>
        </p:grpSpPr>
        <p:pic>
          <p:nvPicPr>
            <p:cNvPr id="95" name="Picture 4" descr="http://goodsi.ru/wp-content/uploads/2010/09/portablemusicplayer_01525_600x450px_lg.jpg"/>
            <p:cNvPicPr/>
            <p:nvPr/>
          </p:nvPicPr>
          <p:blipFill>
            <a:blip r:embed="rId2"/>
            <a:stretch/>
          </p:blipFill>
          <p:spPr>
            <a:xfrm>
              <a:off x="500040" y="714240"/>
              <a:ext cx="257184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6"/>
            <p:cNvSpPr/>
            <p:nvPr/>
          </p:nvSpPr>
          <p:spPr>
            <a:xfrm>
              <a:off x="507960" y="2681280"/>
              <a:ext cx="2416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шуми в лес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7"/>
          <p:cNvGrpSpPr/>
          <p:nvPr/>
        </p:nvGrpSpPr>
        <p:grpSpPr>
          <a:xfrm>
            <a:off x="368640" y="3500280"/>
            <a:ext cx="2485080" cy="3254760"/>
            <a:chOff x="368640" y="3500280"/>
            <a:chExt cx="2485080" cy="3254760"/>
          </a:xfrm>
        </p:grpSpPr>
        <p:pic>
          <p:nvPicPr>
            <p:cNvPr id="98" name="Picture 6" descr="http://shiitake.h1.ru/muh.jpg"/>
            <p:cNvPicPr/>
            <p:nvPr/>
          </p:nvPicPr>
          <p:blipFill>
            <a:blip r:embed="rId3"/>
            <a:stretch/>
          </p:blipFill>
          <p:spPr>
            <a:xfrm>
              <a:off x="714240" y="3500280"/>
              <a:ext cx="1929240" cy="25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8"/>
            <p:cNvSpPr/>
            <p:nvPr/>
          </p:nvSpPr>
          <p:spPr>
            <a:xfrm>
              <a:off x="368640" y="5929560"/>
              <a:ext cx="2485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лома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довитые гриб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15"/>
          <p:cNvGrpSpPr/>
          <p:nvPr/>
        </p:nvGrpSpPr>
        <p:grpSpPr>
          <a:xfrm>
            <a:off x="3764160" y="714240"/>
            <a:ext cx="1799280" cy="2826000"/>
            <a:chOff x="3764160" y="714240"/>
            <a:chExt cx="1799280" cy="2826000"/>
          </a:xfrm>
        </p:grpSpPr>
        <p:pic>
          <p:nvPicPr>
            <p:cNvPr id="101" name="Picture 7" descr=""/>
            <p:cNvPicPr/>
            <p:nvPr/>
          </p:nvPicPr>
          <p:blipFill>
            <a:blip r:embed="rId4"/>
            <a:stretch/>
          </p:blipFill>
          <p:spPr>
            <a:xfrm>
              <a:off x="3928680" y="714240"/>
              <a:ext cx="157176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10"/>
            <p:cNvSpPr/>
            <p:nvPr/>
          </p:nvSpPr>
          <p:spPr>
            <a:xfrm>
              <a:off x="3764160" y="2714760"/>
              <a:ext cx="17992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бижа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живо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18"/>
          <p:cNvGrpSpPr/>
          <p:nvPr/>
        </p:nvGrpSpPr>
        <p:grpSpPr>
          <a:xfrm>
            <a:off x="3500280" y="4500720"/>
            <a:ext cx="2428920" cy="1931400"/>
            <a:chOff x="3500280" y="4500720"/>
            <a:chExt cx="2428920" cy="1931400"/>
          </a:xfrm>
        </p:grpSpPr>
        <p:pic>
          <p:nvPicPr>
            <p:cNvPr id="104" name="Picture 13" descr=""/>
            <p:cNvPicPr/>
            <p:nvPr/>
          </p:nvPicPr>
          <p:blipFill>
            <a:blip r:embed="rId5"/>
            <a:stretch/>
          </p:blipFill>
          <p:spPr>
            <a:xfrm>
              <a:off x="3500280" y="4500720"/>
              <a:ext cx="242892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2"/>
            <p:cNvSpPr/>
            <p:nvPr/>
          </p:nvSpPr>
          <p:spPr>
            <a:xfrm>
              <a:off x="3738600" y="5972400"/>
              <a:ext cx="167868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мусор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19"/>
          <p:cNvGrpSpPr/>
          <p:nvPr/>
        </p:nvGrpSpPr>
        <p:grpSpPr>
          <a:xfrm>
            <a:off x="6357960" y="3714840"/>
            <a:ext cx="2357280" cy="2968560"/>
            <a:chOff x="6357960" y="3714840"/>
            <a:chExt cx="2357280" cy="2968560"/>
          </a:xfrm>
        </p:grpSpPr>
        <p:pic>
          <p:nvPicPr>
            <p:cNvPr id="107" name="Picture 12" descr="http://beccasheppard.files.wordpress.com/2011/06/4613bird_nest.jpg"/>
            <p:cNvPicPr/>
            <p:nvPr/>
          </p:nvPicPr>
          <p:blipFill>
            <a:blip r:embed="rId6"/>
            <a:stretch/>
          </p:blipFill>
          <p:spPr>
            <a:xfrm>
              <a:off x="6357960" y="3714840"/>
              <a:ext cx="235728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13"/>
            <p:cNvSpPr/>
            <p:nvPr/>
          </p:nvSpPr>
          <p:spPr>
            <a:xfrm>
              <a:off x="6590880" y="5857920"/>
              <a:ext cx="18068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разоря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нез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16"/>
          <p:cNvGrpSpPr/>
          <p:nvPr/>
        </p:nvGrpSpPr>
        <p:grpSpPr>
          <a:xfrm>
            <a:off x="6429240" y="785880"/>
            <a:ext cx="2071800" cy="2781360"/>
            <a:chOff x="6429240" y="785880"/>
            <a:chExt cx="2071800" cy="2781360"/>
          </a:xfrm>
        </p:grpSpPr>
        <p:pic>
          <p:nvPicPr>
            <p:cNvPr id="110" name="Picture 10" descr="http://static.freepik.com/free-photo/fire-june-holiday-s_17-1024113521.jpg"/>
            <p:cNvPicPr/>
            <p:nvPr/>
          </p:nvPicPr>
          <p:blipFill>
            <a:blip r:embed="rId7"/>
            <a:stretch/>
          </p:blipFill>
          <p:spPr>
            <a:xfrm>
              <a:off x="6429240" y="785880"/>
              <a:ext cx="207180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4"/>
            <p:cNvSpPr/>
            <p:nvPr/>
          </p:nvSpPr>
          <p:spPr>
            <a:xfrm>
              <a:off x="6504480" y="2741760"/>
              <a:ext cx="181296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разво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го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egeteka.ru/upload/medialibrary/639/63981e4f88ac9b9970a02312adab91b4.png"/>
          <p:cNvPicPr/>
          <p:nvPr/>
        </p:nvPicPr>
        <p:blipFill>
          <a:blip r:embed="rId2"/>
          <a:stretch/>
        </p:blipFill>
        <p:spPr>
          <a:xfrm>
            <a:off x="2000160" y="133200"/>
            <a:ext cx="5010120" cy="501048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3" descr=""/>
          <p:cNvPicPr/>
          <p:nvPr/>
        </p:nvPicPr>
        <p:blipFill>
          <a:blip r:embed="rId3"/>
          <a:stretch/>
        </p:blipFill>
        <p:spPr>
          <a:xfrm>
            <a:off x="938160" y="4863960"/>
            <a:ext cx="71326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49680" y="2487960"/>
            <a:ext cx="9307800" cy="10083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Игра «Называй – не зевай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28:23Z</dcterms:created>
  <dc:creator>User</dc:creator>
  <dc:description/>
  <dc:language>en-US</dc:language>
  <cp:lastModifiedBy>COOL</cp:lastModifiedBy>
  <dcterms:modified xsi:type="dcterms:W3CDTF">2017-09-29T16:03:12Z</dcterms:modified>
  <cp:revision>43</cp:revision>
  <dc:subject/>
  <dc:title>Слайд 1</dc:title>
</cp:coreProperties>
</file>