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coin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6858000" cy="9144000"/>
  <p:custShowLst>
    <p:custShow name="Произвольный показ 1" id="0">
      <p:sldLst>
        <p:sld r:id="rId5"/>
        <p:sld r:id="rId7"/>
        <p:sld r:id="rId10"/>
        <p:sld r:id="rId9"/>
        <p:sld r:id="rId6"/>
        <p:sld r:id="rId13"/>
        <p:sld r:id="rId12"/>
        <p:sld r:id="rId16"/>
        <p:sld r:id="rId15"/>
        <p:sld r:id="rId14"/>
        <p:sld r:id="rId11"/>
        <p:sld r:id="rId17"/>
        <p:sld r:id="rId18"/>
        <p:sld r:id="rId9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246E-2038-4405-A140-21B9D02289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3439-EE82-44D4-8A38-6FAB1F9192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8E0-9D91-4334-958E-4A6BF025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563-E4E3-40B6-A370-3FD2DAB4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3E0-705F-4EB1-9560-7086098F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656-C9EB-4DA1-929F-BC5E6AE8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61A1-DD3B-492D-A9F5-4F8B0F7A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7081-AB82-4549-B481-77D99BBF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1360-8B19-4293-AFF1-DC0297C3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55E9-320A-489D-8F19-83042BEF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FA77-FC27-458C-8F1B-6D0BC0D6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26A0-B3ED-4326-851D-E43F0A2B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BE98-68A2-4DFB-ADF4-5F0F53DB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FCC-46FA-4AEE-BA58-B5DDE196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5401-9DCB-4922-8FBA-AD31D982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1247-8DFF-410E-835B-FF885544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696D-998D-4A73-8D53-23908CD5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6B05-9962-4330-990F-4898E3E5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4C4C-D876-48D6-BFD7-F4C731C6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23E7-336F-4885-9AC8-CD6617E6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CA8-78EF-44C6-8590-EF589A40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168-17A5-444D-B5D3-388BF3FD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12F-643A-40E4-8A2F-EE2E4AD1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5B4-B96A-4B09-91AA-94DA08A6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44F-5BEB-48EB-928A-BB242B90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D348-F7E4-4E20-A9E3-AB37457C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7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7b5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85C6-4473-481A-AD78-114259F501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>
            <a:hlinkClick r:id="rId3" action="ppaction://hlinksldjump"/>
          </p:cNvPr>
          <p:cNvSpPr/>
          <p:nvPr/>
        </p:nvSpPr>
        <p:spPr>
          <a:xfrm>
            <a:off x="5943600" y="304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7b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AutoShape 14">
            <a:hlinkClick r:id="" action="ppaction://hlinkshowjump?jump=endshow"/>
          </p:cNvPr>
          <p:cNvSpPr/>
          <p:nvPr/>
        </p:nvSpPr>
        <p:spPr>
          <a:xfrm>
            <a:off x="7315200" y="30492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15">
            <a:hlinkClick r:id="" action="ppaction://hlinkshowjump?jump=lastslide"/>
          </p:cNvPr>
          <p:cNvSpPr/>
          <p:nvPr/>
        </p:nvSpPr>
        <p:spPr>
          <a:xfrm>
            <a:off x="6629400" y="304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7b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0"/>
            <a:ext cx="1752480" cy="4876920"/>
          </a:xfrm>
          <a:prstGeom prst="rect">
            <a:avLst/>
          </a:prstGeom>
          <a:solidFill>
            <a:srgbClr val="c7b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4952880"/>
            <a:ext cx="914400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228600" y="5181480"/>
            <a:ext cx="866772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635040" y="533520"/>
            <a:ext cx="8077320" cy="304560"/>
            <a:chOff x="635040" y="533520"/>
            <a:chExt cx="8077320" cy="304560"/>
          </a:xfrm>
        </p:grpSpPr>
        <p:sp>
          <p:nvSpPr>
            <p:cNvPr id="54" name="Rectangle 9"/>
            <p:cNvSpPr/>
            <p:nvPr/>
          </p:nvSpPr>
          <p:spPr>
            <a:xfrm>
              <a:off x="6273720" y="533520"/>
              <a:ext cx="2438640" cy="304560"/>
            </a:xfrm>
            <a:prstGeom prst="rect">
              <a:avLst/>
            </a:prstGeom>
            <a:solidFill>
              <a:srgbClr val="a0c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635040" y="685800"/>
              <a:ext cx="8077320" cy="0"/>
            </a:xfrm>
            <a:prstGeom prst="line">
              <a:avLst/>
            </a:prstGeom>
            <a:ln w="442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7b5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053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D719-B3D9-461E-9AAC-C4C60B9BB54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15.xml"/><Relationship Id="rId3" Type="http://schemas.openxmlformats.org/officeDocument/2006/relationships/slide" Target="slide26.xml"/><Relationship Id="rId4" Type="http://schemas.openxmlformats.org/officeDocument/2006/relationships/slide" Target="slide39.xml"/><Relationship Id="rId5" Type="http://schemas.openxmlformats.org/officeDocument/2006/relationships/slide" Target="slide3.xml"/><Relationship Id="rId6" Type="http://schemas.openxmlformats.org/officeDocument/2006/relationships/slide" Target="slide59.xml"/><Relationship Id="rId7" Type="http://schemas.openxmlformats.org/officeDocument/2006/relationships/slide" Target="slide70.xml"/><Relationship Id="rId8" Type="http://schemas.openxmlformats.org/officeDocument/2006/relationships/slide" Target="slide81.xml"/><Relationship Id="rId9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hyperlink" Target="file:///tmp/home/.config/libreoffice/4/user/gallery/drumroll.wav" TargetMode="External"/><Relationship Id="rId8" Type="http://schemas.openxmlformats.org/officeDocument/2006/relationships/hyperlink" Target="file:///tmp/home/.config/libreoffice/4/user/gallery/drumroll.wav" TargetMode="External"/><Relationship Id="rId9" Type="http://schemas.openxmlformats.org/officeDocument/2006/relationships/hyperlink" Target="file:///tmp/home/.config/libreoffice/4/user/gallery/drumroll.wav" TargetMode="External"/><Relationship Id="rId10" Type="http://schemas.openxmlformats.org/officeDocument/2006/relationships/hyperlink" Target="file:///tmp/home/.config/libreoffice/4/user/gallery/drumroll.wav" TargetMode="Externa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hyperlink" Target="file:///tmp/home/.config/libreoffice/4/user/gallery/drumroll.wav" TargetMode="External"/><Relationship Id="rId5" Type="http://schemas.openxmlformats.org/officeDocument/2006/relationships/hyperlink" Target="file:///tmp/home/.config/libreoffice/4/user/gallery/drumroll.wav" TargetMode="External"/><Relationship Id="rId6" Type="http://schemas.openxmlformats.org/officeDocument/2006/relationships/hyperlink" Target="file:///tmp/home/.config/libreoffice/4/user/gallery/drumroll.wav" TargetMode="External"/><Relationship Id="rId7" Type="http://schemas.openxmlformats.org/officeDocument/2006/relationships/hyperlink" Target="file:///tmp/home/.config/libreoffice/4/user/gallery/drumroll.wav" TargetMode="External"/><Relationship Id="rId8" Type="http://schemas.openxmlformats.org/officeDocument/2006/relationships/hyperlink" Target="file:///tmp/home/.config/libreoffice/4/user/gallery/drumroll.wav" TargetMode="External"/><Relationship Id="rId9" Type="http://schemas.openxmlformats.org/officeDocument/2006/relationships/hyperlink" Target="file:///tmp/home/.config/libreoffice/4/user/gallery/drumroll.wav" TargetMode="External"/><Relationship Id="rId10" Type="http://schemas.openxmlformats.org/officeDocument/2006/relationships/hyperlink" Target="file:///tmp/home/.config/libreoffice/4/user/gallery/drumroll.wav" TargetMode="Externa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100" spc="-1" strike="noStrike">
                <a:solidFill>
                  <a:srgbClr val="009999"/>
                </a:solidFill>
                <a:latin typeface="Vivaldi"/>
              </a:rPr>
              <a:t>Изучение  таблицы умножения</a:t>
            </a:r>
            <a:endParaRPr b="0" lang="en-US" sz="101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2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676520" y="914400"/>
            <a:ext cx="7467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99"/>
                </a:solidFill>
                <a:latin typeface="Bradley Hand ITC"/>
              </a:rPr>
              <a:t>Какую таблицу 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99"/>
                </a:solidFill>
                <a:latin typeface="Bradley Hand ITC"/>
              </a:rPr>
              <a:t>вы хотели бы 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99"/>
                </a:solidFill>
                <a:latin typeface="Bradley Hand ITC"/>
              </a:rPr>
              <a:t>выучить?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914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2" action="ppaction://hlinksldjump"/>
          </p:cNvPr>
          <p:cNvSpPr/>
          <p:nvPr/>
        </p:nvSpPr>
        <p:spPr>
          <a:xfrm>
            <a:off x="1752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>
            <a:hlinkClick r:id="rId3" action="ppaction://hlinksldjump"/>
          </p:cNvPr>
          <p:cNvSpPr/>
          <p:nvPr/>
        </p:nvSpPr>
        <p:spPr>
          <a:xfrm>
            <a:off x="2590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>
            <a:hlinkClick r:id="rId4" action="ppaction://hlinksldjump"/>
          </p:cNvPr>
          <p:cNvSpPr/>
          <p:nvPr/>
        </p:nvSpPr>
        <p:spPr>
          <a:xfrm>
            <a:off x="3429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>
            <a:hlinkClick r:id="rId5" action="ppaction://hlinksldjump"/>
          </p:cNvPr>
          <p:cNvSpPr/>
          <p:nvPr/>
        </p:nvSpPr>
        <p:spPr>
          <a:xfrm>
            <a:off x="4267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>
            <a:hlinkClick r:id="rId6" action="ppaction://hlinksldjump"/>
          </p:cNvPr>
          <p:cNvSpPr/>
          <p:nvPr/>
        </p:nvSpPr>
        <p:spPr>
          <a:xfrm>
            <a:off x="5105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>
            <a:hlinkClick r:id="rId7" action="ppaction://hlinksldjump"/>
          </p:cNvPr>
          <p:cNvSpPr/>
          <p:nvPr/>
        </p:nvSpPr>
        <p:spPr>
          <a:xfrm>
            <a:off x="5943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>
            <a:hlinkClick r:id="rId8" action="ppaction://hlinksldjump"/>
          </p:cNvPr>
          <p:cNvSpPr/>
          <p:nvPr/>
        </p:nvSpPr>
        <p:spPr>
          <a:xfrm>
            <a:off x="6781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3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WordArt 14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731520"/>
            <a:ext cx="838224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200" spc="-1" strike="noStrike">
                <a:solidFill>
                  <a:srgbClr val="009999"/>
                </a:solidFill>
                <a:latin typeface="Matura MT Script Capitals"/>
              </a:rPr>
              <a:t>Обидно,               но вы ошиблись!</a:t>
            </a:r>
            <a:endParaRPr b="0" lang="en-US" sz="9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4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5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6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7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8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AutoShape 9">
            <a:hlinkClick r:id="rId7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AutoShape 10">
            <a:hlinkClick r:id="rId8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11">
            <a:hlinkClick r:id="rId9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AutoShape 12">
            <a:hlinkClick r:id="rId10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AutoShape 4">
            <a:hlinkClick r:id="rId2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AutoShape 5">
            <a:hlinkClick r:id="rId3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AutoShape 6">
            <a:hlinkClick r:id="rId4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AutoShape 7">
            <a:hlinkClick r:id="rId5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AutoShape 8">
            <a:hlinkClick r:id="rId6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AutoShape 9">
            <a:hlinkClick r:id="rId7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AutoShape 10">
            <a:hlinkClick r:id="rId8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AutoShape 11">
            <a:hlinkClick r:id="rId9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AutoShape 12">
            <a:hlinkClick r:id="rId10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9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999"/>
                </a:solidFill>
                <a:latin typeface="Times New Roman"/>
              </a:rPr>
              <a:t>Презентацию выполнила:</a:t>
            </a:r>
            <a:endParaRPr b="0" lang="en-US" sz="5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914400" y="3047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7b505"/>
                </a:solidFill>
                <a:latin typeface="Arial"/>
              </a:rPr>
              <a:t>Марченко Вера Владимиров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7b505"/>
                </a:solidFill>
                <a:latin typeface="Arial"/>
              </a:rPr>
              <a:t>учитель начальных клас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7b505"/>
                </a:solidFill>
                <a:latin typeface="Arial"/>
              </a:rPr>
              <a:t>МОУ Октябрьской СОШ №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7b505"/>
                </a:solidFill>
                <a:latin typeface="Arial"/>
              </a:rPr>
              <a:t>Богучанского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7b505"/>
                </a:solidFill>
                <a:latin typeface="Arial"/>
              </a:rPr>
              <a:t>E-mail: </a:t>
            </a:r>
            <a:r>
              <a:rPr b="0" lang="en-US" sz="3600" spc="-1" strike="noStrike" u="sng">
                <a:solidFill>
                  <a:srgbClr val="c7b505"/>
                </a:solidFill>
                <a:uFillTx/>
                <a:latin typeface="Arial"/>
              </a:rPr>
              <a:t>vermarchenk@yandex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0-27T08:37:3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