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coin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6858000" cy="9144000"/>
  <p:custShowLst>
    <p:custShow name="Произвольный показ 1" id="0">
      <p:sldLst>
        <p:sld r:id="rId5"/>
        <p:sld r:id="rId7"/>
        <p:sld r:id="rId10"/>
        <p:sld r:id="rId9"/>
        <p:sld r:id="rId6"/>
        <p:sld r:id="rId13"/>
        <p:sld r:id="rId12"/>
        <p:sld r:id="rId16"/>
        <p:sld r:id="rId15"/>
        <p:sld r:id="rId14"/>
        <p:sld r:id="rId11"/>
        <p:sld r:id="rId17"/>
        <p:sld r:id="rId18"/>
        <p:sld r:id="rId9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72A9-7595-4865-B7E1-AB7C7D7AB8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3069-714C-4E66-80A8-521C8EEABA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AE59-B8DE-4A04-810B-331B4BBDE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8F5F-09E3-4CD1-A532-5FE61F4F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4AC2-F6D6-4722-9E85-B5343F259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9490-1978-4153-9EE4-38738D232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B0E1-57E9-4CCE-BEC5-88A543D3C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CC116-1420-49FA-9B51-CCEBC85A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8F8F-4851-4BAE-953C-EDE5EAED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7481-EA37-400C-9B61-D518E0DD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20B2-01E4-491A-9887-21E7613B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701B-2312-45E4-BC81-00CBF2A1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9F26-CCFF-4259-AF3D-592A0A8C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D4F5-3BE4-402F-8263-E7D2E726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7810D-B9F8-4AD9-83F3-17268888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72D2-11CA-4E9F-B65F-0D8FB6E9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3DD1-A924-461C-9973-24E740D7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D72D-A5EE-41C5-9F60-B90CA789A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3C29-8BDE-46B4-95A7-60188E8B8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3B5B-0BAC-4379-8CB5-71BFB8D4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189E-B4BA-4DAD-8CFA-978DA0F8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5857-90DA-4780-91DA-F0EADE70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DCB2-185A-4EF0-B1D8-14EA646D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8F4F-E329-4B32-96E0-C8149476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A3F8-0BD5-42E4-BF21-0B247B8A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0F42-EBD3-4547-B2CF-C034ED0A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7b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7b5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7b5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7b5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CBAA-F714-4431-AE01-98CCD7A1597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utoShape 13">
            <a:hlinkClick r:id="rId3" action="ppaction://hlinksldjump"/>
          </p:cNvPr>
          <p:cNvSpPr/>
          <p:nvPr/>
        </p:nvSpPr>
        <p:spPr>
          <a:xfrm>
            <a:off x="5943600" y="304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7b5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AutoShape 14">
            <a:hlinkClick r:id="" action="ppaction://hlinkshowjump?jump=endshow"/>
          </p:cNvPr>
          <p:cNvSpPr/>
          <p:nvPr/>
        </p:nvSpPr>
        <p:spPr>
          <a:xfrm>
            <a:off x="7315200" y="30492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7b5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ыход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AutoShape 15">
            <a:hlinkClick r:id="" action="ppaction://hlinkshowjump?jump=lastslide"/>
          </p:cNvPr>
          <p:cNvSpPr/>
          <p:nvPr/>
        </p:nvSpPr>
        <p:spPr>
          <a:xfrm>
            <a:off x="6629400" y="304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c7b5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0" y="0"/>
            <a:ext cx="1752480" cy="4876920"/>
          </a:xfrm>
          <a:prstGeom prst="rect">
            <a:avLst/>
          </a:prstGeom>
          <a:solidFill>
            <a:srgbClr val="c7b5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4952880"/>
            <a:ext cx="9144000" cy="16002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228600" y="5181480"/>
            <a:ext cx="866772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635040" y="533520"/>
            <a:ext cx="8077320" cy="304560"/>
            <a:chOff x="635040" y="533520"/>
            <a:chExt cx="8077320" cy="304560"/>
          </a:xfrm>
        </p:grpSpPr>
        <p:sp>
          <p:nvSpPr>
            <p:cNvPr id="54" name="Rectangle 9"/>
            <p:cNvSpPr/>
            <p:nvPr/>
          </p:nvSpPr>
          <p:spPr>
            <a:xfrm>
              <a:off x="6273720" y="533520"/>
              <a:ext cx="2438640" cy="304560"/>
            </a:xfrm>
            <a:prstGeom prst="rect">
              <a:avLst/>
            </a:prstGeom>
            <a:solidFill>
              <a:srgbClr val="a0c6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0"/>
            <p:cNvSpPr/>
            <p:nvPr/>
          </p:nvSpPr>
          <p:spPr>
            <a:xfrm>
              <a:off x="635040" y="685800"/>
              <a:ext cx="8077320" cy="0"/>
            </a:xfrm>
            <a:prstGeom prst="line">
              <a:avLst/>
            </a:prstGeom>
            <a:ln w="442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7b50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7b5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7b5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0536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83EB-2050-41A9-88F8-B333BF0A0F8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15.xml"/><Relationship Id="rId3" Type="http://schemas.openxmlformats.org/officeDocument/2006/relationships/slide" Target="slide26.xml"/><Relationship Id="rId4" Type="http://schemas.openxmlformats.org/officeDocument/2006/relationships/slide" Target="slide39.xml"/><Relationship Id="rId5" Type="http://schemas.openxmlformats.org/officeDocument/2006/relationships/slide" Target="slide3.xml"/><Relationship Id="rId6" Type="http://schemas.openxmlformats.org/officeDocument/2006/relationships/slide" Target="slide59.xml"/><Relationship Id="rId7" Type="http://schemas.openxmlformats.org/officeDocument/2006/relationships/slide" Target="slide70.xml"/><Relationship Id="rId8" Type="http://schemas.openxmlformats.org/officeDocument/2006/relationships/slide" Target="slide81.xml"/><Relationship Id="rId9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hyperlink" Target="file:///tmp/home/.config/libreoffice/4/user/gallery/drumroll.wav" TargetMode="External"/><Relationship Id="rId8" Type="http://schemas.openxmlformats.org/officeDocument/2006/relationships/hyperlink" Target="file:///tmp/home/.config/libreoffice/4/user/gallery/drumroll.wav" TargetMode="External"/><Relationship Id="rId9" Type="http://schemas.openxmlformats.org/officeDocument/2006/relationships/hyperlink" Target="file:///tmp/home/.config/libreoffice/4/user/gallery/drumroll.wav" TargetMode="External"/><Relationship Id="rId10" Type="http://schemas.openxmlformats.org/officeDocument/2006/relationships/hyperlink" Target="file:///tmp/home/.config/libreoffice/4/user/gallery/drumroll.wav" TargetMode="Externa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hyperlink" Target="file:///tmp/home/.config/libreoffice/4/user/gallery/drumroll.wav" TargetMode="External"/><Relationship Id="rId3" Type="http://schemas.openxmlformats.org/officeDocument/2006/relationships/hyperlink" Target="file:///tmp/home/.config/libreoffice/4/user/gallery/drumroll.wav" TargetMode="External"/><Relationship Id="rId4" Type="http://schemas.openxmlformats.org/officeDocument/2006/relationships/hyperlink" Target="file:///tmp/home/.config/libreoffice/4/user/gallery/drumroll.wav" TargetMode="External"/><Relationship Id="rId5" Type="http://schemas.openxmlformats.org/officeDocument/2006/relationships/hyperlink" Target="file:///tmp/home/.config/libreoffice/4/user/gallery/drumroll.wav" TargetMode="External"/><Relationship Id="rId6" Type="http://schemas.openxmlformats.org/officeDocument/2006/relationships/hyperlink" Target="file:///tmp/home/.config/libreoffice/4/user/gallery/drumroll.wav" TargetMode="External"/><Relationship Id="rId7" Type="http://schemas.openxmlformats.org/officeDocument/2006/relationships/hyperlink" Target="file:///tmp/home/.config/libreoffice/4/user/gallery/drumroll.wav" TargetMode="External"/><Relationship Id="rId8" Type="http://schemas.openxmlformats.org/officeDocument/2006/relationships/hyperlink" Target="file:///tmp/home/.config/libreoffice/4/user/gallery/drumroll.wav" TargetMode="External"/><Relationship Id="rId9" Type="http://schemas.openxmlformats.org/officeDocument/2006/relationships/hyperlink" Target="file:///tmp/home/.config/libreoffice/4/user/gallery/drumroll.wav" TargetMode="External"/><Relationship Id="rId10" Type="http://schemas.openxmlformats.org/officeDocument/2006/relationships/hyperlink" Target="file:///tmp/home/.config/libreoffice/4/user/gallery/drumroll.wav" TargetMode="External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audio" Target="../media/coin.wav"/><Relationship Id="rId14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100" spc="-1" strike="noStrike">
                <a:solidFill>
                  <a:srgbClr val="009999"/>
                </a:solidFill>
                <a:latin typeface="Vivaldi"/>
              </a:rPr>
              <a:t>Изучение  таблицы умножения</a:t>
            </a:r>
            <a:endParaRPr b="0" lang="en-US" sz="101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9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1">
            <a:hlinkClick r:id="rId9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4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6">
            <a:hlinkClick r:id="rId4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2">
            <a:hlinkClick r:id="rId10" action="ppaction://hlinksldjump"/>
          </p:cNvPr>
          <p:cNvSpPr/>
          <p:nvPr/>
        </p:nvSpPr>
        <p:spPr>
          <a:xfrm>
            <a:off x="30492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8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10">
            <a:hlinkClick r:id="rId8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73152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400" spc="-1" strike="noStrike">
                <a:solidFill>
                  <a:srgbClr val="009999"/>
                </a:solidFill>
                <a:latin typeface="Goudy Stout"/>
              </a:rPr>
              <a:t>Поздравляю,            вы запомнили таблицу умножения на 2!</a:t>
            </a:r>
            <a:endParaRPr b="0" lang="en-US" sz="8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newsflash/>
    <p:sndAc>
      <p:stSnd>
        <p:snd r:embed="rId1" name="coin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1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4">
            <a:hlinkClick r:id="rId2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5">
            <a:hlinkClick r:id="rId3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5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7">
            <a:hlinkClick r:id="rId5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4">
            <a:hlinkClick r:id="rId2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5">
            <a:hlinkClick r:id="rId3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7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9">
            <a:hlinkClick r:id="rId7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1676520" y="914400"/>
            <a:ext cx="7467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9999"/>
                </a:solidFill>
                <a:latin typeface="Bradley Hand ITC"/>
              </a:rPr>
              <a:t>Какую таблицу </a:t>
            </a:r>
            <a:endParaRPr b="0" i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9999"/>
                </a:solidFill>
                <a:latin typeface="Bradley Hand ITC"/>
              </a:rPr>
              <a:t>вы хотели бы </a:t>
            </a:r>
            <a:endParaRPr b="0" i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9999"/>
                </a:solidFill>
                <a:latin typeface="Bradley Hand ITC"/>
              </a:rPr>
              <a:t>выучить?</a:t>
            </a:r>
            <a:endParaRPr b="0" i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914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>
            <a:hlinkClick r:id="rId2" action="ppaction://hlinksldjump"/>
          </p:cNvPr>
          <p:cNvSpPr/>
          <p:nvPr/>
        </p:nvSpPr>
        <p:spPr>
          <a:xfrm>
            <a:off x="1752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5">
            <a:hlinkClick r:id="rId3" action="ppaction://hlinksldjump"/>
          </p:cNvPr>
          <p:cNvSpPr/>
          <p:nvPr/>
        </p:nvSpPr>
        <p:spPr>
          <a:xfrm>
            <a:off x="2590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6">
            <a:hlinkClick r:id="rId4" action="ppaction://hlinksldjump"/>
          </p:cNvPr>
          <p:cNvSpPr/>
          <p:nvPr/>
        </p:nvSpPr>
        <p:spPr>
          <a:xfrm>
            <a:off x="3429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7">
            <a:hlinkClick r:id="rId5" action="ppaction://hlinksldjump"/>
          </p:cNvPr>
          <p:cNvSpPr/>
          <p:nvPr/>
        </p:nvSpPr>
        <p:spPr>
          <a:xfrm>
            <a:off x="4267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8">
            <a:hlinkClick r:id="rId6" action="ppaction://hlinksldjump"/>
          </p:cNvPr>
          <p:cNvSpPr/>
          <p:nvPr/>
        </p:nvSpPr>
        <p:spPr>
          <a:xfrm>
            <a:off x="5105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9">
            <a:hlinkClick r:id="rId7" action="ppaction://hlinksldjump"/>
          </p:cNvPr>
          <p:cNvSpPr/>
          <p:nvPr/>
        </p:nvSpPr>
        <p:spPr>
          <a:xfrm>
            <a:off x="5943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0">
            <a:hlinkClick r:id="rId8" action="ppaction://hlinksldjump"/>
          </p:cNvPr>
          <p:cNvSpPr/>
          <p:nvPr/>
        </p:nvSpPr>
        <p:spPr>
          <a:xfrm>
            <a:off x="67816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6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8">
            <a:hlinkClick r:id="rId6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9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11">
            <a:hlinkClick r:id="rId9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4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6">
            <a:hlinkClick r:id="rId4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12">
            <a:hlinkClick r:id="rId10" action="ppaction://hlinksldjump"/>
          </p:cNvPr>
          <p:cNvSpPr/>
          <p:nvPr/>
        </p:nvSpPr>
        <p:spPr>
          <a:xfrm>
            <a:off x="30492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8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0">
            <a:hlinkClick r:id="rId8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0" y="73152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400" spc="-1" strike="noStrike">
                <a:solidFill>
                  <a:srgbClr val="009999"/>
                </a:solidFill>
                <a:latin typeface="Goudy Stout"/>
              </a:rPr>
              <a:t>Поздравляю,            вы запомнили таблицу умножения на 3!</a:t>
            </a:r>
            <a:endParaRPr b="0" lang="en-US" sz="8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newsflash/>
    <p:sndAc>
      <p:stSnd>
        <p:snd r:embed="rId1" name="coin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1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4">
            <a:hlinkClick r:id="rId2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5">
            <a:hlinkClick r:id="rId3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WordArt 14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5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7">
            <a:hlinkClick r:id="rId5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4">
            <a:hlinkClick r:id="rId2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5">
            <a:hlinkClick r:id="rId3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731520"/>
            <a:ext cx="838224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200" spc="-1" strike="noStrike">
                <a:solidFill>
                  <a:srgbClr val="009999"/>
                </a:solidFill>
                <a:latin typeface="Matura MT Script Capitals"/>
              </a:rPr>
              <a:t>Обидно,               но вы ошиблись!</a:t>
            </a:r>
            <a:endParaRPr b="0" lang="en-US" sz="9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7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9">
            <a:hlinkClick r:id="rId7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6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8">
            <a:hlinkClick r:id="rId6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9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11">
            <a:hlinkClick r:id="rId9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4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6">
            <a:hlinkClick r:id="rId4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8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10">
            <a:hlinkClick r:id="rId8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4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12">
            <a:hlinkClick r:id="rId10" action="ppaction://hlinksldjump"/>
          </p:cNvPr>
          <p:cNvSpPr/>
          <p:nvPr/>
        </p:nvSpPr>
        <p:spPr>
          <a:xfrm>
            <a:off x="30492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73152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400" spc="-1" strike="noStrike">
                <a:solidFill>
                  <a:srgbClr val="009999"/>
                </a:solidFill>
                <a:latin typeface="Goudy Stout"/>
              </a:rPr>
              <a:t>Поздравляю,            вы запомнили таблицу умножения на 4!</a:t>
            </a:r>
            <a:endParaRPr b="0" lang="en-US" sz="8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newsflash/>
    <p:sndAc>
      <p:stSnd>
        <p:snd r:embed="rId1" name="coin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4">
            <a:hlinkClick r:id="rId2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5">
            <a:hlinkClick r:id="rId3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5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7">
            <a:hlinkClick r:id="rId5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1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1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7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9">
            <a:hlinkClick r:id="rId7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4">
            <a:hlinkClick r:id="rId2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5">
            <a:hlinkClick r:id="rId3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6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8">
            <a:hlinkClick r:id="rId6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9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11">
            <a:hlinkClick r:id="rId9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4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6">
            <a:hlinkClick r:id="rId4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8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10">
            <a:hlinkClick r:id="rId8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5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12">
            <a:hlinkClick r:id="rId10" action="ppaction://hlinksldjump"/>
          </p:cNvPr>
          <p:cNvSpPr/>
          <p:nvPr/>
        </p:nvSpPr>
        <p:spPr>
          <a:xfrm>
            <a:off x="30492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0" y="73152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400" spc="-1" strike="noStrike">
                <a:solidFill>
                  <a:srgbClr val="009999"/>
                </a:solidFill>
                <a:latin typeface="Goudy Stout"/>
              </a:rPr>
              <a:t>Поздравляю,            вы запомнили таблицу умножения на 5!</a:t>
            </a:r>
            <a:endParaRPr b="0" lang="en-US" sz="8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newsflash/>
    <p:sndAc>
      <p:stSnd>
        <p:snd r:embed="rId1" name="coin.wav"/>
      </p:stSnd>
    </p:sndAc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6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8">
            <a:hlinkClick r:id="rId6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1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5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7">
            <a:hlinkClick r:id="rId5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4">
            <a:hlinkClick r:id="rId2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5">
            <a:hlinkClick r:id="rId3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5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utoShape 7">
            <a:hlinkClick r:id="rId5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4">
            <a:hlinkClick r:id="rId2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5">
            <a:hlinkClick r:id="rId3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7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9">
            <a:hlinkClick r:id="rId7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9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AutoShape 11">
            <a:hlinkClick r:id="rId9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4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AutoShape 6">
            <a:hlinkClick r:id="rId4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8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AutoShape 10">
            <a:hlinkClick r:id="rId8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6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AutoShape 12">
            <a:hlinkClick r:id="rId10" action="ppaction://hlinksldjump"/>
          </p:cNvPr>
          <p:cNvSpPr/>
          <p:nvPr/>
        </p:nvSpPr>
        <p:spPr>
          <a:xfrm>
            <a:off x="30492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0" y="73152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400" spc="-1" strike="noStrike">
                <a:solidFill>
                  <a:srgbClr val="009999"/>
                </a:solidFill>
                <a:latin typeface="Goudy Stout"/>
              </a:rPr>
              <a:t>Поздравляю,            вы запомнили таблицу умножения на 6!</a:t>
            </a:r>
            <a:endParaRPr b="0" lang="en-US" sz="8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newsflash/>
    <p:sndAc>
      <p:stSnd>
        <p:snd r:embed="rId1" name="coin.wav"/>
      </p:stSnd>
    </p:sndAc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7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6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AutoShape 8">
            <a:hlinkClick r:id="rId6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3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5">
            <a:hlinkClick r:id="rId3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7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1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7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AutoShape 4">
            <a:hlinkClick r:id="rId2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AutoShape 5">
            <a:hlinkClick r:id="rId3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7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5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AutoShape 7">
            <a:hlinkClick r:id="rId5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7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AutoShape 4">
            <a:hlinkClick r:id="rId2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AutoShape 5">
            <a:hlinkClick r:id="rId3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7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7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utoShape 9">
            <a:hlinkClick r:id="rId7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7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9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AutoShape 11">
            <a:hlinkClick r:id="rId9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7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4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AutoShape 6">
            <a:hlinkClick r:id="rId4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7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8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AutoShape 10">
            <a:hlinkClick r:id="rId8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7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AutoShape 12">
            <a:hlinkClick r:id="rId10" action="ppaction://hlinksldjump"/>
          </p:cNvPr>
          <p:cNvSpPr/>
          <p:nvPr/>
        </p:nvSpPr>
        <p:spPr>
          <a:xfrm>
            <a:off x="30492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0" y="73152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400" spc="-1" strike="noStrike">
                <a:solidFill>
                  <a:srgbClr val="009999"/>
                </a:solidFill>
                <a:latin typeface="Goudy Stout"/>
              </a:rPr>
              <a:t>Поздравляю,            вы запомнили таблицу умножения на 7!</a:t>
            </a:r>
            <a:endParaRPr b="0" lang="en-US" sz="8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newsflash/>
    <p:sndAc>
      <p:stSnd>
        <p:snd r:embed="rId1" name="coin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2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4">
            <a:hlinkClick r:id="rId2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8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6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AutoShape 8">
            <a:hlinkClick r:id="rId6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8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1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8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AutoShape 4">
            <a:hlinkClick r:id="rId2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AutoShape 5">
            <a:hlinkClick r:id="rId3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8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5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AutoShape 7">
            <a:hlinkClick r:id="rId5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8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AutoShape 4">
            <a:hlinkClick r:id="rId2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AutoShape 5">
            <a:hlinkClick r:id="rId3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8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7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AutoShape 9">
            <a:hlinkClick r:id="rId7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8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9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AutoShape 11">
            <a:hlinkClick r:id="rId9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8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4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AutoShape 6">
            <a:hlinkClick r:id="rId4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8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8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AutoShape 10">
            <a:hlinkClick r:id="rId8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8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AutoShape 12">
            <a:hlinkClick r:id="rId10" action="ppaction://hlinksldjump"/>
          </p:cNvPr>
          <p:cNvSpPr/>
          <p:nvPr/>
        </p:nvSpPr>
        <p:spPr>
          <a:xfrm>
            <a:off x="30492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7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9">
            <a:hlinkClick r:id="rId7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0" y="73152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400" spc="-1" strike="noStrike">
                <a:solidFill>
                  <a:srgbClr val="009999"/>
                </a:solidFill>
                <a:latin typeface="Goudy Stout"/>
              </a:rPr>
              <a:t>Поздравляю,            вы запомнили таблицу умножения на 8!</a:t>
            </a:r>
            <a:endParaRPr b="0" lang="en-US" sz="8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newsflash/>
    <p:sndAc>
      <p:stSnd>
        <p:snd r:embed="rId1" name="coin.wav"/>
      </p:stSnd>
    </p:sndAc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9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6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AutoShape 8">
            <a:hlinkClick r:id="rId6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9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1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9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3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AutoShape 4">
            <a:hlinkClick r:id="rId2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AutoShape 5">
            <a:hlinkClick r:id="rId3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9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5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AutoShape 7">
            <a:hlinkClick r:id="rId5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9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AutoShape 4">
            <a:hlinkClick r:id="rId2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AutoShape 5">
            <a:hlinkClick r:id="rId3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9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7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AutoShape 9">
            <a:hlinkClick r:id="rId7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9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9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AutoShape 11">
            <a:hlinkClick r:id="rId9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9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4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AutoShape 6">
            <a:hlinkClick r:id="rId4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9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8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AutoShape 8">
            <a:hlinkClick r:id="rId6" action="ppaction://hlinksldjump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AutoShape 9">
            <a:hlinkClick r:id="rId7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AutoShape 10">
            <a:hlinkClick r:id="rId8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AutoShape 11">
            <a:hlinkClick r:id="rId9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AutoShape 12">
            <a:hlinkClick r:id="rId10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6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4">
            <a:hlinkClick r:id="rId2" action="ppaction://hlinksldjump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5">
            <a:hlinkClick r:id="rId3" action="ppaction://hlinksldjump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6">
            <a:hlinkClick r:id="rId4" action="ppaction://hlinksldjump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7">
            <a:hlinkClick r:id="rId5" action="ppaction://hlinksldjump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8">
            <a:hlinkClick r:id="rId6" action="ppaction://hlinksldjump"/>
          </p:cNvPr>
          <p:cNvSpPr/>
          <p:nvPr/>
        </p:nvSpPr>
        <p:spPr>
          <a:xfrm>
            <a:off x="3808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9">
            <a:hlinkClick r:id="rId7" action="ppaction://hlinksldjump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0">
            <a:hlinkClick r:id="rId8" action="ppaction://hlinksldjump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1">
            <a:hlinkClick r:id="rId9" action="ppaction://hlinksldjump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2">
            <a:hlinkClick r:id="rId10" action="ppaction://hlinksldjump"/>
          </p:cNvPr>
          <p:cNvSpPr/>
          <p:nvPr/>
        </p:nvSpPr>
        <p:spPr>
          <a:xfrm>
            <a:off x="792468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2"/>
          <p:cNvSpPr/>
          <p:nvPr/>
        </p:nvSpPr>
        <p:spPr>
          <a:xfrm>
            <a:off x="2514600" y="914400"/>
            <a:ext cx="4572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9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·</a:t>
            </a:r>
            <a:r>
              <a:rPr b="0" lang="ru-RU" sz="129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n-US" sz="12900" spc="-1" strike="noStrike">
                <a:solidFill>
                  <a:srgbClr val="009999"/>
                </a:solidFill>
                <a:latin typeface="Arial"/>
              </a:rPr>
              <a:t>0</a:t>
            </a:r>
            <a:endParaRPr b="0" i="1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AutoShape 3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AutoShape 4">
            <a:hlinkClick r:id="rId2"/>
          </p:cNvPr>
          <p:cNvSpPr/>
          <p:nvPr/>
        </p:nvSpPr>
        <p:spPr>
          <a:xfrm>
            <a:off x="12193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AutoShape 5">
            <a:hlinkClick r:id="rId3"/>
          </p:cNvPr>
          <p:cNvSpPr/>
          <p:nvPr/>
        </p:nvSpPr>
        <p:spPr>
          <a:xfrm>
            <a:off x="20574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AutoShape 6">
            <a:hlinkClick r:id="rId4"/>
          </p:cNvPr>
          <p:cNvSpPr/>
          <p:nvPr/>
        </p:nvSpPr>
        <p:spPr>
          <a:xfrm>
            <a:off x="28954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AutoShape 7">
            <a:hlinkClick r:id="rId5"/>
          </p:cNvPr>
          <p:cNvSpPr/>
          <p:nvPr/>
        </p:nvSpPr>
        <p:spPr>
          <a:xfrm>
            <a:off x="37339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AutoShape 8">
            <a:hlinkClick r:id="rId6"/>
          </p:cNvPr>
          <p:cNvSpPr/>
          <p:nvPr/>
        </p:nvSpPr>
        <p:spPr>
          <a:xfrm>
            <a:off x="45720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AutoShape 9">
            <a:hlinkClick r:id="rId7"/>
          </p:cNvPr>
          <p:cNvSpPr/>
          <p:nvPr/>
        </p:nvSpPr>
        <p:spPr>
          <a:xfrm>
            <a:off x="5410080" y="5410080"/>
            <a:ext cx="838440" cy="762120"/>
          </a:xfrm>
          <a:custGeom>
            <a:avLst/>
            <a:gdLst>
              <a:gd name="textAreaLeft" fmla="*/ 49320 w 838440"/>
              <a:gd name="textAreaRight" fmla="*/ 789120 w 838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62" h="21600">
                <a:moveTo>
                  <a:pt x="0" y="0"/>
                </a:moveTo>
                <a:lnTo>
                  <a:pt x="23762" y="0"/>
                </a:lnTo>
                <a:lnTo>
                  <a:pt x="23762" y="21600"/>
                </a:lnTo>
                <a:lnTo>
                  <a:pt x="0" y="21600"/>
                </a:lnTo>
                <a:close/>
              </a:path>
              <a:path fill="lightenLess" w="23762" h="21600">
                <a:moveTo>
                  <a:pt x="0" y="0"/>
                </a:moveTo>
                <a:lnTo>
                  <a:pt x="23762" y="0"/>
                </a:lnTo>
                <a:lnTo>
                  <a:pt x="22362" y="1400"/>
                </a:lnTo>
                <a:lnTo>
                  <a:pt x="1400" y="1400"/>
                </a:lnTo>
                <a:close/>
              </a:path>
              <a:path fill="darken" w="23762" h="21600">
                <a:moveTo>
                  <a:pt x="23762" y="0"/>
                </a:moveTo>
                <a:lnTo>
                  <a:pt x="23762" y="21600"/>
                </a:lnTo>
                <a:lnTo>
                  <a:pt x="22362" y="20200"/>
                </a:lnTo>
                <a:lnTo>
                  <a:pt x="22362" y="1400"/>
                </a:lnTo>
                <a:close/>
              </a:path>
              <a:path fill="darkenLess" w="23762" h="21600">
                <a:moveTo>
                  <a:pt x="23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62" y="20200"/>
                </a:lnTo>
                <a:close/>
              </a:path>
              <a:path fill="lighten" w="23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AutoShape 10">
            <a:hlinkClick r:id="rId8"/>
          </p:cNvPr>
          <p:cNvSpPr/>
          <p:nvPr/>
        </p:nvSpPr>
        <p:spPr>
          <a:xfrm>
            <a:off x="624852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72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AutoShape 11">
            <a:hlinkClick r:id="rId9"/>
          </p:cNvPr>
          <p:cNvSpPr/>
          <p:nvPr/>
        </p:nvSpPr>
        <p:spPr>
          <a:xfrm>
            <a:off x="7086600" y="54100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AutoShape 12">
            <a:hlinkClick r:id="rId10"/>
          </p:cNvPr>
          <p:cNvSpPr/>
          <p:nvPr/>
        </p:nvSpPr>
        <p:spPr>
          <a:xfrm>
            <a:off x="304920" y="54100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0c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WordArt 13"/>
          <p:cNvSpPr txBox="1"/>
          <p:nvPr/>
        </p:nvSpPr>
        <p:spPr>
          <a:xfrm>
            <a:off x="457200" y="2057400"/>
            <a:ext cx="11239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1" i="1" lang="en-US" sz="8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13" name="coin.wav"/>
      </p:stSnd>
    </p:sndAc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0" y="73152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400" spc="-1" strike="noStrike">
                <a:solidFill>
                  <a:srgbClr val="009999"/>
                </a:solidFill>
                <a:latin typeface="Goudy Stout"/>
              </a:rPr>
              <a:t>Поздравляю,            вы запомнили таблицу умножения на 9!</a:t>
            </a:r>
            <a:endParaRPr b="0" lang="en-US" sz="8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transition>
    <p:newsflash/>
    <p:sndAc>
      <p:stSnd>
        <p:snd r:embed="rId1" name="coin.wav"/>
      </p:stSnd>
    </p:sndAc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9999"/>
                </a:solidFill>
                <a:latin typeface="Times New Roman"/>
              </a:rPr>
              <a:t>Презентацию выполнила:</a:t>
            </a:r>
            <a:endParaRPr b="0" lang="en-US" sz="5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914400" y="30477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7b505"/>
                </a:solidFill>
                <a:latin typeface="Arial"/>
              </a:rPr>
              <a:t>Марченко Вера Владимировн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7b505"/>
                </a:solidFill>
                <a:latin typeface="Arial"/>
              </a:rPr>
              <a:t>учитель начальных клас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7b505"/>
                </a:solidFill>
                <a:latin typeface="Arial"/>
              </a:rPr>
              <a:t>МОУ Октябрьской СОШ №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7b505"/>
                </a:solidFill>
                <a:latin typeface="Arial"/>
              </a:rPr>
              <a:t>Богучанского рай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7b505"/>
                </a:solidFill>
                <a:latin typeface="Arial"/>
              </a:rPr>
              <a:t>E-mail: </a:t>
            </a:r>
            <a:r>
              <a:rPr b="0" lang="en-US" sz="3600" spc="-1" strike="noStrike" u="sng">
                <a:solidFill>
                  <a:srgbClr val="c7b505"/>
                </a:solidFill>
                <a:uFillTx/>
                <a:latin typeface="Arial"/>
              </a:rPr>
              <a:t>vermarchenk@yandex.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10-27T08:37:32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