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0081-51D3-4059-AF0D-33D1E82B9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B87C-A9D0-4302-A5A3-D89FF52E4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BAA5-E9CE-4EF7-942B-8851E881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8BF7-FDF4-4202-8461-865EBD8A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3F32-95EB-4239-8C2A-4400930EF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CF3B-0674-4636-A0FB-E87BE69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83E-2B67-4EB6-BE30-DF5E876B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94E0-CC30-4808-A2A1-873668E5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6D8D-FFD6-499A-83EC-B8EE661F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CDF5-874C-4E86-A277-ECD6F308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3A7-E95E-46EF-BF12-3260F24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FD88-BE98-4083-86E1-6D8C729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2E09-044B-491B-BFC5-2EF3342763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95280" y="90792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Красна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книг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растений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atangChe"/>
                <a:ea typeface="BatangChe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2" descr="02 (1).jpg"/>
          <p:cNvPicPr/>
          <p:nvPr/>
        </p:nvPicPr>
        <p:blipFill>
          <a:blip r:embed="rId2"/>
          <a:stretch/>
        </p:blipFill>
        <p:spPr>
          <a:xfrm>
            <a:off x="684360" y="1413000"/>
            <a:ext cx="7704000" cy="504036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539640" y="33336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нерин башмачо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4" descr="at325935378.jpg"/>
          <p:cNvPicPr/>
          <p:nvPr/>
        </p:nvPicPr>
        <p:blipFill>
          <a:blip r:embed="rId2"/>
          <a:stretch/>
        </p:blipFill>
        <p:spPr>
          <a:xfrm>
            <a:off x="395280" y="765000"/>
            <a:ext cx="5184720" cy="571212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img11.jpg"/>
          <p:cNvPicPr/>
          <p:nvPr/>
        </p:nvPicPr>
        <p:blipFill>
          <a:blip r:embed="rId3"/>
          <a:srcRect l="50003" t="0" r="0" b="12205"/>
          <a:stretch/>
        </p:blipFill>
        <p:spPr>
          <a:xfrm>
            <a:off x="5580000" y="404640"/>
            <a:ext cx="3384720" cy="604872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95280" y="1159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  <a:ea typeface="Arabic Typesetting"/>
              </a:rPr>
              <a:t>Ландыш  майский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2" descr="ea66fded2f89.jpg"/>
          <p:cNvPicPr/>
          <p:nvPr/>
        </p:nvPicPr>
        <p:blipFill>
          <a:blip r:embed="rId2"/>
          <a:stretch/>
        </p:blipFill>
        <p:spPr>
          <a:xfrm>
            <a:off x="395280" y="1197000"/>
            <a:ext cx="8280360" cy="532764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468360" y="26028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Подснежник  кавказ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2" descr="05_2.jpg"/>
          <p:cNvPicPr/>
          <p:nvPr/>
        </p:nvPicPr>
        <p:blipFill>
          <a:blip r:embed="rId2"/>
          <a:srcRect l="0" t="0" r="0" b="20485"/>
          <a:stretch/>
        </p:blipFill>
        <p:spPr>
          <a:xfrm>
            <a:off x="468360" y="620640"/>
            <a:ext cx="5616360" cy="554508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6156360" y="1268280"/>
            <a:ext cx="287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етрениц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сн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176.1344230855.jpg"/>
          <p:cNvPicPr/>
          <p:nvPr/>
        </p:nvPicPr>
        <p:blipFill>
          <a:blip r:embed="rId2"/>
          <a:stretch/>
        </p:blipFill>
        <p:spPr>
          <a:xfrm>
            <a:off x="755640" y="1484280"/>
            <a:ext cx="7620120" cy="496080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539640" y="333360"/>
            <a:ext cx="74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Водяная  лилия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" descr="flower_0.jpg"/>
          <p:cNvPicPr/>
          <p:nvPr/>
        </p:nvPicPr>
        <p:blipFill>
          <a:blip r:embed="rId2"/>
          <a:stretch/>
        </p:blipFill>
        <p:spPr>
          <a:xfrm>
            <a:off x="755640" y="1197000"/>
            <a:ext cx="7620120" cy="5413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Голубые  подснежники - ургуйки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slide-5.jpg"/>
          <p:cNvPicPr/>
          <p:nvPr/>
        </p:nvPicPr>
        <p:blipFill>
          <a:blip r:embed="rId2"/>
          <a:stretch/>
        </p:blipFill>
        <p:spPr>
          <a:xfrm>
            <a:off x="539640" y="260280"/>
            <a:ext cx="7993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3" descr="backgroun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611280" y="260280"/>
            <a:ext cx="7848360" cy="78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б  сохранить  красу  родной  Земл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Чтобы  сберечь  растенья  и цве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се  исчезающие  вид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 книгу  Красную  сейчас  занесе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Там  сон – трава  и  медуни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Прекрасная  кувшинка,  горицве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нерин  башмачок  и ландыш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Весны  чудесный  вестник  - первоцв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Красная  книга  -  книга - трев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Знай , все растения в ней - недотро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Рвать не нужно их, друзья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Охраняйте их всег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16:24:29Z</dcterms:created>
  <dc:creator>User</dc:creator>
  <dc:description/>
  <dc:language>en-US</dc:language>
  <cp:lastModifiedBy>Пользователь</cp:lastModifiedBy>
  <dcterms:modified xsi:type="dcterms:W3CDTF">2016-11-21T08:24:19Z</dcterms:modified>
  <cp:revision>22</cp:revision>
  <dc:subject/>
  <dc:title>Слайд 1</dc:title>
</cp:coreProperties>
</file>