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7F7-239B-413E-B1DE-A501D800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AF0-9778-452F-97F1-7A5BAA8E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C74-5785-44E5-A5CD-3D11036C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E82-776E-4BD7-B95C-8B889A25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745-FF9E-40D7-8345-4E90B27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EE7-C1DD-45DF-B59A-A9B1AAE4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9DC-92ED-4DF1-8EE7-CBFF1538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C86-425D-4150-B7D6-B0F5B039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2E0-9E6B-4A2C-8C31-A0129C55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B7A-D960-4D95-90B8-938106E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FAE-CAC8-447C-8E18-9F2ACCFC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0E6-12AC-43D0-ACF2-966BCED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471-EC58-453B-95F8-6D94C03A7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95280" y="90792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atangChe"/>
                <a:ea typeface="BatangChe"/>
              </a:rPr>
              <a:t>Красна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atangChe"/>
                <a:ea typeface="BatangChe"/>
              </a:rPr>
              <a:t>книг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atangChe"/>
                <a:ea typeface="BatangChe"/>
              </a:rPr>
              <a:t>растени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atangChe"/>
                <a:ea typeface="BatangChe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02 (1).jpg"/>
          <p:cNvPicPr/>
          <p:nvPr/>
        </p:nvPicPr>
        <p:blipFill>
          <a:blip r:embed="rId2"/>
          <a:stretch/>
        </p:blipFill>
        <p:spPr>
          <a:xfrm>
            <a:off x="684360" y="1413000"/>
            <a:ext cx="770400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39640" y="33336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енерин башмач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at325935378.jpg"/>
          <p:cNvPicPr/>
          <p:nvPr/>
        </p:nvPicPr>
        <p:blipFill>
          <a:blip r:embed="rId2"/>
          <a:stretch/>
        </p:blipFill>
        <p:spPr>
          <a:xfrm>
            <a:off x="395280" y="765000"/>
            <a:ext cx="5184720" cy="5712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img11.jpg"/>
          <p:cNvPicPr/>
          <p:nvPr/>
        </p:nvPicPr>
        <p:blipFill>
          <a:blip r:embed="rId3"/>
          <a:srcRect l="50003" t="0" r="0" b="12205"/>
          <a:stretch/>
        </p:blipFill>
        <p:spPr>
          <a:xfrm>
            <a:off x="5580000" y="404640"/>
            <a:ext cx="3384720" cy="6048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95280" y="1159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Arabic Typesetting"/>
              </a:rPr>
              <a:t>Ландыш  майск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ea66fded2f89.jpg"/>
          <p:cNvPicPr/>
          <p:nvPr/>
        </p:nvPicPr>
        <p:blipFill>
          <a:blip r:embed="rId2"/>
          <a:stretch/>
        </p:blipFill>
        <p:spPr>
          <a:xfrm>
            <a:off x="395280" y="1197000"/>
            <a:ext cx="828036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468360" y="26028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дснежник  кавказ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05_2.jpg"/>
          <p:cNvPicPr/>
          <p:nvPr/>
        </p:nvPicPr>
        <p:blipFill>
          <a:blip r:embed="rId2"/>
          <a:srcRect l="0" t="0" r="0" b="20485"/>
          <a:stretch/>
        </p:blipFill>
        <p:spPr>
          <a:xfrm>
            <a:off x="468360" y="620640"/>
            <a:ext cx="5616360" cy="5545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6156360" y="12682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етрениц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с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176.1344230855.jpg"/>
          <p:cNvPicPr/>
          <p:nvPr/>
        </p:nvPicPr>
        <p:blipFill>
          <a:blip r:embed="rId2"/>
          <a:stretch/>
        </p:blipFill>
        <p:spPr>
          <a:xfrm>
            <a:off x="755640" y="1484280"/>
            <a:ext cx="7620120" cy="4960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539640" y="333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одяная  лилия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flower_0.jpg"/>
          <p:cNvPicPr/>
          <p:nvPr/>
        </p:nvPicPr>
        <p:blipFill>
          <a:blip r:embed="rId2"/>
          <a:stretch/>
        </p:blipFill>
        <p:spPr>
          <a:xfrm>
            <a:off x="755640" y="1197000"/>
            <a:ext cx="7620120" cy="5413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46836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олубые  подснежники - ургуйки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slide-5.jpg"/>
          <p:cNvPicPr/>
          <p:nvPr/>
        </p:nvPicPr>
        <p:blipFill>
          <a:blip r:embed="rId2"/>
          <a:stretch/>
        </p:blipFill>
        <p:spPr>
          <a:xfrm>
            <a:off x="539640" y="260280"/>
            <a:ext cx="799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611280" y="260280"/>
            <a:ext cx="7848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тоб  сохранить  красу  родной  Зем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тобы  сберечь  растенья  и цве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се  исчезающие  ви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нигу  Красную  сейчас  занес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Там  сон – трава  и  медуни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екрасная  кувшинка,  горицв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енерин  башмачок  и ландыш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есны  чудесный  вестник  - первоц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расная  книга  -  книга - трев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Знай , все растения в ней - недотр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вать не нужно их, друзь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храняйте их всег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16:24:29Z</dcterms:created>
  <dc:creator>User</dc:creator>
  <dc:description/>
  <dc:language>en-US</dc:language>
  <cp:lastModifiedBy>Пользователь</cp:lastModifiedBy>
  <dcterms:modified xsi:type="dcterms:W3CDTF">2016-11-21T08:24:19Z</dcterms:modified>
  <cp:revision>22</cp:revision>
  <dc:subject/>
  <dc:title>Слайд 1</dc:title>
</cp:coreProperties>
</file>