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348-5F67-4F2D-95E1-F1204653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602-65FF-44B3-8399-328F15F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829-CEED-4B14-855C-E3752C96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2C8-9FB0-4356-931F-8F51DA03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6AE-E17B-4AFE-8132-38B0AB9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629-39C8-4E3E-BF95-91DBEF47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7A3-F9B9-4219-B59D-8BDDE40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83B-66E9-47C9-912E-5FC1993B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512-BCC7-41CB-8B0C-0AA0F522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EB5-09BB-4133-8E5D-AECB826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EE1-47E3-4C8A-B987-E95B228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D4F-D3D9-4DCB-9B79-5BE89B5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2A50D-E47A-4110-83A6-0BCF3F7DC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0099"/>
                </a:solidFill>
                <a:latin typeface="Arial"/>
              </a:rPr>
              <a:t>Квадратич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урока: знать определение квадратичной функции, уметь строить графики и описывать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область значений 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√(х+1) 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2(х-3)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584360" y="2735280"/>
                <a:ext cx="2708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543640" y="2808360"/>
                <a:ext cx="27115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876320" y="1871640"/>
            <a:ext cx="7267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область определения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аких значениях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араметра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(а-1)/х  + 3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ыв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7920" y="3095640"/>
            <a:ext cx="4960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ые рациональ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(х) = а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. . . + kx + 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0, n — натур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kx + b - линей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 = а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bx + с - квадрат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, которая задается формулой вида y=a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bx+c, где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0, называют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квадрати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функ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=c=0 у=а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0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шите у=ах</a:t>
            </a:r>
            <a:r>
              <a:rPr b="0" lang="ru-RU" sz="44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где а&lt;0 по пла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(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(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ки знакопосто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то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ность/неч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ность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бота в класс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1 (а), 74 (а), 75 (г), 76 (а) устно, 77 (а) устно, 78, 81(а), 83 (а), 82 (б), 8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8:17:58Z</dcterms:created>
  <dc:creator/>
  <dc:description/>
  <dc:language>en-US</dc:language>
  <cp:lastModifiedBy/>
  <dcterms:modified xsi:type="dcterms:W3CDTF">2017-09-17T20:30:48Z</dcterms:modified>
  <cp:revision>6</cp:revision>
  <dc:subject/>
  <dc:title/>
</cp:coreProperties>
</file>