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FED1-E316-43D9-8DA9-6BCD5DE9B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FF24-DC28-4B7A-8B8E-A1BA2B46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EF04-E78B-4F91-900D-50BC50072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42F1-64C2-48C2-A6E1-EB396984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4F8B-6EB1-4BD8-92DB-0FCBFA17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1EEA-4EAB-4405-8CF0-EBD802EF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D24C-CE00-485A-8906-B1D6AC5E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D8FD-EECE-4982-A044-B31E2419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4C1B-E8B8-4173-A6DE-5D2551B1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21BC-578B-4B44-B727-3A48F9A2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AD20-40F5-4518-BE9F-9EBBF7D9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85EB-74CF-4C92-84A5-F097A54C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C7BC0-0B47-407B-B9BD-A4080F9E025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330099"/>
                </a:solidFill>
                <a:latin typeface="Arial"/>
              </a:rPr>
              <a:t>Квадратичная функ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урока: знать определение квадратичной функции, уметь строить графики и описывать их свой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пражнения на повтор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область значений функ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=х</a:t>
            </a:r>
            <a:r>
              <a:rPr b="0" lang="ru-RU" sz="32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=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√(х+1)  -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=2(х-3)</a:t>
            </a:r>
            <a:r>
              <a:rPr b="0" lang="ru-RU" sz="32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пражнения на повто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584360" y="2735280"/>
                <a:ext cx="270828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у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х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543640" y="2808360"/>
                <a:ext cx="2711520" cy="18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у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</m:e>
                        </m:rad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1876320" y="1871640"/>
            <a:ext cx="7267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16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йдите область определения функ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пражнения на повтор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каких значениях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араметра 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фун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=(а-1)/х  + 3 являе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растающ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бывающ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7920" y="3095640"/>
            <a:ext cx="496080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ые рациональны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 algn="ctr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f(х) = аx</a:t>
            </a:r>
            <a:r>
              <a:rPr b="0" lang="ru-RU" sz="3200" spc="-1" strike="noStrike" baseline="33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bx</a:t>
            </a:r>
            <a:r>
              <a:rPr b="0" lang="ru-RU" sz="3200" spc="-1" strike="noStrike" baseline="33000">
                <a:solidFill>
                  <a:srgbClr val="000000"/>
                </a:solidFill>
                <a:latin typeface="Arial"/>
              </a:rPr>
              <a:t>n-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. . . + kx + 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≠0, n — натуральное чи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=kx + b - линей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 = ах</a:t>
            </a:r>
            <a:r>
              <a:rPr b="0" lang="ru-RU" sz="32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+ bx + с - квадратич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 algn="ctr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ункция, которая задается формулой вида y=ax</a:t>
            </a:r>
            <a:r>
              <a:rPr b="0" lang="ru-RU" sz="32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bx+c, где 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≠0, называют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  <a:ea typeface="Arial"/>
              </a:rPr>
              <a:t>квадратич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функц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ctr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b=c=0 у=ах</a:t>
            </a:r>
            <a:r>
              <a:rPr b="0" lang="ru-RU" sz="3200" spc="-1" strike="noStrike" baseline="33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70.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ишите у=ах</a:t>
            </a:r>
            <a:r>
              <a:rPr b="0" lang="ru-RU" sz="44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, где а&lt;0 по план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D(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(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ли ф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межутки знакопостоян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ното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тность/нечет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граниченность ф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Arial"/>
              </a:rPr>
              <a:t>Работа в класс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1 (а), 74 (а), 75 (г), 76 (а) устно, 77 (а) устно, 78, 81(а), 83 (а), 82 (б), 8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7T18:17:58Z</dcterms:created>
  <dc:creator/>
  <dc:description/>
  <dc:language>en-US</dc:language>
  <cp:lastModifiedBy/>
  <dcterms:modified xsi:type="dcterms:W3CDTF">2017-09-17T20:30:48Z</dcterms:modified>
  <cp:revision>6</cp:revision>
  <dc:subject/>
  <dc:title/>
</cp:coreProperties>
</file>