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210C-46B3-42CD-9231-D135944B7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35DD-BA5D-4ED1-89F7-31DB0EC5A2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92D-F09D-4B69-8CCF-28802870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F34E-9200-4464-8D6A-B4844862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B29-3049-4EED-A955-2C14A0DF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D34A-E0FC-4DC3-97AB-3402639DB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01E-7299-4700-AAC2-A5863E51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779-027A-4FBC-A281-AA590457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534-BAC9-4979-8851-7C5603ED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45E0-CD5C-4517-BE7A-C3A16BD9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D0D-3A21-4788-B8C7-F6CD2C34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4DD7-4C61-4D47-A5B5-63BFCA47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8EB-19EB-4A85-B51A-F2E01387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A10-BEF6-467B-8396-E5D2F99B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100000">
              <a:srgbClr val="bfff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DE29-A4F8-4DC1-9550-86F93E0A0F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2340000" y="692280"/>
            <a:ext cx="4608360" cy="3003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77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МАТЕМАТ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3276360" y="1628640"/>
            <a:ext cx="267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Arial"/>
              </a:rPr>
              <a:t>3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89280" y="3808440"/>
            <a:ext cx="18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95280" y="5734080"/>
            <a:ext cx="9105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МКОУ «Киреевский центр образования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                                                      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Зотова Марина Анатолье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"/>
          <a:stretch/>
        </p:blipFill>
        <p:spPr>
          <a:xfrm rot="20213400">
            <a:off x="1738080" y="2430360"/>
            <a:ext cx="2097000" cy="3237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"/>
          <p:cNvPicPr/>
          <p:nvPr/>
        </p:nvPicPr>
        <p:blipFill>
          <a:blip r:embed="rId2"/>
          <a:stretch/>
        </p:blipFill>
        <p:spPr>
          <a:xfrm rot="1317600">
            <a:off x="5538600" y="2431800"/>
            <a:ext cx="221436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250920" y="1052640"/>
            <a:ext cx="889308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600" spc="-1" strike="noStrike">
                <a:solidFill>
                  <a:srgbClr val="000099"/>
                </a:solidFill>
                <a:latin typeface="Garamond"/>
              </a:rPr>
              <a:t>Молодцы!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MSSN3841.wav" descr=""/>
          <p:cNvPicPr/>
          <p:nvPr/>
        </p:nvPicPr>
        <p:blipFill>
          <a:blip r:embed="rId1"/>
          <a:stretch/>
        </p:blipFill>
        <p:spPr>
          <a:xfrm>
            <a:off x="883908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doll018"/>
          <p:cNvPicPr/>
          <p:nvPr/>
        </p:nvPicPr>
        <p:blipFill>
          <a:blip r:embed="rId2"/>
          <a:srcRect l="0" t="0" r="0" b="34883"/>
          <a:stretch/>
        </p:blipFill>
        <p:spPr>
          <a:xfrm>
            <a:off x="971640" y="4122720"/>
            <a:ext cx="2582640" cy="2735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3c0ad3a58a7f"/>
          <p:cNvPicPr/>
          <p:nvPr/>
        </p:nvPicPr>
        <p:blipFill>
          <a:blip r:embed="rId3"/>
          <a:stretch/>
        </p:blipFill>
        <p:spPr>
          <a:xfrm>
            <a:off x="6156360" y="4005360"/>
            <a:ext cx="2424240" cy="2665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564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doll018"/>
          <p:cNvPicPr/>
          <p:nvPr/>
        </p:nvPicPr>
        <p:blipFill>
          <a:blip r:embed="rId1"/>
          <a:srcRect l="0" t="0" r="0" b="34883"/>
          <a:stretch/>
        </p:blipFill>
        <p:spPr>
          <a:xfrm>
            <a:off x="250920" y="3573360"/>
            <a:ext cx="2787480" cy="2952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3c0ad3a58a7f"/>
          <p:cNvPicPr/>
          <p:nvPr/>
        </p:nvPicPr>
        <p:blipFill>
          <a:blip r:embed="rId2"/>
          <a:stretch/>
        </p:blipFill>
        <p:spPr>
          <a:xfrm>
            <a:off x="6659640" y="260280"/>
            <a:ext cx="2225520" cy="2448000"/>
          </a:xfrm>
          <a:prstGeom prst="rect">
            <a:avLst/>
          </a:prstGeom>
          <a:ln w="0">
            <a:noFill/>
          </a:ln>
        </p:spPr>
      </p:pic>
      <p:sp>
        <p:nvSpPr>
          <p:cNvPr id="56" name="WordArt 7"/>
          <p:cNvSpPr txBox="1"/>
          <p:nvPr/>
        </p:nvSpPr>
        <p:spPr>
          <a:xfrm>
            <a:off x="1835280" y="1268280"/>
            <a:ext cx="496872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1476360" y="1052640"/>
            <a:ext cx="538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инаем наш урок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деюсь, он пойдет вам впрок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тарайтесь все понять,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ы полные дав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880920" y="417600"/>
            <a:ext cx="15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Тема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WordArt 5"/>
          <p:cNvSpPr txBox="1"/>
          <p:nvPr/>
        </p:nvSpPr>
        <p:spPr>
          <a:xfrm>
            <a:off x="1187280" y="1484280"/>
            <a:ext cx="67694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диницы  площади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0" name="Picture 6" descr="doll018"/>
          <p:cNvPicPr/>
          <p:nvPr/>
        </p:nvPicPr>
        <p:blipFill>
          <a:blip r:embed="rId1"/>
          <a:srcRect l="0" t="0" r="0" b="34883"/>
          <a:stretch/>
        </p:blipFill>
        <p:spPr>
          <a:xfrm>
            <a:off x="3276720" y="3645000"/>
            <a:ext cx="2787480" cy="2952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8"/>
          <p:cNvSpPr/>
          <p:nvPr/>
        </p:nvSpPr>
        <p:spPr>
          <a:xfrm rot="19748400">
            <a:off x="2535480" y="33494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6012000" y="40496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d2d8a"/>
                </a:solidFill>
                <a:latin typeface="Arial"/>
              </a:rPr>
              <a:t>Площад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вное пространство, обычно архитектурно организованное (в городе, в посёлке), от которого в разные стороны расходятся улиц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ь плоскости, заключённой внутри многоугольника или другой плоской замкнутой фиг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891800" y="299880"/>
            <a:ext cx="50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Какие меры длин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411280" y="1773360"/>
            <a:ext cx="1366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С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708360" y="2852640"/>
            <a:ext cx="147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00"/>
                </a:solidFill>
                <a:latin typeface="Arial"/>
              </a:rPr>
              <a:t>Д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435640" y="4005360"/>
            <a:ext cx="94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3300"/>
                </a:solidFill>
                <a:latin typeface="Arial"/>
              </a:rPr>
              <a:t>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317960" y="949320"/>
            <a:ext cx="606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Какими  единицами  пользую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ля измерения площади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2268360" y="378936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5076720" y="2779560"/>
            <a:ext cx="2808360" cy="1800360"/>
          </a:xfrm>
          <a:prstGeom prst="flowChartProcess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374920" y="2239920"/>
            <a:ext cx="1368360" cy="1440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3c0ad3a58a7f"/>
          <p:cNvPicPr/>
          <p:nvPr/>
        </p:nvPicPr>
        <p:blipFill>
          <a:blip r:embed="rId1"/>
          <a:stretch/>
        </p:blipFill>
        <p:spPr>
          <a:xfrm>
            <a:off x="3059280" y="4913280"/>
            <a:ext cx="1768320" cy="194472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1"/>
          <p:cNvSpPr/>
          <p:nvPr/>
        </p:nvSpPr>
        <p:spPr>
          <a:xfrm>
            <a:off x="3924360" y="3933720"/>
            <a:ext cx="914400" cy="6098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 rot="14603400">
            <a:off x="835200" y="3210120"/>
            <a:ext cx="1822680" cy="3246480"/>
          </a:xfrm>
          <a:prstGeom prst="wedgeEllipseCallout">
            <a:avLst>
              <a:gd name="adj1" fmla="val -76430"/>
              <a:gd name="adj2" fmla="val 5251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Какое соотношение между ни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1116000" y="1773360"/>
            <a:ext cx="7272360" cy="330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то  нового  узнали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 уроке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5" descr="3c0ad3a58a7f"/>
          <p:cNvPicPr/>
          <p:nvPr/>
        </p:nvPicPr>
        <p:blipFill>
          <a:blip r:embed="rId1"/>
          <a:stretch/>
        </p:blipFill>
        <p:spPr>
          <a:xfrm>
            <a:off x="6719760" y="4192560"/>
            <a:ext cx="24242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2786400" y="1413000"/>
            <a:ext cx="149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СМ </a:t>
            </a:r>
            <a:r>
              <a:rPr b="1" lang="ru-RU" sz="48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6244200" y="3860640"/>
            <a:ext cx="11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3300"/>
                </a:solidFill>
                <a:latin typeface="Arial"/>
              </a:rPr>
              <a:t>М </a:t>
            </a:r>
            <a:r>
              <a:rPr b="1" lang="ru-RU" sz="54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924360" y="2852640"/>
            <a:ext cx="151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ДМ </a:t>
            </a:r>
            <a:r>
              <a:rPr b="1" lang="ru-RU" sz="4800" spc="-1" strike="noStrike" baseline="30000">
                <a:solidFill>
                  <a:srgbClr val="9933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844560" y="981000"/>
            <a:ext cx="70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66"/>
                </a:solidFill>
                <a:latin typeface="Arial"/>
              </a:rPr>
              <a:t>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11280" y="5425920"/>
            <a:ext cx="424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3300"/>
                </a:solidFill>
                <a:latin typeface="Arial"/>
              </a:rPr>
              <a:t>Что такое       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 rot="15705000">
            <a:off x="1362600" y="3758040"/>
            <a:ext cx="3538440" cy="289080"/>
          </a:xfrm>
          <a:prstGeom prst="rightArrow">
            <a:avLst>
              <a:gd name="adj1" fmla="val 50000"/>
              <a:gd name="adj2" fmla="val 306009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1"/>
          <p:cNvSpPr/>
          <p:nvPr/>
        </p:nvSpPr>
        <p:spPr>
          <a:xfrm rot="20197800">
            <a:off x="2987280" y="5013000"/>
            <a:ext cx="3313080" cy="288720"/>
          </a:xfrm>
          <a:prstGeom prst="rightArrow">
            <a:avLst>
              <a:gd name="adj1" fmla="val 50000"/>
              <a:gd name="adj2" fmla="val 28687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2"/>
          <p:cNvSpPr/>
          <p:nvPr/>
        </p:nvSpPr>
        <p:spPr>
          <a:xfrm rot="17911800">
            <a:off x="2515320" y="4477320"/>
            <a:ext cx="2674800" cy="289080"/>
          </a:xfrm>
          <a:prstGeom prst="rightArrow">
            <a:avLst>
              <a:gd name="adj1" fmla="val 50000"/>
              <a:gd name="adj2" fmla="val 23132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2987640" y="907920"/>
            <a:ext cx="540072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 / 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.71 № 4 (2ст.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 выбору – с.70 №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ли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.71 № 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doll018"/>
          <p:cNvPicPr/>
          <p:nvPr/>
        </p:nvPicPr>
        <p:blipFill>
          <a:blip r:embed="rId1"/>
          <a:srcRect l="0" t="0" r="0" b="34883"/>
          <a:stretch/>
        </p:blipFill>
        <p:spPr>
          <a:xfrm>
            <a:off x="0" y="836640"/>
            <a:ext cx="2787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10:58:08Z</dcterms:created>
  <dc:creator>Наташка</dc:creator>
  <dc:description/>
  <dc:language>en-US</dc:language>
  <cp:lastModifiedBy>Admin</cp:lastModifiedBy>
  <dcterms:modified xsi:type="dcterms:W3CDTF">2017-03-19T16:18:05Z</dcterms:modified>
  <cp:revision>12</cp:revision>
  <dc:subject/>
  <dc:title>Слайд 1</dc:title>
</cp:coreProperties>
</file>