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AAA-8159-470F-BC83-E3CD8A69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2B0F-3595-4DEA-805E-EE1C6CA0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3AFD-2393-4AA4-858B-B4DD94FA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E63B-A0EB-4518-8E0E-7F5BF748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EDE8-DB03-45DC-9AA7-5175503F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6E24-0112-4E95-A5BA-17E1B041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1C6F-62F8-41D4-98E5-C500E74B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D30F-2A84-4D54-B343-A8CAB73B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25E0-A14F-4F35-9341-9D365CC4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4FF8-4715-4F14-B871-3D1D8FA4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F7F5-1C4D-44DD-B901-64EB0AE6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2A9-4AF4-4828-8B0B-CF0CBE4C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045B-ACA0-4D1A-BF06-7E2669A1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C50D-FD65-4035-9DDD-7DD856FD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91EA-C0DE-479A-AC2E-5AFEAE20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7466-67DE-4F82-A10B-5D5204B7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406F-60CC-4C55-B981-9034938F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807A4-1E57-41BE-B192-28BC4AB5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A0D0A-C637-4C24-BB52-834A2717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9FB53-695A-49EC-8FED-625112E8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56023-55BE-4CFD-B55B-5EF4B53C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10C88-EC92-4DAB-91EF-62BCFAA5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E1E0-7720-4A15-8CE4-15D06BEF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4CC53-2499-4E46-B8E6-BACF98EB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490BE-9CC6-417D-BC49-0EED8B5A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D9F65-A79F-45B5-B302-A0A51A05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452EE-C299-4846-A7F5-35A0783F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2BFDB-1DF4-4292-B110-09B0DDF2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CAA11-DBAD-425D-8667-AC795727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3A895-B140-4297-98CC-1615FC1F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BCDAA-46E5-446F-9605-4C1C866F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D25DB-0FA5-40FD-8E0C-4262C653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6126B-02B2-4EBD-BD3E-7E1225BE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EB43-7D57-4930-9973-29C3B01F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5410D-CDA8-40A8-8FA8-B3ED740B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4D8CB-2233-4A74-B622-B794959E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314EE-8273-48DB-9256-9F80EFFA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4EC3C-23E7-4ADE-B14E-1AAC5190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E2248-F87E-462D-9CD8-8A2B0956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198FD-3D32-4272-8084-83FC78C7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6C27C-6E01-4EC2-9538-E19D76B8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011B4-1302-4312-A2DA-AE03711E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41BF1-23EE-4D92-84EB-9F1AA3CB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0F482-A526-4D79-9B22-1D9CA13F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0B05-BD7C-491D-BB79-E48FB2C6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8BFCA-FB07-420C-86C6-718AC5BD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DA454-2C60-45AC-B90A-8807210C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69F60-44FF-41B1-9BB5-5E3B579E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7E1E3-517A-471B-802F-0B06CD57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C439C-C37F-44DC-93AB-1E14668A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98A6A-483E-4FFF-8D34-47EE61D8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9920B-EE16-4263-B67D-4BD41BFB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72777-228B-4E0F-A208-66C489D0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E9777-72A7-4687-97A0-E7B670CA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2C464-4865-4A6A-B180-05BFF465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8D1C-45BF-4321-9881-0CEBBC30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FA213-D4F5-444C-B88B-6F3257E2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916DF-4974-4993-B428-861FC28E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48ED8-4801-4038-9A92-20C0427D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43973-6EFD-41E9-BF8B-454654FE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DC143-CAE3-474C-993C-0DE3607D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9126B-6D58-40D6-8250-A4DE5CED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276F6-8CA3-48E9-A4D6-EE2AFB8C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4F45E-9DE3-471D-94AF-88023F8F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A720F-2E2C-4B18-AB49-3BD1E626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70A64-6423-4041-A7AA-D6D468C4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22E2-63DD-4C47-86F8-E4ABF7D7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B12E6-0BCC-4538-8804-E00136E8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1A373-6378-4459-B386-C145CA59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28809-73F8-45F6-8FB9-28154BEC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878D9-1029-4DA1-A3B9-9623CDD9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BF2C0-A3D3-47EC-9EC8-B98AFB41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9FCC2-6B25-4F51-B6B2-CB416FFC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591FB-7E14-4FCC-B294-7D3EC676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D27DC-1F8F-4870-A9D6-B517AD11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157EF-7E2D-4716-9599-3A6C419E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46D10-3DF4-4124-AFDE-E895A1A9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8B9-AD4D-4741-BAF9-20BCE280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200A6-0968-4B5F-B2B1-741F7A9D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2CBDF-5603-4C25-A88F-4DB3F5B8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0D7CB-61D9-497F-AD18-C441BF63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E7E23-3947-418F-AC74-9F252FCC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550C9-FE50-42A6-AFC6-E141C1C3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D23-0073-4DDB-9642-C6E5932E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1" lang="en-US" sz="11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8C37-7984-4B04-80B5-CD672CA4C97D}" type="slidenum">
              <a:rPr b="1" lang="ru-RU" sz="12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1" lang="en-US" sz="1200" spc="-1" strike="noStrike">
              <a:solidFill>
                <a:srgbClr val="5218f6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1" lang="en-US" sz="11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9FEE-C1A9-4C26-95BB-CA05382AD0E8}" type="slidenum">
              <a:rPr b="1" lang="ru-RU" sz="12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1" lang="en-US" sz="1200" spc="-1" strike="noStrike">
              <a:solidFill>
                <a:srgbClr val="5218f6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1" lang="en-US" sz="11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10C8-B238-419C-B299-844AFA0E5765}" type="slidenum">
              <a:rPr b="1" lang="ru-RU" sz="12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1" lang="en-US" sz="1200" spc="-1" strike="noStrike">
              <a:solidFill>
                <a:srgbClr val="5218f6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1" lang="en-US" sz="11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D093-141B-4F55-9C7C-C7D4BC40EB92}" type="slidenum">
              <a:rPr b="1" lang="ru-RU" sz="12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1" lang="en-US" sz="1200" spc="-1" strike="noStrike">
              <a:solidFill>
                <a:srgbClr val="5218f6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1" lang="en-US" sz="11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7BE2-1586-4E71-B7F6-0CF6167AC668}" type="slidenum">
              <a:rPr b="1" lang="ru-RU" sz="12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1" lang="en-US" sz="1200" spc="-1" strike="noStrike">
              <a:solidFill>
                <a:srgbClr val="5218f6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1" lang="en-US" sz="11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5289-F999-4988-993A-2E18F500B5A2}" type="slidenum">
              <a:rPr b="1" lang="ru-RU" sz="12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1" lang="en-US" sz="1200" spc="-1" strike="noStrike">
              <a:solidFill>
                <a:srgbClr val="5218f6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9520" y="12175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9520" y="12823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32520" y="1370160"/>
              <a:ext cx="658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3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32520" y="1434960"/>
              <a:ext cx="658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4400" y="14731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4400" y="15379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1" lang="en-US" sz="11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5409-D859-4F45-9866-DBD934B86D28}" type="slidenum">
              <a:rPr b="1" lang="ru-RU" sz="12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1" lang="en-US" sz="1200" spc="-1" strike="noStrike">
              <a:solidFill>
                <a:srgbClr val="5218f6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геометрия"/>
          <p:cNvPicPr/>
          <p:nvPr/>
        </p:nvPicPr>
        <p:blipFill>
          <a:blip r:embed="rId1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5"/>
          <p:cNvSpPr/>
          <p:nvPr/>
        </p:nvSpPr>
        <p:spPr>
          <a:xfrm>
            <a:off x="3746520" y="457200"/>
            <a:ext cx="510552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Площадь прямоугольного </a:t>
            </a:r>
            <a:endParaRPr b="1" lang="en-US" sz="4000" spc="-1" strike="noStrike">
              <a:solidFill>
                <a:srgbClr val="5218f6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треугольника</a:t>
            </a:r>
            <a:endParaRPr b="1" lang="en-US" sz="4000" spc="-1" strike="noStrike">
              <a:solidFill>
                <a:srgbClr val="5218f6"/>
              </a:solidFill>
              <a:latin typeface="Constantia"/>
            </a:endParaRPr>
          </a:p>
        </p:txBody>
      </p:sp>
      <p:grpSp>
        <p:nvGrpSpPr>
          <p:cNvPr id="370" name="Group 16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371" name="Line 7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  <p:sp>
          <p:nvSpPr>
            <p:cNvPr id="372" name="Line 8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  <p:sp>
          <p:nvSpPr>
            <p:cNvPr id="373" name="Line 9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  <p:grpSp>
          <p:nvGrpSpPr>
            <p:cNvPr id="374" name="Group 10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375" name="Line 11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5218f6"/>
                  </a:solidFill>
                  <a:latin typeface="Constantia"/>
                </a:endParaRPr>
              </a:p>
            </p:txBody>
          </p:sp>
          <p:sp>
            <p:nvSpPr>
              <p:cNvPr id="376" name="Line 12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5218f6"/>
                  </a:solidFill>
                  <a:latin typeface="Constantia"/>
                </a:endParaRPr>
              </a:p>
            </p:txBody>
          </p:sp>
        </p:grpSp>
      </p:grpSp>
      <p:sp>
        <p:nvSpPr>
          <p:cNvPr id="377" name=""/>
          <p:cNvSpPr txBox="1"/>
          <p:nvPr/>
        </p:nvSpPr>
        <p:spPr>
          <a:xfrm>
            <a:off x="4284720" y="4653000"/>
            <a:ext cx="4859280" cy="17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сюкова Ольга Юрьевн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высшей категори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Школа №10 «Успех»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36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Оцените работу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5" name="Содержимое 5" descr="m2330fe92.jpg"/>
          <p:cNvPicPr/>
          <p:nvPr/>
        </p:nvPicPr>
        <p:blipFill>
          <a:blip r:embed="rId1"/>
          <a:stretch/>
        </p:blipFill>
        <p:spPr>
          <a:xfrm>
            <a:off x="324000" y="1052640"/>
            <a:ext cx="8820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95280" y="33300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218f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5218f6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Bookman Old Style"/>
              </a:rPr>
              <a:t>Формулы – это верные равенства, устанавливающие взаимосвязь между величинами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7" name="Рисунок 2" descr="http://5fan.ru/files/11/5fan_ru_56025_573b8be43422b55d5d97e54605c849be.html_files/1.png"/>
          <p:cNvPicPr/>
          <p:nvPr/>
        </p:nvPicPr>
        <p:blipFill>
          <a:blip r:embed="rId1"/>
          <a:stretch/>
        </p:blipFill>
        <p:spPr>
          <a:xfrm>
            <a:off x="1979640" y="4653000"/>
            <a:ext cx="6129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2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Bookman Old Style"/>
              </a:rPr>
              <a:t>Лист № 2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Bookman Old Style"/>
              </a:rPr>
              <a:t>Найдите площадь</a:t>
            </a:r>
            <a:r>
              <a:rPr b="0" lang="en-US" sz="4000" spc="-1" strike="noStrike">
                <a:solidFill>
                  <a:srgbClr val="c1eeff"/>
                </a:solidFill>
                <a:latin typeface="Bookman Old Style"/>
              </a:rPr>
              <a:t> </a:t>
            </a:r>
            <a:r>
              <a:rPr b="0" lang="ru-RU" sz="4000" spc="-1" strike="noStrike">
                <a:solidFill>
                  <a:srgbClr val="c1eeff"/>
                </a:solidFill>
                <a:latin typeface="Bookman Old Style"/>
              </a:rPr>
              <a:t>фигур</a:t>
            </a:r>
            <a:r>
              <a:rPr b="0" lang="en-US" sz="4000" spc="-1" strike="noStrike">
                <a:solidFill>
                  <a:srgbClr val="c1eeff"/>
                </a:solidFill>
                <a:latin typeface="Bookman Old Style"/>
              </a:rPr>
              <a:t>                                                   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Прямоугольник 7"/>
          <p:cNvSpPr/>
          <p:nvPr/>
        </p:nvSpPr>
        <p:spPr>
          <a:xfrm>
            <a:off x="611280" y="1628640"/>
            <a:ext cx="1871640" cy="1785960"/>
          </a:xfrm>
          <a:prstGeom prst="rect">
            <a:avLst/>
          </a:prstGeom>
          <a:solidFill>
            <a:srgbClr val="339966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00" name="Прямоугольный треугольник 17"/>
          <p:cNvSpPr/>
          <p:nvPr/>
        </p:nvSpPr>
        <p:spPr>
          <a:xfrm>
            <a:off x="5076720" y="1628640"/>
            <a:ext cx="3527640" cy="1944720"/>
          </a:xfrm>
          <a:prstGeom prst="rtTriangle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01" name="Прямоугольник 7"/>
          <p:cNvSpPr/>
          <p:nvPr/>
        </p:nvSpPr>
        <p:spPr>
          <a:xfrm>
            <a:off x="684360" y="4437000"/>
            <a:ext cx="2716200" cy="1352520"/>
          </a:xfrm>
          <a:prstGeom prst="rect">
            <a:avLst/>
          </a:prstGeom>
          <a:solidFill>
            <a:srgbClr val="435faa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02" name="TextBox 14"/>
          <p:cNvSpPr/>
          <p:nvPr/>
        </p:nvSpPr>
        <p:spPr>
          <a:xfrm>
            <a:off x="1116000" y="3284640"/>
            <a:ext cx="689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см</a:t>
            </a: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03" name="TextBox 14"/>
          <p:cNvSpPr/>
          <p:nvPr/>
        </p:nvSpPr>
        <p:spPr>
          <a:xfrm rot="16200000">
            <a:off x="2537280" y="2080080"/>
            <a:ext cx="6886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см</a:t>
            </a: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04" name="TextBox 14"/>
          <p:cNvSpPr/>
          <p:nvPr/>
        </p:nvSpPr>
        <p:spPr>
          <a:xfrm>
            <a:off x="6443640" y="3500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8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см</a:t>
            </a: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05" name="TextBox 14"/>
          <p:cNvSpPr/>
          <p:nvPr/>
        </p:nvSpPr>
        <p:spPr>
          <a:xfrm rot="16200000">
            <a:off x="4537800" y="2312280"/>
            <a:ext cx="720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5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см</a:t>
            </a: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06" name="TextBox 14"/>
          <p:cNvSpPr/>
          <p:nvPr/>
        </p:nvSpPr>
        <p:spPr>
          <a:xfrm rot="5400000">
            <a:off x="3282120" y="4860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см</a:t>
            </a: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07" name="TextBox 14"/>
          <p:cNvSpPr/>
          <p:nvPr/>
        </p:nvSpPr>
        <p:spPr>
          <a:xfrm>
            <a:off x="1547640" y="57340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6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см</a:t>
            </a: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08" name="Содержимое 1"/>
          <p:cNvSpPr/>
          <p:nvPr/>
        </p:nvSpPr>
        <p:spPr>
          <a:xfrm>
            <a:off x="3924360" y="4076640"/>
            <a:ext cx="4680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nstantia"/>
              </a:rPr>
              <a:t>   </a:t>
            </a:r>
            <a:endParaRPr b="1" lang="en-US" sz="2800" spc="-1" strike="noStrike">
              <a:solidFill>
                <a:srgbClr val="5218f6"/>
              </a:solidFill>
              <a:latin typeface="Constantia"/>
            </a:endParaRPr>
          </a:p>
        </p:txBody>
      </p:sp>
      <p:pic>
        <p:nvPicPr>
          <p:cNvPr id="409" name="Прямая соединительная линия 13" descr=""/>
          <p:cNvPicPr/>
          <p:nvPr/>
        </p:nvPicPr>
        <p:blipFill>
          <a:blip r:embed="rId1"/>
          <a:stretch/>
        </p:blipFill>
        <p:spPr>
          <a:xfrm>
            <a:off x="4767120" y="1620720"/>
            <a:ext cx="201600" cy="2030400"/>
          </a:xfrm>
          <a:prstGeom prst="rect">
            <a:avLst/>
          </a:prstGeom>
          <a:ln w="0">
            <a:noFill/>
          </a:ln>
        </p:spPr>
      </p:pic>
      <p:pic>
        <p:nvPicPr>
          <p:cNvPr id="410" name="Прямая соединительная линия 16" descr=""/>
          <p:cNvPicPr/>
          <p:nvPr/>
        </p:nvPicPr>
        <p:blipFill>
          <a:blip r:embed="rId2"/>
          <a:stretch/>
        </p:blipFill>
        <p:spPr>
          <a:xfrm>
            <a:off x="4998960" y="3260880"/>
            <a:ext cx="3681360" cy="2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76000" y="512640"/>
            <a:ext cx="734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Bookman Old Style"/>
              </a:rPr>
              <a:t>Площадь прямоугольного треугольника </a:t>
            </a:r>
            <a:br>
              <a:rPr sz="5400"/>
            </a:b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609560" y="4508280"/>
            <a:ext cx="3953160" cy="1190160"/>
          </a:xfrm>
          <a:prstGeom prst="rect">
            <a:avLst/>
          </a:prstGeom>
          <a:solidFill>
            <a:srgbClr val="61b6ff"/>
          </a:solidFill>
          <a:ln w="19080">
            <a:solidFill>
              <a:srgbClr val="5c9929"/>
            </a:solidFill>
            <a:miter/>
          </a:ln>
        </p:spPr>
        <p:txBody>
          <a:bodyPr anchor="ctr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.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?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1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24000" y="512280"/>
            <a:ext cx="59040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КАТЕТ     ГИПОТЕНУЗА     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        КАТЕТ</a:t>
            </a:r>
            <a:br>
              <a:rPr sz="54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609560" y="4508280"/>
            <a:ext cx="3953160" cy="1190160"/>
          </a:xfrm>
          <a:prstGeom prst="rect">
            <a:avLst/>
          </a:prstGeom>
          <a:solidFill>
            <a:srgbClr val="61b6ff"/>
          </a:solidFill>
          <a:ln w="19080">
            <a:solidFill>
              <a:srgbClr val="5c9929"/>
            </a:solidFill>
            <a:miter/>
          </a:ln>
        </p:spPr>
        <p:txBody>
          <a:bodyPr anchor="ctr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.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?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570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olas"/>
              </a:rPr>
              <a:t>Как найти площадь прямоугольного треугольника?</a:t>
            </a:r>
            <a:r>
              <a:rPr b="0" lang="ru-RU" sz="3600" spc="-1" strike="noStrike">
                <a:solidFill>
                  <a:srgbClr val="c00000"/>
                </a:solidFill>
                <a:latin typeface="Consolas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6" name="Прямоугольный треугольник 4"/>
          <p:cNvSpPr/>
          <p:nvPr/>
        </p:nvSpPr>
        <p:spPr>
          <a:xfrm>
            <a:off x="3564000" y="2708280"/>
            <a:ext cx="2592360" cy="1297080"/>
          </a:xfrm>
          <a:prstGeom prst="rtTriangl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17" name="Прямоугольный треугольник 5"/>
          <p:cNvSpPr/>
          <p:nvPr/>
        </p:nvSpPr>
        <p:spPr>
          <a:xfrm rot="10800000">
            <a:off x="3571920" y="2707920"/>
            <a:ext cx="2571840" cy="1297080"/>
          </a:xfrm>
          <a:prstGeom prst="rtTriangl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18" name="TextBox 6"/>
          <p:cNvSpPr/>
          <p:nvPr/>
        </p:nvSpPr>
        <p:spPr>
          <a:xfrm>
            <a:off x="3002400" y="3071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</a:t>
            </a:r>
            <a:endParaRPr b="1" lang="en-US" sz="40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19" name="TextBox 7"/>
          <p:cNvSpPr/>
          <p:nvPr/>
        </p:nvSpPr>
        <p:spPr>
          <a:xfrm>
            <a:off x="4857840" y="39290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</a:t>
            </a:r>
            <a:endParaRPr b="1" lang="en-US" sz="40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20" name="TextBox 8"/>
          <p:cNvSpPr/>
          <p:nvPr/>
        </p:nvSpPr>
        <p:spPr>
          <a:xfrm>
            <a:off x="4716720" y="20001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</a:t>
            </a:r>
            <a:endParaRPr b="1" lang="en-US" sz="40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21" name="TextBox 9"/>
          <p:cNvSpPr/>
          <p:nvPr/>
        </p:nvSpPr>
        <p:spPr>
          <a:xfrm>
            <a:off x="6286680" y="3071880"/>
            <a:ext cx="3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</a:t>
            </a:r>
            <a:endParaRPr b="1" lang="en-US" sz="40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22" name="TextBox 12"/>
          <p:cNvSpPr/>
          <p:nvPr/>
        </p:nvSpPr>
        <p:spPr>
          <a:xfrm>
            <a:off x="3801960" y="5286240"/>
            <a:ext cx="23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р.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=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?</a:t>
            </a:r>
            <a:endParaRPr b="1" lang="en-US" sz="5400" spc="-1" strike="noStrike">
              <a:solidFill>
                <a:srgbClr val="5218f6"/>
              </a:solidFill>
              <a:latin typeface="Constantia"/>
            </a:endParaRPr>
          </a:p>
        </p:txBody>
      </p:sp>
      <p:pic>
        <p:nvPicPr>
          <p:cNvPr id="423" name="Picture 12" descr="question3"/>
          <p:cNvPicPr/>
          <p:nvPr/>
        </p:nvPicPr>
        <p:blipFill>
          <a:blip r:embed="rId1"/>
          <a:stretch/>
        </p:blipFill>
        <p:spPr>
          <a:xfrm>
            <a:off x="0" y="0"/>
            <a:ext cx="1638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ый треугольник 1"/>
          <p:cNvSpPr/>
          <p:nvPr/>
        </p:nvSpPr>
        <p:spPr>
          <a:xfrm>
            <a:off x="1071720" y="2786040"/>
            <a:ext cx="4000320" cy="2357640"/>
          </a:xfrm>
          <a:prstGeom prst="rtTriangl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25" name="Прямоугольный треугольник 2"/>
          <p:cNvSpPr/>
          <p:nvPr/>
        </p:nvSpPr>
        <p:spPr>
          <a:xfrm rot="10800000">
            <a:off x="1071720" y="2785320"/>
            <a:ext cx="4000320" cy="2365560"/>
          </a:xfrm>
          <a:prstGeom prst="rtTriangl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26" name="Прямая соединительная линия 4"/>
          <p:cNvSpPr/>
          <p:nvPr/>
        </p:nvSpPr>
        <p:spPr>
          <a:xfrm>
            <a:off x="1071720" y="2787480"/>
            <a:ext cx="4000320" cy="236556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27" name="TextBox 5"/>
          <p:cNvSpPr/>
          <p:nvPr/>
        </p:nvSpPr>
        <p:spPr>
          <a:xfrm>
            <a:off x="500040" y="7858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18f6"/>
                </a:solidFill>
                <a:latin typeface="Constantia"/>
              </a:rPr>
              <a:t> </a:t>
            </a: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28" name="Прямоугольник 6"/>
          <p:cNvSpPr/>
          <p:nvPr/>
        </p:nvSpPr>
        <p:spPr>
          <a:xfrm>
            <a:off x="857160" y="476280"/>
            <a:ext cx="29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S</a:t>
            </a:r>
            <a:r>
              <a:rPr b="1" lang="ru-RU" sz="36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= S</a:t>
            </a:r>
            <a:r>
              <a:rPr b="1" lang="ru-RU" sz="20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: 2</a:t>
            </a:r>
            <a:endParaRPr b="1" lang="en-US" sz="36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29" name="Прямоугольник 8"/>
          <p:cNvSpPr/>
          <p:nvPr/>
        </p:nvSpPr>
        <p:spPr>
          <a:xfrm>
            <a:off x="2214720" y="857160"/>
            <a:ext cx="357120" cy="214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30" name="Прямоугольник 9"/>
          <p:cNvSpPr/>
          <p:nvPr/>
        </p:nvSpPr>
        <p:spPr>
          <a:xfrm>
            <a:off x="438624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31" name="TextBox 10"/>
          <p:cNvSpPr/>
          <p:nvPr/>
        </p:nvSpPr>
        <p:spPr>
          <a:xfrm>
            <a:off x="857160" y="119700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S     = a · b</a:t>
            </a:r>
            <a:r>
              <a:rPr b="1" lang="en-US" sz="1800" spc="-1" strike="noStrike">
                <a:solidFill>
                  <a:srgbClr val="5218f6"/>
                </a:solidFill>
                <a:latin typeface="Constantia"/>
              </a:rPr>
              <a:t> </a:t>
            </a: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32" name="Прямоугольник 11"/>
          <p:cNvSpPr/>
          <p:nvPr/>
        </p:nvSpPr>
        <p:spPr>
          <a:xfrm>
            <a:off x="1217520" y="1590840"/>
            <a:ext cx="357120" cy="214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33" name="Прямоугольник 12"/>
          <p:cNvSpPr/>
          <p:nvPr/>
        </p:nvSpPr>
        <p:spPr>
          <a:xfrm>
            <a:off x="857160" y="1844640"/>
            <a:ext cx="347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S </a:t>
            </a:r>
            <a:r>
              <a:rPr b="1" lang="ru-RU" sz="36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=  (a · b )   </a:t>
            </a:r>
            <a:r>
              <a:rPr b="1" lang="ru-RU" sz="36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: 2</a:t>
            </a:r>
            <a:endParaRPr b="1" lang="en-US" sz="36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34" name="Прямоугольный треугольник 15"/>
          <p:cNvSpPr/>
          <p:nvPr/>
        </p:nvSpPr>
        <p:spPr>
          <a:xfrm>
            <a:off x="1214280" y="2252520"/>
            <a:ext cx="262080" cy="198720"/>
          </a:xfrm>
          <a:prstGeom prst="rtTriangl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35" name="Прямоугольный треугольник 16"/>
          <p:cNvSpPr/>
          <p:nvPr/>
        </p:nvSpPr>
        <p:spPr>
          <a:xfrm>
            <a:off x="1217520" y="871560"/>
            <a:ext cx="262080" cy="198360"/>
          </a:xfrm>
          <a:prstGeom prst="rtTriangl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7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28400" y="152280"/>
            <a:ext cx="82580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onsolas"/>
              </a:rPr>
              <a:t>Прямоугольный треугольник</a:t>
            </a:r>
            <a:endParaRPr b="0" lang="en-US" sz="43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437" name="AutoShape 2"/>
          <p:cNvGrpSpPr/>
          <p:nvPr/>
        </p:nvGrpSpPr>
        <p:grpSpPr>
          <a:xfrm>
            <a:off x="3664080" y="2444760"/>
            <a:ext cx="3181320" cy="1743120"/>
            <a:chOff x="3664080" y="2444760"/>
            <a:chExt cx="3181320" cy="1743120"/>
          </a:xfrm>
        </p:grpSpPr>
        <p:pic>
          <p:nvPicPr>
            <p:cNvPr id="438" name="AutoShape 2" descr=""/>
            <p:cNvPicPr/>
            <p:nvPr/>
          </p:nvPicPr>
          <p:blipFill>
            <a:blip r:embed="rId1"/>
            <a:stretch/>
          </p:blipFill>
          <p:spPr>
            <a:xfrm>
              <a:off x="3664080" y="2444760"/>
              <a:ext cx="318132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4032360" y="3443400"/>
              <a:ext cx="14716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</p:grpSp>
      <p:sp>
        <p:nvSpPr>
          <p:cNvPr id="440" name="Rectangle 4"/>
          <p:cNvSpPr/>
          <p:nvPr/>
        </p:nvSpPr>
        <p:spPr>
          <a:xfrm>
            <a:off x="1800" y="6264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218f6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800" y="6264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218f6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42" name="Прямоугольник 8"/>
          <p:cNvSpPr/>
          <p:nvPr/>
        </p:nvSpPr>
        <p:spPr>
          <a:xfrm>
            <a:off x="539640" y="270828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катет </a:t>
            </a:r>
            <a:endParaRPr b="1" lang="en-US" sz="40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43" name="TextBox 9"/>
          <p:cNvSpPr/>
          <p:nvPr/>
        </p:nvSpPr>
        <p:spPr>
          <a:xfrm>
            <a:off x="3419640" y="5300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катет </a:t>
            </a:r>
            <a:endParaRPr b="1" lang="en-US" sz="36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44" name="TextBox 10"/>
          <p:cNvSpPr/>
          <p:nvPr/>
        </p:nvSpPr>
        <p:spPr>
          <a:xfrm>
            <a:off x="5219640" y="250020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гипотенуза</a:t>
            </a:r>
            <a:endParaRPr b="1" lang="en-US" sz="3600" spc="-1" strike="noStrike">
              <a:solidFill>
                <a:srgbClr val="5218f6"/>
              </a:solidFill>
              <a:latin typeface="Constantia"/>
            </a:endParaRPr>
          </a:p>
        </p:txBody>
      </p:sp>
      <p:grpSp>
        <p:nvGrpSpPr>
          <p:cNvPr id="445" name="AutoShape 2"/>
          <p:cNvGrpSpPr/>
          <p:nvPr/>
        </p:nvGrpSpPr>
        <p:grpSpPr>
          <a:xfrm>
            <a:off x="2219400" y="1365120"/>
            <a:ext cx="6138720" cy="3475080"/>
            <a:chOff x="2219400" y="1365120"/>
            <a:chExt cx="6138720" cy="3475080"/>
          </a:xfrm>
        </p:grpSpPr>
        <p:pic>
          <p:nvPicPr>
            <p:cNvPr id="446" name="AutoShape 2" descr=""/>
            <p:cNvPicPr/>
            <p:nvPr/>
          </p:nvPicPr>
          <p:blipFill>
            <a:blip r:embed="rId2"/>
            <a:stretch/>
          </p:blipFill>
          <p:spPr>
            <a:xfrm>
              <a:off x="2219400" y="1365120"/>
              <a:ext cx="6138720" cy="347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2832120" y="3375000"/>
              <a:ext cx="29527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Box 14"/>
          <p:cNvSpPr/>
          <p:nvPr/>
        </p:nvSpPr>
        <p:spPr>
          <a:xfrm>
            <a:off x="1258920" y="1413000"/>
            <a:ext cx="73454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4250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1eeff"/>
                </a:solidFill>
                <a:latin typeface="Bookman Old Style"/>
              </a:rPr>
              <a:t>Чтобы найти площадь прямоугольного треугольника </a:t>
            </a:r>
            <a:br>
              <a:rPr sz="4800"/>
            </a:br>
            <a:r>
              <a:rPr b="0" lang="ru-RU" sz="4800" spc="-1" strike="noStrike">
                <a:solidFill>
                  <a:srgbClr val="c58d01"/>
                </a:solidFill>
                <a:latin typeface="Bookman Old Style"/>
              </a:rPr>
              <a:t>надо найти произведение длин катетов треугольника и полученную величину разделить на два</a:t>
            </a:r>
            <a:br>
              <a:rPr sz="4800"/>
            </a:b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5400" y="259920"/>
            <a:ext cx="8472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900360" y="1413000"/>
            <a:ext cx="102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18f6"/>
                </a:solidFill>
                <a:latin typeface="Corbel"/>
              </a:rPr>
              <a:t>а) 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тр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.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=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(3</a:t>
            </a:r>
            <a:r>
              <a:rPr b="1" lang="en-US" sz="3200" spc="-1" strike="noStrike" baseline="12000">
                <a:solidFill>
                  <a:srgbClr val="5218f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х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4) : 2 = 6 (см</a:t>
            </a:r>
            <a:r>
              <a:rPr b="1" lang="ru-RU" sz="3200" spc="-1" strike="noStrike" baseline="30000">
                <a:solidFill>
                  <a:srgbClr val="5218f6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)=600 (мм</a:t>
            </a:r>
            <a:r>
              <a:rPr b="1" lang="ru-RU" sz="3200" spc="-1" strike="noStrike" baseline="30000">
                <a:solidFill>
                  <a:srgbClr val="5218f6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18f6"/>
                </a:solidFill>
                <a:latin typeface="Corbel"/>
              </a:rPr>
              <a:t>б) 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тр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.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=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(5 </a:t>
            </a:r>
            <a:r>
              <a:rPr b="1" lang="ru-RU" sz="28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х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6) : 2 = 15 (дм</a:t>
            </a:r>
            <a:r>
              <a:rPr b="1" lang="ru-RU" sz="3200" spc="-1" strike="noStrike" baseline="30000">
                <a:solidFill>
                  <a:srgbClr val="5218f6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=1500 (см</a:t>
            </a:r>
            <a:r>
              <a:rPr b="1" lang="ru-RU" sz="3200" spc="-1" strike="noStrike" baseline="30000">
                <a:solidFill>
                  <a:srgbClr val="5218f6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18f6"/>
                </a:solidFill>
                <a:latin typeface="Corbel"/>
              </a:rPr>
              <a:t>в) 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тр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.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=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( 70 </a:t>
            </a:r>
            <a:r>
              <a:rPr b="1" lang="ru-RU" sz="28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х 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) : 2 = 210 (м</a:t>
            </a:r>
            <a:r>
              <a:rPr b="1" lang="ru-RU" sz="3200" spc="-1" strike="noStrike" baseline="30000">
                <a:solidFill>
                  <a:srgbClr val="5218f6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)=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21.000 (дм</a:t>
            </a:r>
            <a:r>
              <a:rPr b="1" lang="ru-RU" sz="3200" spc="-1" strike="noStrike" baseline="30000">
                <a:solidFill>
                  <a:srgbClr val="5218f6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Прямоугольный треугольник 4"/>
          <p:cNvSpPr/>
          <p:nvPr/>
        </p:nvSpPr>
        <p:spPr>
          <a:xfrm rot="7617600">
            <a:off x="1475280" y="3717000"/>
            <a:ext cx="1582920" cy="2016000"/>
          </a:xfrm>
          <a:prstGeom prst="rtTriangle">
            <a:avLst/>
          </a:prstGeom>
          <a:solidFill>
            <a:srgbClr val="61b6ff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53" name="Прямоугольный треугольник 5"/>
          <p:cNvSpPr/>
          <p:nvPr/>
        </p:nvSpPr>
        <p:spPr>
          <a:xfrm rot="11629800">
            <a:off x="3904920" y="4210200"/>
            <a:ext cx="1336680" cy="1814400"/>
          </a:xfrm>
          <a:prstGeom prst="rtTriangle">
            <a:avLst/>
          </a:prstGeom>
          <a:solidFill>
            <a:srgbClr val="61b6ff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54" name="Прямоугольный треугольник 6"/>
          <p:cNvSpPr/>
          <p:nvPr/>
        </p:nvSpPr>
        <p:spPr>
          <a:xfrm rot="2651400">
            <a:off x="6560640" y="4179960"/>
            <a:ext cx="2271960" cy="1814400"/>
          </a:xfrm>
          <a:prstGeom prst="rtTriangle">
            <a:avLst/>
          </a:prstGeom>
          <a:solidFill>
            <a:srgbClr val="61b6ff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77724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Математическая разминка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Содержимое 3" descr="http://cdn.tips-board.ru/images/interesnie_fakti_o_matematike_i_matematikah-2.jpg"/>
          <p:cNvPicPr/>
          <p:nvPr/>
        </p:nvPicPr>
        <p:blipFill>
          <a:blip r:embed="rId1"/>
          <a:stretch/>
        </p:blipFill>
        <p:spPr>
          <a:xfrm>
            <a:off x="1042920" y="1557360"/>
            <a:ext cx="74898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Оцените работу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56" name="Содержимое 5" descr="m2330fe92.jpg"/>
          <p:cNvPicPr/>
          <p:nvPr/>
        </p:nvPicPr>
        <p:blipFill>
          <a:blip r:embed="rId1"/>
          <a:stretch/>
        </p:blipFill>
        <p:spPr>
          <a:xfrm>
            <a:off x="324000" y="1052640"/>
            <a:ext cx="8820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5840" y="151920"/>
            <a:ext cx="84009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Bookman Old Style"/>
              </a:rPr>
              <a:t>Тест</a:t>
            </a:r>
            <a:endParaRPr b="0" lang="en-US" sz="9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58" name="Picture 6" descr="image468"/>
          <p:cNvPicPr/>
          <p:nvPr/>
        </p:nvPicPr>
        <p:blipFill>
          <a:blip r:embed="rId1"/>
          <a:stretch/>
        </p:blipFill>
        <p:spPr>
          <a:xfrm>
            <a:off x="2124000" y="1989000"/>
            <a:ext cx="4824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Прямоугольник 1" descr=""/>
          <p:cNvPicPr/>
          <p:nvPr/>
        </p:nvPicPr>
        <p:blipFill>
          <a:blip r:embed="rId1"/>
          <a:stretch/>
        </p:blipFill>
        <p:spPr>
          <a:xfrm>
            <a:off x="785880" y="755640"/>
            <a:ext cx="7711920" cy="2749680"/>
          </a:xfrm>
          <a:prstGeom prst="rect">
            <a:avLst/>
          </a:prstGeom>
          <a:ln w="0">
            <a:noFill/>
          </a:ln>
        </p:spPr>
      </p:pic>
      <p:sp>
        <p:nvSpPr>
          <p:cNvPr id="460" name="Номер слайда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51AE-B7E4-43FB-BB30-83F8E43437EF}" type="slidenum">
              <a:rPr b="1" lang="ru-RU" sz="12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1" lang="en-US" sz="1200" spc="-1" strike="noStrike">
              <a:solidFill>
                <a:srgbClr val="5218f6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Как найти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242100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Площадь квадрата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Как найти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242100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Площадь  прямоугольника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Как найти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242100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Периметр прямоугольника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Как найти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242100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Периметр  квадрата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Как найти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040" y="2421000"/>
            <a:ext cx="797868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Сторону прямоугольника 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если известна сторона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иметр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ямоугольника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Как найти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040" y="2421000"/>
            <a:ext cx="797868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1/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от  а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Как найти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040" y="2421000"/>
            <a:ext cx="797868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если  1/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6:23:11Z</dcterms:created>
  <dc:creator>Customer</dc:creator>
  <dc:description/>
  <dc:language>en-US</dc:language>
  <cp:lastModifiedBy>102</cp:lastModifiedBy>
  <dcterms:modified xsi:type="dcterms:W3CDTF">2017-10-01T15:40:37Z</dcterms:modified>
  <cp:revision>73</cp:revision>
  <dc:subject/>
  <dc:title>Математика – царица наук.</dc:title>
</cp:coreProperties>
</file>