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F74-DD3C-490E-AF4F-29A55531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9F81-BC0F-4ED2-BB52-6F4505F0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F5A-C6D3-4967-9B97-70991A63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BE08-26E6-4B19-992D-816ECB6E5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6CEB-E7E8-46F4-8A78-B44EF08C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3C4E-2B37-46BC-83F7-81C0DAC1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BD90-0CBC-4E11-8070-50C3CA7F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C4F1-36FB-4D55-874E-599F834D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4792-1013-4A37-870F-0B2157BE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37F13-8630-4E20-9428-67994B86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A44A-304C-4102-90DF-26BF22A4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4210-6284-4B41-8898-3F7065A4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D53F-DAE6-4785-9C62-A9B22438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968B-DBB5-4FF7-BCAE-124B5AE9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7397-958F-4772-A7FC-B04FD595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E0AD-1E45-4BC8-AFAF-59660358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A3CE-F358-42F0-9EF6-477B4075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F732-3A08-475F-BD56-61FEA4283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EB206-5786-4FB4-BE5B-730EDC9E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C44EF-4C96-4CC3-BB8B-33E005B7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A77CE-C034-4CA1-879B-FA831256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1F79-718F-43A8-B3D1-68A9441F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628-31E2-470C-A01D-27623812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AF6B-18F7-4CC4-BA5C-0AE5F8CDB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F0A08-A37C-40D8-97F1-DDE19513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5E13-C685-46F5-BD58-E0436EAB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0C0BF-ED67-45A4-B4DE-FC92ADC0C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8B08E-7C7B-4CB3-B039-A5D27008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34B1-7F46-4829-8DB0-9D1F2AD84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AC8CB-B579-482C-9BCF-F58FDA08E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3B422-FDBC-4CC0-AB72-FFEA36B8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2B6C3-E5EF-46BC-85B2-03EDF7A0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DD925-B599-4314-874F-661E3119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4A4-9F22-4822-B80F-1B43EE46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9E7D4-3424-40CC-AFC5-F4DBA650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AE312-F744-4587-833B-718924D9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6AAD2-3629-416B-B22E-A61CA3DB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AF589-2011-4C2B-9B93-6E3BB41F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AF629-CA91-4F45-BE1D-3DF03487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49CD-59EF-470A-BAB5-4DB3EAF4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21F8D-AA0C-47A8-B1BA-3356A91A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DCA5B-0D84-4A24-AF88-AFC2E364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2932E-8546-4F81-9D28-0E2B53A7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0D97D-6FD7-4AD5-A0C3-B9605FFF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53A7-9B43-4F04-8303-2B8516D9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E0A7-7926-4D14-96BB-42A49F4ED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8C8EB-BA89-4E0B-9E9B-4762AE0E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D5EDE-6AC9-486C-A09D-B65BE965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FBB87-6F0F-471C-ABAA-E2119F6E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B2D59-F145-4992-8BD7-C04F7AFF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71697-A784-41C5-A648-2B596DEA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4625A-65C7-484C-8ED2-89709583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585FE-609D-4EC8-B084-1A58AF41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2A5B1-F5B1-46FA-8711-DB04A075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76E74-7B40-4B61-BFBD-718BE7E6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7109-E0A0-49E8-9C7D-8C519B1AC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3E6D6-45A0-43C3-A2B2-F44F3D4AA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7B3B0-8563-4898-851B-054BD2B4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0FAA1-60D9-482A-8F1D-7105C236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1C383-B6E5-43C6-A437-08A44407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A35CC-57B1-469E-A8AF-8C08A5B9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1FFD4-ABF0-4B97-94ED-7EA5C657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47B80-503D-47A9-8035-C5F37B26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94CBF-CCAB-4DE2-AFFD-F6B4DA02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CE0DE-D56B-4062-BC5A-3D528F49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5E829-0B00-49FF-B69B-02BF8087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1F45-733E-4F33-A63B-24183D79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E3B06-8468-47FA-BF41-8B7BFFA3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23F73-E3E5-452E-A537-43759FC02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BDE67-6190-4FBA-881B-206CA093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66A5C-3C3D-47B3-9992-2135A44E8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330FE-3B6A-4E67-95FE-188B13F3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349AB-2D99-4494-B8BA-CBE415E8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41188-2B6E-4C17-BD3F-41594DFD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2B3A5-5B54-4124-9DC1-E176756B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CC759-9CC0-4E6D-9AFF-C5B61A12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3BDC9-7001-4487-BE26-E33C3BE9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E8F1-81F5-4067-8A15-0C2B8354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71ECD-592C-4FC0-BBE0-72E4233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97B70-8B8A-40DD-8263-5DF2FC5B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2A800-1EE5-4FB4-A8C0-E68CA39B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2FA05D-0DC2-4948-B6BD-4D014C60F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31BD7-5E8F-4F9C-B0A6-8713D8BC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9698-2034-41BA-AADD-3B77934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72BA-38BA-4E88-94CF-E29AD1799CCA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F94B-FE50-46A0-8C18-4CC2F4865906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0FAA-2E59-4A8A-8DB2-DA95F414B869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4D74-40FA-422A-8C3B-49FEF1DB536E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6CDB-37D7-43D9-BC42-A84D205A9670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74E9A-83D0-43D1-85DC-DB05ADB7449A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520" cy="131400"/>
            <a:chOff x="8516520" y="1217520"/>
            <a:chExt cx="12852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9520" y="12175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9520" y="12823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880" cy="131400"/>
            <a:chOff x="8669520" y="1370160"/>
            <a:chExt cx="12888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32520" y="1370160"/>
              <a:ext cx="6588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3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32520" y="1434960"/>
              <a:ext cx="6588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520" cy="131400"/>
            <a:chOff x="8321400" y="1473120"/>
            <a:chExt cx="12852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4400" y="1473120"/>
              <a:ext cx="655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2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4400" y="1537920"/>
              <a:ext cx="655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d6ecff"/>
                </a:solidFill>
                <a:latin typeface="Constantia"/>
              </a:rPr>
              <a:t>&lt;date/time&gt;</a:t>
            </a:r>
            <a:endParaRPr b="1" lang="en-US" sz="11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6ecff"/>
                </a:solidFill>
                <a:latin typeface="Constantia"/>
              </a:defRPr>
            </a:lvl1pPr>
          </a:lstStyle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6E1F-5291-4DA2-90ED-C8F815BA467C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5"/>
          <p:cNvSpPr/>
          <p:nvPr/>
        </p:nvSpPr>
        <p:spPr>
          <a:xfrm>
            <a:off x="3746520" y="457200"/>
            <a:ext cx="510552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лощадь прямоугольного 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а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grpSp>
        <p:nvGrpSpPr>
          <p:cNvPr id="37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37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7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sp>
          <p:nvSpPr>
            <p:cNvPr id="37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  <p:grpSp>
          <p:nvGrpSpPr>
            <p:cNvPr id="37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37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5218f6"/>
                  </a:solidFill>
                  <a:latin typeface="Constantia"/>
                </a:endParaRPr>
              </a:p>
            </p:txBody>
          </p:sp>
          <p:sp>
            <p:nvSpPr>
              <p:cNvPr id="37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5218f6"/>
                  </a:solidFill>
                  <a:latin typeface="Constantia"/>
                </a:endParaRPr>
              </a:p>
            </p:txBody>
          </p:sp>
        </p:grpSp>
      </p:grpSp>
      <p:sp>
        <p:nvSpPr>
          <p:cNvPr id="377" name=""/>
          <p:cNvSpPr txBox="1"/>
          <p:nvPr/>
        </p:nvSpPr>
        <p:spPr>
          <a:xfrm>
            <a:off x="4284720" y="4653000"/>
            <a:ext cx="4859280" cy="17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сюкова Ольга Юрьевна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ысшей категории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«Школа №10 «Успех»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36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Оцените работу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95" name="Содержимое 5" descr="m2330fe92.jpg"/>
          <p:cNvPicPr/>
          <p:nvPr/>
        </p:nvPicPr>
        <p:blipFill>
          <a:blip r:embed="rId1"/>
          <a:stretch/>
        </p:blipFill>
        <p:spPr>
          <a:xfrm>
            <a:off x="324000" y="1052640"/>
            <a:ext cx="8820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395280" y="33300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218f6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5218f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Bookman Old Style"/>
              </a:rPr>
              <a:t>Формулы – это верные равенства, устанавливающие взаимосвязь между величинами</a:t>
            </a: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7" name="Рисунок 2" descr="http://5fan.ru/files/11/5fan_ru_56025_573b8be43422b55d5d97e54605c849be.html_files/1.png"/>
          <p:cNvPicPr/>
          <p:nvPr/>
        </p:nvPicPr>
        <p:blipFill>
          <a:blip r:embed="rId1"/>
          <a:stretch/>
        </p:blipFill>
        <p:spPr>
          <a:xfrm>
            <a:off x="1979640" y="4653000"/>
            <a:ext cx="6129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72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Bookman Old Style"/>
              </a:rPr>
              <a:t>Лист № 2</a:t>
            </a:r>
            <a:br>
              <a:rPr sz="4000"/>
            </a:br>
            <a:r>
              <a:rPr b="0" lang="ru-RU" sz="4000" spc="-1" strike="noStrike">
                <a:solidFill>
                  <a:srgbClr val="c1eeff"/>
                </a:solidFill>
                <a:latin typeface="Bookman Old Style"/>
              </a:rPr>
              <a:t>Найдите площадь</a:t>
            </a:r>
            <a:r>
              <a:rPr b="0" lang="en-US" sz="4000" spc="-1" strike="noStrike">
                <a:solidFill>
                  <a:srgbClr val="c1eeff"/>
                </a:solidFill>
                <a:latin typeface="Bookman Old Style"/>
              </a:rPr>
              <a:t> </a:t>
            </a:r>
            <a:r>
              <a:rPr b="0" lang="ru-RU" sz="4000" spc="-1" strike="noStrike">
                <a:solidFill>
                  <a:srgbClr val="c1eeff"/>
                </a:solidFill>
                <a:latin typeface="Bookman Old Style"/>
              </a:rPr>
              <a:t>фигур</a:t>
            </a:r>
            <a:r>
              <a:rPr b="0" lang="en-US" sz="4000" spc="-1" strike="noStrike">
                <a:solidFill>
                  <a:srgbClr val="c1eeff"/>
                </a:solidFill>
                <a:latin typeface="Bookman Old Style"/>
              </a:rPr>
              <a:t>                                                  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Прямоугольник 7"/>
          <p:cNvSpPr/>
          <p:nvPr/>
        </p:nvSpPr>
        <p:spPr>
          <a:xfrm>
            <a:off x="611280" y="1628640"/>
            <a:ext cx="1871640" cy="1785960"/>
          </a:xfrm>
          <a:prstGeom prst="rect">
            <a:avLst/>
          </a:prstGeom>
          <a:solidFill>
            <a:srgbClr val="339966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0" name="Прямоугольный треугольник 17"/>
          <p:cNvSpPr/>
          <p:nvPr/>
        </p:nvSpPr>
        <p:spPr>
          <a:xfrm>
            <a:off x="5076720" y="1628640"/>
            <a:ext cx="3527640" cy="1944720"/>
          </a:xfrm>
          <a:prstGeom prst="rtTriangle">
            <a:avLst/>
          </a:prstGeom>
          <a:solidFill>
            <a:srgbClr val="ffffff"/>
          </a:solidFill>
          <a:ln w="19080">
            <a:solidFill>
              <a:srgbClr val="ea15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1" name="Прямоугольник 7"/>
          <p:cNvSpPr/>
          <p:nvPr/>
        </p:nvSpPr>
        <p:spPr>
          <a:xfrm>
            <a:off x="684360" y="4437000"/>
            <a:ext cx="2716200" cy="1352520"/>
          </a:xfrm>
          <a:prstGeom prst="rect">
            <a:avLst/>
          </a:prstGeom>
          <a:solidFill>
            <a:srgbClr val="435faa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2" name="TextBox 14"/>
          <p:cNvSpPr/>
          <p:nvPr/>
        </p:nvSpPr>
        <p:spPr>
          <a:xfrm>
            <a:off x="1116000" y="3284640"/>
            <a:ext cx="689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3" name="TextBox 14"/>
          <p:cNvSpPr/>
          <p:nvPr/>
        </p:nvSpPr>
        <p:spPr>
          <a:xfrm rot="16200000">
            <a:off x="2537280" y="2080080"/>
            <a:ext cx="6886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4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4" name="TextBox 14"/>
          <p:cNvSpPr/>
          <p:nvPr/>
        </p:nvSpPr>
        <p:spPr>
          <a:xfrm>
            <a:off x="6443640" y="35002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8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5" name="TextBox 14"/>
          <p:cNvSpPr/>
          <p:nvPr/>
        </p:nvSpPr>
        <p:spPr>
          <a:xfrm rot="16200000">
            <a:off x="4537800" y="2312280"/>
            <a:ext cx="72072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5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6" name="TextBox 14"/>
          <p:cNvSpPr/>
          <p:nvPr/>
        </p:nvSpPr>
        <p:spPr>
          <a:xfrm rot="5400000">
            <a:off x="3282120" y="4860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7" name="TextBox 14"/>
          <p:cNvSpPr/>
          <p:nvPr/>
        </p:nvSpPr>
        <p:spPr>
          <a:xfrm>
            <a:off x="1547640" y="573408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 см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08" name="Содержимое 1"/>
          <p:cNvSpPr/>
          <p:nvPr/>
        </p:nvSpPr>
        <p:spPr>
          <a:xfrm>
            <a:off x="3924360" y="4076640"/>
            <a:ext cx="468000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3300"/>
                </a:solidFill>
                <a:latin typeface="Constantia"/>
              </a:rPr>
              <a:t>   </a:t>
            </a:r>
            <a:endParaRPr b="1" lang="en-US" sz="2800" spc="-1" strike="noStrike">
              <a:solidFill>
                <a:srgbClr val="5218f6"/>
              </a:solidFill>
              <a:latin typeface="Constantia"/>
            </a:endParaRPr>
          </a:p>
        </p:txBody>
      </p:sp>
      <p:pic>
        <p:nvPicPr>
          <p:cNvPr id="409" name="Прямая соединительная линия 13" descr=""/>
          <p:cNvPicPr/>
          <p:nvPr/>
        </p:nvPicPr>
        <p:blipFill>
          <a:blip r:embed="rId1"/>
          <a:stretch/>
        </p:blipFill>
        <p:spPr>
          <a:xfrm>
            <a:off x="4767120" y="1620720"/>
            <a:ext cx="201600" cy="203040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ая соединительная линия 16" descr=""/>
          <p:cNvPicPr/>
          <p:nvPr/>
        </p:nvPicPr>
        <p:blipFill>
          <a:blip r:embed="rId2"/>
          <a:stretch/>
        </p:blipFill>
        <p:spPr>
          <a:xfrm>
            <a:off x="4998960" y="3260880"/>
            <a:ext cx="368136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76000" y="512640"/>
            <a:ext cx="7343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Bookman Old Style"/>
              </a:rPr>
              <a:t>Площадь прямоугольного треугольника </a:t>
            </a:r>
            <a:br>
              <a:rPr sz="5400"/>
            </a:b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609560" y="4508280"/>
            <a:ext cx="3953160" cy="1190160"/>
          </a:xfrm>
          <a:prstGeom prst="rect">
            <a:avLst/>
          </a:prstGeom>
          <a:solidFill>
            <a:srgbClr val="61b6ff"/>
          </a:solidFill>
          <a:ln w="19080">
            <a:solidFill>
              <a:srgbClr val="5c9929"/>
            </a:solidFill>
            <a:miter/>
          </a:ln>
        </p:spPr>
        <p:txBody>
          <a:bodyPr anchor="ctr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.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?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1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124000" y="512280"/>
            <a:ext cx="5904000" cy="21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КАТЕТ     ГИПОТЕНУЗА       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        КАТЕТ</a:t>
            </a:r>
            <a:br>
              <a:rPr sz="5400"/>
            </a:b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609560" y="4508280"/>
            <a:ext cx="3953160" cy="1190160"/>
          </a:xfrm>
          <a:prstGeom prst="rect">
            <a:avLst/>
          </a:prstGeom>
          <a:solidFill>
            <a:srgbClr val="61b6ff"/>
          </a:solidFill>
          <a:ln w="19080">
            <a:solidFill>
              <a:srgbClr val="5c9929"/>
            </a:solidFill>
            <a:miter/>
          </a:ln>
        </p:spPr>
        <p:txBody>
          <a:bodyPr anchor="ctr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.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?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7570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olas"/>
              </a:rPr>
              <a:t>Как найти площадь прямоугольного треугольника?</a:t>
            </a:r>
            <a:r>
              <a:rPr b="0" lang="ru-RU" sz="3600" spc="-1" strike="noStrike">
                <a:solidFill>
                  <a:srgbClr val="c00000"/>
                </a:solidFill>
                <a:latin typeface="Consolas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6" name="Прямоугольный треугольник 4"/>
          <p:cNvSpPr/>
          <p:nvPr/>
        </p:nvSpPr>
        <p:spPr>
          <a:xfrm>
            <a:off x="3564000" y="2708280"/>
            <a:ext cx="2592360" cy="1297080"/>
          </a:xfrm>
          <a:prstGeom prst="rtTriangl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17" name="Прямоугольный треугольник 5"/>
          <p:cNvSpPr/>
          <p:nvPr/>
        </p:nvSpPr>
        <p:spPr>
          <a:xfrm rot="10800000">
            <a:off x="3571920" y="2707920"/>
            <a:ext cx="2571840" cy="1297080"/>
          </a:xfrm>
          <a:prstGeom prst="rtTriangl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18" name="TextBox 6"/>
          <p:cNvSpPr/>
          <p:nvPr/>
        </p:nvSpPr>
        <p:spPr>
          <a:xfrm>
            <a:off x="3002400" y="307188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19" name="TextBox 7"/>
          <p:cNvSpPr/>
          <p:nvPr/>
        </p:nvSpPr>
        <p:spPr>
          <a:xfrm>
            <a:off x="4857840" y="3929040"/>
            <a:ext cx="42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0" name="TextBox 8"/>
          <p:cNvSpPr/>
          <p:nvPr/>
        </p:nvSpPr>
        <p:spPr>
          <a:xfrm>
            <a:off x="4716720" y="20001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1" name="TextBox 9"/>
          <p:cNvSpPr/>
          <p:nvPr/>
        </p:nvSpPr>
        <p:spPr>
          <a:xfrm>
            <a:off x="6286680" y="3071880"/>
            <a:ext cx="39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2" name="TextBox 12"/>
          <p:cNvSpPr/>
          <p:nvPr/>
        </p:nvSpPr>
        <p:spPr>
          <a:xfrm>
            <a:off x="3801960" y="5286240"/>
            <a:ext cx="239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р.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=</a:t>
            </a: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 ?</a:t>
            </a:r>
            <a:endParaRPr b="1" lang="en-US" sz="5400" spc="-1" strike="noStrike">
              <a:solidFill>
                <a:srgbClr val="5218f6"/>
              </a:solidFill>
              <a:latin typeface="Constantia"/>
            </a:endParaRPr>
          </a:p>
        </p:txBody>
      </p:sp>
      <p:pic>
        <p:nvPicPr>
          <p:cNvPr id="423" name="Picture 12" descr="question3"/>
          <p:cNvPicPr/>
          <p:nvPr/>
        </p:nvPicPr>
        <p:blipFill>
          <a:blip r:embed="rId1"/>
          <a:stretch/>
        </p:blipFill>
        <p:spPr>
          <a:xfrm>
            <a:off x="0" y="0"/>
            <a:ext cx="1638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ый треугольник 1"/>
          <p:cNvSpPr/>
          <p:nvPr/>
        </p:nvSpPr>
        <p:spPr>
          <a:xfrm>
            <a:off x="1071720" y="2786040"/>
            <a:ext cx="4000320" cy="2357640"/>
          </a:xfrm>
          <a:prstGeom prst="rtTriangl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5" name="Прямоугольный треугольник 2"/>
          <p:cNvSpPr/>
          <p:nvPr/>
        </p:nvSpPr>
        <p:spPr>
          <a:xfrm rot="10800000">
            <a:off x="1071720" y="2785320"/>
            <a:ext cx="4000320" cy="2365560"/>
          </a:xfrm>
          <a:prstGeom prst="rtTriangl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6" name="Прямая соединительная линия 4"/>
          <p:cNvSpPr/>
          <p:nvPr/>
        </p:nvSpPr>
        <p:spPr>
          <a:xfrm>
            <a:off x="1071720" y="2787480"/>
            <a:ext cx="4000320" cy="236556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500040" y="7858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18f6"/>
                </a:solidFill>
                <a:latin typeface="Constantia"/>
              </a:rPr>
              <a:t> 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8" name="Прямоугольник 6"/>
          <p:cNvSpPr/>
          <p:nvPr/>
        </p:nvSpPr>
        <p:spPr>
          <a:xfrm>
            <a:off x="857160" y="476280"/>
            <a:ext cx="299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</a:t>
            </a:r>
            <a:r>
              <a:rPr b="1" lang="ru-RU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= S</a:t>
            </a:r>
            <a:r>
              <a:rPr b="1" lang="ru-RU" sz="20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    </a:t>
            </a: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: 2</a:t>
            </a:r>
            <a:endParaRPr b="1" lang="en-US" sz="36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29" name="Прямоугольник 8"/>
          <p:cNvSpPr/>
          <p:nvPr/>
        </p:nvSpPr>
        <p:spPr>
          <a:xfrm>
            <a:off x="2214720" y="857160"/>
            <a:ext cx="357120" cy="214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0" name="Прямоугольник 9"/>
          <p:cNvSpPr/>
          <p:nvPr/>
        </p:nvSpPr>
        <p:spPr>
          <a:xfrm>
            <a:off x="438624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1" name="TextBox 10"/>
          <p:cNvSpPr/>
          <p:nvPr/>
        </p:nvSpPr>
        <p:spPr>
          <a:xfrm>
            <a:off x="857160" y="119700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     = a · b</a:t>
            </a:r>
            <a:r>
              <a:rPr b="1" lang="en-US" sz="1800" spc="-1" strike="noStrike">
                <a:solidFill>
                  <a:srgbClr val="5218f6"/>
                </a:solidFill>
                <a:latin typeface="Constantia"/>
              </a:rPr>
              <a:t> </a:t>
            </a: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2" name="Прямоугольник 11"/>
          <p:cNvSpPr/>
          <p:nvPr/>
        </p:nvSpPr>
        <p:spPr>
          <a:xfrm>
            <a:off x="1217520" y="1590840"/>
            <a:ext cx="357120" cy="214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3" name="Прямоугольник 12"/>
          <p:cNvSpPr/>
          <p:nvPr/>
        </p:nvSpPr>
        <p:spPr>
          <a:xfrm>
            <a:off x="857160" y="1844640"/>
            <a:ext cx="347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 </a:t>
            </a:r>
            <a:r>
              <a:rPr b="1" lang="ru-RU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=  (a · b )   </a:t>
            </a:r>
            <a:r>
              <a:rPr b="1" lang="ru-RU" sz="36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: 2</a:t>
            </a:r>
            <a:endParaRPr b="1" lang="en-US" sz="36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4" name="Прямоугольный треугольник 15"/>
          <p:cNvSpPr/>
          <p:nvPr/>
        </p:nvSpPr>
        <p:spPr>
          <a:xfrm>
            <a:off x="1214280" y="2252520"/>
            <a:ext cx="262080" cy="198720"/>
          </a:xfrm>
          <a:prstGeom prst="rtTriangl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35" name="Прямоугольный треугольник 16"/>
          <p:cNvSpPr/>
          <p:nvPr/>
        </p:nvSpPr>
        <p:spPr>
          <a:xfrm>
            <a:off x="1217520" y="871560"/>
            <a:ext cx="262080" cy="198360"/>
          </a:xfrm>
          <a:prstGeom prst="rtTriangl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28400" y="152280"/>
            <a:ext cx="82580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Consolas"/>
              </a:rPr>
              <a:t>Прямоугольный треугольник</a:t>
            </a:r>
            <a:endParaRPr b="0" lang="en-US" sz="43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37" name="AutoShape 2"/>
          <p:cNvGrpSpPr/>
          <p:nvPr/>
        </p:nvGrpSpPr>
        <p:grpSpPr>
          <a:xfrm>
            <a:off x="3664080" y="2444760"/>
            <a:ext cx="3181320" cy="1743120"/>
            <a:chOff x="3664080" y="2444760"/>
            <a:chExt cx="3181320" cy="1743120"/>
          </a:xfrm>
        </p:grpSpPr>
        <p:pic>
          <p:nvPicPr>
            <p:cNvPr id="438" name="AutoShape 2" descr=""/>
            <p:cNvPicPr/>
            <p:nvPr/>
          </p:nvPicPr>
          <p:blipFill>
            <a:blip r:embed="rId1"/>
            <a:stretch/>
          </p:blipFill>
          <p:spPr>
            <a:xfrm>
              <a:off x="3664080" y="2444760"/>
              <a:ext cx="3181320" cy="17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>
              <a:off x="4032360" y="3443400"/>
              <a:ext cx="14716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</p:grpSp>
      <p:sp>
        <p:nvSpPr>
          <p:cNvPr id="440" name="Rectangle 4"/>
          <p:cNvSpPr/>
          <p:nvPr/>
        </p:nvSpPr>
        <p:spPr>
          <a:xfrm>
            <a:off x="1800" y="626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218f6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1800" y="6264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218f6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539640" y="270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rbel"/>
              </a:rPr>
              <a:t>катет </a:t>
            </a:r>
            <a:endParaRPr b="1" lang="en-US" sz="40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43" name="TextBox 9"/>
          <p:cNvSpPr/>
          <p:nvPr/>
        </p:nvSpPr>
        <p:spPr>
          <a:xfrm>
            <a:off x="3419640" y="5300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катет </a:t>
            </a:r>
            <a:endParaRPr b="1" lang="en-US" sz="36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44" name="TextBox 10"/>
          <p:cNvSpPr/>
          <p:nvPr/>
        </p:nvSpPr>
        <p:spPr>
          <a:xfrm>
            <a:off x="5219640" y="25002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rbel"/>
              </a:rPr>
              <a:t>гипотенуза</a:t>
            </a:r>
            <a:endParaRPr b="1" lang="en-US" sz="3600" spc="-1" strike="noStrike">
              <a:solidFill>
                <a:srgbClr val="5218f6"/>
              </a:solidFill>
              <a:latin typeface="Constantia"/>
            </a:endParaRPr>
          </a:p>
        </p:txBody>
      </p:sp>
      <p:grpSp>
        <p:nvGrpSpPr>
          <p:cNvPr id="445" name="AutoShape 2"/>
          <p:cNvGrpSpPr/>
          <p:nvPr/>
        </p:nvGrpSpPr>
        <p:grpSpPr>
          <a:xfrm>
            <a:off x="2219400" y="1365120"/>
            <a:ext cx="6138720" cy="3475080"/>
            <a:chOff x="2219400" y="1365120"/>
            <a:chExt cx="6138720" cy="3475080"/>
          </a:xfrm>
        </p:grpSpPr>
        <p:pic>
          <p:nvPicPr>
            <p:cNvPr id="446" name="AutoShape 2" descr=""/>
            <p:cNvPicPr/>
            <p:nvPr/>
          </p:nvPicPr>
          <p:blipFill>
            <a:blip r:embed="rId2"/>
            <a:stretch/>
          </p:blipFill>
          <p:spPr>
            <a:xfrm>
              <a:off x="2219400" y="1365120"/>
              <a:ext cx="6138720" cy="347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2832120" y="3375000"/>
              <a:ext cx="2952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5218f6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4"/>
          <p:cNvSpPr/>
          <p:nvPr/>
        </p:nvSpPr>
        <p:spPr>
          <a:xfrm>
            <a:off x="1258920" y="1413000"/>
            <a:ext cx="73454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42508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1eeff"/>
                </a:solidFill>
                <a:latin typeface="Bookman Old Style"/>
              </a:rPr>
              <a:t>Чтобы найти площадь прямоугольного треугольника </a:t>
            </a:r>
            <a:br>
              <a:rPr sz="4800"/>
            </a:br>
            <a:r>
              <a:rPr b="0" lang="ru-RU" sz="4800" spc="-1" strike="noStrike">
                <a:solidFill>
                  <a:srgbClr val="c58d01"/>
                </a:solidFill>
                <a:latin typeface="Bookman Old Style"/>
              </a:rPr>
              <a:t>надо найти произведение длин катетов треугольника и полученную величину разделить на два</a:t>
            </a:r>
            <a:br>
              <a:rPr sz="4800"/>
            </a:br>
            <a:endParaRPr b="0" lang="en-US" sz="48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5400" y="259920"/>
            <a:ext cx="8472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6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900360" y="1413000"/>
            <a:ext cx="10296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18f6"/>
                </a:solidFill>
                <a:latin typeface="Corbel"/>
              </a:rPr>
              <a:t>а) 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тр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=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(3</a:t>
            </a:r>
            <a:r>
              <a:rPr b="1" lang="en-US" sz="3200" spc="-1" strike="noStrike" baseline="12000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х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4) : 2 = 6 (с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=600 (м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18f6"/>
                </a:solidFill>
                <a:latin typeface="Corbel"/>
              </a:rPr>
              <a:t>б) 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тр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=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(5 </a:t>
            </a:r>
            <a:r>
              <a:rPr b="1" lang="ru-RU" sz="28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х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6) : 2 = 15 (д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=1500 (с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218f6"/>
                </a:solidFill>
                <a:latin typeface="Corbel"/>
              </a:rPr>
              <a:t>в) 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S</a:t>
            </a:r>
            <a:r>
              <a:rPr b="1" lang="ru-RU" sz="24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тр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.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=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( 70 </a:t>
            </a:r>
            <a:r>
              <a:rPr b="1" lang="ru-RU" sz="28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х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6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 : 2 = 210 (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=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21.000 (дм</a:t>
            </a:r>
            <a:r>
              <a:rPr b="1" lang="ru-RU" sz="3200" spc="-1" strike="noStrike" baseline="30000">
                <a:solidFill>
                  <a:srgbClr val="5218f6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)</a:t>
            </a:r>
            <a:r>
              <a:rPr b="1" lang="en-US" sz="3200" spc="-1" strike="noStrike">
                <a:solidFill>
                  <a:srgbClr val="5218f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Прямоугольный треугольник 4"/>
          <p:cNvSpPr/>
          <p:nvPr/>
        </p:nvSpPr>
        <p:spPr>
          <a:xfrm rot="7617600">
            <a:off x="1475280" y="3717000"/>
            <a:ext cx="1582920" cy="2016000"/>
          </a:xfrm>
          <a:prstGeom prst="rtTriangle">
            <a:avLst/>
          </a:prstGeom>
          <a:solidFill>
            <a:srgbClr val="61b6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53" name="Прямоугольный треугольник 5"/>
          <p:cNvSpPr/>
          <p:nvPr/>
        </p:nvSpPr>
        <p:spPr>
          <a:xfrm rot="11629800">
            <a:off x="3904920" y="4210200"/>
            <a:ext cx="1336680" cy="1814400"/>
          </a:xfrm>
          <a:prstGeom prst="rtTriangle">
            <a:avLst/>
          </a:prstGeom>
          <a:solidFill>
            <a:srgbClr val="61b6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  <p:sp>
        <p:nvSpPr>
          <p:cNvPr id="454" name="Прямоугольный треугольник 6"/>
          <p:cNvSpPr/>
          <p:nvPr/>
        </p:nvSpPr>
        <p:spPr>
          <a:xfrm rot="2651400">
            <a:off x="6560640" y="4179960"/>
            <a:ext cx="2271960" cy="1814400"/>
          </a:xfrm>
          <a:prstGeom prst="rtTriangle">
            <a:avLst/>
          </a:prstGeom>
          <a:solidFill>
            <a:srgbClr val="61b6ff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Математическая разминка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Содержимое 3" descr="http://cdn.tips-board.ru/images/interesnie_fakti_o_matematike_i_matematikah-2.jpg"/>
          <p:cNvPicPr/>
          <p:nvPr/>
        </p:nvPicPr>
        <p:blipFill>
          <a:blip r:embed="rId1"/>
          <a:stretch/>
        </p:blipFill>
        <p:spPr>
          <a:xfrm>
            <a:off x="1042920" y="1557360"/>
            <a:ext cx="74898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Оцените работу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6" name="Содержимое 5" descr="m2330fe92.jpg"/>
          <p:cNvPicPr/>
          <p:nvPr/>
        </p:nvPicPr>
        <p:blipFill>
          <a:blip r:embed="rId1"/>
          <a:stretch/>
        </p:blipFill>
        <p:spPr>
          <a:xfrm>
            <a:off x="324000" y="1052640"/>
            <a:ext cx="8820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85840" y="151920"/>
            <a:ext cx="840096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Bookman Old Style"/>
              </a:rPr>
              <a:t>Тест</a:t>
            </a:r>
            <a:endParaRPr b="0" lang="en-US" sz="9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458" name="Picture 6" descr="image468"/>
          <p:cNvPicPr/>
          <p:nvPr/>
        </p:nvPicPr>
        <p:blipFill>
          <a:blip r:embed="rId1"/>
          <a:stretch/>
        </p:blipFill>
        <p:spPr>
          <a:xfrm>
            <a:off x="2124000" y="1989000"/>
            <a:ext cx="4824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Прямоугольник 1" descr=""/>
          <p:cNvPicPr/>
          <p:nvPr/>
        </p:nvPicPr>
        <p:blipFill>
          <a:blip r:embed="rId1"/>
          <a:stretch/>
        </p:blipFill>
        <p:spPr>
          <a:xfrm>
            <a:off x="785880" y="755640"/>
            <a:ext cx="7711920" cy="2749680"/>
          </a:xfrm>
          <a:prstGeom prst="rect">
            <a:avLst/>
          </a:prstGeom>
          <a:ln w="0">
            <a:noFill/>
          </a:ln>
        </p:spPr>
      </p:pic>
      <p:sp>
        <p:nvSpPr>
          <p:cNvPr id="460" name="Номер слайда 4"/>
          <p:cNvSpPr/>
          <p:nvPr/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6171-0E24-4404-BE36-E0C9C1F8A545}" type="slidenum">
              <a:rPr b="1" lang="ru-RU" sz="1200" spc="-1" strike="noStrike">
                <a:solidFill>
                  <a:srgbClr val="d6ecff"/>
                </a:solidFill>
                <a:latin typeface="Constantia"/>
              </a:rPr>
              <a:t>&lt;number&gt;</a:t>
            </a:fld>
            <a:endParaRPr b="1" lang="en-US" sz="1200" spc="-1" strike="noStrike">
              <a:solidFill>
                <a:srgbClr val="5218f6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914400" y="242100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Площадь квадрата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914400" y="242100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Площадь  прямоугольника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242100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Периметр прямоугольника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914400" y="242100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Периметр  квадрата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914040" y="2421000"/>
            <a:ext cx="79786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Сторону прямоугольника 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если известна сторона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</a:t>
            </a: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иметр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прямоугольника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040" y="2421000"/>
            <a:ext cx="79786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1/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от  а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1eeff"/>
                </a:solidFill>
                <a:latin typeface="Times New Roman"/>
                <a:ea typeface="Times New Roman"/>
              </a:rPr>
              <a:t>Как найти</a:t>
            </a:r>
            <a:endParaRPr b="0" lang="en-US" sz="54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914040" y="2421000"/>
            <a:ext cx="79786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.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, если  1/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ru-RU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6:23:11Z</dcterms:created>
  <dc:creator>Customer</dc:creator>
  <dc:description/>
  <dc:language>en-US</dc:language>
  <cp:lastModifiedBy>102</cp:lastModifiedBy>
  <dcterms:modified xsi:type="dcterms:W3CDTF">2017-10-01T15:40:37Z</dcterms:modified>
  <cp:revision>73</cp:revision>
  <dc:subject/>
  <dc:title>Математика – царица наук.</dc:title>
</cp:coreProperties>
</file>