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7A0-3B0C-4413-952D-29511D79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1D2-FF6D-4685-A575-86D0D421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E7A-AE8F-4591-BB2E-BC4A525D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280-5EE5-4EA1-9BB3-2C478A5A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C26-9506-4288-9A64-B6EE49F5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6221-CB20-44D3-B200-2E54DD5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8F73-80AE-44F5-992A-7BF4DE46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224-4755-4DC8-8307-2B6F535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D10A-A400-4800-9F8A-37F88A7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1DC6-30AB-4895-BBB1-B239C5C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0DB2-57FE-4066-8A79-9DCC995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E43-6A51-4262-B8C4-4C41F8D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4FF-55DB-42D4-97DD-B3C0B4D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FA33-517A-4C54-8AF5-DCD796D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B66E-FACD-4EF9-A606-0B22AC2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7B1-0964-41ED-9460-265471B3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D17D-CAF6-4F1E-A959-C7A95B12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7D04-965B-4399-80A1-68AEE17E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5ED6-F985-4EB4-BA87-1AF082EA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A2AE-971B-40FE-9D48-469C1637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26E9-EFAF-41C0-AE31-F83631DC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8675-0424-4466-9E39-E58640C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0C0-92D2-4EB8-B8B4-DF3266D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5D6A-E68E-4440-964B-25D86837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79AE-A317-4217-A8FB-D422FFFA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CDC5-13E8-49BF-BBAA-71DDE2E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F227-1FF7-4CD2-ADA4-28B6049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DCD4-5417-4D54-AF6A-1D91662F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07C4-D0A2-4250-9E6F-182D1EFE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5B64-366E-41B0-A72E-F0DFD085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E85-98D0-459C-A080-55670015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849-79C7-4667-AF2F-771734E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61D-21B2-4646-833A-8138D46C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977-1254-45E5-8A78-14ABFBC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696-A610-4E8D-80B6-BCADB61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058-2AB5-4FC4-AC59-32D9D53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E3EC-60B2-4654-B9B6-79AB51BA9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BD0E-1D14-4911-B0A9-06CD6F42DC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21D-A765-4C22-8848-F0FA1BB21F9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 rot="21275400">
            <a:off x="0" y="404640"/>
            <a:ext cx="874872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улыбки станет всем светлей!...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5" descr="Картинки по запросу от улыбки станет всем светлей картинки"/>
          <p:cNvPicPr/>
          <p:nvPr/>
        </p:nvPicPr>
        <p:blipFill>
          <a:blip r:embed="rId1"/>
          <a:stretch/>
        </p:blipFill>
        <p:spPr>
          <a:xfrm>
            <a:off x="4381560" y="2676600"/>
            <a:ext cx="4762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638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А сегодня, когда ваш ребенок проснулся, вы сказали ему: «Доброе утро?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ойтесь иногда уступ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Старайтесь, чтобы ребенок был привязан к дому, к тем четырем стенам, в которых живет семья. Возвращаясь домой, не забывайте сказать: «А все-таки как хорошо у нас дом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971640" y="189000"/>
            <a:ext cx="748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ы: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79280" y="189000"/>
            <a:ext cx="871380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Картинки по запросу от улыбки станет всем светлей картинки"/>
          <p:cNvPicPr/>
          <p:nvPr/>
        </p:nvPicPr>
        <p:blipFill>
          <a:blip r:embed="rId1"/>
          <a:stretch/>
        </p:blipFill>
        <p:spPr>
          <a:xfrm>
            <a:off x="2050920" y="1916280"/>
            <a:ext cx="5400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Удивительно, что может сделать один луч солнца с душой человека»</a:t>
            </a: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. М. Достоевск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Тест «Благополучны ли ваши отношения 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 детьми?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314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Да» - 2 балл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Иногда» - 1 бал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Нет» - 0 бал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66ffcc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т 26 до 40 балл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ашей семье цар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ая гармония и взаимопонимание меж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ьми и взрослыми. Для посторонних люд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ные отношения – предмет откры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висти. Как это не грустно, готовьтесь к том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кружающие, видя такое душев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ство, будут «учить» вас, что 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авильно воспитываете своего ребенк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ите ребенку, что недобр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и хотят вас поссори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отайте у ребенка стратегию ответов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0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От 14 до 25 балл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ши отношения с ребенком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целом благополучны. Однако для достижения  бо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ного контакта вам следует сделать их боле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ногогранными. Воплотите в жизнь некоторые смел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чты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От 1 до 13 балл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ам следует подумать, ка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лучшить ваши отношения с ребенко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лагополучие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ношениях с ребенком зависит только от вас. Ребено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ичего не сможет изменить сам, если взрослый челове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деляет ему слишком мало времени. В конце концов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ьмите на работе один день отпуска за свой сч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ведите его полностью с ребенком. Сходите в кино,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газ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грушек. Детская память долго храни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споминания о счастливых моментах жизни. Считайте,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день будет оплачен по самой высокой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тавке –  любовью и преданностью вашего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бен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«Незаконченные предложения…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785440" cy="5053320"/>
        </p:xfrm>
        <a:graphic>
          <a:graphicData uri="http://schemas.openxmlformats.org/drawingml/2006/table">
            <a:tbl>
              <a:tblPr/>
              <a:tblGrid>
                <a:gridCol w="517680"/>
                <a:gridCol w="2730600"/>
                <a:gridCol w="55371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акончен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ы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любим маму, 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на любит нас, она обожает папу, папа нас, бабушку боль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умаю, что мама чаще всег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, готовит на кухне, убирается, спит, гу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цы иногд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ыхают, с нами играют, ругают, работают в гараже, злые, нас радую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бы наш пап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 добрый, радостный, здоров, не курил, купил что-то, играл со мной, не уезж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мой брат (сестра)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я не обижал, играла со мной, помыл посуду, был миллионером, не болел, поскорей вырос(ла), была добр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505080"/>
                <a:gridCol w="2592360"/>
                <a:gridCol w="568800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и близкие думают обо мне, что 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ая, красивая, умный, высокая, добрая, плохой, полный, гуляю после шко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, с которыми я играю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е нравятся, мои знакомые, играют со мной, мои друзья, добрые, раду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и друзья меня час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щают, зовут гулять, приглашают поиграть, смешат, обзывают, обиж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не было школы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бы были глупыми, лодырями, не были умными, ничего не знал(а), я бы спал, то грустили 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 думаю о школе, 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е хочется учиться, становится плохо, что-то вспоминаю, хочу в школу, я счастлива, мурашки по коже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умаю, что людей больше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м животных, чем думала, камн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остаточно ловкий, чтобы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ежать, выиграть конкурс, перепрыгнуть, победить, забрать пульт у мамы, поймать мяч, залезть на дер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0920" y="333360"/>
          <a:ext cx="8713800" cy="6191280"/>
        </p:xfrm>
        <a:graphic>
          <a:graphicData uri="http://schemas.openxmlformats.org/drawingml/2006/table">
            <a:tbl>
              <a:tblPr/>
              <a:tblGrid>
                <a:gridCol w="504720"/>
                <a:gridCol w="2448000"/>
                <a:gridCol w="576108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самый слабый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английском, в борьбе, в спорте, в классе, в компьютере, в игре, в семь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хочу, чтобы у меня не был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мяка, проблем, сложностей, музыкальной школы, двоек, вредных привычек, английского, болез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весь трясусь, когд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я ругают, мне холодно, темно, вижу хомяка, захожу в море, меня бь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все ребята знали, как я боюсь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ноты, высоты, хомяка, сложностей, волка, выражать свое мнение, гадюк, своей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 бы очень счастлив, если бы 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лся (ась) на 5, была знаменита и богата, играл(а) в игры, экстрасенсом, президентом, уехал в Египет, был ум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да мечтаю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собаке, кошке, быть феей, о футболе, о трансформерах, о подарках, о машине, разбогатеть, быть волшебницей, о пап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Один великий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 мудрец сказал: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«Душа ребенка сродни скрипке: как к ней прикоснешься,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ак она и зазвучит».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Прикоснитесь к ней с любящей и нежной улыбкой. Обнимите покрепче вашего малыша, загляните в его светлые родные глаза и … расскажите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очередную сказк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53:07Z</dcterms:created>
  <dc:creator>светик</dc:creator>
  <dc:description/>
  <dc:language>en-US</dc:language>
  <cp:lastModifiedBy>User</cp:lastModifiedBy>
  <dcterms:modified xsi:type="dcterms:W3CDTF">2016-10-24T14:28:48Z</dcterms:modified>
  <cp:revision>19</cp:revision>
  <dc:subject/>
  <dc:title>PowerPoint Presentation</dc:title>
</cp:coreProperties>
</file>