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75A3-767C-4060-8318-FE4B973C7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1E92-9BFF-4946-B565-75E91A3E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AD93-1D24-451E-B43E-FF414F4D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A8AC-452F-4556-8A56-AE4D6CCC3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21E2-759D-4214-A3BA-90B4696F8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4BE57-8E73-4485-A333-98DA4DED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FD91-7348-4CB0-9F3C-5131DDF6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FBEE-F986-4A3B-BB60-5234A430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3F12-4BCC-4538-A8B4-C310D6FC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BE97-854F-4A6B-8561-A379A762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3219-C0A6-493A-9E66-2CBD1AA71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7320-C9AE-4C93-9110-941E5FEF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EE55-1248-42F9-A5BE-828F3F72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7248-6245-4C4E-8EC2-9409367D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ED1B-2A88-430A-A439-61026A30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B4B7-5ABC-422E-BC07-4B2A869DC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43D0-B9F6-4C94-88BD-2DFE32328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CBF6C-603C-4E32-8369-48BA58142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19739-B2AB-4E30-89FA-420842A0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23835-7F09-44FD-A9A1-0510211D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029DA-A8DA-4A34-85E4-0249A057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F17F4-1AA5-4B88-917D-A06B68AA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E330-6FD4-48EF-9091-C5266FA7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6717D-CA27-43FE-A530-DE03EEA3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E7623-3FA2-4E37-98B8-AF4EB9B8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70BB7-2B3E-4F43-B268-75F6176C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5B4D3-B8BF-4F5B-825A-561D39F4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1A721-BC6D-40BF-B9DA-624D4C4E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2C023-BB68-42EF-B720-2A13E0C7E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6B813-4B01-4A23-B2A8-890EC432C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22E2-392C-4AE7-9537-B774C6B3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B224-AE31-4F42-AF6A-8E7890BD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9FAE-24A0-4A9D-99EF-E6C10F92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B1C5-7285-4496-ADED-A0DD90E7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50EE-4AF1-4DD4-9834-EABB78D3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753B-664B-46B9-AF33-01AE7CB1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B82C-6616-4CCE-B3B1-DC8402E49D8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4A6E-A834-4E13-8318-01D47FFC48C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ABC7-715A-44F0-B6CD-1B001ACDDFF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WordArt 4"/>
          <p:cNvSpPr txBox="1"/>
          <p:nvPr/>
        </p:nvSpPr>
        <p:spPr>
          <a:xfrm rot="21275400">
            <a:off x="0" y="404640"/>
            <a:ext cx="8748720" cy="25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8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624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От улыбки станет всем светлей!...»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624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93" name="Picture 5" descr="Картинки по запросу от улыбки станет всем светлей картинки"/>
          <p:cNvPicPr/>
          <p:nvPr/>
        </p:nvPicPr>
        <p:blipFill>
          <a:blip r:embed="rId1"/>
          <a:stretch/>
        </p:blipFill>
        <p:spPr>
          <a:xfrm>
            <a:off x="4381560" y="2676600"/>
            <a:ext cx="47624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cc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250560" y="1483920"/>
            <a:ext cx="86389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66"/>
                </a:solidFill>
                <a:latin typeface="Times New Roman"/>
              </a:rPr>
              <a:t>А сегодня, когда ваш ребенок проснулся, вы сказали ему: «Доброе утро?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бойтесь иногда уступат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Times New Roman"/>
              </a:rPr>
              <a:t>Старайтесь, чтобы ребенок был привязан к дому, к тем четырем стенам, в которых живет семья. Возвращаясь домой, не забывайте сказать: «А все-таки как хорошо у нас дома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WordArt 4"/>
          <p:cNvSpPr txBox="1"/>
          <p:nvPr/>
        </p:nvSpPr>
        <p:spPr>
          <a:xfrm>
            <a:off x="971640" y="189000"/>
            <a:ext cx="74898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веты: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4"/>
          <p:cNvSpPr txBox="1"/>
          <p:nvPr/>
        </p:nvSpPr>
        <p:spPr>
          <a:xfrm>
            <a:off x="179280" y="189000"/>
            <a:ext cx="8713800" cy="15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8" name="Picture 6" descr="Картинки по запросу от улыбки станет всем светлей картинки"/>
          <p:cNvPicPr/>
          <p:nvPr/>
        </p:nvPicPr>
        <p:blipFill>
          <a:blip r:embed="rId1"/>
          <a:stretch/>
        </p:blipFill>
        <p:spPr>
          <a:xfrm>
            <a:off x="2050920" y="1916280"/>
            <a:ext cx="540072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609120"/>
            <a:ext cx="8136000" cy="569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«Удивительно, что может сделать один луч солнца с душой человека»</a:t>
            </a:r>
            <a:br>
              <a:rPr sz="6000"/>
            </a:br>
            <a:br>
              <a:rPr sz="60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Ф. М. Достоевски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Тест «Благополучны ли ваши отношения </a:t>
            </a:r>
            <a:br>
              <a:rPr sz="4800"/>
            </a:b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с детьми?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314172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«Да» - 2 балла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«Иногда» - 1 бал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«Нет» - 0 балл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66ffcc"/>
            </a:gs>
            <a:gs pos="100000">
              <a:srgbClr val="66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Times New Roman"/>
              </a:rPr>
              <a:t>Результаты тест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От 26 до 40 баллов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вашей семье цари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ная гармония и взаимопонимание межд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тьми и взрослыми. Для посторонних люде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обные отношения – предмет открыт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висти. Как это не грустно, готовьтесь к тому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то окружающие, видя такое душевно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динство, будут «учить» вас, что в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правильно воспитываете своего ребенка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ъясните ребенку, что недобры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люди хотят вас поссорит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ыработайте у ребенка стратегию ответов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208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Arial Unicode MS"/>
              </a:rPr>
              <a:t>От 14 до 25 баллов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аши отношения с ребенком в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целом благополучны. Однако для достижения  боле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тесного контакта вам следует сделать их боле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ногогранными. Воплотите в жизнь некоторые смелы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чты ребенк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Arial Unicode MS"/>
              </a:rPr>
              <a:t>От 1 до 13 баллов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Вам следует подумать, как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лучшить ваши отношения с ребенком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Благополучие в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тношениях с ребенком зависит только от вас. Ребенок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ничего не сможет изменить сам, если взрослый человек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деляет ему слишком мало времени. В конце концов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озьмите на работе один день отпуска за свой счет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оведите его полностью с ребенком. Сходите в кино, в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агази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грушек. Детская память долго хранит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оспоминания о счастливых моментах жизни. Считайте,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что день будет оплачен по самой высокой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тавке –  любовью и преданностью вашего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ребенк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10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10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10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1000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1000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1000"/>
                                        <p:tgtEl>
                                          <p:spTgt spid="1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1000"/>
                                        <p:tgtEl>
                                          <p:spTgt spid="1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1000"/>
                                        <p:tgtEl>
                                          <p:spTgt spid="1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1000"/>
                                        <p:tgtEl>
                                          <p:spTgt spid="1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1000"/>
                                        <p:tgtEl>
                                          <p:spTgt spid="1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1000"/>
                                        <p:tgtEl>
                                          <p:spTgt spid="1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1000"/>
                                        <p:tgtEl>
                                          <p:spTgt spid="19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38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66"/>
                </a:solidFill>
                <a:latin typeface="Times New Roman"/>
              </a:rPr>
              <a:t>«Незаконченные предложения…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79280" y="1628640"/>
          <a:ext cx="8785440" cy="5053320"/>
        </p:xfrm>
        <a:graphic>
          <a:graphicData uri="http://schemas.openxmlformats.org/drawingml/2006/table">
            <a:tbl>
              <a:tblPr/>
              <a:tblGrid>
                <a:gridCol w="517680"/>
                <a:gridCol w="2730600"/>
                <a:gridCol w="553716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законченные предло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веты обучаю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ы любим маму, а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на любит нас, она обожает папу, папа нас, бабушку больш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 думаю, что мама чаще всего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ботает, готовит на кухне, убирается, спит, гуля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цы иногда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дыхают, с нами играют, ругают, работают в гараже, злые, нас радуют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тобы наш папа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ыл добрый, радостный, здоров, не курил, купил что-то, играл со мной, не уезж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ли бы мой брат (сестра)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ня не обижал, играла со мной, помыл посуду, был миллионером, не болел, поскорей вырос(ла), была добре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505080"/>
                <a:gridCol w="2592360"/>
                <a:gridCol w="5688000"/>
              </a:tblGrid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и близкие думают обо мне, что я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орошая, красивая, умный, высокая, добрая, плохой, полный, гуляю после школ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ти, с которыми я играю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не нравятся, мои знакомые, играют со мной, мои друзья, добрые, радую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и друзья меня часто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вещают, зовут гулять, приглашают поиграть, смешат, обзывают, обижаю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ли бы не было школы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ы бы были глупыми, лодырями, не были умными, ничего не знал(а), я бы спал, то грустили б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гда думаю о школе, то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не хочется учиться, становится плохо, что-то вспоминаю, хочу в школу, я счастлива, мурашки по коже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 думаю, что людей больше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м животных, чем думала, камн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 достаточно ловкий, чтобы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бежать, выиграть конкурс, перепрыгнуть, победить, забрать пульт у мамы, поймать мяч, залезть на дере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250920" y="333360"/>
          <a:ext cx="8713800" cy="6191280"/>
        </p:xfrm>
        <a:graphic>
          <a:graphicData uri="http://schemas.openxmlformats.org/drawingml/2006/table">
            <a:tbl>
              <a:tblPr/>
              <a:tblGrid>
                <a:gridCol w="504720"/>
                <a:gridCol w="2448000"/>
                <a:gridCol w="5761080"/>
              </a:tblGrid>
              <a:tr h="103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 самый слабый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английском, в борьбе, в спорте, в классе, в компьютере, в игре, в семь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 хочу, чтобы у меня не было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омяка, проблем, сложностей, музыкальной школы, двоек, вредных привычек, английского, болезн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 весь трясусь, когда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ня ругают, мне холодно, темно, вижу хомяка, захожу в море, меня бью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ли бы все ребята знали, как я боюсь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ноты, высоты, хомяка, сложностей, волка, выражать свое мнение, гадюк, своей сест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ыл бы очень счастлив, если бы я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лся (ась) на 5, была знаменита и богата, играл(а) в игры, экстрасенсом, президентом, уехал в Египет, был умны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да мечтаю 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 собаке, кошке, быть феей, о футболе, о трансформерах, о подарках, о машине, разбогатеть, быть волшебницей, о пап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99"/>
                </a:solidFill>
                <a:uFillTx/>
                <a:latin typeface="Times New Roman"/>
              </a:rPr>
              <a:t>Один великий</a:t>
            </a:r>
            <a:r>
              <a:rPr b="1" lang="ru-RU" sz="4000" spc="-1" strike="noStrike" u="sng">
                <a:solidFill>
                  <a:srgbClr val="000099"/>
                </a:solidFill>
                <a:uFillTx/>
                <a:latin typeface="Times New Roman"/>
              </a:rPr>
              <a:t>	</a:t>
            </a:r>
            <a:r>
              <a:rPr b="1" lang="ru-RU" sz="4000" spc="-1" strike="noStrike" u="sng">
                <a:solidFill>
                  <a:srgbClr val="000099"/>
                </a:solidFill>
                <a:uFillTx/>
                <a:latin typeface="Times New Roman"/>
              </a:rPr>
              <a:t> мудрец сказал: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 «Душа ребенка сродни скрипке: как к ней прикоснешься, </a:t>
            </a:r>
            <a:br>
              <a:rPr sz="4000"/>
            </a:b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так она и зазвучит». </a:t>
            </a:r>
            <a:br>
              <a:rPr sz="4000"/>
            </a:b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Прикоснитесь к ней с любящей и нежной улыбкой. Обнимите покрепче вашего малыша, загляните в его светлые родные глаза и … расскажите </a:t>
            </a:r>
            <a:br>
              <a:rPr sz="4000"/>
            </a:b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очередную сказку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14:53:07Z</dcterms:created>
  <dc:creator>светик</dc:creator>
  <dc:description/>
  <dc:language>en-US</dc:language>
  <cp:lastModifiedBy>User</cp:lastModifiedBy>
  <dcterms:modified xsi:type="dcterms:W3CDTF">2016-10-24T14:28:48Z</dcterms:modified>
  <cp:revision>19</cp:revision>
  <dc:subject/>
  <dc:title>PowerPoint Presentation</dc:title>
</cp:coreProperties>
</file>