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8920" cy="124826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685800" y="4343400"/>
            <a:ext cx="54752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8920" cy="124826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685800" y="4343400"/>
            <a:ext cx="54752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1E47-5DBF-491C-A8E5-879F56DD0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BA53-1B8F-40F1-A647-AA222ABA6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CA3C-13BE-4376-87F6-ABE50AFCA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1174-BE67-4527-83CB-26F915C1A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B61-3EAD-4213-9581-89A854BF7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7AE-FC57-4278-A16C-F6E61DAB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796-46D3-41F2-BFB4-EF0544F8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46F-1B23-4BF1-A0DB-8A855CB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B47-4100-478B-917F-3E9D534D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C84-8C23-4984-8C1B-4535AC2B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A2E-4DA9-4F3C-AD1D-2892A088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B87A-33AE-4927-824F-8F175FBB2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8F2-34B2-4F59-AF8F-5B183CCF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428-6D9E-426F-9681-6E4D538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E9A-5A22-4CC9-9526-A1794789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B0A-BD9C-46C2-80EF-894FAA93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5D1-44ED-43F1-BE26-857527E0C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6B8EC-E0C6-4992-B9C1-E353BFF970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D9CDB-1C96-4A86-AA64-E28BD15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58684-304C-45E3-BAD7-10258BCF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98DAB-0CD5-427D-A873-CD6FA494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A5400-CC8D-47E7-86AD-4A521FDD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3D7D-BCB8-45BD-B81C-6F841353E6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7F072-EE89-4B9D-8949-EB208066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B5394-2D82-431C-964E-EADA4435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4E6D2-5284-49A7-895A-FC7F21F3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61490-7AA6-479D-BE79-ED647BC2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F2D4C-2A62-4AAE-879A-CFEFCE3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44124-CC19-4933-A269-4C11C3EE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60245-7AB2-4012-A64C-B0E36A776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33C8-62D4-4819-82A1-B02AE56E5C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8E6E-93A2-4E51-8736-3A1BEBB979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C3F7-EABD-443E-A6F8-4FFED00C5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E14E-DE49-4CE9-ACFA-FFDCFBB571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6C7B-5763-4887-98DE-FFA99ED21F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194A-679A-4BD6-8404-2084DAAFC7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2AD2-296C-4CD3-A694-6DD126A9C6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0132-3DE4-497D-BB87-C4F2835A70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2636-A1B0-4D82-B84E-515D132FC5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76B3-EFF9-4C5A-9067-F5E36CD8C2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3C1B-94AF-4E43-A631-E9CD50ACE4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1B49-2F2A-4EFA-8375-396911C1D6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1A37-4B87-4065-9FCB-9D3FB160C42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17608-84D1-42DB-AF07-CD47C3CB9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0796-1550-4FC7-BEF5-8FDA43677D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96569-8BA5-4CB0-B1E1-7F2F55A4D33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B1DD1-2CE8-49AD-9E7D-D55E8D8E10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03514-ED71-49DE-876D-2E116B7A72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F88F4-95DA-4055-8F0A-2023F07D2D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3CABB-9328-4C9B-9D27-34E42D3EAC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E600B-771A-4F16-90EE-9EFF0A98752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E5BD3-523C-4F76-96C4-3C94CBE4A8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852E1-20D5-428B-B9F4-C6853BA2847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6AA05-7DD8-47ED-A638-E14C8AFCB8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E0CED-83E9-412C-BE29-30E40F17C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6A6F-3278-4749-AF9B-740285332A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338099-92C3-45A7-808B-3B726C1906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58FDC-0B05-4922-AD91-D9457B25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53EA7-78B1-4162-B702-E69D24E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67CC2-6C2C-4F2F-A7ED-0E6C6C5C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A9700-2183-40AC-BD22-F97473DA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AC2F9-F48E-497E-8328-29CDDCB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4AA40-6CFB-4AE1-B238-92803F96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71775-B4AC-4336-9203-2ADB8B5B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09FCC-8C15-45CE-B17F-C21DA805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68F76-4F64-4CDB-B00A-5DF20D2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1FF4-CCCC-4486-93FA-CE50D0C82D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BF11A-CF7B-45F1-8F44-288A6533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E155F-F474-4666-A2BD-A7AF2480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31420-8E69-40D6-8578-2A30EA27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7127-665F-415B-AED5-1EBC1DFC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05CB-31CA-43BD-95E0-EB04DC63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6CE0E-6320-4882-9FDB-5B1BC7D0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CF8E-5ED0-4564-BF8A-39B8D299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5D00-51D3-40BE-B8DE-C2A44655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0797-A340-42ED-B0FC-342EED80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61A57-4351-4BFD-B49A-A6F800D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022E-DA27-4C5F-A7E4-3C84FC6FFC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2708-E751-4F5E-83DE-8B6721D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D5727-31CC-4605-AB3D-15B59708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E978D-5618-4680-B56F-A435CCE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021A-955C-464C-8F3F-BF6B0ED7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A2AA-0DA2-478E-A7A7-525B6960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AB11-80AB-424B-A6CF-9AD67C4FD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52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F9D01-BEE3-4D06-B9CD-14A9467971D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11D1317-6351-48AD-AF45-FFD877217248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5"/>
          </p:nvPr>
        </p:nvSpPr>
        <p:spPr>
          <a:xfrm>
            <a:off x="7924320" y="635652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BE1B0B1-C609-489C-A2E7-FFD60CC06BD1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153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1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1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 flipV="1" rot="420000">
            <a:off x="798948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59508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45009B1-2D17-4EAB-AD09-A2E54CE26314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207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21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2F724-8F31-4DBF-ADB8-9840EC43A7FE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257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2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26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88B3A-37F9-45DD-BB24-496EB87F9F43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9"/>
          </p:nvPr>
        </p:nvSpPr>
        <p:spPr>
          <a:xfrm>
            <a:off x="456840" y="624636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0"/>
          </p:nvPr>
        </p:nvSpPr>
        <p:spPr>
          <a:xfrm>
            <a:off x="3126960" y="6246360"/>
            <a:ext cx="28861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309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31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3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AC4F712-F5D7-473D-8B95-4C33843961D0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13"/>
          </p:nvPr>
        </p:nvSpPr>
        <p:spPr>
          <a:xfrm>
            <a:off x="3126960" y="6246360"/>
            <a:ext cx="28861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502160" y="2622600"/>
            <a:ext cx="4570560" cy="27478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31640" y="1317600"/>
            <a:ext cx="82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ов подобия к решению задач и доказательству теор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170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727200" y="5472000"/>
            <a:ext cx="6327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математики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хайлова Ю. В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ладатель гранта «Наш Новый учитель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198360" y="2598840"/>
            <a:ext cx="4199040" cy="2801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44360" y="604800"/>
            <a:ext cx="84232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ТЕОРЕМА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Средняя линия треугольника параллельна одной из его сторон и равна половине этой стороны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58920" y="2017800"/>
            <a:ext cx="8137440" cy="4637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7280" y="1655640"/>
            <a:ext cx="8136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абота по учебнику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564, 565 по готовым чертежам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4608360" y="4086360"/>
            <a:ext cx="424836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7920000" y="57240"/>
            <a:ext cx="1133640" cy="1022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032360" y="4200480"/>
            <a:ext cx="4967280" cy="24242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03280" y="576360"/>
            <a:ext cx="6283440" cy="3481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03200" y="431640"/>
            <a:ext cx="715644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ответ ДА — поднимаем руку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 НЕТ — отрицаем голово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у луча есть конц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у луча есть начало и нет  конц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отрезок бесконечен в обе сторо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 отрезка есть два кон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у прямой есть начало и конец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ямая бесконечна в обе сторо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у параллелограмма противоположные стороны параллель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. у прямоугольника все стороны рав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9. медианы треугольника пересекаются в одной точк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60360" y="1440000"/>
            <a:ext cx="822636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58840" indent="-25884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Медианы треугольника пересекаются в одной точке, которая делит каждую медиану в отношении 2:1, считая от вершины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7000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6208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00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144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C78C2-7957-41BB-941A-895FDC2D36EC}" type="slidenum">
              <a:rPr b="0" lang="ru-RU" sz="1200" spc="-1" strike="noStrike">
                <a:solidFill>
                  <a:srgbClr val="42424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31640" y="669960"/>
            <a:ext cx="81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Верно л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87280" y="3959280"/>
            <a:ext cx="4267080" cy="275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6480" y="1511280"/>
            <a:ext cx="9144000" cy="40100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87280" y="1944720"/>
            <a:ext cx="8391600" cy="4448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77720" y="1104840"/>
            <a:ext cx="31226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ahoma"/>
              </a:rPr>
              <a:t>Решите устно: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7280" y="1008000"/>
            <a:ext cx="8136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ефлексия учебной деятельности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Times New Roman"/>
              </a:rPr>
              <a:t>1. Кратко опишите самое важное, что уяснили сегодня на уроке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Times New Roman"/>
              </a:rPr>
              <a:t>2. Пожелание себе с точки зрения изученного на уроке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4608360" y="4086360"/>
            <a:ext cx="424836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7920000" y="57240"/>
            <a:ext cx="1133640" cy="1022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7642080" y="58680"/>
            <a:ext cx="1501920" cy="1354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709560" y="720720"/>
            <a:ext cx="7715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64 №566, 568 (б), 569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ь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Как связаны понятия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800000"/>
                </a:solidFill>
                <a:latin typeface="Times New Roman"/>
              </a:rPr>
              <a:t>центр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800000"/>
                </a:solidFill>
                <a:latin typeface="Times New Roman"/>
              </a:rPr>
              <a:t>тяжести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3800" spc="-1" strike="noStrike">
                <a:solidFill>
                  <a:srgbClr val="000099"/>
                </a:solidFill>
                <a:latin typeface="Times New Roman"/>
              </a:rPr>
              <a:t>точка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000099"/>
                </a:solidFill>
                <a:latin typeface="Times New Roman"/>
              </a:rPr>
              <a:t>пересечения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000099"/>
                </a:solidFill>
                <a:latin typeface="Times New Roman"/>
              </a:rPr>
              <a:t>медиан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000099"/>
                </a:solidFill>
                <a:latin typeface="Times New Roman"/>
              </a:rPr>
              <a:t>треугольника</a:t>
            </a:r>
            <a:r>
              <a:rPr b="1" lang="ru-RU" sz="38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44440" y="1106640"/>
            <a:ext cx="854064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Геометрия, 7-9 классы: учебник для общеобразовательных организаций»/ Л.С.Атанасян, В.Ф. Бутузов, С.Б. Кадомцев и др.-М.: Просвещение, 201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Дидактические материалы по геометрии: 8 класс: к учебнику Л.С. Атанасяна и др. «Геометрия. 7-9 классы» / Н.Б. Мельникова, Г.А. Захарова. - М.: Издательство «Экзамен», 2013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Задачи к урокам геометрии.7-11 классы» / Б.Г. Зив. - Спб.: Интерлайн, 199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16000" y="1676520"/>
            <a:ext cx="89805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500" spc="-1" strike="noStrike">
                <a:solidFill>
                  <a:srgbClr val="000066"/>
                </a:solidFill>
                <a:latin typeface="Times New Roman"/>
              </a:rPr>
              <a:t>«Дорогу осилит идущий,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500" spc="-1" strike="noStrike">
                <a:solidFill>
                  <a:srgbClr val="000066"/>
                </a:solidFill>
                <a:latin typeface="Times New Roman"/>
              </a:rPr>
              <a:t>математику - мыслящий »</a:t>
            </a:r>
            <a:r>
              <a:rPr b="0" i="1" lang="ru-RU" sz="4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734240" y="144360"/>
            <a:ext cx="1338480" cy="12081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2376360" y="3600360"/>
            <a:ext cx="4179960" cy="2735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676520"/>
            <a:ext cx="89805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734240" y="144360"/>
            <a:ext cx="1338480" cy="12081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16000" y="1655640"/>
            <a:ext cx="8562960" cy="5040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47640" y="896760"/>
            <a:ext cx="5862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ahoma"/>
              </a:rPr>
              <a:t>Решение задачи по готовому чертежу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16000" y="1676520"/>
            <a:ext cx="89805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7734240" y="144360"/>
            <a:ext cx="1338480" cy="1208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01760" y="1041480"/>
            <a:ext cx="5862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ahoma"/>
              </a:rPr>
              <a:t>Решение задачи по готовому чертежу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11160" y="1881360"/>
            <a:ext cx="9061560" cy="3765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16000" y="1676520"/>
            <a:ext cx="89805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7734240" y="144360"/>
            <a:ext cx="1338480" cy="1208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71280" y="1079640"/>
            <a:ext cx="771048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500" spc="-1" strike="noStrike">
                <a:solidFill>
                  <a:srgbClr val="330099"/>
                </a:solidFill>
                <a:latin typeface="Tahoma"/>
              </a:rPr>
              <a:t>Задания для групп: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1. Расшифровка слова путем решения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геометрических задач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2. Теоретический кроссворд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3. «Теорема-пазл» по признакам подобия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треугольников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332320" y="2879640"/>
            <a:ext cx="3780000" cy="1944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14200" y="725400"/>
            <a:ext cx="8855280" cy="5970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213080" y="1271520"/>
            <a:ext cx="4930920" cy="3151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38200" y="360360"/>
            <a:ext cx="48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оссворд по термина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7989840" y="0"/>
            <a:ext cx="1197000" cy="1079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1160" y="4464000"/>
            <a:ext cx="89884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Два треугольника с соответственно равными угл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пропорциональными сторонами?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Какой древнегреческий математик изображен 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исунке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Сторона прямоугольного треугольник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жащая против прямого угла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. Утверждение, не требующее доказательств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036800"/>
            <a:ext cx="42130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 горизонтали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ереводе с греческого означа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размерность, пропорциона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ей»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Луч, исходящий из верши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гла и делящий его на две равны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и - … угла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Равенство двух математичес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шений?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резок, соединяющий вершин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угольника с середи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тивоположной стороны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6335640" y="4751280"/>
            <a:ext cx="1368360" cy="1925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297000"/>
            <a:ext cx="850896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Средняя линия треуголь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Constantia"/>
              </a:rPr>
              <a:t>Отрезок, соединяющий серед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Constantia"/>
              </a:rPr>
              <a:t>Двух сторон треуголь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7FFD8-F4E6-4C47-9917-92902323D73E}" type="slidenum">
              <a:rPr b="0" lang="ru-RU" sz="1200" spc="-1" strike="noStrike">
                <a:solidFill>
                  <a:srgbClr val="42424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7886880" y="189000"/>
            <a:ext cx="1179360" cy="10634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216000" y="2160720"/>
            <a:ext cx="8238960" cy="4429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60360" y="1952640"/>
            <a:ext cx="8226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58840" indent="-258840" algn="ctr">
              <a:lnSpc>
                <a:spcPct val="100000"/>
              </a:lnSpc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сследуйте, какими свойствами обладает средняя линия треугольника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7000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6208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00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144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34E3E-6812-4FED-BCC8-822194ED77D2}" type="slidenum">
              <a:rPr b="0" lang="ru-RU" sz="1200" spc="-1" strike="noStrike">
                <a:solidFill>
                  <a:srgbClr val="42424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431640" y="936720"/>
            <a:ext cx="81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Творческое задание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/>
  <cp:lastPrinted>2017-03-13T22:12:07Z</cp:lastPrinted>
  <dcterms:modified xsi:type="dcterms:W3CDTF">2017-03-13T22:13:02Z</dcterms:modified>
  <cp:revision>322</cp:revision>
  <dc:subject/>
  <dc:title>PowerPoint Presentation</dc:title>
</cp:coreProperties>
</file>