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5680" cy="124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ln w="0">
            <a:noFill/>
          </a:ln>
        </p:spPr>
      </p:sp>
      <p:sp>
        <p:nvSpPr>
          <p:cNvPr id="447" name=""/>
          <p:cNvSpPr/>
          <p:nvPr/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8280" cy="12492000"/>
          </a:xfrm>
          <a:prstGeom prst="rect">
            <a:avLst/>
          </a:prstGeom>
          <a:ln w="0">
            <a:noFill/>
          </a:ln>
        </p:spPr>
      </p:sp>
      <p:sp>
        <p:nvSpPr>
          <p:cNvPr id="449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ln w="0">
            <a:noFill/>
          </a:ln>
        </p:spPr>
      </p:sp>
      <p:sp>
        <p:nvSpPr>
          <p:cNvPr id="451" name=""/>
          <p:cNvSpPr/>
          <p:nvPr/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8920" cy="12482640"/>
          </a:xfrm>
          <a:prstGeom prst="rect">
            <a:avLst/>
          </a:prstGeom>
          <a:ln w="0">
            <a:noFill/>
          </a:ln>
        </p:spPr>
      </p:sp>
      <p:sp>
        <p:nvSpPr>
          <p:cNvPr id="455" name=""/>
          <p:cNvSpPr/>
          <p:nvPr/>
        </p:nvSpPr>
        <p:spPr>
          <a:xfrm>
            <a:off x="685800" y="4343400"/>
            <a:ext cx="54752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8920" cy="12482640"/>
          </a:xfrm>
          <a:prstGeom prst="rect">
            <a:avLst/>
          </a:prstGeom>
          <a:ln w="0">
            <a:noFill/>
          </a:ln>
        </p:spPr>
      </p:sp>
      <p:sp>
        <p:nvSpPr>
          <p:cNvPr id="457" name=""/>
          <p:cNvSpPr/>
          <p:nvPr/>
        </p:nvSpPr>
        <p:spPr>
          <a:xfrm>
            <a:off x="685800" y="4343400"/>
            <a:ext cx="54752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8280" cy="12492000"/>
          </a:xfrm>
          <a:prstGeom prst="rect">
            <a:avLst/>
          </a:prstGeom>
          <a:ln w="0">
            <a:noFill/>
          </a:ln>
        </p:spPr>
      </p:sp>
      <p:sp>
        <p:nvSpPr>
          <p:cNvPr id="459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ln w="0">
            <a:noFill/>
          </a:ln>
        </p:spPr>
      </p:sp>
      <p:sp>
        <p:nvSpPr>
          <p:cNvPr id="463" name=""/>
          <p:cNvSpPr/>
          <p:nvPr/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8280" cy="12492000"/>
          </a:xfrm>
          <a:prstGeom prst="rect">
            <a:avLst/>
          </a:prstGeom>
          <a:ln w="0">
            <a:noFill/>
          </a:ln>
        </p:spPr>
      </p:sp>
      <p:sp>
        <p:nvSpPr>
          <p:cNvPr id="431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8280" cy="12492000"/>
          </a:xfrm>
          <a:prstGeom prst="rect">
            <a:avLst/>
          </a:prstGeom>
          <a:ln w="0">
            <a:noFill/>
          </a:ln>
        </p:spPr>
      </p:sp>
      <p:sp>
        <p:nvSpPr>
          <p:cNvPr id="433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8280" cy="12492000"/>
          </a:xfrm>
          <a:prstGeom prst="rect">
            <a:avLst/>
          </a:prstGeom>
          <a:ln w="0">
            <a:noFill/>
          </a:ln>
        </p:spPr>
      </p:sp>
      <p:sp>
        <p:nvSpPr>
          <p:cNvPr id="435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8280" cy="12492000"/>
          </a:xfrm>
          <a:prstGeom prst="rect">
            <a:avLst/>
          </a:prstGeom>
          <a:ln w="0">
            <a:noFill/>
          </a:ln>
        </p:spPr>
      </p:sp>
      <p:sp>
        <p:nvSpPr>
          <p:cNvPr id="437" name=""/>
          <p:cNvSpPr/>
          <p:nvPr/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0360" cy="12484080"/>
          </a:xfrm>
          <a:prstGeom prst="rect">
            <a:avLst/>
          </a:prstGeom>
          <a:ln w="0">
            <a:noFill/>
          </a:ln>
        </p:spPr>
      </p:sp>
      <p:sp>
        <p:nvSpPr>
          <p:cNvPr id="439" name=""/>
          <p:cNvSpPr/>
          <p:nvPr/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62EF-C522-442A-BE1E-9842B5CF2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06E96-3DED-44A2-86BE-CB70FEDBD5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8BDB1-8045-472E-A630-3E7E75AD6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46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236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46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236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D2FEC-2A1E-42E6-AFD7-2EB60C707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B279-2B51-4BB3-BE25-E440EBDEDF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3BF-786F-4B87-8FA2-AA755223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7DAA-A011-456C-8F6C-9422AFF2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B786-8E14-459D-B508-B45F15B0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EFF-1088-4474-A905-3EBEA551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075F-1C6A-4F9E-B5E8-E99A2E5B5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325B-EB3F-4CF2-A73B-96D615C5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3AD00-D7D3-4C6A-8B59-7C23BDB73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4BB7-E1C4-41FB-8108-24D55299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2D5-F97F-4742-8747-2657599F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238C-EF97-42F6-9C95-46F183EB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F84D-4862-428A-ADDA-C43F0BBE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46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236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46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236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56B-909E-4023-BE7F-3ABF054A72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4156C-9039-4A5E-AF9E-D14D207D4B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AB545-2212-43C3-AE1A-47CCB802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934E0-3B4F-4E1F-B8E9-94CB8C58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5A4B2-891F-4F82-8D21-43599574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D673F-26BA-4DBD-BC18-8D8A320A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C291-57CA-4831-AB87-4DC9D977B2A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6F55D-EB9E-44D0-8BF5-E5C234FE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6B4C3-0128-4AE7-B58E-91ACEB66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D3022-8C1B-4CF3-8076-7A8CA19C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0F90C-FC4C-4B8C-965A-D55CA5E5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343A8-F2ED-4DDC-913F-2ED7790B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A197B1-61AC-4B52-9E03-C3447F1B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46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1236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46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1236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EE5A7-FD26-44CF-A6D6-00B9A3AABF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77B4-5A15-441B-9159-7463F382F2A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0129-1993-4E6C-B801-2DD524A9E9B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7EC0-3473-4C07-AF5F-90126ACB8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1E7A-FC96-42F1-BE9C-EF715204D2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B256-CAC9-45E1-8684-748A028C4BE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CE7C6-0667-46F7-8B7F-A8E875056B3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025F-68A2-4A12-AA4A-C97B4305F3C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B88D-0374-4E4C-9835-9D5654D9269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DC2A-B5B3-42D1-9E03-2A421C5429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EF76-8901-47F2-B994-DD1AFA6DAF8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75959-0459-4058-83AB-6E5E40A6F2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8FBF-0D34-424C-A223-706732136D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46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1236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46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1236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4027-98BA-4225-AAED-EF5B2B82FB5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B76C02-3A3C-4239-8D2A-52F4C8539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DC816-A1AF-4843-9B94-9335FE04419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5F0E85-B8FC-4DD8-A191-7B343351333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C1D561-098B-4F10-BA3E-E08C3F7BD2C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75795A-E473-4B04-9263-8A680CD06F7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117B93-DA5C-44C0-BE97-DF3A0DFB09E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DEFB85-65BB-4C02-8C0B-E3DF4E1CA7A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FA9EF9-072D-47CF-93AC-120DE0DCFFF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FB2887-AEA4-4CAA-93EC-5B0B19490E1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5452A3-7F41-4C8B-A25F-49514E1BB43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86D7D3-7054-4E6B-B745-A989A4F5E97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0B2E51-CB5F-4CBF-B56E-4722EDB211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351C9-44FB-4138-A7C2-394245C4C74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46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1236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46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1236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9246C9-E6DA-4D9C-89B2-5B6C8A9D1D6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E7EF6-DE81-4236-B163-E0809314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D470E-A76B-4167-A976-0A21B57E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64835-79BB-4B1D-9D27-79782C51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96D261-05D7-4EB1-86A3-15894D80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11DF7A-731B-4607-A9D0-DE88D89F9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1EF78-DE10-4131-95EA-1D537BEA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0DFC1-937E-49E0-8ED7-189D09F5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DB37A-F9D6-4142-8634-E18CB1CB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10F36-9557-4A71-87C8-8A24F9AB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3210-552E-40DB-B7B7-B1EEB786741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DD9B7-B8A6-4AB3-B541-EAF0D8EB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F41C89-73BD-4541-948D-2ACF4939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46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1236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46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1236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29426-BC25-428D-BF8F-347C476C8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C130E-BBF1-4B94-BBF2-4ADAD59E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6E40E-E871-42B4-BA8C-33CAA60E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6B605-BDE1-45EA-9E19-CC6FDF84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1F92F-FE5B-4521-9255-AD3D82FB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45FCE-172D-452B-BBA1-AC78FADB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1520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951E3-1166-48ED-9DA4-0B674FF1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AB591-91F5-4A91-A481-94D35D6B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4D8E7-B14B-4E1E-8D12-2F713D1B561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D691B-A981-4BC7-8127-DD3D8677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734CF-AC79-4263-9EFC-17CD0C14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71CF0-1A14-4CD1-9745-12CA0BDC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67040" y="422064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D1B89-7735-4006-895F-E4285557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460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12360" y="193500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460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12360" y="4220640"/>
            <a:ext cx="264492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69D1D-98AB-4983-A1D9-960D2141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040" y="1935000"/>
            <a:ext cx="400896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0640"/>
            <a:ext cx="8215200" cy="208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32961-8B09-4D39-B82A-4A7F2B228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54117"/>
                </a:srgbClr>
              </a:gs>
              <a:gs pos="100000">
                <a:srgbClr val="ff4a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54117"/>
                </a:srgbClr>
              </a:gs>
              <a:gs pos="100000">
                <a:srgbClr val="e10004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924320" y="6356520"/>
            <a:ext cx="7477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36E51-8D55-4DBB-A3C3-FBFBD370184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66320" cy="633600"/>
            <a:chOff x="-19080" y="203040"/>
            <a:chExt cx="9166320" cy="6336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42560" cy="633600"/>
              <a:chOff x="-19080" y="203040"/>
              <a:chExt cx="9142560" cy="6336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2024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66320" cy="547560"/>
              <a:chOff x="-19080" y="247680"/>
              <a:chExt cx="9166320" cy="5475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048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54117"/>
                </a:srgbClr>
              </a:gs>
              <a:gs pos="100000">
                <a:srgbClr val="ff4a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54117"/>
                </a:srgbClr>
              </a:gs>
              <a:gs pos="100000">
                <a:srgbClr val="e10004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66320" cy="633600"/>
            <a:chOff x="-19080" y="203040"/>
            <a:chExt cx="9166320" cy="63360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42560" cy="633600"/>
              <a:chOff x="-19080" y="203040"/>
              <a:chExt cx="9142560" cy="63360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2024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66320" cy="547560"/>
              <a:chOff x="-19080" y="247680"/>
              <a:chExt cx="9166320" cy="547560"/>
            </a:xfrm>
          </p:grpSpPr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048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477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6159055-84FD-4129-97DA-41763C7D2FDC}" type="slidenum">
              <a: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54117"/>
                </a:srgbClr>
              </a:gs>
              <a:gs pos="100000">
                <a:srgbClr val="ff4a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54117"/>
                </a:srgbClr>
              </a:gs>
              <a:gs pos="100000">
                <a:srgbClr val="e10004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9080" y="203040"/>
            <a:ext cx="9166320" cy="633600"/>
            <a:chOff x="-19080" y="203040"/>
            <a:chExt cx="9166320" cy="633600"/>
          </a:xfrm>
        </p:grpSpPr>
        <p:grpSp>
          <p:nvGrpSpPr>
            <p:cNvPr id="103" name=""/>
            <p:cNvGrpSpPr/>
            <p:nvPr/>
          </p:nvGrpSpPr>
          <p:grpSpPr>
            <a:xfrm>
              <a:off x="-19080" y="203040"/>
              <a:ext cx="9142560" cy="633600"/>
              <a:chOff x="-19080" y="203040"/>
              <a:chExt cx="9142560" cy="633600"/>
            </a:xfrm>
          </p:grpSpPr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2024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19080" y="247680"/>
              <a:ext cx="9166320" cy="547560"/>
              <a:chOff x="-19080" y="247680"/>
              <a:chExt cx="9166320" cy="547560"/>
            </a:xfrm>
          </p:grpSpPr>
          <p:pic>
            <p:nvPicPr>
              <p:cNvPr id="1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048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5"/>
          </p:nvPr>
        </p:nvSpPr>
        <p:spPr>
          <a:xfrm>
            <a:off x="7924320" y="6356520"/>
            <a:ext cx="7477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17BCD242-7714-4719-9E58-C9D2B7119BBA}" type="slidenum">
              <a: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54117"/>
                </a:srgbClr>
              </a:gs>
              <a:gs pos="100000">
                <a:srgbClr val="ff4a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54117"/>
                </a:srgbClr>
              </a:gs>
              <a:gs pos="100000">
                <a:srgbClr val="e10004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-19080" y="203040"/>
            <a:ext cx="9166320" cy="633600"/>
            <a:chOff x="-19080" y="203040"/>
            <a:chExt cx="9166320" cy="633600"/>
          </a:xfrm>
        </p:grpSpPr>
        <p:grpSp>
          <p:nvGrpSpPr>
            <p:cNvPr id="153" name=""/>
            <p:cNvGrpSpPr/>
            <p:nvPr/>
          </p:nvGrpSpPr>
          <p:grpSpPr>
            <a:xfrm>
              <a:off x="-19080" y="203040"/>
              <a:ext cx="9142560" cy="633600"/>
              <a:chOff x="-19080" y="203040"/>
              <a:chExt cx="9142560" cy="633600"/>
            </a:xfrm>
          </p:grpSpPr>
          <p:pic>
            <p:nvPicPr>
              <p:cNvPr id="1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2024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-19080" y="247680"/>
              <a:ext cx="9166320" cy="547560"/>
              <a:chOff x="-19080" y="247680"/>
              <a:chExt cx="9166320" cy="547560"/>
            </a:xfrm>
          </p:grpSpPr>
          <p:pic>
            <p:nvPicPr>
              <p:cNvPr id="1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048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 flipV="1" rot="420000">
            <a:off x="7989480" y="5358960"/>
            <a:ext cx="155520" cy="155520"/>
          </a:xfrm>
          <a:prstGeom prst="rtTriangle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54117"/>
                </a:srgbClr>
              </a:gs>
              <a:gs pos="100000">
                <a:srgbClr val="ff4a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54117"/>
                </a:srgbClr>
              </a:gs>
              <a:gs pos="100000">
                <a:srgbClr val="e10004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59508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C6CE5FE-9077-4357-A4AA-DB5790B8FC79}" type="slidenum">
              <a: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54117"/>
                </a:srgbClr>
              </a:gs>
              <a:gs pos="100000">
                <a:srgbClr val="ff4a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54117"/>
                </a:srgbClr>
              </a:gs>
              <a:gs pos="100000">
                <a:srgbClr val="e10004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-19080" y="203040"/>
            <a:ext cx="9166320" cy="633600"/>
            <a:chOff x="-19080" y="203040"/>
            <a:chExt cx="9166320" cy="633600"/>
          </a:xfrm>
        </p:grpSpPr>
        <p:grpSp>
          <p:nvGrpSpPr>
            <p:cNvPr id="207" name=""/>
            <p:cNvGrpSpPr/>
            <p:nvPr/>
          </p:nvGrpSpPr>
          <p:grpSpPr>
            <a:xfrm>
              <a:off x="-19080" y="203040"/>
              <a:ext cx="9142560" cy="633600"/>
              <a:chOff x="-19080" y="203040"/>
              <a:chExt cx="9142560" cy="6336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2024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-19080" y="247680"/>
              <a:ext cx="9166320" cy="547560"/>
              <a:chOff x="-19080" y="247680"/>
              <a:chExt cx="9166320" cy="547560"/>
            </a:xfrm>
          </p:grpSpPr>
          <p:pic>
            <p:nvPicPr>
              <p:cNvPr id="21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048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707FA-6B5F-4E7A-B5C1-B316AC90EFE8}" type="slidenum">
              <a: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54117"/>
                </a:srgbClr>
              </a:gs>
              <a:gs pos="100000">
                <a:srgbClr val="ff4a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54117"/>
                </a:srgbClr>
              </a:gs>
              <a:gs pos="100000">
                <a:srgbClr val="e10004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-19080" y="203040"/>
            <a:ext cx="9166320" cy="633600"/>
            <a:chOff x="-19080" y="203040"/>
            <a:chExt cx="9166320" cy="633600"/>
          </a:xfrm>
        </p:grpSpPr>
        <p:grpSp>
          <p:nvGrpSpPr>
            <p:cNvPr id="257" name=""/>
            <p:cNvGrpSpPr/>
            <p:nvPr/>
          </p:nvGrpSpPr>
          <p:grpSpPr>
            <a:xfrm>
              <a:off x="-19080" y="203040"/>
              <a:ext cx="9142560" cy="633600"/>
              <a:chOff x="-19080" y="203040"/>
              <a:chExt cx="9142560" cy="633600"/>
            </a:xfrm>
          </p:grpSpPr>
          <p:pic>
            <p:nvPicPr>
              <p:cNvPr id="2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2024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-19080" y="247680"/>
              <a:ext cx="9166320" cy="547560"/>
              <a:chOff x="-19080" y="247680"/>
              <a:chExt cx="9166320" cy="547560"/>
            </a:xfrm>
          </p:grpSpPr>
          <p:pic>
            <p:nvPicPr>
              <p:cNvPr id="26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048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19320" cy="46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9C534-B236-4B21-8462-C2128D339AA7}" type="slidenum">
              <a: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dt" idx="9"/>
          </p:nvPr>
        </p:nvSpPr>
        <p:spPr>
          <a:xfrm>
            <a:off x="456840" y="624636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0"/>
          </p:nvPr>
        </p:nvSpPr>
        <p:spPr>
          <a:xfrm>
            <a:off x="3126960" y="6246360"/>
            <a:ext cx="28861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e060e">
                  <a:alpha val="54117"/>
                </a:srgbClr>
              </a:gs>
              <a:gs pos="100000">
                <a:srgbClr val="ff4a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4000">
                  <a:alpha val="54117"/>
                </a:srgbClr>
              </a:gs>
              <a:gs pos="100000">
                <a:srgbClr val="e10004">
                  <a:alpha val="3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-19080" y="203040"/>
            <a:ext cx="9166320" cy="633600"/>
            <a:chOff x="-19080" y="203040"/>
            <a:chExt cx="9166320" cy="633600"/>
          </a:xfrm>
        </p:grpSpPr>
        <p:grpSp>
          <p:nvGrpSpPr>
            <p:cNvPr id="309" name=""/>
            <p:cNvGrpSpPr/>
            <p:nvPr/>
          </p:nvGrpSpPr>
          <p:grpSpPr>
            <a:xfrm>
              <a:off x="-19080" y="203040"/>
              <a:ext cx="9142560" cy="633600"/>
              <a:chOff x="-19080" y="203040"/>
              <a:chExt cx="9142560" cy="633600"/>
            </a:xfrm>
          </p:grpSpPr>
          <p:pic>
            <p:nvPicPr>
              <p:cNvPr id="31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20240" cy="63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-19080" y="247680"/>
              <a:ext cx="9166320" cy="547560"/>
              <a:chOff x="-19080" y="247680"/>
              <a:chExt cx="9166320" cy="547560"/>
            </a:xfrm>
          </p:grpSpPr>
          <p:pic>
            <p:nvPicPr>
              <p:cNvPr id="31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048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935000"/>
            <a:ext cx="8215200" cy="437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193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47720" cy="3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72C58E5-CD54-48D5-9402-A8969FA4F692}" type="slidenum">
              <a:rPr b="0" lang="ru-RU" sz="1200" spc="-1" strike="noStrike">
                <a:solidFill>
                  <a:srgbClr val="424242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13"/>
          </p:nvPr>
        </p:nvSpPr>
        <p:spPr>
          <a:xfrm>
            <a:off x="3126960" y="6246360"/>
            <a:ext cx="2886120" cy="4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502160" y="2622600"/>
            <a:ext cx="4570560" cy="27478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431640" y="1317600"/>
            <a:ext cx="82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ов подобия к решению задач и доказательству теоре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3"/>
          <a:stretch/>
        </p:blipFill>
        <p:spPr>
          <a:xfrm>
            <a:off x="7848720" y="0"/>
            <a:ext cx="1295280" cy="117000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727200" y="5472000"/>
            <a:ext cx="6327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читель математики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ихайлова Ю. В.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ладатель гранта «Наш Новый учитель»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198360" y="2598840"/>
            <a:ext cx="4199040" cy="28018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44360" y="604800"/>
            <a:ext cx="84232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ТЕОРЕМА</a:t>
            </a: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Средняя линия треугольника параллельна одной из его сторон и равна половине этой стороны.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358920" y="2017800"/>
            <a:ext cx="8137440" cy="46371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87280" y="1655640"/>
            <a:ext cx="8136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Работа по учебнику: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564, 565 по готовым чертежам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4608360" y="4086360"/>
            <a:ext cx="424836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7920000" y="57240"/>
            <a:ext cx="1133640" cy="10224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4032360" y="4200480"/>
            <a:ext cx="4967280" cy="24242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503280" y="576360"/>
            <a:ext cx="6283440" cy="34812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403200" y="431640"/>
            <a:ext cx="715644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ответ ДА — поднимаем руку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вет НЕТ — отрицаем голово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у луча есть конц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у луча есть начало и нет  конца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отрезок бесконечен в обе сторон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у отрезка есть два конц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 у прямой есть начало и конец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 прямая бесконечна в обе сторон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у параллелограмма противоположные стороны параллельн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. у прямоугольника все стороны равн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9. медианы треугольника пересекаются в одной точк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2"/>
          <a:stretch/>
        </p:blipFill>
        <p:spPr>
          <a:xfrm>
            <a:off x="7547040" y="0"/>
            <a:ext cx="1596960" cy="1440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60360" y="1440000"/>
            <a:ext cx="8226360" cy="58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58840" indent="-258840"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Медианы треугольника пересекаются в одной точке, которая делит каждую медиану в отношении 2:1, считая от вершины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70000" indent="-258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62080" indent="-258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0000" indent="-258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1440" indent="-258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AF7CF-4C4B-4CDB-95D4-777E6630BB94}" type="slidenum">
              <a:rPr b="0" lang="ru-RU" sz="1200" spc="-1" strike="noStrike">
                <a:solidFill>
                  <a:srgbClr val="42424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"/>
          <p:cNvSpPr/>
          <p:nvPr/>
        </p:nvSpPr>
        <p:spPr>
          <a:xfrm>
            <a:off x="431640" y="669960"/>
            <a:ext cx="813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Верно ли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7547040" y="0"/>
            <a:ext cx="1596960" cy="144000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287280" y="3959280"/>
            <a:ext cx="4267080" cy="2752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6480" y="1511280"/>
            <a:ext cx="9144000" cy="40100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7547040" y="0"/>
            <a:ext cx="1596960" cy="1440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7547040" y="0"/>
            <a:ext cx="1596960" cy="14400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"/>
          <a:stretch/>
        </p:blipFill>
        <p:spPr>
          <a:xfrm>
            <a:off x="287280" y="1944720"/>
            <a:ext cx="8391600" cy="44481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477720" y="1104840"/>
            <a:ext cx="31226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500" spc="-1" strike="noStrike">
                <a:solidFill>
                  <a:srgbClr val="000000"/>
                </a:solidFill>
                <a:latin typeface="Tahoma"/>
              </a:rPr>
              <a:t>Решите устно: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7280" y="1008000"/>
            <a:ext cx="8136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Рефлексия учебной деятельности: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Times New Roman"/>
              </a:rPr>
              <a:t>1. Кратко опишите самое важное, что уяснили сегодня на уроке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800" spc="-1" strike="noStrike">
                <a:solidFill>
                  <a:srgbClr val="000000"/>
                </a:solidFill>
                <a:latin typeface="Times New Roman"/>
              </a:rPr>
              <a:t>2. Пожелание себе с точки зрения изученного на уроке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>
            <a:off x="4608360" y="4086360"/>
            <a:ext cx="424836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tretch/>
        </p:blipFill>
        <p:spPr>
          <a:xfrm>
            <a:off x="7920000" y="57240"/>
            <a:ext cx="1133640" cy="10224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7642080" y="58680"/>
            <a:ext cx="1501920" cy="13543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709560" y="720720"/>
            <a:ext cx="7715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64 №566, 568 (б), 569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ь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</a:t>
            </a:r>
            <a:r>
              <a:rPr b="1" i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Как связаны понятия: 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800" spc="-1" strike="noStrike">
                <a:solidFill>
                  <a:srgbClr val="800000"/>
                </a:solidFill>
                <a:latin typeface="Times New Roman"/>
              </a:rPr>
              <a:t>центр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800" spc="-1" strike="noStrike">
                <a:solidFill>
                  <a:srgbClr val="800000"/>
                </a:solidFill>
                <a:latin typeface="Times New Roman"/>
              </a:rPr>
              <a:t>тяжести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3800" spc="-1" strike="noStrike">
                <a:solidFill>
                  <a:srgbClr val="000099"/>
                </a:solidFill>
                <a:latin typeface="Times New Roman"/>
              </a:rPr>
              <a:t>точка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800" spc="-1" strike="noStrike">
                <a:solidFill>
                  <a:srgbClr val="000099"/>
                </a:solidFill>
                <a:latin typeface="Times New Roman"/>
              </a:rPr>
              <a:t>пересечения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800" spc="-1" strike="noStrike">
                <a:solidFill>
                  <a:srgbClr val="000099"/>
                </a:solidFill>
                <a:latin typeface="Times New Roman"/>
              </a:rPr>
              <a:t>медиан</a:t>
            </a:r>
            <a:r>
              <a:rPr b="1" lang="ru-RU" sz="3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800" spc="-1" strike="noStrike">
                <a:solidFill>
                  <a:srgbClr val="000099"/>
                </a:solidFill>
                <a:latin typeface="Times New Roman"/>
              </a:rPr>
              <a:t>треугольника</a:t>
            </a:r>
            <a:r>
              <a:rPr b="1" lang="ru-RU" sz="38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44440" y="1106640"/>
            <a:ext cx="854064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тератур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«Геометрия, 7-9 классы: учебник для общеобразовательных организаций»/ Л.С.Атанасян, В.Ф. Бутузов, С.Б. Кадомцев и др.-М.: Просвещение, 201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«Дидактические материалы по геометрии: 8 класс: к учебнику Л.С. Атанасяна и др. «Геометрия. 7-9 классы» / Н.Б. Мельникова, Г.А. Захарова. - М.: Издательство «Экзамен», 2013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«Задачи к урокам геометрии.7-11 классы» / Б.Г. Зив. - Спб.: Интерлайн, 1998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16000" y="1676520"/>
            <a:ext cx="898056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500" spc="-1" strike="noStrike">
                <a:solidFill>
                  <a:srgbClr val="000066"/>
                </a:solidFill>
                <a:latin typeface="Times New Roman"/>
              </a:rPr>
              <a:t>«Дорогу осилит идущий, 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500" spc="-1" strike="noStrike">
                <a:solidFill>
                  <a:srgbClr val="000066"/>
                </a:solidFill>
                <a:latin typeface="Times New Roman"/>
              </a:rPr>
              <a:t>математику - мыслящий »</a:t>
            </a:r>
            <a:r>
              <a:rPr b="0" i="1" lang="ru-RU" sz="4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7734240" y="144360"/>
            <a:ext cx="1338480" cy="120816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3"/>
          <a:stretch/>
        </p:blipFill>
        <p:spPr>
          <a:xfrm>
            <a:off x="2376360" y="3600360"/>
            <a:ext cx="4179960" cy="27352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676520"/>
            <a:ext cx="898056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7734240" y="144360"/>
            <a:ext cx="1338480" cy="12081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3"/>
          <a:stretch/>
        </p:blipFill>
        <p:spPr>
          <a:xfrm>
            <a:off x="216000" y="1655640"/>
            <a:ext cx="8562960" cy="50403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47640" y="896760"/>
            <a:ext cx="586260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ahoma"/>
              </a:rPr>
              <a:t>Решение задачи по готовому чертежу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0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216000" y="1676520"/>
            <a:ext cx="898056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7734240" y="144360"/>
            <a:ext cx="1338480" cy="120816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401760" y="1041480"/>
            <a:ext cx="5862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ahoma"/>
              </a:rPr>
              <a:t>Решение задачи по готовому чертежу: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11160" y="1881360"/>
            <a:ext cx="9061560" cy="37652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0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16000" y="1676520"/>
            <a:ext cx="8980560" cy="64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7734240" y="144360"/>
            <a:ext cx="1338480" cy="12081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71280" y="1079640"/>
            <a:ext cx="7710480" cy="51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500" spc="-1" strike="noStrike">
                <a:solidFill>
                  <a:srgbClr val="330099"/>
                </a:solidFill>
                <a:latin typeface="Tahoma"/>
              </a:rPr>
              <a:t>Задания для групп:</a:t>
            </a:r>
            <a:endParaRPr b="0" lang="en-US" sz="3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1. Расшифровка слова путем решения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геометрических задач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2. Теоретический кроссворд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3. «Теорема-пазл» по признакам подобия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Tahoma"/>
              </a:rPr>
              <a:t>треугольников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5332320" y="2879640"/>
            <a:ext cx="3780000" cy="19447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dur="indefinite" fill="hold">
                      <p:stCondLst>
                        <p:cond delay="0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14200" y="725400"/>
            <a:ext cx="8855280" cy="59706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4213080" y="1271520"/>
            <a:ext cx="4930920" cy="3151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538200" y="360360"/>
            <a:ext cx="48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россворд по термина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7989840" y="0"/>
            <a:ext cx="1197000" cy="10796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11160" y="4464000"/>
            <a:ext cx="89884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 Два треугольника с соответственно равными углам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пропорциональными сторонами?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 Какой древнегреческий математик изображен 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исунке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Сторона прямоугольного треугольника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ежащая против прямого угла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. Утверждение, не требующее доказательства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1036800"/>
            <a:ext cx="42130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По горизонтали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переводе с греческого означа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соразмерность, пропорциональнос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астей»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. Луч, исходящий из верши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гла и делящий его на две равные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асти - … угла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Равенство двух математически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шений?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резок, соединяющий вершин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еугольника с серединой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тивоположной стороны 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4"/>
          <a:stretch/>
        </p:blipFill>
        <p:spPr>
          <a:xfrm>
            <a:off x="6335640" y="4751280"/>
            <a:ext cx="1368360" cy="19256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79280" y="297000"/>
            <a:ext cx="8508960" cy="58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Constantia"/>
              </a:rPr>
              <a:t>Средняя линия треугольни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Constantia"/>
              </a:rPr>
              <a:t>Отрезок, соединяющий середин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66"/>
                </a:solidFill>
                <a:latin typeface="Constantia"/>
              </a:rPr>
              <a:t>Двух сторон треугольни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52924-E15E-4529-BCB1-A0D722987962}" type="slidenum">
              <a:rPr b="0" lang="ru-RU" sz="1200" spc="-1" strike="noStrike">
                <a:solidFill>
                  <a:srgbClr val="42424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7886880" y="189000"/>
            <a:ext cx="1179360" cy="10634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216000" y="2160720"/>
            <a:ext cx="8238960" cy="442908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360360" y="1952640"/>
            <a:ext cx="8226360" cy="58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58840" indent="-258840" algn="ctr">
              <a:lnSpc>
                <a:spcPct val="100000"/>
              </a:lnSpc>
              <a:spcBef>
                <a:spcPts val="649"/>
              </a:spcBef>
              <a:buClr>
                <a:srgbClr val="1b587c"/>
              </a:buClr>
              <a:buSzPct val="95000"/>
              <a:buFont typeface="Wingdings 2" charset="2"/>
              <a:buChar char=""/>
              <a:tabLst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Исследуйте, какими свойствами обладает средняя линия треугольника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70000" indent="-258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62080" indent="-258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0000" indent="-258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71440" indent="-258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58840"/>
                <a:tab algn="l" pos="706320"/>
                <a:tab algn="l" pos="1155600"/>
                <a:tab algn="l" pos="1604880"/>
                <a:tab algn="l" pos="2054160"/>
                <a:tab algn="l" pos="2503440"/>
                <a:tab algn="l" pos="2952720"/>
                <a:tab algn="l" pos="3402000"/>
                <a:tab algn="l" pos="3851280"/>
                <a:tab algn="l" pos="4300560"/>
                <a:tab algn="l" pos="4749840"/>
                <a:tab algn="l" pos="5199120"/>
                <a:tab algn="l" pos="5648400"/>
                <a:tab algn="l" pos="6097680"/>
                <a:tab algn="l" pos="6546960"/>
                <a:tab algn="l" pos="6996240"/>
                <a:tab algn="l" pos="7445520"/>
                <a:tab algn="l" pos="7894800"/>
                <a:tab algn="l" pos="8344080"/>
                <a:tab algn="l" pos="8793000"/>
                <a:tab algn="l" pos="9242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59A0D0-63CA-476F-B6C3-072BFC786F21}" type="slidenum">
              <a:rPr b="0" lang="ru-RU" sz="1200" spc="-1" strike="noStrike">
                <a:solidFill>
                  <a:srgbClr val="42424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431640" y="936720"/>
            <a:ext cx="81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ahoma"/>
              </a:rPr>
              <a:t>Творческое задание 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7547040" y="0"/>
            <a:ext cx="1596960" cy="1440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/>
  <cp:lastPrinted>2017-03-13T22:12:07Z</cp:lastPrinted>
  <dcterms:modified xsi:type="dcterms:W3CDTF">2017-03-13T22:13:02Z</dcterms:modified>
  <cp:revision>322</cp:revision>
  <dc:subject/>
  <dc:title>PowerPoint Presentation</dc:title>
</cp:coreProperties>
</file>