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280" y="812520"/>
            <a:ext cx="5338440" cy="40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1880" cy="48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492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10156320"/>
            <a:ext cx="32749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320"/>
            <a:ext cx="3274920" cy="5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218BC-570D-4458-AF1E-550F4C3D53CB}" type="slidenum">
              <a:rPr b="1" lang="ru-RU" sz="1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99" name=""/>
          <p:cNvSpPr/>
          <p:nvPr/>
        </p:nvSpPr>
        <p:spPr>
          <a:xfrm>
            <a:off x="755640" y="5078520"/>
            <a:ext cx="6045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189" name=""/>
          <p:cNvSpPr/>
          <p:nvPr/>
        </p:nvSpPr>
        <p:spPr>
          <a:xfrm>
            <a:off x="755640" y="5078520"/>
            <a:ext cx="6045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7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5A92-BDB4-4530-B900-3856ED61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7424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420800"/>
            <a:ext cx="917424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15BB-430A-49FB-8399-A3F90221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160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42080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1600" y="442080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DF0-81C8-45E1-8917-19166E08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2120" y="197964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4240" y="197964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42080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2120" y="442080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4240" y="442080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B851-0926-4233-BAE5-97DA3CF1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86E9-915E-48ED-B6AB-403EE756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60360" y="1979640"/>
            <a:ext cx="917424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C53F-21DE-4145-976B-930C6CD6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7424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2E2BD-85AF-49FB-B7B0-463582FD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69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1600" y="1979640"/>
            <a:ext cx="44769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D7660-97F7-492B-B655-5FBE10DC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0AD6-8EBF-4977-9FBC-F0A8A9D9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0360" y="360000"/>
            <a:ext cx="9353520" cy="41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48AA6-C432-4322-A576-7327595E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1600" y="1979640"/>
            <a:ext cx="44769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0360" y="442080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6EAB-0C9E-4177-8995-C6EE82D3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979640"/>
            <a:ext cx="917424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65F6-D5D9-4A1B-9E4E-06D9BF0A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69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160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61600" y="442080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5B35-16C1-4B64-8C72-206CB26E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160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60360" y="4420800"/>
            <a:ext cx="917424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128B-81FB-400A-93BA-F21B0443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7424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0360" y="4420800"/>
            <a:ext cx="917424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8743-19E8-4C8E-BB3D-48F69E68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160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60360" y="442080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61600" y="442080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57F7-B80E-4CBA-AEF1-E37949CD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2120" y="197964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64240" y="197964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60360" y="442080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2120" y="442080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564240" y="4420800"/>
            <a:ext cx="295380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C5CC-4396-4069-A8E6-1F5A91416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917424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593A-80EB-4ADA-B275-2E93D691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69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1600" y="1979640"/>
            <a:ext cx="44769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8A91-FE07-4AC2-A986-DFB24D27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AF2-3DAC-4918-8786-A6F1D4C2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360000"/>
            <a:ext cx="9353520" cy="414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0EA9-F316-4E8A-B5B1-931FFAFB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1600" y="1979640"/>
            <a:ext cx="44769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42080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C20D-8F0F-4B47-B348-59524C51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696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160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1600" y="442080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2C4-90D9-4769-BBAE-2D4712B1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1600" y="1979640"/>
            <a:ext cx="447696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420800"/>
            <a:ext cx="9174240" cy="22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2D82-861D-4489-872C-8AEA3D9D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44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444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0E2F74-B6C2-4B6D-ABE9-5EBFE96C1DE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9280"/>
            <a:ext cx="9720360" cy="126072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9640" y="6840360"/>
            <a:ext cx="2519280" cy="54000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6840360"/>
            <a:ext cx="6480360" cy="540000"/>
          </a:xfrm>
          <a:prstGeom prst="rect">
            <a:avLst/>
          </a:prstGeom>
          <a:solidFill>
            <a:srgbClr val="bdc3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840360"/>
            <a:ext cx="540000" cy="540000"/>
          </a:xfrm>
          <a:prstGeom prst="rect">
            <a:avLst/>
          </a:prstGeom>
          <a:solidFill>
            <a:srgbClr val="f443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360" y="360000"/>
            <a:ext cx="9353520" cy="89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ource Sans Pro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60360" y="1979640"/>
            <a:ext cx="917424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Click to edit the outline text format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1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con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2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Third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3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our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4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Fif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5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ix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lvl="6" marL="343080" indent="-343080">
              <a:lnSpc>
                <a:spcPct val="104000"/>
              </a:lnSpc>
              <a:spcAft>
                <a:spcPts val="11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Source Sans Pro Semibold"/>
              </a:rPr>
              <a:t>Seventh Outline Level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59640" y="6840360"/>
            <a:ext cx="233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ja-JP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079640" y="6840360"/>
            <a:ext cx="323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79280" y="6840360"/>
            <a:ext cx="533520" cy="533520"/>
          </a:xfrm>
          <a:prstGeom prst="rect">
            <a:avLst/>
          </a:prstGeom>
          <a:solidFill>
            <a:srgbClr val="e74c3c"/>
          </a:solidFill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ru-RU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defRPr>
            </a:lvl1pPr>
          </a:lstStyle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02C66E1-F628-488B-BE40-A7D31D25BEF8}" type="slidenum">
              <a:rPr b="1" lang="ru-RU" sz="2400" spc="-1" strike="noStrike">
                <a:solidFill>
                  <a:srgbClr val="ffffff"/>
                </a:solidFill>
                <a:latin typeface="Source Sans Pro Black"/>
                <a:ea typeface="源ノ角ゴシック Heavy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7383a654-0dac-11dc-8314-0800200c9a66/index.htm" TargetMode="External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1280" y="2160720"/>
            <a:ext cx="5327640" cy="41083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         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60000" y="1655280"/>
            <a:ext cx="957564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1c1c1c"/>
                </a:solidFill>
                <a:latin typeface="Source Sans Pro Light"/>
              </a:rPr>
              <a:t>                                                                                     </a:t>
            </a: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  <a:p>
            <a:pPr indent="0">
              <a:lnSpc>
                <a:spcPct val="104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  <a:p>
            <a:pPr indent="0" algn="r">
              <a:lnSpc>
                <a:spcPct val="104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1c1c1c"/>
                </a:solidFill>
                <a:latin typeface="Source Sans Pro Light"/>
              </a:rPr>
              <a:t>                                                                         </a:t>
            </a: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  <a:p>
            <a:pPr indent="0" algn="r">
              <a:lnSpc>
                <a:spcPct val="104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  <a:p>
            <a:pPr indent="0" algn="r">
              <a:lnSpc>
                <a:spcPct val="104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1c1c1c"/>
                </a:solidFill>
                <a:latin typeface="Source Sans Pro Light"/>
              </a:rPr>
              <a:t>                                                                              </a:t>
            </a:r>
            <a:r>
              <a:rPr b="1" lang="ru-RU" sz="2600" spc="-1" strike="noStrike">
                <a:solidFill>
                  <a:srgbClr val="1c1c1c"/>
                </a:solidFill>
                <a:latin typeface="Source Sans Pro Light"/>
              </a:rPr>
              <a:t>Михайлова Юлия Валерьевна, </a:t>
            </a: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  <a:p>
            <a:pPr indent="0" algn="r">
              <a:lnSpc>
                <a:spcPct val="104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Light"/>
              </a:rPr>
              <a:t>                                                     </a:t>
            </a:r>
            <a:r>
              <a:rPr b="1" lang="ru-RU" sz="2600" spc="-1" strike="noStrike">
                <a:solidFill>
                  <a:srgbClr val="1c1c1c"/>
                </a:solidFill>
                <a:latin typeface="Source Sans Pro Light"/>
              </a:rPr>
              <a:t>Учитель математики </a:t>
            </a: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  <a:p>
            <a:pPr indent="0" algn="r">
              <a:lnSpc>
                <a:spcPct val="104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Light"/>
              </a:rPr>
              <a:t>МБОУ «Лицей №145» </a:t>
            </a: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  <a:p>
            <a:pPr indent="0" algn="r">
              <a:lnSpc>
                <a:spcPct val="104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Light"/>
              </a:rPr>
              <a:t>Авиастроительного района </a:t>
            </a: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  <a:p>
            <a:pPr indent="0" algn="r">
              <a:lnSpc>
                <a:spcPct val="104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Light"/>
              </a:rPr>
              <a:t>г. Казани</a:t>
            </a:r>
            <a:endParaRPr b="0" lang="en-US" sz="2600" spc="-1" strike="noStrike">
              <a:solidFill>
                <a:srgbClr val="1c1c1c"/>
              </a:solidFill>
              <a:latin typeface="Source Sans Pro Light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975280" y="5079960"/>
            <a:ext cx="2232000" cy="1687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384960" y="1511280"/>
            <a:ext cx="268776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676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Исследование равнобедренного треугольника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74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При наложении углов при основании образовалась линия сгиба!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marL="343080" indent="0" algn="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Исследуем ее, каким отрезком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marL="343080" indent="0" algn="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в равнобедренном треугольнике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marL="343080" indent="0" algn="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она является?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2592360"/>
            <a:ext cx="4619520" cy="41814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 rot="16200000">
            <a:off x="1041480" y="4930200"/>
            <a:ext cx="24793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 и н и я    с г и б 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4608360"/>
            <a:ext cx="215640" cy="144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311640" y="4532040"/>
            <a:ext cx="215640" cy="150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Свойство биссектрисы равнобедренного треугольника: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5640" y="151128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 u="sng">
                <a:solidFill>
                  <a:srgbClr val="1c1c1c"/>
                </a:solidFill>
                <a:uFillTx/>
                <a:latin typeface="Source Sans Pro Semibold"/>
              </a:rPr>
              <a:t>Теорема</a:t>
            </a: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: В равнобедренном треугольнике биссектриса, проведенная к основанию, является медианой и высотой.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295280" y="2409840"/>
            <a:ext cx="3527640" cy="4371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716200" y="5989680"/>
            <a:ext cx="30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76560" y="5989680"/>
            <a:ext cx="30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16720" y="3882960"/>
            <a:ext cx="37321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первому призна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&gt; А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С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=&gt; B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медиа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43640" y="2519280"/>
            <a:ext cx="43210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 АВС, АВ=В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— биссектр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оказ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что В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— медиана, выс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88000" y="3240000"/>
            <a:ext cx="403236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88000" y="4967280"/>
            <a:ext cx="360036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3=&lt;4, а также они смежные, =&gt; каждый из них равен 9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=&gt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B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— высо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Теорема доказана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dur="indefinite" fill="hold">
                      <p:stCondLst>
                        <p:cond delay="indefinite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Этап рефлексии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12880" y="2457360"/>
          <a:ext cx="8354520" cy="2879280"/>
        </p:xfrm>
        <a:graphic>
          <a:graphicData uri="http://schemas.openxmlformats.org/drawingml/2006/table">
            <a:tbl>
              <a:tblPr/>
              <a:tblGrid>
                <a:gridCol w="3276720"/>
                <a:gridCol w="5077800"/>
              </a:tblGrid>
              <a:tr h="425520"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уроке я работа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ивно/пассив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425880"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ей работой на уроке 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волен/ не довол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25520"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 мне показал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м/ длинн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602360"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 урока был м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92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ятен/  не понят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езен/ бесполез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есен/ скуч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1079640" y="1655640"/>
            <a:ext cx="34574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ужное подчеркнут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5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 algn="ct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600" spc="-1" strike="noStrike">
                <a:solidFill>
                  <a:srgbClr val="1c1c1c"/>
                </a:solidFill>
                <a:latin typeface="Source Sans Pro Semibold"/>
              </a:rPr>
              <a:t>Спасибо за внимание!</a:t>
            </a:r>
            <a:endParaRPr b="1" lang="en-US" sz="5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672000" y="4248000"/>
            <a:ext cx="309564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Устные упражнения: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№</a:t>
            </a: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1. Дан треугольник </a:t>
            </a:r>
            <a:r>
              <a:rPr b="1" lang="ru-RU" sz="2600" spc="-1" strike="noStrike">
                <a:solidFill>
                  <a:srgbClr val="1c1c1c"/>
                </a:solidFill>
                <a:latin typeface="Arial"/>
                <a:ea typeface="Arial"/>
              </a:rPr>
              <a:t>∆ </a:t>
            </a: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АВС. Назовите его биссектрису, медиану и высоту?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600360" y="2448000"/>
            <a:ext cx="4221360" cy="3149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503280" y="5819760"/>
          <a:ext cx="9289800" cy="447480"/>
        </p:xfrm>
        <a:graphic>
          <a:graphicData uri="http://schemas.openxmlformats.org/drawingml/2006/table">
            <a:tbl>
              <a:tblPr/>
              <a:tblGrid>
                <a:gridCol w="3096000"/>
                <a:gridCol w="3096360"/>
                <a:gridCol w="3097440"/>
              </a:tblGrid>
              <a:tr h="447480">
                <a:tc>
                  <a:txBody>
                    <a:bodyPr lIns="90000" rIns="90000" tIns="19080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ссектриса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АВ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9080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ана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190800" bIns="46800" anchor="t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та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∆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7056360" y="3660840"/>
            <a:ext cx="647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1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0000" y="6264360"/>
            <a:ext cx="465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3840" y="6264360"/>
            <a:ext cx="523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129520" y="6264360"/>
            <a:ext cx="509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32360" y="5400720"/>
            <a:ext cx="766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Устные упражнения: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№</a:t>
            </a: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2. Докажите, что </a:t>
            </a: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  <a:ea typeface="Source Sans Pro Semibold"/>
              </a:rPr>
              <a:t>∆ АВО и ∆ СDО на рисунке 1 равны. </a:t>
            </a: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52360" y="2592360"/>
            <a:ext cx="3781440" cy="35067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19280" y="6480000"/>
            <a:ext cx="830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975280" y="2852640"/>
            <a:ext cx="1765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АО=С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61240" y="3452760"/>
            <a:ext cx="1871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ВО=D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75280" y="4103640"/>
            <a:ext cx="33847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&lt; АОВ = &lt; СОD (вертикальные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27640" y="5210280"/>
            <a:ext cx="42228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∆ АОВ = ∆ СD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о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ервом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признаку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равенства треугольнико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Геометрия вокруг нас!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04000" y="4008600"/>
            <a:ext cx="3600360" cy="2471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4360" y="2016000"/>
            <a:ext cx="5496120" cy="4103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975280" y="1440000"/>
            <a:ext cx="349272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446120"/>
            <a:ext cx="9720360" cy="54421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60000" y="360360"/>
            <a:ext cx="935676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Сконструируй дом!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0000" y="1979280"/>
            <a:ext cx="9177480" cy="46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26" name=""/>
          <p:cNvSpPr/>
          <p:nvPr/>
        </p:nvSpPr>
        <p:spPr>
          <a:xfrm>
            <a:off x="3711600" y="4917960"/>
            <a:ext cx="2840040" cy="1849680"/>
          </a:xfrm>
          <a:prstGeom prst="rect">
            <a:avLst/>
          </a:prstGeom>
          <a:solidFill>
            <a:srgbClr val="ffffcc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20340000">
            <a:off x="603360" y="4763880"/>
            <a:ext cx="2651040" cy="1360440"/>
          </a:xfrm>
          <a:prstGeom prst="triangle">
            <a:avLst>
              <a:gd name="adj" fmla="val 9301"/>
            </a:avLst>
          </a:prstGeom>
          <a:solidFill>
            <a:srgbClr val="ff8080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760000">
            <a:off x="1310760" y="2290320"/>
            <a:ext cx="1979640" cy="2183040"/>
          </a:xfrm>
          <a:prstGeom prst="rtTriangle">
            <a:avLst/>
          </a:prstGeom>
          <a:solidFill>
            <a:srgbClr val="660066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72000" y="2664000"/>
            <a:ext cx="2735280" cy="1152360"/>
          </a:xfrm>
          <a:prstGeom prst="triangle">
            <a:avLst>
              <a:gd name="adj" fmla="val 68519"/>
            </a:avLst>
          </a:prstGeom>
          <a:solidFill>
            <a:srgbClr val="c5000b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440000">
            <a:off x="6629400" y="2881440"/>
            <a:ext cx="2592360" cy="576000"/>
          </a:xfrm>
          <a:prstGeom prst="triangle">
            <a:avLst>
              <a:gd name="adj" fmla="val 34977"/>
            </a:avLst>
          </a:prstGeom>
          <a:solidFill>
            <a:srgbClr val="ff950e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20000">
            <a:off x="7048080" y="4208040"/>
            <a:ext cx="2795760" cy="1706760"/>
          </a:xfrm>
          <a:prstGeom prst="triangle">
            <a:avLst>
              <a:gd name="adj" fmla="val 49958"/>
            </a:avLst>
          </a:prstGeom>
          <a:solidFill>
            <a:srgbClr val="e6e6f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711600" y="4917960"/>
            <a:ext cx="2840040" cy="18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Равнобедренный треугольник и его свойства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Цель</a:t>
            </a: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 урока: 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1. познакомиться с  понятием равнобедренного треугольника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2.рассмотреть свойства равнобедренного треугольника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3. научиться использовать их при решении задач.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000920" y="4608360"/>
            <a:ext cx="2538360" cy="20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Построение равнобедренного треугольника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Использование ЦОР: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 u="sng">
                <a:solidFill>
                  <a:srgbClr val="ccccff"/>
                </a:solidFill>
                <a:uFillTx/>
                <a:latin typeface="Source Sans Pro Semibold"/>
                <a:hlinkClick r:id="rId1"/>
              </a:rPr>
              <a:t>http://files.school-collection.edu.ru/dlrstore/7383a654-0dac-11dc-8314-0800200c9a66/index.htm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Исследование равнобедренного треугольника: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0000" y="1979640"/>
            <a:ext cx="918036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                                                   </a:t>
            </a: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1. Выделите основание равнобедренного треугольника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 algn="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2. Отметьте углы при основании :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 algn="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 </a:t>
            </a: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&lt;1 и &lt;2    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 algn="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 algn="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3. Наложите угол 1 на угол 2.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 algn="r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                                                                                        </a:t>
            </a: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Совместились ли они?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  <a:p>
            <a:pPr indent="0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                                                                       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40" name=""/>
          <p:cNvSpPr/>
          <p:nvPr/>
        </p:nvSpPr>
        <p:spPr>
          <a:xfrm>
            <a:off x="1079640" y="2052720"/>
            <a:ext cx="4464000" cy="4068720"/>
          </a:xfrm>
          <a:prstGeom prst="triangle">
            <a:avLst>
              <a:gd name="adj" fmla="val 50000"/>
            </a:avLst>
          </a:prstGeom>
          <a:solidFill>
            <a:srgbClr val="ffffcc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79640" y="6119640"/>
            <a:ext cx="4464000" cy="1800"/>
          </a:xfrm>
          <a:custGeom>
            <a:avLst/>
            <a:gdLst/>
            <a:ahLst/>
            <a:rect l="l" t="t" r="r" b="b"/>
            <a:pathLst>
              <a:path w="12401" h="6">
                <a:moveTo>
                  <a:pt x="0" y="0"/>
                </a:moveTo>
                <a:lnTo>
                  <a:pt x="12400" y="5"/>
                </a:lnTo>
              </a:path>
            </a:pathLst>
          </a:custGeom>
          <a:noFill/>
          <a:ln w="108000">
            <a:solidFill>
              <a:srgbClr val="ff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16000" y="4032360"/>
            <a:ext cx="287640" cy="215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359240" y="4024080"/>
            <a:ext cx="28728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11280" y="5543640"/>
            <a:ext cx="379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0000" y="5543640"/>
            <a:ext cx="3794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0360" y="360360"/>
            <a:ext cx="93600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Source Sans Pro Black"/>
              </a:rPr>
              <a:t>Свойство углов при основании равнобедренного треугольника:</a:t>
            </a:r>
            <a:endParaRPr b="1" lang="en-US" sz="3200" spc="-1" strike="noStrike">
              <a:solidFill>
                <a:srgbClr val="ffffff"/>
              </a:solidFill>
              <a:latin typeface="Source Sans Pro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87280" y="1584360"/>
            <a:ext cx="96472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104000"/>
              </a:lnSpc>
              <a:spcAft>
                <a:spcPts val="1151"/>
              </a:spcAft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 u="sng">
                <a:solidFill>
                  <a:srgbClr val="1c1c1c"/>
                </a:solidFill>
                <a:uFillTx/>
                <a:latin typeface="Source Sans Pro Semibold"/>
              </a:rPr>
              <a:t>Теорема</a:t>
            </a:r>
            <a:r>
              <a:rPr b="1" lang="ru-RU" sz="2600" spc="-1" strike="noStrike">
                <a:solidFill>
                  <a:srgbClr val="1c1c1c"/>
                </a:solidFill>
                <a:latin typeface="Source Sans Pro Semibold"/>
              </a:rPr>
              <a:t>: углы при основании равнобедренного треугольника равны. </a:t>
            </a:r>
            <a:endParaRPr b="1" lang="en-US" sz="2600" spc="-1" strike="noStrike">
              <a:solidFill>
                <a:srgbClr val="1c1c1c"/>
              </a:solidFill>
              <a:latin typeface="Source Sans Pro Semibold"/>
            </a:endParaRPr>
          </a:p>
        </p:txBody>
      </p:sp>
      <p:sp>
        <p:nvSpPr>
          <p:cNvPr id="148" name=""/>
          <p:cNvSpPr/>
          <p:nvPr/>
        </p:nvSpPr>
        <p:spPr>
          <a:xfrm>
            <a:off x="5256360" y="6480000"/>
            <a:ext cx="344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55640" y="2054160"/>
            <a:ext cx="4103640" cy="4784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6191280" y="2262240"/>
            <a:ext cx="3144960" cy="21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=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кажите, что &lt;А=&lt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азательств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м биссектрису В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61120" y="4464000"/>
            <a:ext cx="32432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43560" y="4809960"/>
            <a:ext cx="928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=В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92880" y="5184720"/>
            <a:ext cx="2535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общая стор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5720" y="5529240"/>
            <a:ext cx="34988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1=&lt;2 (т. к. В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ссектри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0" y="3168720"/>
            <a:ext cx="306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52920" y="3168720"/>
            <a:ext cx="30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91280" y="2952720"/>
            <a:ext cx="295272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975280"/>
            <a:ext cx="4137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В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первому призна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&gt; &lt;A=&lt;C.        Теорема доказ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dur="indefinite" fill="hold">
                      <p:stCondLst>
                        <p:cond delay="indefinite"/>
                      </p:stCondLst>
                      <p:childTnLst>
                        <p:par>
                          <p:cTn id="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4T19:21:58Z</dcterms:created>
  <dc:creator/>
  <dc:description/>
  <dc:language>en-US</dc:language>
  <cp:lastModifiedBy/>
  <dcterms:modified xsi:type="dcterms:W3CDTF">2016-01-26T08:57:21Z</dcterms:modified>
  <cp:revision>11</cp:revision>
  <dc:subject/>
  <dc:title/>
</cp:coreProperties>
</file>