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06280" y="812520"/>
            <a:ext cx="5338440" cy="40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Source Sans Pro Black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27492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4277880" y="0"/>
            <a:ext cx="327492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lang="ru-RU" sz="1400" spc="-1" strike="noStrike">
                <a:solidFill>
                  <a:srgbClr val="ffffff"/>
                </a:solidFill>
                <a:latin typeface="Source Sans Pro Black"/>
                <a:ea typeface="源ノ角ゴシック Heavy"/>
              </a:defRPr>
            </a:lvl1pPr>
          </a:lstStyle>
          <a:p>
            <a:pPr indent="0" algn="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10156320"/>
            <a:ext cx="3274920" cy="5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lang="ru-RU" sz="1400" spc="-1" strike="noStrike">
                <a:solidFill>
                  <a:srgbClr val="ffffff"/>
                </a:solidFill>
                <a:latin typeface="Source Sans Pro Black"/>
                <a:ea typeface="源ノ角ゴシック Heavy"/>
              </a:defRPr>
            </a:lvl1pPr>
          </a:lstStyle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4277880" y="10156320"/>
            <a:ext cx="3274920" cy="5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lang="ru-RU" sz="1400" spc="-1" strike="noStrike">
                <a:solidFill>
                  <a:srgbClr val="ffffff"/>
                </a:solidFill>
                <a:latin typeface="Source Sans Pro Black"/>
                <a:ea typeface="源ノ角ゴシック Heavy"/>
              </a:defRPr>
            </a:lvl1pPr>
          </a:lstStyle>
          <a:p>
            <a:pPr indent="0" algn="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499B7A-4200-42DB-9642-00BF33E72E1C}" type="slidenum">
              <a:rPr b="1" lang="ru-RU" sz="14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81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ln w="0">
            <a:noFill/>
          </a:ln>
        </p:spPr>
      </p:sp>
      <p:sp>
        <p:nvSpPr>
          <p:cNvPr id="199" name=""/>
          <p:cNvSpPr/>
          <p:nvPr/>
        </p:nvSpPr>
        <p:spPr>
          <a:xfrm>
            <a:off x="755640" y="5078520"/>
            <a:ext cx="6045120" cy="48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01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03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05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83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85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87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ln w="0">
            <a:noFill/>
          </a:ln>
        </p:spPr>
      </p:sp>
      <p:sp>
        <p:nvSpPr>
          <p:cNvPr id="189" name=""/>
          <p:cNvSpPr/>
          <p:nvPr/>
        </p:nvSpPr>
        <p:spPr>
          <a:xfrm>
            <a:off x="755640" y="5078520"/>
            <a:ext cx="6045120" cy="48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1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5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7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6657-AAE6-49A3-916A-BDB70ACEE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60360" y="360000"/>
            <a:ext cx="9353520" cy="89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60360" y="1979640"/>
            <a:ext cx="9174240" cy="22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60360" y="4420800"/>
            <a:ext cx="9174240" cy="22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4138-DE0A-4020-B09E-0158FEC9F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60360" y="360000"/>
            <a:ext cx="9353520" cy="89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60360" y="1979640"/>
            <a:ext cx="4476960" cy="22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1600" y="1979640"/>
            <a:ext cx="4476960" cy="22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60360" y="4420800"/>
            <a:ext cx="4476960" cy="22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1600" y="4420800"/>
            <a:ext cx="4476960" cy="22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69B3-454F-4FE1-940F-42599F52A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60360" y="360000"/>
            <a:ext cx="9353520" cy="89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60360" y="1979640"/>
            <a:ext cx="2953800" cy="22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62120" y="1979640"/>
            <a:ext cx="2953800" cy="22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64240" y="1979640"/>
            <a:ext cx="2953800" cy="22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60360" y="4420800"/>
            <a:ext cx="2953800" cy="22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62120" y="4420800"/>
            <a:ext cx="2953800" cy="22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64240" y="4420800"/>
            <a:ext cx="2953800" cy="22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91F6-A84D-4393-BE5F-E5381145B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89348-6727-4C78-8049-209333F65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0360" y="360000"/>
            <a:ext cx="9353520" cy="89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60360" y="1979640"/>
            <a:ext cx="9174240" cy="46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1c1c1c"/>
              </a:solidFill>
              <a:latin typeface="Source Sans Pro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A6E1A-C492-4A60-A7A6-7EDD079EE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0360" y="360000"/>
            <a:ext cx="9353520" cy="89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60360" y="1979640"/>
            <a:ext cx="9174240" cy="46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DA7B7-6E50-44CA-9053-15308E26B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0360" y="360000"/>
            <a:ext cx="9353520" cy="89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60360" y="1979640"/>
            <a:ext cx="4476960" cy="46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61600" y="1979640"/>
            <a:ext cx="4476960" cy="46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B63F3-0092-48BC-931B-B19783315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0360" y="360000"/>
            <a:ext cx="9353520" cy="89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3C2F0-E380-47A8-873A-AE4CA992F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0360" y="360000"/>
            <a:ext cx="9353520" cy="414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1c1c1c"/>
              </a:solidFill>
              <a:latin typeface="Source Sans Pro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492BE-B607-4E89-AD72-9E1AD7492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0360" y="360000"/>
            <a:ext cx="9353520" cy="89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60360" y="1979640"/>
            <a:ext cx="4476960" cy="22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61600" y="1979640"/>
            <a:ext cx="4476960" cy="46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60360" y="4420800"/>
            <a:ext cx="4476960" cy="22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1472B-07EF-40E1-B3E1-2C8CACEE0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60360" y="360000"/>
            <a:ext cx="9353520" cy="89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60360" y="1979640"/>
            <a:ext cx="9174240" cy="46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1c1c1c"/>
              </a:solidFill>
              <a:latin typeface="Source Sans Pro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AD68-82AB-4581-A814-90E90D871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0360" y="360000"/>
            <a:ext cx="9353520" cy="89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60360" y="1979640"/>
            <a:ext cx="4476960" cy="46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61600" y="1979640"/>
            <a:ext cx="4476960" cy="22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61600" y="4420800"/>
            <a:ext cx="4476960" cy="22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B51FB-1B2E-4ADA-8205-F40336F7F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0360" y="360000"/>
            <a:ext cx="9353520" cy="89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60360" y="1979640"/>
            <a:ext cx="4476960" cy="22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61600" y="1979640"/>
            <a:ext cx="4476960" cy="22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60360" y="4420800"/>
            <a:ext cx="9174240" cy="22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FFB4C-6362-474D-ACB6-2FCB395DF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0360" y="360000"/>
            <a:ext cx="9353520" cy="89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60360" y="1979640"/>
            <a:ext cx="9174240" cy="22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60360" y="4420800"/>
            <a:ext cx="9174240" cy="22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FD706-471F-4B2D-B3EB-F3E1C3297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0360" y="360000"/>
            <a:ext cx="9353520" cy="89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60360" y="1979640"/>
            <a:ext cx="4476960" cy="22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61600" y="1979640"/>
            <a:ext cx="4476960" cy="22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60360" y="4420800"/>
            <a:ext cx="4476960" cy="22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61600" y="4420800"/>
            <a:ext cx="4476960" cy="22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4E634-5555-481C-B0FC-DEC061A0A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0360" y="360000"/>
            <a:ext cx="9353520" cy="89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60360" y="1979640"/>
            <a:ext cx="2953800" cy="22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2120" y="1979640"/>
            <a:ext cx="2953800" cy="22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564240" y="1979640"/>
            <a:ext cx="2953800" cy="22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60360" y="4420800"/>
            <a:ext cx="2953800" cy="22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2120" y="4420800"/>
            <a:ext cx="2953800" cy="22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564240" y="4420800"/>
            <a:ext cx="2953800" cy="22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FDA5A-6A1C-49A5-A1CA-2B6A10A67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60360" y="360000"/>
            <a:ext cx="9353520" cy="89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60360" y="1979640"/>
            <a:ext cx="9174240" cy="46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D3CD-AE54-44A6-ABB6-8FD8E567A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60360" y="360000"/>
            <a:ext cx="9353520" cy="89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60360" y="1979640"/>
            <a:ext cx="4476960" cy="46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1600" y="1979640"/>
            <a:ext cx="4476960" cy="46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A13F-7935-47E6-8CA9-AF9120E84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60360" y="360000"/>
            <a:ext cx="9353520" cy="89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7C65-E5C3-4CD8-8EF6-3FD6D8E68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60360" y="360000"/>
            <a:ext cx="9353520" cy="414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1c1c1c"/>
              </a:solidFill>
              <a:latin typeface="Source Sans Pro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4FB6-E228-46D1-B114-54031382D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60360" y="360000"/>
            <a:ext cx="9353520" cy="89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60360" y="1979640"/>
            <a:ext cx="4476960" cy="22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1600" y="1979640"/>
            <a:ext cx="4476960" cy="46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60360" y="4420800"/>
            <a:ext cx="4476960" cy="22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C3DA-1912-44BD-9EE1-91FFC0800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60360" y="360000"/>
            <a:ext cx="9353520" cy="89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60360" y="1979640"/>
            <a:ext cx="4476960" cy="46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1600" y="1979640"/>
            <a:ext cx="4476960" cy="22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1600" y="4420800"/>
            <a:ext cx="4476960" cy="22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54D3-E450-41C6-9302-E9B1357B0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60360" y="360000"/>
            <a:ext cx="9353520" cy="89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60360" y="1979640"/>
            <a:ext cx="4476960" cy="22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1600" y="1979640"/>
            <a:ext cx="4476960" cy="22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60360" y="4420800"/>
            <a:ext cx="9174240" cy="22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3BB5-45CD-476D-A7FF-A5E848026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44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080"/>
            <a:ext cx="234180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FEAF15-6F54-442D-932E-43B91F405EE2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79280"/>
            <a:ext cx="9720360" cy="126072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9640" y="6840360"/>
            <a:ext cx="2519280" cy="54000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00000" y="6840360"/>
            <a:ext cx="6480360" cy="540000"/>
          </a:xfrm>
          <a:prstGeom prst="rect">
            <a:avLst/>
          </a:prstGeom>
          <a:solidFill>
            <a:srgbClr val="bdc3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9280" y="6840360"/>
            <a:ext cx="540000" cy="540000"/>
          </a:xfrm>
          <a:prstGeom prst="rect">
            <a:avLst/>
          </a:prstGeom>
          <a:solidFill>
            <a:srgbClr val="f443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60360" y="360000"/>
            <a:ext cx="9353520" cy="89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Source Sans Pro Black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360360" y="1979640"/>
            <a:ext cx="9174240" cy="46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Source Sans Pro Semibold"/>
              </a:rPr>
              <a:t>Click to edit the outline text format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lvl="1" marL="343080" indent="-343080">
              <a:lnSpc>
                <a:spcPct val="104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Source Sans Pro Semibold"/>
              </a:rPr>
              <a:t>Second Outline Level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lvl="2" marL="343080" indent="-343080">
              <a:lnSpc>
                <a:spcPct val="104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Source Sans Pro Semibold"/>
              </a:rPr>
              <a:t>Third Outline Level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lvl="3" marL="343080" indent="-343080">
              <a:lnSpc>
                <a:spcPct val="104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Source Sans Pro Semibold"/>
              </a:rPr>
              <a:t>Fourth Outline Level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lvl="4" marL="343080" indent="-343080">
              <a:lnSpc>
                <a:spcPct val="104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Source Sans Pro Semibold"/>
              </a:rPr>
              <a:t>Fifth Outline Level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lvl="5" marL="343080" indent="-343080">
              <a:lnSpc>
                <a:spcPct val="104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Source Sans Pro Semibold"/>
              </a:rPr>
              <a:t>Sixth Outline Level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lvl="6" marL="343080" indent="-343080">
              <a:lnSpc>
                <a:spcPct val="104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Source Sans Pro Semibold"/>
              </a:rPr>
              <a:t>Seventh Outline Level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7559640" y="6840360"/>
            <a:ext cx="23335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lang="ja-JP" sz="2400" spc="-1" strike="noStrike">
                <a:solidFill>
                  <a:srgbClr val="ffffff"/>
                </a:solidFill>
                <a:latin typeface="Source Sans Pro Black"/>
                <a:ea typeface="源ノ角ゴシック Heavy"/>
              </a:defRPr>
            </a:lvl1pPr>
          </a:lstStyle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1079640" y="6840360"/>
            <a:ext cx="32335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lang="ru-RU" sz="2400" spc="-1" strike="noStrike">
                <a:solidFill>
                  <a:srgbClr val="ffffff"/>
                </a:solidFill>
                <a:latin typeface="Source Sans Pro Black"/>
                <a:ea typeface="源ノ角ゴシック Heavy"/>
              </a:defRPr>
            </a:lvl1pPr>
          </a:lstStyle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179280" y="6840360"/>
            <a:ext cx="533520" cy="53352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1" lang="ru-RU" sz="2400" spc="-1" strike="noStrike">
                <a:solidFill>
                  <a:srgbClr val="ffffff"/>
                </a:solidFill>
                <a:latin typeface="Source Sans Pro Black"/>
                <a:ea typeface="源ノ角ゴシック Heavy"/>
              </a:defRPr>
            </a:lvl1pPr>
          </a:lstStyle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781D4341-A662-4C52-A584-5CA25013A9A9}" type="slidenum">
              <a:rPr b="1" lang="ru-RU" sz="24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5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files.school-collection.edu.ru/dlrstore/7383a654-0dac-11dc-8314-0800200c9a66/index.htm" TargetMode="External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71280" y="2160720"/>
            <a:ext cx="5327640" cy="410832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10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Source Sans Pro Black"/>
              </a:rPr>
              <a:t>         </a:t>
            </a: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360000" y="1655280"/>
            <a:ext cx="957564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1c1c1c"/>
                </a:solidFill>
                <a:latin typeface="Source Sans Pro Light"/>
              </a:rPr>
              <a:t>                                                                                     </a:t>
            </a:r>
            <a:endParaRPr b="0" lang="en-US" sz="2600" spc="-1" strike="noStrike">
              <a:solidFill>
                <a:srgbClr val="1c1c1c"/>
              </a:solidFill>
              <a:latin typeface="Source Sans Pro Light"/>
            </a:endParaRPr>
          </a:p>
          <a:p>
            <a:pPr indent="0">
              <a:lnSpc>
                <a:spcPct val="104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1c1c1c"/>
              </a:solidFill>
              <a:latin typeface="Source Sans Pro Light"/>
            </a:endParaRPr>
          </a:p>
          <a:p>
            <a:pPr indent="0" algn="r">
              <a:lnSpc>
                <a:spcPct val="104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1c1c1c"/>
                </a:solidFill>
                <a:latin typeface="Source Sans Pro Light"/>
              </a:rPr>
              <a:t>                                                                         </a:t>
            </a:r>
            <a:endParaRPr b="0" lang="en-US" sz="2600" spc="-1" strike="noStrike">
              <a:solidFill>
                <a:srgbClr val="1c1c1c"/>
              </a:solidFill>
              <a:latin typeface="Source Sans Pro Light"/>
            </a:endParaRPr>
          </a:p>
          <a:p>
            <a:pPr indent="0" algn="r">
              <a:lnSpc>
                <a:spcPct val="104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1c1c1c"/>
              </a:solidFill>
              <a:latin typeface="Source Sans Pro Light"/>
            </a:endParaRPr>
          </a:p>
          <a:p>
            <a:pPr indent="0" algn="r">
              <a:lnSpc>
                <a:spcPct val="104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1c1c1c"/>
                </a:solidFill>
                <a:latin typeface="Source Sans Pro Light"/>
              </a:rPr>
              <a:t>                                                                              </a:t>
            </a:r>
            <a:r>
              <a:rPr b="1" lang="ru-RU" sz="2600" spc="-1" strike="noStrike">
                <a:solidFill>
                  <a:srgbClr val="1c1c1c"/>
                </a:solidFill>
                <a:latin typeface="Source Sans Pro Light"/>
              </a:rPr>
              <a:t>Михайлова Юлия Валерьевна, </a:t>
            </a:r>
            <a:endParaRPr b="0" lang="en-US" sz="2600" spc="-1" strike="noStrike">
              <a:solidFill>
                <a:srgbClr val="1c1c1c"/>
              </a:solidFill>
              <a:latin typeface="Source Sans Pro Light"/>
            </a:endParaRPr>
          </a:p>
          <a:p>
            <a:pPr indent="0" algn="r">
              <a:lnSpc>
                <a:spcPct val="104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1c1c1c"/>
                </a:solidFill>
                <a:latin typeface="Source Sans Pro Light"/>
              </a:rPr>
              <a:t>                                                     </a:t>
            </a:r>
            <a:r>
              <a:rPr b="1" lang="ru-RU" sz="2600" spc="-1" strike="noStrike">
                <a:solidFill>
                  <a:srgbClr val="1c1c1c"/>
                </a:solidFill>
                <a:latin typeface="Source Sans Pro Light"/>
              </a:rPr>
              <a:t>Учитель математики </a:t>
            </a:r>
            <a:endParaRPr b="0" lang="en-US" sz="2600" spc="-1" strike="noStrike">
              <a:solidFill>
                <a:srgbClr val="1c1c1c"/>
              </a:solidFill>
              <a:latin typeface="Source Sans Pro Light"/>
            </a:endParaRPr>
          </a:p>
          <a:p>
            <a:pPr indent="0" algn="r">
              <a:lnSpc>
                <a:spcPct val="104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1c1c1c"/>
                </a:solidFill>
                <a:latin typeface="Source Sans Pro Light"/>
              </a:rPr>
              <a:t>МБОУ «Лицей №145» </a:t>
            </a:r>
            <a:endParaRPr b="0" lang="en-US" sz="2600" spc="-1" strike="noStrike">
              <a:solidFill>
                <a:srgbClr val="1c1c1c"/>
              </a:solidFill>
              <a:latin typeface="Source Sans Pro Light"/>
            </a:endParaRPr>
          </a:p>
          <a:p>
            <a:pPr indent="0" algn="r">
              <a:lnSpc>
                <a:spcPct val="104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1c1c1c"/>
                </a:solidFill>
                <a:latin typeface="Source Sans Pro Light"/>
              </a:rPr>
              <a:t>Авиастроительного района </a:t>
            </a:r>
            <a:endParaRPr b="0" lang="en-US" sz="2600" spc="-1" strike="noStrike">
              <a:solidFill>
                <a:srgbClr val="1c1c1c"/>
              </a:solidFill>
              <a:latin typeface="Source Sans Pro Light"/>
            </a:endParaRPr>
          </a:p>
          <a:p>
            <a:pPr indent="0" algn="r">
              <a:lnSpc>
                <a:spcPct val="104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1c1c1c"/>
                </a:solidFill>
                <a:latin typeface="Source Sans Pro Light"/>
              </a:rPr>
              <a:t>г. Казани</a:t>
            </a:r>
            <a:endParaRPr b="0" lang="en-US" sz="2600" spc="-1" strike="noStrike">
              <a:solidFill>
                <a:srgbClr val="1c1c1c"/>
              </a:solidFill>
              <a:latin typeface="Source Sans Pro Light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975280" y="5079960"/>
            <a:ext cx="2232000" cy="16876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6384960" y="1511280"/>
            <a:ext cx="2687760" cy="184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356760" cy="8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Source Sans Pro Black"/>
              </a:rPr>
              <a:t>Исследование равнобедренного треугольника</a:t>
            </a: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60000" y="1979280"/>
            <a:ext cx="9177480" cy="467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r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1c1c1c"/>
                </a:solidFill>
                <a:latin typeface="Source Sans Pro Semibold"/>
              </a:rPr>
              <a:t>При наложении углов при основании образовалась линия сгиба!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marL="343080" indent="0" algn="r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1c1c1c"/>
                </a:solidFill>
                <a:latin typeface="Source Sans Pro Semibold"/>
              </a:rPr>
              <a:t>Исследуем ее, каким отрезком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marL="343080" indent="0" algn="r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1c1c1c"/>
                </a:solidFill>
                <a:latin typeface="Source Sans Pro Semibold"/>
              </a:rPr>
              <a:t>в равнобедренном треугольнике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marL="343080" indent="0" algn="r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1c1c1c"/>
                </a:solidFill>
                <a:latin typeface="Source Sans Pro Semibold"/>
              </a:rPr>
              <a:t>она является?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2592360"/>
            <a:ext cx="4619520" cy="41814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 rot="16200000">
            <a:off x="1041480" y="4930200"/>
            <a:ext cx="247932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vert="eaVert" rot="10800000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 и н и я    с г и б 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079640" y="4608360"/>
            <a:ext cx="215640" cy="1447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3311640" y="4532040"/>
            <a:ext cx="215640" cy="150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Source Sans Pro Black"/>
              </a:rPr>
              <a:t>Свойство биссектрисы равнобедренного треугольника:</a:t>
            </a: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15640" y="1511280"/>
            <a:ext cx="918036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 u="sng">
                <a:solidFill>
                  <a:srgbClr val="1c1c1c"/>
                </a:solidFill>
                <a:uFillTx/>
                <a:latin typeface="Source Sans Pro Semibold"/>
              </a:rPr>
              <a:t>Теорема</a:t>
            </a:r>
            <a:r>
              <a:rPr b="1" lang="ru-RU" sz="2600" spc="-1" strike="noStrike">
                <a:solidFill>
                  <a:srgbClr val="1c1c1c"/>
                </a:solidFill>
                <a:latin typeface="Source Sans Pro Semibold"/>
              </a:rPr>
              <a:t>: В равнобедренном треугольнике биссектриса, проведенная к основанию, является медианой и высотой.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295280" y="2409840"/>
            <a:ext cx="3527640" cy="437184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2716200" y="5989680"/>
            <a:ext cx="3063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076560" y="5989680"/>
            <a:ext cx="3063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616720" y="3882960"/>
            <a:ext cx="373212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∆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∆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В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 первому признак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=&gt; АВ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= С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=&gt; BB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— медиан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543640" y="2519280"/>
            <a:ext cx="432108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ан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∆ АВС, АВ=ВС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В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— биссектри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Доказа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, что ВВ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— медиана, высо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688000" y="3240000"/>
            <a:ext cx="403236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688000" y="4967280"/>
            <a:ext cx="3600360" cy="16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3=&lt;4, а также они смежные, =&gt; каждый из них равен 9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=&gt;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BB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— высот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Теорема доказана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dur="indefinite" fill="hold">
                      <p:stCondLst>
                        <p:cond delay="indefinite"/>
                      </p:stCondLst>
                      <p:childTnLst>
                        <p:par>
                          <p:cTn id="11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dur="indefinite" fill="hold">
                      <p:stCondLst>
                        <p:cond delay="indefinite"/>
                      </p:stCondLst>
                      <p:childTnLst>
                        <p:par>
                          <p:cTn id="1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dur="indefinite" fill="hold">
                      <p:stCondLst>
                        <p:cond delay="indefinite"/>
                      </p:stCondLst>
                      <p:childTnLst>
                        <p:par>
                          <p:cTn id="1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Source Sans Pro Black"/>
              </a:rPr>
              <a:t>Этап рефлексии</a:t>
            </a: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812880" y="2457360"/>
          <a:ext cx="8354520" cy="2879280"/>
        </p:xfrm>
        <a:graphic>
          <a:graphicData uri="http://schemas.openxmlformats.org/drawingml/2006/table">
            <a:tbl>
              <a:tblPr/>
              <a:tblGrid>
                <a:gridCol w="3276720"/>
                <a:gridCol w="5077800"/>
              </a:tblGrid>
              <a:tr h="425520">
                <a:tc>
                  <a:txBody>
                    <a:bodyPr lIns="90000" rIns="90000" tIns="92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уроке я работал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92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ктивно/пассив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425880">
                <a:tc>
                  <a:txBody>
                    <a:bodyPr lIns="90000" rIns="90000" tIns="92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оей работой на уроке 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92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волен/ не доволе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425520">
                <a:tc>
                  <a:txBody>
                    <a:bodyPr lIns="90000" rIns="90000" tIns="92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рок мне показал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92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ротким/ длинны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1602360">
                <a:tc>
                  <a:txBody>
                    <a:bodyPr lIns="90000" rIns="90000" tIns="92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териал урока был мн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92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нятен/  не поняте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езен/ бесполезе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тересен/ скуче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76" name=""/>
          <p:cNvSpPr/>
          <p:nvPr/>
        </p:nvSpPr>
        <p:spPr>
          <a:xfrm>
            <a:off x="1079640" y="1655640"/>
            <a:ext cx="345744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ужное подчеркнуть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60000" y="1979640"/>
            <a:ext cx="918036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5600" spc="-1" strike="noStrike">
              <a:solidFill>
                <a:srgbClr val="1c1c1c"/>
              </a:solidFill>
              <a:latin typeface="Source Sans Pro Semibold"/>
            </a:endParaRPr>
          </a:p>
          <a:p>
            <a:pPr indent="0" algn="ctr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600" spc="-1" strike="noStrike">
                <a:solidFill>
                  <a:srgbClr val="1c1c1c"/>
                </a:solidFill>
                <a:latin typeface="Source Sans Pro Semibold"/>
              </a:rPr>
              <a:t>Спасибо за внимание!</a:t>
            </a:r>
            <a:endParaRPr b="1" lang="en-US" sz="5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3672000" y="4248000"/>
            <a:ext cx="3095640" cy="206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Source Sans Pro Black"/>
              </a:rPr>
              <a:t>                     </a:t>
            </a:r>
            <a:r>
              <a:rPr b="1" lang="ru-RU" sz="3200" spc="-1" strike="noStrike">
                <a:solidFill>
                  <a:srgbClr val="ffffff"/>
                </a:solidFill>
                <a:latin typeface="Source Sans Pro Black"/>
              </a:rPr>
              <a:t>Устные упражнения:</a:t>
            </a: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60000" y="1979640"/>
            <a:ext cx="918036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1c1c1c"/>
                </a:solidFill>
                <a:latin typeface="Source Sans Pro Semibold"/>
              </a:rPr>
              <a:t>№</a:t>
            </a:r>
            <a:r>
              <a:rPr b="1" lang="ru-RU" sz="2600" spc="-1" strike="noStrike">
                <a:solidFill>
                  <a:srgbClr val="1c1c1c"/>
                </a:solidFill>
                <a:latin typeface="Source Sans Pro Semibold"/>
              </a:rPr>
              <a:t>1. Дан треугольник </a:t>
            </a:r>
            <a:r>
              <a:rPr b="1" lang="ru-RU" sz="2600" spc="-1" strike="noStrike">
                <a:solidFill>
                  <a:srgbClr val="1c1c1c"/>
                </a:solidFill>
                <a:latin typeface="Arial"/>
                <a:ea typeface="Arial"/>
              </a:rPr>
              <a:t>∆ </a:t>
            </a:r>
            <a:r>
              <a:rPr b="1" lang="ru-RU" sz="2600" spc="-1" strike="noStrike">
                <a:solidFill>
                  <a:srgbClr val="1c1c1c"/>
                </a:solidFill>
                <a:latin typeface="Source Sans Pro Semibold"/>
              </a:rPr>
              <a:t>АВС. Назовите его биссектрису, медиану и высоту?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600360" y="2448000"/>
            <a:ext cx="4221360" cy="3149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4" name=""/>
          <p:cNvGraphicFramePr/>
          <p:nvPr/>
        </p:nvGraphicFramePr>
        <p:xfrm>
          <a:off x="503280" y="5819760"/>
          <a:ext cx="9289800" cy="447480"/>
        </p:xfrm>
        <a:graphic>
          <a:graphicData uri="http://schemas.openxmlformats.org/drawingml/2006/table">
            <a:tbl>
              <a:tblPr/>
              <a:tblGrid>
                <a:gridCol w="3096000"/>
                <a:gridCol w="3096360"/>
                <a:gridCol w="3097440"/>
              </a:tblGrid>
              <a:tr h="447480">
                <a:tc>
                  <a:txBody>
                    <a:bodyPr lIns="90000" rIns="90000" tIns="190800" bIns="46800" anchor="t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иссектриса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∆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АВ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190800" bIns="46800" anchor="t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диана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∆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В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190800" bIns="46800" anchor="t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сота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∆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В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</a:tbl>
          </a:graphicData>
        </a:graphic>
      </p:graphicFrame>
      <p:sp>
        <p:nvSpPr>
          <p:cNvPr id="105" name=""/>
          <p:cNvSpPr/>
          <p:nvPr/>
        </p:nvSpPr>
        <p:spPr>
          <a:xfrm>
            <a:off x="7056360" y="3660840"/>
            <a:ext cx="6476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16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40000" y="6264360"/>
            <a:ext cx="4651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803840" y="6264360"/>
            <a:ext cx="5238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129520" y="6264360"/>
            <a:ext cx="5097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032360" y="5400720"/>
            <a:ext cx="7668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ис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dur="indefinite" fill="hold">
                      <p:stCondLst>
                        <p:cond delay="indefinite"/>
                      </p:stCondLst>
                      <p:childTnLst>
                        <p:par>
                          <p:cTn id="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dur="indefinite" fill="hold">
                      <p:stCondLst>
                        <p:cond delay="indefinite"/>
                      </p:stCondLst>
                      <p:childTnLst>
                        <p:par>
                          <p:cTn id="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Source Sans Pro Black"/>
              </a:rPr>
              <a:t>                       </a:t>
            </a:r>
            <a:r>
              <a:rPr b="1" lang="ru-RU" sz="3200" spc="-1" strike="noStrike">
                <a:solidFill>
                  <a:srgbClr val="ffffff"/>
                </a:solidFill>
                <a:latin typeface="Source Sans Pro Black"/>
              </a:rPr>
              <a:t>Устные упражнения:</a:t>
            </a: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60000" y="1979640"/>
            <a:ext cx="918036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1c1c1c"/>
                </a:solidFill>
                <a:latin typeface="Source Sans Pro Semibold"/>
              </a:rPr>
              <a:t>№</a:t>
            </a:r>
            <a:r>
              <a:rPr b="1" lang="ru-RU" sz="2600" spc="-1" strike="noStrike">
                <a:solidFill>
                  <a:srgbClr val="1c1c1c"/>
                </a:solidFill>
                <a:latin typeface="Source Sans Pro Semibold"/>
              </a:rPr>
              <a:t>2. Докажите, что </a:t>
            </a:r>
            <a:r>
              <a:rPr b="1" lang="ru-RU" sz="2600" spc="-1" strike="noStrike">
                <a:solidFill>
                  <a:srgbClr val="1c1c1c"/>
                </a:solidFill>
                <a:latin typeface="Source Sans Pro Semibold"/>
                <a:ea typeface="Source Sans Pro Semibold"/>
              </a:rPr>
              <a:t>∆ АВО и ∆ СDО на рисунке 1 равны. </a:t>
            </a:r>
            <a:r>
              <a:rPr b="1" lang="ru-RU" sz="2600" spc="-1" strike="noStrike">
                <a:solidFill>
                  <a:srgbClr val="1c1c1c"/>
                </a:solidFill>
                <a:latin typeface="Source Sans Pro Semibold"/>
              </a:rPr>
              <a:t> 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152360" y="2592360"/>
            <a:ext cx="3781440" cy="35067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2519280" y="6480000"/>
            <a:ext cx="830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ис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975280" y="2852640"/>
            <a:ext cx="1765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0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1. АО=С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961240" y="3452760"/>
            <a:ext cx="187164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2. ВО=D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975280" y="4103640"/>
            <a:ext cx="338472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3. &lt; АОВ = &lt; СОD (вертикальные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27640" y="5210280"/>
            <a:ext cx="422280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0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=&gt;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∆ АОВ = ∆ СDO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по 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первому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признаку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равенства треугольников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indefinite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dur="indefinite" fill="hold">
                      <p:stCondLst>
                        <p:cond delay="indefinite"/>
                      </p:stCondLst>
                      <p:childTnLst>
                        <p:par>
                          <p:cTn id="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dur="indefinite" fill="hold">
                      <p:stCondLst>
                        <p:cond delay="indefinite"/>
                      </p:stCondLst>
                      <p:childTnLst>
                        <p:par>
                          <p:cTn id="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dur="indefinite" fill="hold">
                      <p:stCondLst>
                        <p:cond delay="indefinite"/>
                      </p:stCondLst>
                      <p:childTnLst>
                        <p:par>
                          <p:cTn id="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Source Sans Pro Black"/>
              </a:rPr>
              <a:t>                         </a:t>
            </a:r>
            <a:r>
              <a:rPr b="1" lang="ru-RU" sz="3200" spc="-1" strike="noStrike">
                <a:solidFill>
                  <a:srgbClr val="ffffff"/>
                </a:solidFill>
                <a:latin typeface="Source Sans Pro Black"/>
              </a:rPr>
              <a:t>Геометрия вокруг нас!</a:t>
            </a: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60000" y="1979640"/>
            <a:ext cx="918036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904000" y="4008600"/>
            <a:ext cx="3600360" cy="24714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144360" y="2016000"/>
            <a:ext cx="5496120" cy="41036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5975280" y="1440000"/>
            <a:ext cx="349272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dur="indefinite" fill="hold">
                      <p:stCondLst>
                        <p:cond delay="indefinite"/>
                      </p:stCondLst>
                      <p:childTnLst>
                        <p:par>
                          <p:cTn id="4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1446120"/>
            <a:ext cx="9720360" cy="544212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356760" cy="8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Source Sans Pro Black"/>
              </a:rPr>
              <a:t>                               </a:t>
            </a:r>
            <a:r>
              <a:rPr b="1" lang="ru-RU" sz="3200" spc="-1" strike="noStrike">
                <a:solidFill>
                  <a:srgbClr val="ffffff"/>
                </a:solidFill>
                <a:latin typeface="Source Sans Pro Black"/>
              </a:rPr>
              <a:t>Сконструируй дом!</a:t>
            </a: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60000" y="1979280"/>
            <a:ext cx="9177480" cy="467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126" name=""/>
          <p:cNvSpPr/>
          <p:nvPr/>
        </p:nvSpPr>
        <p:spPr>
          <a:xfrm>
            <a:off x="3711600" y="4917960"/>
            <a:ext cx="2840040" cy="1849680"/>
          </a:xfrm>
          <a:prstGeom prst="rect">
            <a:avLst/>
          </a:prstGeom>
          <a:solidFill>
            <a:srgbClr val="ffffcc"/>
          </a:solidFill>
          <a:ln w="93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rot="20340000">
            <a:off x="603360" y="4763880"/>
            <a:ext cx="2651040" cy="1360440"/>
          </a:xfrm>
          <a:prstGeom prst="triangle">
            <a:avLst>
              <a:gd name="adj" fmla="val 9301"/>
            </a:avLst>
          </a:prstGeom>
          <a:solidFill>
            <a:srgbClr val="ff8080"/>
          </a:solidFill>
          <a:ln w="93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rot="20760000">
            <a:off x="1310760" y="2290320"/>
            <a:ext cx="1979640" cy="2183040"/>
          </a:xfrm>
          <a:prstGeom prst="rtTriangle">
            <a:avLst/>
          </a:prstGeom>
          <a:solidFill>
            <a:srgbClr val="660066"/>
          </a:solidFill>
          <a:ln w="93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672000" y="2664000"/>
            <a:ext cx="2735280" cy="1152360"/>
          </a:xfrm>
          <a:prstGeom prst="triangle">
            <a:avLst>
              <a:gd name="adj" fmla="val 68519"/>
            </a:avLst>
          </a:prstGeom>
          <a:solidFill>
            <a:srgbClr val="c5000b"/>
          </a:solidFill>
          <a:ln w="93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rot="1440000">
            <a:off x="6629400" y="2881440"/>
            <a:ext cx="2592360" cy="576000"/>
          </a:xfrm>
          <a:prstGeom prst="triangle">
            <a:avLst>
              <a:gd name="adj" fmla="val 34977"/>
            </a:avLst>
          </a:prstGeom>
          <a:solidFill>
            <a:srgbClr val="ff950e"/>
          </a:solidFill>
          <a:ln w="93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1920000">
            <a:off x="7048080" y="4208040"/>
            <a:ext cx="2795760" cy="1706760"/>
          </a:xfrm>
          <a:prstGeom prst="triangle">
            <a:avLst>
              <a:gd name="adj" fmla="val 49958"/>
            </a:avLst>
          </a:prstGeom>
          <a:solidFill>
            <a:srgbClr val="e6e6ff"/>
          </a:solidFill>
          <a:ln w="93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3711600" y="4917960"/>
            <a:ext cx="2840040" cy="184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Source Sans Pro Black"/>
              </a:rPr>
              <a:t>Равнобедренный треугольник и его свойства</a:t>
            </a: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60000" y="1979640"/>
            <a:ext cx="918036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1c1c1c"/>
                </a:solidFill>
                <a:latin typeface="Source Sans Pro Semibold"/>
              </a:rPr>
              <a:t>Цель</a:t>
            </a:r>
            <a:r>
              <a:rPr b="1" lang="ru-RU" sz="2600" spc="-1" strike="noStrike">
                <a:solidFill>
                  <a:srgbClr val="1c1c1c"/>
                </a:solidFill>
                <a:latin typeface="Source Sans Pro Semibold"/>
              </a:rPr>
              <a:t> урока: 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1c1c1c"/>
                </a:solidFill>
                <a:latin typeface="Source Sans Pro Semibold"/>
              </a:rPr>
              <a:t>1. познакомиться с  понятием равнобедренного треугольника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1c1c1c"/>
                </a:solidFill>
                <a:latin typeface="Source Sans Pro Semibold"/>
              </a:rPr>
              <a:t>2.рассмотреть свойства равнобедренного треугольника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1c1c1c"/>
                </a:solidFill>
                <a:latin typeface="Source Sans Pro Semibold"/>
              </a:rPr>
              <a:t>3. научиться использовать их при решении задач.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7000920" y="4608360"/>
            <a:ext cx="2538360" cy="201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Source Sans Pro Black"/>
              </a:rPr>
              <a:t>     </a:t>
            </a:r>
            <a:r>
              <a:rPr b="1" lang="ru-RU" sz="3200" spc="-1" strike="noStrike">
                <a:solidFill>
                  <a:srgbClr val="ffffff"/>
                </a:solidFill>
                <a:latin typeface="Source Sans Pro Black"/>
              </a:rPr>
              <a:t>Построение равнобедренного треугольника</a:t>
            </a: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60000" y="1979640"/>
            <a:ext cx="918036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1c1c1c"/>
                </a:solidFill>
                <a:latin typeface="Source Sans Pro Semibold"/>
              </a:rPr>
              <a:t>Использование ЦОР: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 u="sng">
                <a:solidFill>
                  <a:srgbClr val="ccccff"/>
                </a:solidFill>
                <a:uFillTx/>
                <a:latin typeface="Source Sans Pro Semibold"/>
                <a:hlinkClick r:id="rId1"/>
              </a:rPr>
              <a:t>http://files.school-collection.edu.ru/dlrstore/7383a654-0dac-11dc-8314-0800200c9a66/index.htm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Source Sans Pro Black"/>
              </a:rPr>
              <a:t>Исследование равнобедренного треугольника:</a:t>
            </a: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60000" y="1979640"/>
            <a:ext cx="918036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1c1c1c"/>
                </a:solidFill>
                <a:latin typeface="Source Sans Pro Semibold"/>
              </a:rPr>
              <a:t>                                                   </a:t>
            </a:r>
            <a:r>
              <a:rPr b="1" lang="ru-RU" sz="2600" spc="-1" strike="noStrike">
                <a:solidFill>
                  <a:srgbClr val="1c1c1c"/>
                </a:solidFill>
                <a:latin typeface="Source Sans Pro Semibold"/>
              </a:rPr>
              <a:t>1. Выделите основание равнобедренного треугольника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indent="0" algn="r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1c1c1c"/>
                </a:solidFill>
                <a:latin typeface="Source Sans Pro Semibold"/>
              </a:rPr>
              <a:t>2. Отметьте углы при основании :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indent="0" algn="r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1c1c1c"/>
                </a:solidFill>
                <a:latin typeface="Source Sans Pro Semibold"/>
              </a:rPr>
              <a:t> </a:t>
            </a:r>
            <a:r>
              <a:rPr b="1" lang="ru-RU" sz="2600" spc="-1" strike="noStrike">
                <a:solidFill>
                  <a:srgbClr val="1c1c1c"/>
                </a:solidFill>
                <a:latin typeface="Source Sans Pro Semibold"/>
              </a:rPr>
              <a:t>&lt;1 и &lt;2    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indent="0" algn="r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indent="0" algn="r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1c1c1c"/>
                </a:solidFill>
                <a:latin typeface="Source Sans Pro Semibold"/>
              </a:rPr>
              <a:t>3. Наложите угол 1 на угол 2.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indent="0" algn="r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1c1c1c"/>
                </a:solidFill>
                <a:latin typeface="Source Sans Pro Semibold"/>
              </a:rPr>
              <a:t>                                                                                        </a:t>
            </a:r>
            <a:r>
              <a:rPr b="1" lang="ru-RU" sz="2600" spc="-1" strike="noStrike">
                <a:solidFill>
                  <a:srgbClr val="1c1c1c"/>
                </a:solidFill>
                <a:latin typeface="Source Sans Pro Semibold"/>
              </a:rPr>
              <a:t>Совместились ли они?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1c1c1c"/>
                </a:solidFill>
                <a:latin typeface="Source Sans Pro Semibold"/>
              </a:rPr>
              <a:t>                                                                       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140" name=""/>
          <p:cNvSpPr/>
          <p:nvPr/>
        </p:nvSpPr>
        <p:spPr>
          <a:xfrm>
            <a:off x="1079640" y="2052720"/>
            <a:ext cx="4464000" cy="4068720"/>
          </a:xfrm>
          <a:prstGeom prst="triangle">
            <a:avLst>
              <a:gd name="adj" fmla="val 50000"/>
            </a:avLst>
          </a:prstGeom>
          <a:solidFill>
            <a:srgbClr val="ffffcc"/>
          </a:solidFill>
          <a:ln w="93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079640" y="6119640"/>
            <a:ext cx="4464000" cy="1800"/>
          </a:xfrm>
          <a:custGeom>
            <a:avLst/>
            <a:gdLst/>
            <a:ahLst/>
            <a:rect l="l" t="t" r="r" b="b"/>
            <a:pathLst>
              <a:path w="12401" h="6">
                <a:moveTo>
                  <a:pt x="0" y="0"/>
                </a:moveTo>
                <a:lnTo>
                  <a:pt x="12400" y="5"/>
                </a:lnTo>
              </a:path>
            </a:pathLst>
          </a:custGeom>
          <a:noFill/>
          <a:ln w="108000">
            <a:solidFill>
              <a:srgbClr val="ff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016000" y="4032360"/>
            <a:ext cx="287640" cy="2156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4359240" y="4024080"/>
            <a:ext cx="287280" cy="2286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511280" y="5543640"/>
            <a:ext cx="3794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0000" y="5543640"/>
            <a:ext cx="3794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dur="indefinite" fill="hold">
                      <p:stCondLst>
                        <p:cond delay="indefinite"/>
                      </p:stCondLst>
                      <p:childTnLst>
                        <p:par>
                          <p:cTn id="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dur="indefinite" fill="hold">
                      <p:stCondLst>
                        <p:cond delay="indefinite"/>
                      </p:stCondLst>
                      <p:childTnLst>
                        <p:par>
                          <p:cTn id="7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Source Sans Pro Black"/>
              </a:rPr>
              <a:t>Свойство углов при основании равнобедренного треугольника:</a:t>
            </a: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87280" y="1584360"/>
            <a:ext cx="964728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 u="sng">
                <a:solidFill>
                  <a:srgbClr val="1c1c1c"/>
                </a:solidFill>
                <a:uFillTx/>
                <a:latin typeface="Source Sans Pro Semibold"/>
              </a:rPr>
              <a:t>Теорема</a:t>
            </a:r>
            <a:r>
              <a:rPr b="1" lang="ru-RU" sz="2600" spc="-1" strike="noStrike">
                <a:solidFill>
                  <a:srgbClr val="1c1c1c"/>
                </a:solidFill>
                <a:latin typeface="Source Sans Pro Semibold"/>
              </a:rPr>
              <a:t>: углы при основании равнобедренного треугольника равны. 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148" name=""/>
          <p:cNvSpPr/>
          <p:nvPr/>
        </p:nvSpPr>
        <p:spPr>
          <a:xfrm>
            <a:off x="5256360" y="6480000"/>
            <a:ext cx="344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655640" y="2054160"/>
            <a:ext cx="4103640" cy="478476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6191280" y="2262240"/>
            <a:ext cx="3144960" cy="21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ан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∆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С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=В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кажите, что &lt;А=&lt;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казательств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ведем биссектрису В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261120" y="4464000"/>
            <a:ext cx="32432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смотрим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∆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∆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В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43560" y="4809960"/>
            <a:ext cx="9288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=В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392880" y="5184720"/>
            <a:ext cx="25351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— общая стор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435720" y="5529240"/>
            <a:ext cx="34988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1=&lt;2 (т. к. ВВ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иссектрис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240000" y="3168720"/>
            <a:ext cx="3063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652920" y="3168720"/>
            <a:ext cx="306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191280" y="2952720"/>
            <a:ext cx="295272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943600" y="5975280"/>
            <a:ext cx="41371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&gt;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∆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∆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В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 первому признак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&gt; &lt;A=&lt;C.        Теорема доказан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dur="indefinite" fill="hold">
                      <p:stCondLst>
                        <p:cond delay="indefinite"/>
                      </p:stCondLst>
                      <p:childTnLst>
                        <p:par>
                          <p:cTn id="8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dur="indefinite" fill="hold">
                      <p:stCondLst>
                        <p:cond delay="indefinite"/>
                      </p:stCondLst>
                      <p:childTnLst>
                        <p:par>
                          <p:cTn id="8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dur="indefinite" fill="hold">
                      <p:stCondLst>
                        <p:cond delay="indefinite"/>
                      </p:stCondLst>
                      <p:childTnLst>
                        <p:par>
                          <p:cTn id="9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dur="indefinite" fill="hold">
                      <p:stCondLst>
                        <p:cond delay="indefinite"/>
                      </p:stCondLst>
                      <p:childTnLst>
                        <p:par>
                          <p:cTn id="9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dur="indefinite" fill="hold">
                      <p:stCondLst>
                        <p:cond delay="indefinite"/>
                      </p:stCondLst>
                      <p:childTnLst>
                        <p:par>
                          <p:cTn id="10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dur="indefinite" fill="hold">
                      <p:stCondLst>
                        <p:cond delay="indefinite"/>
                      </p:stCondLst>
                      <p:childTnLst>
                        <p:par>
                          <p:cTn id="10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24T19:21:58Z</dcterms:created>
  <dc:creator/>
  <dc:description/>
  <dc:language>en-US</dc:language>
  <cp:lastModifiedBy/>
  <dcterms:modified xsi:type="dcterms:W3CDTF">2016-01-26T08:57:21Z</dcterms:modified>
  <cp:revision>11</cp:revision>
  <dc:subject/>
  <dc:title/>
</cp:coreProperties>
</file>