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092-AEDE-4E34-BB7C-7FD864C2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3AE-AA95-4D31-81FD-0DD365C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00C-32FA-42E3-8E73-5712FA0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332-8F12-442E-B77C-3AF0D5FF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B3F3-B587-4B54-BD44-68902A27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5AA-6757-4C20-9048-CFE55AEE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273-790B-430E-A6B9-84B8936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B0BA-C14D-4B6B-9E71-7796F275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99E-C969-46B2-A713-A868296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DA80-B9F4-4101-AAA4-A854A98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076-3239-46B4-8168-1C1E36D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781-36AC-4492-BA84-F7801E9C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65E2-4AEA-400A-BCF4-C29AD52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8A72-EA76-46A1-A6F9-34EE693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5B96-5DFD-42B6-98AD-4EE15B72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4878-D720-40B6-A314-E6D8A14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3CF-B446-4ADB-BCC4-A0EC5894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47A-6415-42F3-AC29-BE37286C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BDA-6F4A-48E8-9761-23A7469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6A4-8514-4CD0-BB9B-8F911A7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CF8-0B2B-4B32-A60E-C56ED977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9DB-32CC-4255-B040-064C44C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735-973C-4002-BCC6-E08963E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09A-8AD6-4F45-883C-6177F88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3CE5-5389-430F-B474-643DBCD1C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3DD-71EF-4C53-8C7C-E7C816BB046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6920" y="-5317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 u="sng">
                <a:solidFill>
                  <a:srgbClr val="ff0000"/>
                </a:solidFill>
                <a:uFillTx/>
                <a:latin typeface="Verdana"/>
              </a:rPr>
              <a:t>Правила поведения в экстремальных </a:t>
            </a:r>
            <a:br>
              <a:rPr sz="5200"/>
            </a:br>
            <a:r>
              <a:rPr b="0" i="1" lang="ru-RU" sz="5200" spc="-1" strike="noStrike" u="sng">
                <a:solidFill>
                  <a:srgbClr val="ff0000"/>
                </a:solidFill>
                <a:uFillTx/>
                <a:latin typeface="Verdana"/>
              </a:rPr>
              <a:t>ситуациях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200720" cy="3313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29600" cy="439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7.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Если у вас есть возможность помочь другим людям – реализуйте её любыми способами, лучше спасти несколько чужих жизней, чем собственное имущество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Когда горит человек.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Ни в коем случае не давайте ему бежать – пламя только усилится. Нужно сразу же свалить пострадавшего на землю, не исключая силовых методов (лучше всего в сугроб или лужу), попробовать оперативно скинуть горящую одежду, а лучше накинуть любую плотную ткань, обязательно оставив голову открытой (дабы человек не задохнулся). Нельзя снимать самому одежду с обожженных частей тела, тем более синтетику – передайте пострадавшего в руки врач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388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на льд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327560" cy="5185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27280" y="1125000"/>
            <a:ext cx="471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ри переходе водоема по льду следует пользоваться оборудованными ледовыми переправами или проложенными тропами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, а при их отсутствии — убедиться в прочности льда с помощью любого длинного и прочного предмета, лучше всего подойдет используемая рыбаками пешня (маленький лом для создания прорубей). Проверять прочность льда ударами ноги опасно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Безопасным для перехода является лед с зеленоватым оттенком и толщиной не менее 7 с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переходе по льду группами необходимо следовать друг за другом на расстоянии 5-6 м и быть готовым оказать немедленную помощь впереди идущем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еревозка грузов производится на санях или других приспособлениях с возможно большей площадью опоры на поверхность ль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льзоваться на водоемах площадками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ля катания на коньках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разрешается после тщательной проверки прочности льда,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олщина которого должна быть не менее 12 см, а при массовом катании — не менее 25 с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633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 переходе водоема по льду на лыжах рекомендуется пользоваться проложенной лыжней, а при ее отсутствии, прежде чем двигаться по целине, следует отстегнуть крепления лыж и снять петли лыжных палок с кистей рук. Рюкзак или ранец необходимо взять на одно плечо. Расстояние между лыжниками должно быть 5-6 метров. Во время движения лыжник, идущий первым, ударами палок проверяет прочность льда и следит за его состояние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Во время рыбной ловли нельзя пробивать много лунок на ограниченной площади и собираться большими группами.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аждому рыболову рекомендуется иметь спасательное средство в виде шнура длиной 12-15 м, на одном конце которого должен быть закреплен груз весом 400-500 г, а на другом изготовлена петля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теракт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Любой человек по стечению обстоятельств может оказаться заложником преступников. При этом захватчики могут добиваться достижения политических целей, получения выкупа и т.п. Во всех случаях ваша жизнь становится предметом торга для террористов. Специалисты рекомендуют в такой ситуации придерживаться определенных правил поведения. Итак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 террористическому акту невозможно заранее подготовиться, поэтому надо быть готовым к нему всегд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Террористы обычно выбирают для своих атак известные и заметные цели, например, крупные города, международные аэропорты, места проведения крупных международных мероприятий, международные курорты и т.д. Обязательным условием совершения атаки является возможность избежать пристального внимания правоохранительных структур, например, досмотра до и после совершения теракта. Будьте внимательны, находясь в подобных местах. Террористы действуют внезапно и, как правило, без предварительных предупрежден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648320" y="1268280"/>
            <a:ext cx="40273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390920" cy="5176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Всегда, всегда, всегда уточняйте, где находятся резервные выходы из помещения. Заранее продумайте, как вы будете покидать здание, если в нем произойдет ЧП. Никогда не пытайтесь выбраться из горящего здания на лифте. Во-первых, механизм лифта может быть поврежден. Во-вторых, обычно испуганные люди бегут именно к лифтам. Лифты не рассчитаны на перевозку столь большого количества пассажиров, поэтому драгоценные минуты, необходимые для спасения, могут быть потеряны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Если вы оказались заложником:  По возможности скорее возьмите себя в руки, успокойтесь и не паникуйт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одготовьтесь физически, морально и эмоционально к возможному трудному испытанию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Говорите спокойным голосом. Избегайте вызывающего, враждебного то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е допускайте действий, которые могут спровоцировать нападающих к применению оружия и привести к человеческим жертвам (не бегите, не бросайтесь на террориста, не боритесь, не выхватывайте у него оружие; не пытайтесь помириться с террористом, уговорить его, не умоляйте, не взывайте слезами к его доброте)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ереносите лишения, оскорбления и унижения, не смотрите в глаза преступникам, не ведите себя вызывающ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Для поддержания сил ешьте все, что вам дают, даже если пища вам не нравит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ри необходимости выполняйте требования преступников (особенно первые полчаса), не противоречьте им, не рискуйте жизнью окружающих и своей собственной, старайтесь не допускать истерик и пан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 совершение любых действий (сесть, встать, попить, сходить в туалет), спрашивайте разреш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Если вы ранены, постарайтесь не двигаться, этим вы уменьшите потерю крови. Постарайтесь перевязать рану платком, разорванной майкой или рубашк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омните: ваша цель - остаться в живых. Будьте внимательны, постарайтесь запомнить приметы преступников, отличительные черты их лиц, одежду, имена, клички, возможные шрамы и татуировки, особенности речи и манеры поведения, тематику разговоров и т.д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паводк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95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знакомьтесь с сигналами оповещения, мерами и правилами эвакуации, подготовьтесь к ней заране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 случае риска наводнения отключите электричество, все нагревательные приборы и газ, печ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Перенесите мебель, электрооборудование и личные вещи на верхние этажи или более возвышенные места (чердаки и т.д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Положите токсичные вещества, такие как пестициды и инсектициды, в надежное место (не подверженное воздействие воды), чтобы не вызвать загрязн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о дворе дома закрепите вещи и предметы, уберите все, что может быть унесено вод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Эвакуируйте домашний скот в безопасное мест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 недоступном для воды месте сделайте запас теплых вещей, еды, питьевой воды, лекарств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3960720" cy="3922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с незнакомым челове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с окружает огромное множество незнакомых людей. С некоторыми из них мы знакомимся — кто-то вчера был посторонним человеком, а сегодня стал для нас лучшим другом. Лучше всего находить себе друзей в школе. Там дети, которые раньше, может быть, никогда не встречались, собираются вместе, узнают друг друга и становятся хорошими приятеля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Со взрослыми людьми детей обычно знакомят родители, и это, пожалуй, самый правильный способ заводить себе друзей среди старших. Существует ряд важных правил, которым должны следовать дети при встрече с незнакомыми взрослыми людь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3591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90384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1. Разговаривать на улице с посторонним человеком можно только в том случае, если тебя сопровождают родители, старший брат или сестра, учительница или еще кто-нибудь из взрослых, кого ты хорошо знаешь. Если ты идешь один (или одна), вступать в разговор с чужими людьми нельзя. Вполне вероятно, что заговоривший с тобой незнакомец — чудесный, добрый человек, но ведь он может оказаться и  не очень хорошим — с первого взгляда не поймеш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3816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2. Не соглашайся никуда идти с незнакомым человеком, не садись к нему в машину, даже если он (или она) говорит, что отвезет тебя к маме и папе. Не верь ни в коем случае! Мама и папа никогда не отправят  за тобой незнакомого человека, не предупредив тебя об этом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45082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3. Не бери у чужого человека конфеты, деньги и другие подарки. Может быть, он предлагает их от чистого сердца, а может быть, и нет. На всякий случай откажись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3673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903480"/>
            <a:ext cx="822960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икогда не верь незнакомцу, если он обещает что-то купить тебе. С какой стати? Ведь это совершенно чужой человек, он даже не знает, как тебя зовут. Ответь, что тебе ничего не нужно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762440" cy="6335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508720" y="189000"/>
            <a:ext cx="345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5. Если посторонний человек возьмет тебя за руку и попытается силой увести за собой, нужно вырваться и убежать домой или броситься за помощью к кому-нибудь из прохожих. При необходимости кричи изо всех си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Хотя большинство чужих людей не желают тебе ничего плохого, на первый взгляд трудно определить, что у незнакомца на уме. В конце концов, если ты видишь человека впервые в жизни, откуда тебе знать, хороший он или плохой? Лучше не рисковать. Со временем у тебя появится все больше и больше друзей среди взрослых — ты познакомишься с ними у себя дома, в гостях и в школ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18028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 u="sng">
                <a:solidFill>
                  <a:srgbClr val="006666"/>
                </a:solidFill>
                <a:uFillTx/>
                <a:latin typeface="Verdana"/>
              </a:rPr>
              <a:t>Спасибо за внимани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5640" y="2491920"/>
            <a:ext cx="78804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Надеемся что вы эти правила запомните и будите применять их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 экст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p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енных ситуациях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пожар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Ежегодно в России во время пожаров гибнет в среднем 20000 человек. Печальная статистика, если учесть, что эти смерти происходят в большинстве своём от невнимательности, паники и незнания элементарных правил поведения при возгорании. Огонь – явление нужное и полезное, но необходимо уметь держать его в узде. 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ежде чем рассмотреть поведение при пожаре, крайне важно запомнить несколько пунктов, касающихся особенностей возгораний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4248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икогда не паникуйте, вам это не поможет, а только приведёт к трагическим последствиям. Всегда есть «лишние» десять секунд, чтобы остановиться и подумат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26161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006666"/>
                </a:solidFill>
                <a:latin typeface="Verdana"/>
              </a:rPr>
              <a:t>0</a:t>
            </a:r>
            <a:br>
              <a:rPr sz="10600"/>
            </a:br>
            <a:r>
              <a:rPr b="0" lang="ru-RU" sz="10600" spc="-1" strike="noStrike">
                <a:solidFill>
                  <a:srgbClr val="006666"/>
                </a:solidFill>
                <a:latin typeface="Verdana"/>
              </a:rPr>
              <a:t>1</a:t>
            </a:r>
            <a:endParaRPr b="0" lang="en-US" sz="10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543640" cy="4752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5157360"/>
            <a:ext cx="80024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ервым делом звоните в службу спасения – за вас это просто может никто не сделать. Проследите, чтобы кто-нибудь встретил пожарный расчёт и помог ему быстрее добраться до мест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424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450864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ля того, чтобы расти и усиливаться, огню нужен кислород, желательно в форме ветра – не оставляйте сквозняков, закрывайте двери и окна. Не повторяйте бездумные ошибки многих людей: не следует тушить небольшое возгорание путём задувания – пламя может вырасти в несколько раз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Большинство людей погибает не в огне, а задохнувшись угарным дымом. При пожаре сразу же приготовьте намоченную тряпку (множество людей спасли себе жизнь тем, что воспользовались собственной мочой), через которую, возможно, придётся дышать. В задымлённом помещении передвигайтесь как можно ниже к полу – дым всегда стремится навер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68360" y="1628640"/>
            <a:ext cx="8229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4535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486864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5.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Даже не думайте тушить включенные электроприборы водой – нужно накинуть на воспламенившуюся технику покрывало или тяжелую штору или воспользоваться специальным огнетушителем. Если горит телевизор, воду можно залить с задней стенки, где находятся отверстия, но держитесь сбоку – кинескоп может взорватьс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6.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Не прыгайте с верхних этажей, не надо спускаться по верёвкам, простыням, водосточным трубам. Лучше подождать 15 минут помощи, чем сигануть с восьмого этажа, лелея мысль о выживании. Разумеется, когда вам своевременно предложат пожарный тент – не думайте о боязни высоты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6:33Z</dcterms:created>
  <dc:creator>admin</dc:creator>
  <dc:description/>
  <dc:language>en-US</dc:language>
  <cp:lastModifiedBy>Admin</cp:lastModifiedBy>
  <dcterms:modified xsi:type="dcterms:W3CDTF">2012-12-16T14:16:55Z</dcterms:modified>
  <cp:revision>4</cp:revision>
  <dc:subject/>
  <dc:title>Правила поведения в экстримальных  ситуациях </dc:title>
</cp:coreProperties>
</file>