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1EE1-7286-499E-98E8-E01D6453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AAD-59A3-482E-A2FA-AFAFBDFF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A9C-C802-4894-8529-42CAB794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4A1-C6AD-4A41-8A51-6A54915FD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719C4-5FB5-493F-BDCA-9D5B3F6D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45C3-0D7A-4D2C-AABC-717DB47D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40E95-4CA2-43B2-ABDF-CED03809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F42A-5B66-4749-BF9B-B3BAACD8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BE65D-C49D-4405-988C-255B9236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30AA-F32D-4AF7-8408-500CBA3D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B104-C718-42ED-A0D3-F8F94B06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504-90BB-4CCB-B906-6897DB06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3E9F-1D98-4CF1-90B6-2EF691C2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050F-D83B-4124-8159-9A12027E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5397-0389-40C3-8F49-9CE0054E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050E-BFED-49E6-BF2C-490F13BF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5B83-CDF2-46B6-B075-D502219C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DF6-48D3-498D-893F-4E505207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4BA9-9290-42E2-B4CB-AC411864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BFC5-039E-4D94-8CD7-611460BB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5B2D-1CBD-4764-BDB3-99CF1881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CC4-BF11-4C0D-8059-BBB81290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37F-8CE5-4D2F-9B38-C628CF3C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AE4C-0B1D-4AD8-BA30-A1E2BB04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custGeom>
                  <a:avLst/>
                  <a:gdLst>
                    <a:gd name="textAreaLeft" fmla="*/ -360 w 475560"/>
                    <a:gd name="textAreaRight" fmla="*/ 475560 w 475560"/>
                    <a:gd name="textAreaTop" fmla="*/ 0 h 1219320"/>
                    <a:gd name="textAreaBottom" fmla="*/ 1219680 h 12193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500400"/>
                    <a:gd name="textAreaBottom" fmla="*/ 500760 h 5004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4160"/>
                  <a:gd name="textAreaBottom" fmla="*/ 254520 h 2541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0960"/>
                  <a:gd name="textAreaBottom" fmla="*/ 211320 h 2109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7280"/>
                  <a:gd name="textAreaBottom" fmla="*/ 107640 h 107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65F9-FB20-45A6-A8B0-88DC83355D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custGeom>
                <a:avLst/>
                <a:gdLst>
                  <a:gd name="textAreaLeft" fmla="*/ 0 w 2115000"/>
                  <a:gd name="textAreaRight" fmla="*/ 2115360 w 2115000"/>
                  <a:gd name="textAreaTop" fmla="*/ -360 h 2357640"/>
                  <a:gd name="textAreaBottom" fmla="*/ 2357640 h 235764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custGeom>
                <a:avLst/>
                <a:gdLst>
                  <a:gd name="textAreaLeft" fmla="*/ 0 w 906120"/>
                  <a:gd name="textAreaRight" fmla="*/ 906480 w 90612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custGeom>
                <a:avLst/>
                <a:gdLst>
                  <a:gd name="textAreaLeft" fmla="*/ 0 w 388440"/>
                  <a:gd name="textAreaRight" fmla="*/ 388800 w 38844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custGeom>
                <a:avLst/>
                <a:gdLst>
                  <a:gd name="textAreaLeft" fmla="*/ 0 w 523440"/>
                  <a:gd name="textAreaRight" fmla="*/ 523440 w 5234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C66E-ECE2-448C-827B-96A1BA7CD17F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86920" y="-531720"/>
            <a:ext cx="619308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200" spc="-1" strike="noStrike" u="sng">
                <a:solidFill>
                  <a:srgbClr val="ff0000"/>
                </a:solidFill>
                <a:uFillTx/>
                <a:latin typeface="Verdana"/>
              </a:rPr>
              <a:t>Правила поведения в экстремальных </a:t>
            </a:r>
            <a:br>
              <a:rPr sz="5200"/>
            </a:br>
            <a:r>
              <a:rPr b="0" i="1" lang="ru-RU" sz="5200" spc="-1" strike="noStrike" u="sng">
                <a:solidFill>
                  <a:srgbClr val="ff0000"/>
                </a:solidFill>
                <a:uFillTx/>
                <a:latin typeface="Verdana"/>
              </a:rPr>
              <a:t>ситуациях</a:t>
            </a: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611280" y="3429000"/>
            <a:ext cx="7200720" cy="3313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8229600" cy="43927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7.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 Если у вас есть возможность помочь другим людям – реализуйте её любыми способами, лучше спасти несколько чужих жизней, чем собственное имущество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66"/>
                </a:solidFill>
                <a:uFillTx/>
                <a:latin typeface="Verdana"/>
              </a:rPr>
              <a:t>Когда горит человек.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44956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Ни в коем случае не давайте ему бежать – пламя только усилится. Нужно сразу же свалить пострадавшего на землю, не исключая силовых методов (лучше всего в сугроб или лужу), попробовать оперативно скинуть горящую одежду, а лучше накинуть любую плотную ткань, обязательно оставив голову открытой (дабы человек не задохнулся). Нельзя снимать самому одежду с обожженных частей тела, тем более синтетику – передайте пострадавшего в руки враче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4643280" y="1197000"/>
            <a:ext cx="40388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0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6666"/>
                </a:solidFill>
                <a:uFillTx/>
                <a:latin typeface="Verdana"/>
              </a:rPr>
              <a:t>Как вести себя на льд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4327560" cy="51850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27280" y="1125000"/>
            <a:ext cx="4716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При переходе водоема по льду следует пользоваться оборудованными ледовыми переправами или проложенными тропами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, а при их отсутствии — убедиться в прочности льда с помощью любого длинного и прочного предмета, лучше всего подойдет используемая рыбаками пешня (маленький лом для создания прорубей). Проверять прочность льда ударами ноги опасно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Безопасным для перехода является лед с зеленоватым оттенком и толщиной не менее 7 см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переходе по льду группами необходимо следовать друг за другом на расстоянии 5-6 м и быть готовым оказать немедленную помощь впереди идущему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еревозка грузов производится на санях или других приспособлениях с возможно большей площадью опоры на поверхность льда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ользоваться на водоемах площадками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для катания на коньках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разрешается после тщательной проверки прочности льда,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олщина которого должна быть не менее 12 см, а при массовом катании — не менее 25 см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6335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98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898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При переходе водоема по льду на лыжах рекомендуется пользоваться проложенной лыжней, а при ее отсутствии, прежде чем двигаться по целине, следует отстегнуть крепления лыж и снять петли лыжных палок с кистей рук. Рюкзак или ранец необходимо взять на одно плечо. Расстояние между лыжниками должно быть 5-6 метров. Во время движения лыжник, идущий первым, ударами палок проверяет прочность льда и следит за его состоянием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Во время рыбной ловли нельзя пробивать много лунок на ограниченной площади и собираться большими группами. </a:t>
            </a:r>
            <a:r>
              <a:rPr b="1" i="1" lang="ru-RU" sz="2800" spc="-1" strike="noStrike">
                <a:solidFill>
                  <a:srgbClr val="006699"/>
                </a:solidFill>
                <a:latin typeface="Verdana"/>
              </a:rPr>
              <a:t>Каждому рыболову рекомендуется иметь спасательное средство в виде шнура длиной 12-15 м, на одном конце которого должен быть закреплен груз весом 400-500 г, а на другом изготовлена петля</a:t>
            </a: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Как вести себя при теракте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Любой человек по стечению обстоятельств может оказаться заложником преступников. При этом захватчики могут добиваться достижения политических целей, получения выкупа и т.п. Во всех случаях ваша жизнь становится предметом торга для террористов. Специалисты рекомендуют в такой ситуации придерживаться определенных правил поведения. Итак..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29600" cy="41767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К террористическому акту невозможно заранее подготовиться, поэтому надо быть готовым к нему всегда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Террористы обычно выбирают для своих атак известные и заметные цели, например, крупные города, международные аэропорты, места проведения крупных международных мероприятий, международные курорты и т.д. Обязательным условием совершения атаки является возможность избежать пристального внимания правоохранительных структур, например, досмотра до и после совершения теракта. Будьте внимательны, находясь в подобных местах. Террористы действуют внезапно и, как правило, без предварительных предупреждений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4648320" y="1268280"/>
            <a:ext cx="402732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4390920" cy="517680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48320" y="0"/>
            <a:ext cx="4495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Всегда, всегда, всегда уточняйте, где находятся резервные выходы из помещения. Заранее продумайте, как вы будете покидать здание, если в нем произойдет ЧП. Никогда не пытайтесь выбраться из горящего здания на лифте. Во-первых, механизм лифта может быть поврежден. Во-вторых, обычно испуганные люди бегут именно к лифтам. Лифты не рассчитаны на перевозку столь большого количества пассажиров, поэтому драгоценные минуты, необходимые для спасения, могут быть потеряны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Если вы оказались заложником:  По возможности скорее возьмите себя в руки, успокойтесь и не паникуйте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Подготовьтесь физически, морально и эмоционально к возможному трудному испытанию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Говорите спокойным голосом. Избегайте вызывающего, враждебного тон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Не допускайте действий, которые могут спровоцировать нападающих к применению оружия и привести к человеческим жертвам (не бегите, не бросайтесь на террориста, не боритесь, не выхватывайте у него оружие; не пытайтесь помириться с террористом, уговорить его, не умоляйте, не взывайте слезами к его доброте)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Переносите лишения, оскорбления и унижения, не смотрите в глаза преступникам, не ведите себя вызывающ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Для поддержания сил ешьте все, что вам дают, даже если пища вам не нравитс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При необходимости выполняйте требования преступников (особенно первые полчаса), не противоречьте им, не рискуйте жизнью окружающих и своей собственной, старайтесь не допускать истерик и паник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На совершение любых действий (сесть, встать, попить, сходить в туалет), спрашивайте разреше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Если вы ранены, постарайтесь не двигаться, этим вы уменьшите потерю крови. Постарайтесь перевязать рану платком, разорванной майкой или рубашк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  </a:t>
            </a: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Помните: ваша цель - остаться в живых. Будьте внимательны, постарайтесь запомнить приметы преступников, отличительные черты их лиц, одежду, имена, клички, возможные шрамы и татуировки, особенности речи и манеры поведения, тематику разговоров и т.д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Как вести себя при паводке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95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Ознакомьтесь с сигналами оповещения, мерами и правилами эвакуации, подготовьтесь к ней заранее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В случае риска наводнения отключите электричество, все нагревательные приборы и газ, печ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Перенесите мебель, электрооборудование и личные вещи на верхние этажи или более возвышенные места (чердаки и т.д.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Положите токсичные вещества, такие как пестициды и инсектициды, в надежное место (не подверженное воздействие воды), чтобы не вызвать загрязне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Во дворе дома закрепите вещи и предметы, уберите все, что может быть унесено водой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Эвакуируйте домашний скот в безопасное место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· В недоступном для воды месте сделайте запас теплых вещей, еды, питьевой воды, лекарств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4932360" y="2133720"/>
            <a:ext cx="3960720" cy="39225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Как вести себя с незнакомым человеком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6432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Нас окружает огромное множество незнакомых людей. С некоторыми из них мы знакомимся — кто-то вчера был посторонним человеком, а сегодня стал для нас лучшим другом. Лучше всего находить себе друзей в школе. Там дети, которые раньше, может быть, никогда не встречались, собираются вместе, узнают друг друга и становятся хорошими приятелям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Со взрослыми людьми детей обычно знакомят родители, и это, пожалуй, самый правильный способ заводить себе друзей среди старших. Существует ряд важных правил, которым должны следовать дети при встрече с незнакомыми взрослыми людьми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4392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25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29600" cy="3591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3903840"/>
            <a:ext cx="8229600" cy="29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1. Разговаривать на улице с посторонним человеком можно только в том случае, если тебя сопровождают родители, старший брат или сестра, учительница или еще кто-нибудь из взрослых, кого ты хорошо знаешь. Если ты идешь один (или одна), вступать в разговор с чужими людьми нельзя. Вполне вероятно, что заговоривший с тобой незнакомец — чудесный, добрый человек, но ведь он может оказаться и  не очень хорошим — с первого взгляда не поймешь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38163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429228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2. Не соглашайся никуда идти с незнакомым человеком, не садись к нему в машину, даже если он (или она) говорит, что отвезет тебя к маме и папе. Не верь ни в коем случае! Мама и папа никогда не отправят  за тобой незнакомого человека, не предупредив тебя об этом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41054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68360" y="450828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99"/>
                </a:solidFill>
                <a:latin typeface="Verdana"/>
              </a:rPr>
              <a:t>3. Не бери у чужого человека конфеты, деньги и другие подарки. Может быть, он предлагает их от чистого сердца, а может быть, и нет. На всякий случай откажись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457200" y="260280"/>
            <a:ext cx="8229600" cy="36734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3903480"/>
            <a:ext cx="822960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.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Никогда не верь незнакомцу, если он обещает что-то купить тебе. С какой стати? Ведь это совершенно чужой человек, он даже не знает, как тебя зовут. Ответь, что тебе ничего не нужно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4762440" cy="63356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508720" y="189000"/>
            <a:ext cx="345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5. Если посторонний человек возьмет тебя за руку и попытается силой увести за собой, нужно вырваться и убежать домой или броситься за помощью к кому-нибудь из прохожих. При необходимости кричи изо всех сил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Хотя большинство чужих людей не желают тебе ничего плохого, на первый взгляд трудно определить, что у незнакомца на уме. В конце концов, если ты видишь человека впервые в жизни, откуда тебе знать, хороший он или плохой? Лучше не рисковать. Со временем у тебя появится все больше и больше друзей среди взрослых — ты познакомишься с ними у себя дома, в гостях и в школе.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596520"/>
            <a:ext cx="8180280" cy="15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200" spc="-1" strike="noStrike" u="sng">
                <a:solidFill>
                  <a:srgbClr val="006666"/>
                </a:solidFill>
                <a:uFillTx/>
                <a:latin typeface="Verdana"/>
              </a:rPr>
              <a:t>Спасибо за внимание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55640" y="2491920"/>
            <a:ext cx="78804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Надеемся что вы эти правила запомните и будите применять их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В экст</a:t>
            </a:r>
            <a:r>
              <a:rPr b="1" i="1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p</a:t>
            </a:r>
            <a:r>
              <a:rPr b="1" i="1" lang="ru-RU" sz="3200" spc="-1" strike="noStrike" u="sng">
                <a:solidFill>
                  <a:srgbClr val="006699"/>
                </a:solidFill>
                <a:uFillTx/>
                <a:latin typeface="Verdana"/>
              </a:rPr>
              <a:t>енных ситуациях!!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5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5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09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6666"/>
                </a:solidFill>
                <a:uFillTx/>
                <a:latin typeface="Verdana"/>
              </a:rPr>
              <a:t>Как вести себя при пожаре</a:t>
            </a:r>
            <a:br>
              <a:rPr sz="4000"/>
            </a:b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36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Ежегодно в России во время пожаров гибнет в среднем 20000 человек. Печальная статистика, если учесть, что эти смерти происходят в большинстве своём от невнимательности, паники и незнания элементарных правил поведения при возгорании. Огонь – явление нужное и полезное, но необходимо уметь держать его в узде. 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режде чем рассмотреть поведение при пожаре, крайне важно запомнить несколько пунктов, касающихся особенностей возгораний.</a:t>
            </a:r>
            <a:br>
              <a:rPr sz="2400"/>
            </a:b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ver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064360" cy="4248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1.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Никогда не паникуйте, вам это не поможет, а только приведёт к трагическим последствиям. Всегда есть «лишние» десять секунд, чтобы остановиться и подумать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261612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006666"/>
                </a:solidFill>
                <a:latin typeface="Verdana"/>
              </a:rPr>
              <a:t>0</a:t>
            </a:r>
            <a:br>
              <a:rPr sz="10600"/>
            </a:br>
            <a:r>
              <a:rPr b="0" lang="ru-RU" sz="10600" spc="-1" strike="noStrike">
                <a:solidFill>
                  <a:srgbClr val="006666"/>
                </a:solidFill>
                <a:latin typeface="Verdana"/>
              </a:rPr>
              <a:t>1</a:t>
            </a:r>
            <a:endParaRPr b="0" lang="en-US" sz="10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Picture 9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5543640" cy="47527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000" y="5157360"/>
            <a:ext cx="800244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2. 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Первым делом звоните в службу спасения – за вас это просто может никто не сделать. Проследите, чтобы кто-нибудь встретил пожарный расчёт и помог ему быстрее добраться до места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29600" cy="42480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450864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3.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Для того, чтобы расти и усиливаться, огню нужен кислород, желательно в форме ветра – не оставляйте сквозняков, закрывайте двери и окна. Не повторяйте бездумные ошибки многих людей: не следует тушить небольшое возгорание путём задувания – пламя может вырасти в несколько раз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403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57200" y="45086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4.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Большинство людей погибает не в огне, а задохнувшись угарным дымом. При пожаре сразу же приготовьте намоченную тряпку (множество людей спасли себе жизнь тем, что воспользовались собственной мочой), через которую, возможно, придётся дышать. В задымлённом помещении передвигайтесь как можно ниже к полу – дым всегда стремится навер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68360" y="1628640"/>
            <a:ext cx="82296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strips dir="r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29600" cy="4535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79280" y="4868640"/>
            <a:ext cx="8964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99"/>
                </a:solidFill>
                <a:latin typeface="Verdana"/>
              </a:rPr>
              <a:t>5.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Даже не думайте тушить включенные электроприборы водой – нужно накинуть на воспламенившуюся технику покрывало или тяжелую штору или воспользоваться специальным огнетушителем. Если горит телевизор, воду можно залить с задней стенки, где находятся отверстия, но держитесь сбоку – кинескоп может взорватьс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229600" cy="417672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58136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Verdana"/>
              </a:rPr>
              <a:t>6.</a:t>
            </a:r>
            <a:r>
              <a:rPr b="0" i="1" lang="ru-RU" sz="2400" spc="-1" strike="noStrike">
                <a:solidFill>
                  <a:srgbClr val="006699"/>
                </a:solidFill>
                <a:latin typeface="Verdana"/>
              </a:rPr>
              <a:t> Не прыгайте с верхних этажей, не надо спускаться по верёвкам, простыням, водосточным трубам. Лучше подождать 15 минут помощи, чем сигануть с восьмого этажа, лелея мысль о выживании. Разумеется, когда вам своевременно предложат пожарный тент – не думайте о боязни высоты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5:16:33Z</dcterms:created>
  <dc:creator>admin</dc:creator>
  <dc:description/>
  <dc:language>en-US</dc:language>
  <cp:lastModifiedBy>Admin</cp:lastModifiedBy>
  <dcterms:modified xsi:type="dcterms:W3CDTF">2012-12-16T14:16:55Z</dcterms:modified>
  <cp:revision>4</cp:revision>
  <dc:subject/>
  <dc:title>Правила поведения в экстримальных  ситуациях </dc:title>
</cp:coreProperties>
</file>