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CEA3-39B9-4257-B80D-FAE4EC70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63D6-253B-429A-AF73-4E9AFACE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0712-F3EB-4CF9-8FF0-ACA73F38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5D98-25D8-49EF-8529-771EF019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7D30-59F8-49EA-AC52-07F61C6E6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BBDC-27C8-4AAE-AEC9-39486F7F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226A-CC53-432B-8226-C81F16D4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53C2-B0FF-43FE-BA7A-80183EBB1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CA8B-4727-4A00-BE89-B0F3552B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6AC7-750E-4E7F-A38A-9E1933D0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31DF-60E4-492A-8AEB-D43D7E9C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B75-858C-4563-AC49-014394E3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C941-08FB-4F01-A488-71A1D0B4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1A9B-FE09-4EB7-8D5D-C3D53164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B6FF-B91A-46AA-B6C5-7FE42183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659C-8054-4DA0-9F82-47549584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BB91-4C4F-418C-A397-4CAF16FB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7D4-7AA8-4AAD-8140-01AA535B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B9F-8D42-45F0-B7B4-9FE43FEF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E85-BCA6-4A06-B828-A9CC4799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5D91-BAAE-4D66-A142-0C28DF87D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F805-6C5D-4753-B879-C3E01A16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C7BF-4599-4D18-8231-6C1C92D8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A39-3974-4CF1-A29C-CFA86CC5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B8FE-528C-4029-9EDE-DACF8D7EDAA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2A32-D724-4A01-B186-C7CFDDA7766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14360" y="633240"/>
            <a:ext cx="8321760" cy="2579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3332160"/>
            <a:ext cx="727236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втор: Захарикова Татьяна, 4а класс, 10 ле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У: Муниципальное казенное общеобразовательное учреждение «Киреевский лицей» администрации муниципального образования Киреевский район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-консультант: Зотова Марина Анатолье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2571840" y="2858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АСХ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357120" y="857160"/>
            <a:ext cx="835812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здник Воскресения Христова — Святая Пасха — главный христианский праздник, «праздников Праздник и Торжество из торжеств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ропарь праздника гласит: «Христос воскрес из мертвых, смертию смерть поправ и дав жизнь находящимся в гробах, т. е. мертвым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православные воспевают победу Иисус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Христа над смертью и адом и дарова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чной жизни и блажен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язательными ритуальными блюдами н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схальном столе всегда были и остаю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сха,  кулич и крашеные яйца. Куличи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яйца ели  всю пасхальную неделю д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дуницы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старайтесь сделать Пасху по возможно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достной. Есть давнишняя примета: кт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сху  проводит в радостном настроени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му весь год будет счастье в жизни и удач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делах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Рисунок 3" descr=""/>
          <p:cNvPicPr/>
          <p:nvPr/>
        </p:nvPicPr>
        <p:blipFill>
          <a:blip r:embed="rId1"/>
          <a:stretch/>
        </p:blipFill>
        <p:spPr>
          <a:xfrm>
            <a:off x="5500800" y="2143080"/>
            <a:ext cx="330048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571680" y="357120"/>
            <a:ext cx="82864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славные христианские праздники — это дни торжеств в честь и память событий, связанных с жизнью Иисуса Христа, его матери Девы Марии и особо почитаемых Церковью Святых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вунадесятые переходящие праздники (новый стиль)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ход Господень в Иерусалим (Вербное воскресенье) — последнее воскресенье перед Пасхою; Вознесение Господне — 40-й день после Пасхи; День Святой Троицы — 50-й день после Пасх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вунадесятые непереходящие праздники  (новый стиль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ждество Пресвятой Богородицы — 21 сентября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ведение во храм Пресвятой Богородицы — 4 декаб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аговещение Пресвятой Богородицы — 7 апрел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ждество Христово — 7 янва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ретение Господне — 15 феврал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щение Господне (Богоявление) — 19 янва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еображение Господне — 19 августа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движение Креста Господня — 27 сентяб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пение Пресвятой Богородицы — 28 август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еликие праздники (новый стиль)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езание Господне (гражданский Новый год по старому стилю) — 14 января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кров Пресвятой Богородицы — 14 октяб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ждество Иоанна Предтечи (Крестителя) — 7 июл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екновение главы Иоанна Предтечи — 11 сентября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тых первоверховных апостолов Петра и Павла — 12 июл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357120" y="285840"/>
            <a:ext cx="8429760" cy="57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ОЖДЕСТВО ХРИСТОВО  (7 января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ждество Христово — один из самых светлых православных праздников, который всегда отмечался с особым благоговением, красивыми обрядами и традициями. 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ждество — самый красочный, яркий, веселый праздник. Улицы и площади к Рождеству всегда были в праздничном убранстве, повсюду устраивались фейерверки, звонили колокол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пременный атрибут праздника —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ождественские елки, украшенны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вездами, огоньками, шарам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рождественскому обычаю в города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 селах по домам ходили колядовщ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христославы), славили песнопениями —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лядками — рождение Спасителя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елали хозяевам здоровья и богат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Рисунок 2" descr=""/>
          <p:cNvPicPr/>
          <p:nvPr/>
        </p:nvPicPr>
        <p:blipFill>
          <a:blip r:embed="rId1"/>
          <a:stretch/>
        </p:blipFill>
        <p:spPr>
          <a:xfrm>
            <a:off x="5000760" y="3071880"/>
            <a:ext cx="38066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71680" y="357120"/>
            <a:ext cx="807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РЕЗАНИЕ ГОСПОДНЕ  (СТАРЫЙ НОВЫЙ ГОД) 14 январ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Прямоугольник 2"/>
          <p:cNvSpPr/>
          <p:nvPr/>
        </p:nvSpPr>
        <p:spPr>
          <a:xfrm>
            <a:off x="500040" y="1000080"/>
            <a:ext cx="8072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осьмой день после рождения Младенцу Христу дали имя Иисус («Спаситель»), предсказанное Деве Марии при благовещении Ангелом Божиим. В этот же день над новорожденным был совершен древнеиудейский обряд обрезания. В христианстве этот обряд заменен таинством крещения и имя новорожденному дается при крещении. В этот день православные отмечают еще два праздника — день памяти Святого Василия Великого (330—379 гг.) и Новый год по старому стилю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адиционным блюдом новогоднего стола был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зажаренный целиком поросенок, а такж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ршированная свиная голова, холодные и горяч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люда из свинины, пироги, блины. Обязательн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авали и кутью. В отличие от кутьи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ждественский сочельник («постной»)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ещенский («голодной») она была «богатой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ее добавляли сливки, масло, миндаль, грецк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рех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здничный стол по ассортименту закусок, блюд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напитков был схож с рождественским, а застоль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ое же обильное и веселое: «Как Новый год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тишь, так весь год проведешь»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5786280" y="3000240"/>
            <a:ext cx="284328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571680" y="28584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РЕЩЕНИЕ ГОСПОДНЕ . БОГОЯВЛЕНИЕ  (19 января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1"/>
          <p:cNvSpPr/>
          <p:nvPr/>
        </p:nvSpPr>
        <p:spPr>
          <a:xfrm>
            <a:off x="357120" y="-556200"/>
            <a:ext cx="8358120" cy="78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Праздник установлен в память крещения тридцатилетнего Иисуса Христа пророком Иоанном Предтечей (Крестителем) в реке Иордан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  <a:ea typeface="Calibri"/>
              </a:rPr>
              <a:t>Крещение Иоанново означало: как тело омывается и очищается водами Иордана, так и душа человека очищается от грех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здник этот называется также Богоявлением, так как в этот день Бог явил (показал) себя людям в лицах Пресвятой Троицы: когда в Иордане крестился воплотившийся Сын Божий, на него в виде голубя сошел Дух Святой, а с небес донесся глас Бога Отца: «Сей есть Сын Мой Возлюбленный, в Котором Мое благоволение»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 совершения таинства крещения отмечают домашним праздником — крестинами. Проведать окрещенного младенца и родителей приходят самые близкие люди, приносят подарки и угощения. Раньше самым почетным гостем на пиру была повивальная бабка, а к праздничному столу обязательно готовили крестильную кутью — «бабкину кашу» и пекли «бабкины пироги». В отличие от обычной крестильную кутью готовили на молоке, сливках, добавляли много масл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настоящее время традиция подавать крестильную кашу забылась, каша якобы не праздничное блюдо. Можно, конечно, с этим и смириться. Но для желающих возродить этот обычай советуем приготовить кашу по-гурьевски, кашу рисовую с изюмом, медом, орехам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"/>
          <p:cNvSpPr/>
          <p:nvPr/>
        </p:nvSpPr>
        <p:spPr>
          <a:xfrm>
            <a:off x="500040" y="35712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РЕТЕНИЕ ГОСПОДНЕ (15 февраля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428760" y="1000080"/>
            <a:ext cx="828648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ославянское слово «сретение» означает «встреча» . Праздник символизирует встречу Ветхого и Нового Завета, старого и нового мир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роде считалось, что на Сретение зима встречается с летом, по погоде судили о будущем урожае: «На Сретение утром снег — урожай ранних хлебов, если в полдень — средних, если к вечеру — поздних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Рисунок 4" descr=""/>
          <p:cNvPicPr/>
          <p:nvPr/>
        </p:nvPicPr>
        <p:blipFill>
          <a:blip r:embed="rId1"/>
          <a:stretch/>
        </p:blipFill>
        <p:spPr>
          <a:xfrm>
            <a:off x="3254400" y="2643120"/>
            <a:ext cx="263520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71680" y="357120"/>
            <a:ext cx="81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СЛЕНИЦ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357120" y="928800"/>
            <a:ext cx="8358120" cy="27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тот праздник пришел к нам с языческих времен, когда устраивали проводы зимы и встречу весны в честь Бога Солнца Ярилы (блин — символ Солнца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христианстве Масленица — это неделя, предшествующая Великому посту, и начинается за 8 недель до Пасхи. Она была принята Православной Церковью как религиозный праздник под названием «Сырной, или Мясопустной» седмицы (недели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601640" y="3286080"/>
            <a:ext cx="59407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500040" y="214200"/>
            <a:ext cx="82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ХОД ГОСПОДЕНЬ В ИЕРУСАЛИМ  (ВЕРБНОЕ ВОСКРЕСЕНЬЕ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Прямоугольник 2"/>
          <p:cNvSpPr/>
          <p:nvPr/>
        </p:nvSpPr>
        <p:spPr>
          <a:xfrm>
            <a:off x="428760" y="785880"/>
            <a:ext cx="81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оследнее воскресенье перед Пасхой православные отмечают большой двунадесятый праздник. Согласно евангельским сказаниям, в этот день — за шесть дней до Пасхи — Иисус Христо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правился со своими учениками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ерусалим. Множество народа вышл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тречать его, устилая дорогу зеленым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твями пальмы, как принято был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ствовать победителе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православной Руси пальмовые ветви 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брядах заменили вербой, а праздни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рекли Вербным воскресеньем. Верб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давна почиталась славянами как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вященное дерево, и зацветает о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ньше других деревьев. Поэтому в эт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нь в церквах освящают ветви вербы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о конца богослужения держат их в ру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олящиеся как бы встречают невидимо грядущего Господа и приветствуют его. Освященную вербу наделяют чудодейственными свойствами, верующие хранят ее ветви за образами целый год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Рисунок 3" descr=""/>
          <p:cNvPicPr/>
          <p:nvPr/>
        </p:nvPicPr>
        <p:blipFill>
          <a:blip r:embed="rId1"/>
          <a:stretch/>
        </p:blipFill>
        <p:spPr>
          <a:xfrm>
            <a:off x="4643280" y="1428840"/>
            <a:ext cx="380700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71680" y="357120"/>
            <a:ext cx="814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ЛАГОВЕЩЕНИЕ ПРЕСВЯТОЙ БОГОРОДИЦЫ (7 апреля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357120" y="1000080"/>
            <a:ext cx="84297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вещение Пресвятой Богородицы отмечае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авославной Церковью в память о сообщени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ве  Марии Архангелом Гавриилом «благ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ести» о грядущем рождении ею Сына Божьего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...зачнешь во  чреве, и родишь Сына, и наречеш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мя Ему Иисус. Он будет велик и наречетс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ыном Всевышнего...  И Царству Его не буд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нца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народному поверью, Благовещение — самы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достный праздник на земле и на небесах, даж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грешников в аду в этот день, как и на Пасху, н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учаю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этот день считается за грех работа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На Благовещение девица косу не плетет, птица гнезда не вьет»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Рисунок 3" descr=""/>
          <p:cNvPicPr/>
          <p:nvPr/>
        </p:nvPicPr>
        <p:blipFill>
          <a:blip r:embed="rId1"/>
          <a:stretch/>
        </p:blipFill>
        <p:spPr>
          <a:xfrm>
            <a:off x="6357960" y="1214280"/>
            <a:ext cx="238608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2T04:51:22Z</dcterms:created>
  <dc:creator>Admin</dc:creator>
  <dc:description/>
  <dc:language>en-US</dc:language>
  <cp:lastModifiedBy>Admin</cp:lastModifiedBy>
  <dcterms:modified xsi:type="dcterms:W3CDTF">2014-05-02T05:52:02Z</dcterms:modified>
  <cp:revision>7</cp:revision>
  <dc:subject/>
  <dc:title>Номинация: «Православные праздники и традиции» Тема: «О православных праздниках»</dc:title>
</cp:coreProperties>
</file>