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7342-C156-461F-8BCF-33691878E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3C6D-5F18-4BF5-B41E-00165999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1B77-D063-4E30-905C-F21E33EC9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30FA-59B5-49E0-8E25-5B756E163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0375-314F-4690-948F-9A3956A92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2CB9-6B13-471E-96CB-B65AED54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3464-99C6-4CF8-9712-EF8EF602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6DA3-E225-4709-A6F0-E16D5D7A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3870-1A14-4F3E-B02F-A108338B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2B74-27F3-4F14-847B-1A3A1FF3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B968-50C1-43F6-81FD-88EA8C28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FD86-3E20-4314-8DFE-6CAC5406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85A8-455D-422F-BC2E-7331011A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0D01D-8607-41CC-95B0-5B13E67C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9E740-853F-4264-B60F-628D4443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99E8-4C9F-4FA5-AE09-9A62AED6D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92C0-C655-4772-AC94-136503F6B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348A-07E0-4E7D-99BF-27368526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F440-7C16-4107-9938-F3A7C4ED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0685-44F8-403D-B764-29A90565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EED6-3CC2-495F-816D-677F0CEC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072D-ED72-42B0-BDCC-11DF6AED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9005-1267-4681-ACD1-330D52E6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3C82-CD45-4DD3-8813-9E368DD1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F705-9993-4856-9936-A21B6DE97F92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4313-BB37-4FEB-ABDC-5D0885A7989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14360" y="633240"/>
            <a:ext cx="8321760" cy="2579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240" y="3332160"/>
            <a:ext cx="7272360" cy="28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втор: Захарикова Татьяна, 4а класс, 10 лет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У: Муниципальное казенное общеобразовательное учреждение «Киреевский лицей» администрации муниципального образования Киреевский район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дагог-консультант: Зотова Марина Анатолье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2571840" y="2858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АСХ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357120" y="857160"/>
            <a:ext cx="8358120" cy="61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аздник Воскресения Христова — Святая Пасха — главный христианский праздник, «праздников Праздник и Торжество из торжеств»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ропарь праздника гласит: «Христос воскрес из мертвых, смертию смерть поправ и дав жизнь находящимся в гробах, т. е. мертвым»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православные воспевают победу Иисус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Христа над смертью и адом и даровани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ечной жизни и блаженств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язательными ритуальными блюдами н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асхальном столе всегда были и остаютс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асха,  кулич и крашеные яйца. Куличи 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яйца ели  всю пасхальную неделю до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дуницы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старайтесь сделать Пасху по возможност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достной. Есть давнишняя примета: кто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асху  проводит в радостном настроении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ому весь год будет счастье в жизни и удач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делах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Рисунок 3" descr=""/>
          <p:cNvPicPr/>
          <p:nvPr/>
        </p:nvPicPr>
        <p:blipFill>
          <a:blip r:embed="rId1"/>
          <a:stretch/>
        </p:blipFill>
        <p:spPr>
          <a:xfrm>
            <a:off x="5500800" y="2143080"/>
            <a:ext cx="330048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571680" y="357120"/>
            <a:ext cx="828648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славные христианские праздники — это дни торжеств в честь и память событий, связанных с жизнью Иисуса Христа, его матери Девы Марии и особо почитаемых Церковью Святых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вунадесятые переходящие праздники (новый стиль)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ход Господень в Иерусалим (Вербное воскресенье) — последнее воскресенье перед Пасхою; Вознесение Господне — 40-й день после Пасхи; День Святой Троицы — 50-й день после Пасх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вунадесятые непереходящие праздники  (новый стиль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ждество Пресвятой Богородицы — 21 сентября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ведение во храм Пресвятой Богородицы — 4 декабр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лаговещение Пресвятой Богородицы — 7 апрел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ждество Христово — 7 январ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ретение Господне — 15 феврал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ещение Господне (Богоявление) — 19 январ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ображение Господне — 19 август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здвижение Креста Господня — 27 сентябр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спение Пресвятой Богородицы — 28 август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еликие праздники (новый стиль)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резание Господне (гражданский Новый год по старому стилю) — 14 января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кров Пресвятой Богородицы — 14 октябр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ждество Иоанна Предтечи (Крестителя) — 7 июл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секновение главы Иоанна Предтечи — 11 сентябр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вятых первоверховных апостолов Петра и Павла — 12 июл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357120" y="285840"/>
            <a:ext cx="8429760" cy="57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ОЖДЕСТВО ХРИСТОВО  (7 января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ождество Христово — один из самых светлых православных праздников, который всегда отмечался с особым благоговением, красивыми обрядами и традициями. 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ождество — самый красочный, яркий, веселый праздник. Улицы и площади к Рождеству всегда были в праздничном убранстве, повсюду устраивались фейерверки, звонили колокол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пременный атрибут праздника —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ождественские елки, украшенны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вездами, огоньками, шарам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 рождественскому обычаю в города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селах по домам ходили колядовщи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христославы), славили песнопениями —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лядками — рождение Спасителя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желали хозяевам здоровья и богатств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Рисунок 2" descr=""/>
          <p:cNvPicPr/>
          <p:nvPr/>
        </p:nvPicPr>
        <p:blipFill>
          <a:blip r:embed="rId1"/>
          <a:stretch/>
        </p:blipFill>
        <p:spPr>
          <a:xfrm>
            <a:off x="5000760" y="3071880"/>
            <a:ext cx="38066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571680" y="357120"/>
            <a:ext cx="807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БРЕЗАНИЕ ГОСПОДНЕ  (СТАРЫЙ НОВЫЙ ГОД) 14 январ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Прямоугольник 2"/>
          <p:cNvSpPr/>
          <p:nvPr/>
        </p:nvSpPr>
        <p:spPr>
          <a:xfrm>
            <a:off x="500040" y="1000080"/>
            <a:ext cx="8072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восьмой день после рождения Младенцу Христу дали имя Иисус («Спаситель»), предсказанное Деве Марии при благовещении Ангелом Божиим. В этот же день над новорожденным был совершен древнеиудейский обряд обрезания. В христианстве этот обряд заменен таинством крещения и имя новорожденному дается при крещении. В этот день православные отмечают еще два праздника — день памяти Святого Василия Великого (330—379 гг.) и Новый год по старому стилю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радиционным блюдом новогоднего стола был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жаренный целиком поросенок, а такж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аршированная свиная голова, холодные и горяч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люда из свинины, пироги, блины. Обязательн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авали и кутью. В отличие от кутьи н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ждественский сочельник («постной»)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ещенский («голодной») она была «богатой»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нее добавляли сливки, масло, миндаль, грецк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рех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здничный стол по ассортименту закусок, блюд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напитков был схож с рождественским, а застоль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кое же обильное и веселое: «Как Новый год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третишь, так весь год проведешь»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Рисунок 3" descr=""/>
          <p:cNvPicPr/>
          <p:nvPr/>
        </p:nvPicPr>
        <p:blipFill>
          <a:blip r:embed="rId1"/>
          <a:stretch/>
        </p:blipFill>
        <p:spPr>
          <a:xfrm>
            <a:off x="5786280" y="3000240"/>
            <a:ext cx="284328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571680" y="285840"/>
            <a:ext cx="82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РЕЩЕНИЕ ГОСПОДНЕ . БОГОЯВЛЕНИЕ  (19 января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Rectangle 1"/>
          <p:cNvSpPr/>
          <p:nvPr/>
        </p:nvSpPr>
        <p:spPr>
          <a:xfrm>
            <a:off x="357120" y="-556200"/>
            <a:ext cx="8358120" cy="78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Праздник установлен в память крещения тридцатилетнего Иисуса Христа пророком Иоанном Предтечей (Крестителем) в реке Иордан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Крещение Иоанново означало: как тело омывается и очищается водами Иордана, так и душа человека очищается от грехов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здник этот называется также Богоявлением, так как в этот день Бог явил (показал) себя людям в лицах Пресвятой Троицы: когда в Иордане крестился воплотившийся Сын Божий, на него в виде голубя сошел Дух Святой, а с небес донесся глас Бога Отца: «Сей есть Сын Мой Возлюбленный, в Котором Мое благоволение»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нь совершения таинства крещения отмечают домашним праздником — крестинами. Проведать окрещенного младенца и родителей приходят самые близкие люди, приносят подарки и угощения. Раньше самым почетным гостем на пиру была повивальная бабка, а к праздничному столу обязательно готовили крестильную кутью — «бабкину кашу» и пекли «бабкины пироги». В отличие от обычной крестильную кутью готовили на молоке, сливках, добавляли много масл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настоящее время традиция подавать крестильную кашу забылась, каша якобы не праздничное блюдо. Можно, конечно, с этим и смириться. Но для желающих возродить этот обычай советуем приготовить кашу по-гурьевски, кашу рисовую с изюмом, медом, орехам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2"/>
          <p:cNvSpPr/>
          <p:nvPr/>
        </p:nvSpPr>
        <p:spPr>
          <a:xfrm>
            <a:off x="500040" y="35712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РЕТЕНИЕ ГОСПОДНЕ (15 февраля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Прямоугольник 3"/>
          <p:cNvSpPr/>
          <p:nvPr/>
        </p:nvSpPr>
        <p:spPr>
          <a:xfrm>
            <a:off x="428760" y="1000080"/>
            <a:ext cx="828648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арославянское слово «сретение» означает «встреча» . Праздник символизирует встречу Ветхого и Нового Завета, старого и нового мир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народе считалось, что на Сретение зима встречается с летом, по погоде судили о будущем урожае: «На Сретение утром снег — урожай ранних хлебов, если в полдень — средних, если к вечеру — поздних»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Рисунок 4" descr=""/>
          <p:cNvPicPr/>
          <p:nvPr/>
        </p:nvPicPr>
        <p:blipFill>
          <a:blip r:embed="rId1"/>
          <a:stretch/>
        </p:blipFill>
        <p:spPr>
          <a:xfrm>
            <a:off x="3254400" y="2643120"/>
            <a:ext cx="263520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571680" y="357120"/>
            <a:ext cx="81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АСЛЕНИЦ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Прямоугольник 2"/>
          <p:cNvSpPr/>
          <p:nvPr/>
        </p:nvSpPr>
        <p:spPr>
          <a:xfrm>
            <a:off x="357120" y="928800"/>
            <a:ext cx="835812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тот праздник пришел к нам с языческих времен, когда устраивали проводы зимы и встречу весны в честь Бога Солнца Ярилы (блин — символ Солнца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христианстве Масленица — это неделя, предшествующая Великому посту, и начинается за 8 недель до Пасхи. Она была принята Православной Церковью как религиозный праздник под названием «Сырной, или Мясопустной» седмицы (недели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Рисунок 3" descr=""/>
          <p:cNvPicPr/>
          <p:nvPr/>
        </p:nvPicPr>
        <p:blipFill>
          <a:blip r:embed="rId1"/>
          <a:stretch/>
        </p:blipFill>
        <p:spPr>
          <a:xfrm>
            <a:off x="1601640" y="3286080"/>
            <a:ext cx="59407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500040" y="214200"/>
            <a:ext cx="82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ХОД ГОСПОДЕНЬ В ИЕРУСАЛИМ  (ВЕРБНОЕ ВОСКРЕСЕНЬЕ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Прямоугольник 2"/>
          <p:cNvSpPr/>
          <p:nvPr/>
        </p:nvSpPr>
        <p:spPr>
          <a:xfrm>
            <a:off x="428760" y="785880"/>
            <a:ext cx="8143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последнее воскресенье перед Пасхой православные отмечают большой двунадесятый праздник. Согласно евангельским сказаниям, в этот день — за шесть дней до Пасхи — Иисус Христо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правился со своими учениками в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ерусалим. Множество народа вышл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тречать его, устилая дорогу зелены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етвями пальмы, как принято был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ествовать победителей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православной Руси пальмовые ветви в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рядах заменили вербой, а праздник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рекли Вербным воскресеньем. Верб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здавна почиталась славянами как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вященное дерево, и зацветает о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ньше других деревьев. Поэтому в этот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нь в церквах освящают ветви вербы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о конца богослужения держат их в рука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—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лящиеся как бы встречают невидимо грядущего Господа и приветствуют его. Освященную вербу наделяют чудодейственными свойствами, верующие хранят ее ветви за образами целый год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Рисунок 3" descr=""/>
          <p:cNvPicPr/>
          <p:nvPr/>
        </p:nvPicPr>
        <p:blipFill>
          <a:blip r:embed="rId1"/>
          <a:stretch/>
        </p:blipFill>
        <p:spPr>
          <a:xfrm>
            <a:off x="4643280" y="1428840"/>
            <a:ext cx="380700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571680" y="357120"/>
            <a:ext cx="814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ЛАГОВЕЩЕНИЕ ПРЕСВЯТОЙ БОГОРОДИЦЫ (7 апреля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Прямоугольник 2"/>
          <p:cNvSpPr/>
          <p:nvPr/>
        </p:nvSpPr>
        <p:spPr>
          <a:xfrm>
            <a:off x="357120" y="1000080"/>
            <a:ext cx="84297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лаговещение Пресвятой Богородицы отмечаетс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авославной Церковью в память о сообщени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еве  Марии Архангелом Гавриилом «благо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ести» о грядущем рождении ею Сына Божьего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...зачнешь во  чреве, и родишь Сына, и наречеш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мя Ему Иисус. Он будет велик и наречетс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ыном Всевышнего...  И Царству Его не буд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нца»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 народному поверью, Благовещение — самы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достный праздник на земле и на небесах, даж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решников в аду в этот день, как и на Пасху, н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учают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этот день считается за грех работат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На Благовещение девица косу не плетет, птица гнезда не вьет»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Рисунок 3" descr=""/>
          <p:cNvPicPr/>
          <p:nvPr/>
        </p:nvPicPr>
        <p:blipFill>
          <a:blip r:embed="rId1"/>
          <a:stretch/>
        </p:blipFill>
        <p:spPr>
          <a:xfrm>
            <a:off x="6357960" y="1214280"/>
            <a:ext cx="238608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2T04:51:22Z</dcterms:created>
  <dc:creator>Admin</dc:creator>
  <dc:description/>
  <dc:language>en-US</dc:language>
  <cp:lastModifiedBy>Admin</cp:lastModifiedBy>
  <dcterms:modified xsi:type="dcterms:W3CDTF">2014-05-02T05:52:02Z</dcterms:modified>
  <cp:revision>7</cp:revision>
  <dc:subject/>
  <dc:title>Номинация: «Православные праздники и традиции» Тема: «О православных праздниках»</dc:title>
</cp:coreProperties>
</file>