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wmf" ContentType="image/x-wmf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3.png" ContentType="image/png"/>
  <Override PartName="/ppt/media/clap.wav" ContentType="audio/x-wav"/>
  <Override PartName="/ppt/media/image5.wmf" ContentType="image/x-wmf"/>
  <Override PartName="/ppt/media/image6.wmf" ContentType="image/x-wmf"/>
  <Override PartName="/ppt/media/image7.wmf" ContentType="image/x-wmf"/>
  <Override PartName="/ppt/media/image9.jpeg" ContentType="image/jpeg"/>
  <Override PartName="/ppt/media/image11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0A67-49B7-428A-A893-1806BC7C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03B9-38D9-417A-9786-0DFAACE5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FCA-16DE-4992-BDB1-23AC8483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040-FC4B-40DB-BEF8-3543C57E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63ED-414C-46C6-BDA1-A06C2B4E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5397-0C29-49EF-AA21-D6ED8D82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76E0-C9E0-47C6-803A-F4498AB6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09D1-0868-441B-A711-8BB4615C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E67E-BDDF-4137-9D9D-32CB7495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9FDA-454D-443D-8332-9F9C631F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50638-6768-4DC9-8EF0-0B65B9B8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3A9E-5746-4FD3-9C9A-B0C6EDE8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B729-FDBC-4356-987F-F0324705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70BD-1CE5-4D40-99F3-C95E229F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26E8-75C1-440D-8923-00A43C95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201C-01C3-47B6-AA5C-F506AFAB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A3F2-0A1D-4367-A752-308926266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36A1-2E2D-4C5F-9706-8A18887B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07F-9647-445D-9571-D875219D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E68-A7CC-4AFC-AA15-D5D1C648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2589-D93F-4C70-9F13-190E85B5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7F5-FE83-4151-9EDF-7AF11392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66B-5BCF-4AB6-AFA8-81D3551E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65B-0E0D-4452-844B-DD5EE144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30C7-474A-44CC-BD94-08D3A8F81B7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2A37-BB4F-4095-BCAD-769C9C7D569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lap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86920" y="475920"/>
            <a:ext cx="70866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58920" y="2276280"/>
            <a:ext cx="7321680" cy="31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73280" y="2590920"/>
            <a:ext cx="759600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Tahoma"/>
              </a:rPr>
              <a:t>Живой организм состоит на 90% из воды и поэтому положительное влияние классической музыки подтверждают исследования японского учёного Эмото Масару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682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 провел исследования  кристаллизации воды с различной степенью загрязнения, при воздействии на воду классической и рок музыки, агрессивными и позитивными фразам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0" name="Picture 7" descr="F9CD4CAA"/>
          <p:cNvPicPr/>
          <p:nvPr/>
        </p:nvPicPr>
        <p:blipFill>
          <a:blip r:embed="rId1"/>
          <a:srcRect l="0" t="0" r="4170" b="7190"/>
          <a:stretch/>
        </p:blipFill>
        <p:spPr>
          <a:xfrm>
            <a:off x="611280" y="2492280"/>
            <a:ext cx="3600360" cy="3232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EE965794"/>
          <p:cNvPicPr/>
          <p:nvPr/>
        </p:nvPicPr>
        <p:blipFill>
          <a:blip r:embed="rId2"/>
          <a:srcRect l="0" t="2521" r="0" b="3120"/>
          <a:stretch/>
        </p:blipFill>
        <p:spPr>
          <a:xfrm>
            <a:off x="5435640" y="2565360"/>
            <a:ext cx="3403440" cy="32115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1087560" y="595008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родный танец кавач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553440" y="59500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.Бетхове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468360" y="494172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з представленных снимков видно, что идеальную кристаллизацию даёт вода, на которую оказала влияние народная и классическая музы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Picture 5" descr="2BBCF420"/>
          <p:cNvPicPr/>
          <p:nvPr/>
        </p:nvPicPr>
        <p:blipFill>
          <a:blip r:embed="rId1"/>
          <a:srcRect l="0" t="0" r="392" b="5347"/>
          <a:stretch/>
        </p:blipFill>
        <p:spPr>
          <a:xfrm>
            <a:off x="539640" y="333360"/>
            <a:ext cx="3745080" cy="3479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FD3266C2"/>
          <p:cNvPicPr/>
          <p:nvPr/>
        </p:nvPicPr>
        <p:blipFill>
          <a:blip r:embed="rId2"/>
          <a:srcRect l="0" t="0" r="1091" b="7250"/>
          <a:stretch/>
        </p:blipFill>
        <p:spPr>
          <a:xfrm>
            <a:off x="5003640" y="404640"/>
            <a:ext cx="3745080" cy="34340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7"/>
          <p:cNvSpPr/>
          <p:nvPr/>
        </p:nvSpPr>
        <p:spPr>
          <a:xfrm>
            <a:off x="1197000" y="40194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.А.Моцар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6357240" y="42210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.С.Ба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E920F2E"/>
          <p:cNvPicPr/>
          <p:nvPr/>
        </p:nvPicPr>
        <p:blipFill>
          <a:blip r:embed="rId1"/>
          <a:srcRect l="0" t="0" r="1865" b="3394"/>
          <a:stretch/>
        </p:blipFill>
        <p:spPr>
          <a:xfrm>
            <a:off x="2627280" y="1700280"/>
            <a:ext cx="4826160" cy="46450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2074320" y="549360"/>
            <a:ext cx="60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аотическая кристаллизация воды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прослушавшей» «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avy metal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Мной сделан анализ изменения частоты пульса после прослушивания произведения Г.Свиридова «Время, вперёд!»неподготовленных слушателей.</a:t>
            </a: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Количество респондентов 11 человек</a:t>
            </a: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82" name="Picture 4" descr="6E3F8319"/>
          <p:cNvPicPr/>
          <p:nvPr/>
        </p:nvPicPr>
        <p:blipFill>
          <a:blip r:embed="rId1"/>
          <a:srcRect l="2375" t="1358" r="6576" b="4873"/>
          <a:stretch/>
        </p:blipFill>
        <p:spPr>
          <a:xfrm>
            <a:off x="2195640" y="1989000"/>
            <a:ext cx="50403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115640" y="404640"/>
            <a:ext cx="75438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блюдение за ростом растений, показало: образцы, которые подвергались воздействию тонизирующей музыкой ежедневно в течение часа, растут намного активнее, а ростки фасоли регулярно «слушающие» музыку, проросли раньше на 2 дня. Следовательно, мне удалось подтвердить положительное влияние классической музыки на рост живого организм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4" name="Picture 6" descr="IMG_0648"/>
          <p:cNvPicPr/>
          <p:nvPr/>
        </p:nvPicPr>
        <p:blipFill>
          <a:blip r:embed="rId1"/>
          <a:stretch/>
        </p:blipFill>
        <p:spPr>
          <a:xfrm>
            <a:off x="2268360" y="2565360"/>
            <a:ext cx="525636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ключение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596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так, в современных условиях, когда человек подвержен частым стрессам, широко применяется воздействие музыкой на психоэмоциональную сферу. Учеными исследовано положительное влияние классической музыки на организм, подтверждено экспериментально и даны рекомендации по применению музыкального материала в различных целях. Изучая эти сведения я обогатила свои знания в области музыки, физиологии человека, физики, биолог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блюдение за ростом растений позволило убедиться в позитивном влиянии музыки на человека и растения. Проведённый среди учащихся мониторинг показал, что звучание классической музыки во время перемен имеет положительный эффект. Подобранный  музыкальный материал можно прослушивать на уроках изобразительной деятельн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спользование лучших образцов мировой музыкальной культуры будет способствовать повышению общего уровня культуры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36954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ечебное применение музыки имеет многовековую историю.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вид, одухотворенно играя на лютне, излечил Саула от нервной депресси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ифагор применял музыку во время занятий математикой, так как считал, что она благотворно влияет на интеллек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ристотель считал музыку средством не только лечения, но и очищения души. И богиня древних римлян Минерва с равной благосклонностью покровительствовала и музыкантам, и врача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древнейшие учения земных цивилизаций содержат накопленный тысячелетиями опыт положительного воздействия музыки на растения, животных и челове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686D39E4"/>
          <p:cNvPicPr/>
          <p:nvPr/>
        </p:nvPicPr>
        <p:blipFill>
          <a:blip r:embed="rId1"/>
          <a:stretch/>
        </p:blipFill>
        <p:spPr>
          <a:xfrm>
            <a:off x="4211640" y="503280"/>
            <a:ext cx="2523960" cy="635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79E0C895"/>
          <p:cNvPicPr/>
          <p:nvPr/>
        </p:nvPicPr>
        <p:blipFill>
          <a:blip r:embed="rId2"/>
          <a:stretch/>
        </p:blipFill>
        <p:spPr>
          <a:xfrm>
            <a:off x="7093080" y="3789360"/>
            <a:ext cx="1812960" cy="237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56E28D92"/>
          <p:cNvPicPr/>
          <p:nvPr/>
        </p:nvPicPr>
        <p:blipFill>
          <a:blip r:embed="rId3"/>
          <a:stretch/>
        </p:blipFill>
        <p:spPr>
          <a:xfrm>
            <a:off x="7093080" y="549360"/>
            <a:ext cx="17809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914720" y="260280"/>
            <a:ext cx="36954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пытки научного осмысления механизма воздействия музыки на человека стали предприниматься в конц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IX-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чале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века. Появляются данные о благотворном влиянии музыки на центральную нервную систему, дыхание, кровообращение. Отмечается стимулирующее воздействие маршевой музыки на мышечную работоспособность уставших солдат, а мелодии доставляющие человеку радость, замедляют пульс, способствуют расширению сосудов и нормализуют артериальное давлен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1455480" y="4740120"/>
            <a:ext cx="377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. Дворжак «Славянский танец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Tahoma"/>
              </a:rPr>
              <a:t>С помощью медицинского работника  был сделан анализ заболеваемости детей</a:t>
            </a:r>
            <a:br>
              <a:rPr sz="2000"/>
            </a:br>
            <a:endParaRPr b="1" lang="en-US" sz="2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03280" y="5157360"/>
            <a:ext cx="7207200" cy="12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к видим, большой процент заболеваний нервной системы, глаз, органов пищеварения. Хорошо известно, что эти болезни, а так же утомляемость, усталость, вызываются испытываемым эмоциональным состоянием. Музыка же способна вызвать массу положительных эмоций, способствуя созданию эмоционального комфорта челове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0" name="Object 19"/>
          <p:cNvGraphicFramePr/>
          <p:nvPr/>
        </p:nvGraphicFramePr>
        <p:xfrm>
          <a:off x="2771640" y="836640"/>
          <a:ext cx="397692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836640"/>
                    <a:ext cx="39769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Психика реагирует на музыку даже тогда, когда мы ,жуя бутерброд или читая книгу, привычно включаем вполголоса магнитофон и, практически не замечая воздействия музыкальных звуков, осуществляем какую-либо свою деятельность на фоне ненавязчивых мелодий</a:t>
            </a:r>
            <a:endParaRPr b="1" lang="en-US" sz="1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Picture 8" descr="so01915_"/>
          <p:cNvPicPr/>
          <p:nvPr/>
        </p:nvPicPr>
        <p:blipFill>
          <a:blip r:embed="rId1"/>
          <a:stretch/>
        </p:blipFill>
        <p:spPr>
          <a:xfrm>
            <a:off x="939960" y="3068640"/>
            <a:ext cx="2830320" cy="2919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so01916_"/>
          <p:cNvPicPr/>
          <p:nvPr/>
        </p:nvPicPr>
        <p:blipFill>
          <a:blip r:embed="rId2"/>
          <a:stretch/>
        </p:blipFill>
        <p:spPr>
          <a:xfrm>
            <a:off x="5435640" y="2997360"/>
            <a:ext cx="2830320" cy="2919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BD18223_"/>
          <p:cNvPicPr/>
          <p:nvPr/>
        </p:nvPicPr>
        <p:blipFill>
          <a:blip r:embed="rId3"/>
          <a:stretch/>
        </p:blipFill>
        <p:spPr>
          <a:xfrm rot="19486800">
            <a:off x="3368160" y="2727000"/>
            <a:ext cx="777960" cy="774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BD18223_"/>
          <p:cNvPicPr/>
          <p:nvPr/>
        </p:nvPicPr>
        <p:blipFill>
          <a:blip r:embed="rId4"/>
          <a:stretch/>
        </p:blipFill>
        <p:spPr>
          <a:xfrm rot="1397400">
            <a:off x="5866920" y="2276280"/>
            <a:ext cx="824040" cy="81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BD18223_"/>
          <p:cNvPicPr/>
          <p:nvPr/>
        </p:nvPicPr>
        <p:blipFill>
          <a:blip r:embed="rId5"/>
          <a:stretch/>
        </p:blipFill>
        <p:spPr>
          <a:xfrm rot="2328600">
            <a:off x="1476360" y="2205000"/>
            <a:ext cx="777960" cy="77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" descr="BD18223_"/>
          <p:cNvPicPr/>
          <p:nvPr/>
        </p:nvPicPr>
        <p:blipFill>
          <a:blip r:embed="rId6"/>
          <a:stretch/>
        </p:blipFill>
        <p:spPr>
          <a:xfrm rot="20565000">
            <a:off x="7164000" y="2276280"/>
            <a:ext cx="824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304920"/>
            <a:ext cx="77040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ahoma"/>
              </a:rPr>
              <a:t>Музыка – это, прежде всего звук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вук, как физическое явление –  это упругие колебания и волны, возникающие и распространяющиеся в газах, жидкостях и твёрдых телах, воспринимаемые человеческим ух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Sound"/>
          <p:cNvSpPr/>
          <p:nvPr/>
        </p:nvSpPr>
        <p:spPr>
          <a:xfrm rot="11926800">
            <a:off x="5508360" y="2348640"/>
            <a:ext cx="2952720" cy="3745080"/>
          </a:xfrm>
          <a:custGeom>
            <a:avLst/>
            <a:gdLst>
              <a:gd name="textAreaLeft" fmla="*/ 104040 w 2952720"/>
              <a:gd name="textAreaRight" fmla="*/ 2880360 w 2952720"/>
              <a:gd name="textAreaTop" fmla="*/ 3893400 h 3745080"/>
              <a:gd name="textAreaBottom" fmla="*/ 4903920 h 3745080"/>
            </a:gdLst>
            <a:ahLst/>
            <a:rect l="textAreaLeft" t="textAreaTop" r="textAreaRight" b="textAreaBottom"/>
            <a:pathLst>
              <a:path w="21600" h="21600">
                <a:moveTo>
                  <a:pt x="0" y="7273"/>
                </a:moveTo>
                <a:lnTo>
                  <a:pt x="5824" y="7273"/>
                </a:lnTo>
                <a:lnTo>
                  <a:pt x="11164" y="0"/>
                </a:lnTo>
                <a:lnTo>
                  <a:pt x="11164" y="21159"/>
                </a:lnTo>
                <a:lnTo>
                  <a:pt x="5824" y="13885"/>
                </a:lnTo>
                <a:lnTo>
                  <a:pt x="0" y="13885"/>
                </a:lnTo>
                <a:lnTo>
                  <a:pt x="0" y="7273"/>
                </a:lnTo>
                <a:close/>
              </a:path>
              <a:path w="21600" h="21600">
                <a:moveTo>
                  <a:pt x="13024" y="7273"/>
                </a:moveTo>
                <a:lnTo>
                  <a:pt x="13591" y="6722"/>
                </a:lnTo>
                <a:lnTo>
                  <a:pt x="13833" y="7548"/>
                </a:lnTo>
                <a:lnTo>
                  <a:pt x="14076" y="8485"/>
                </a:lnTo>
                <a:lnTo>
                  <a:pt x="14157" y="9367"/>
                </a:lnTo>
                <a:lnTo>
                  <a:pt x="14197" y="10524"/>
                </a:lnTo>
                <a:lnTo>
                  <a:pt x="14197" y="11406"/>
                </a:lnTo>
                <a:lnTo>
                  <a:pt x="14116" y="12012"/>
                </a:lnTo>
                <a:lnTo>
                  <a:pt x="13995" y="12728"/>
                </a:lnTo>
                <a:lnTo>
                  <a:pt x="13833" y="13444"/>
                </a:lnTo>
                <a:lnTo>
                  <a:pt x="13712" y="14106"/>
                </a:lnTo>
                <a:lnTo>
                  <a:pt x="13591" y="14546"/>
                </a:lnTo>
                <a:lnTo>
                  <a:pt x="13065" y="13885"/>
                </a:lnTo>
                <a:lnTo>
                  <a:pt x="13307" y="12893"/>
                </a:lnTo>
                <a:lnTo>
                  <a:pt x="13469" y="11791"/>
                </a:lnTo>
                <a:lnTo>
                  <a:pt x="13550" y="10910"/>
                </a:lnTo>
                <a:lnTo>
                  <a:pt x="13591" y="10138"/>
                </a:lnTo>
                <a:lnTo>
                  <a:pt x="13469" y="9367"/>
                </a:lnTo>
                <a:lnTo>
                  <a:pt x="13388" y="8595"/>
                </a:lnTo>
                <a:lnTo>
                  <a:pt x="13267" y="7934"/>
                </a:lnTo>
                <a:lnTo>
                  <a:pt x="13024" y="7273"/>
                </a:lnTo>
                <a:close/>
              </a:path>
              <a:path w="21600" h="21600">
                <a:moveTo>
                  <a:pt x="16382" y="3967"/>
                </a:moveTo>
                <a:lnTo>
                  <a:pt x="16786" y="5179"/>
                </a:lnTo>
                <a:lnTo>
                  <a:pt x="17150" y="6612"/>
                </a:lnTo>
                <a:lnTo>
                  <a:pt x="17474" y="8651"/>
                </a:lnTo>
                <a:lnTo>
                  <a:pt x="17595" y="9753"/>
                </a:lnTo>
                <a:lnTo>
                  <a:pt x="17635" y="12012"/>
                </a:lnTo>
                <a:lnTo>
                  <a:pt x="17393" y="13665"/>
                </a:lnTo>
                <a:lnTo>
                  <a:pt x="17150" y="15208"/>
                </a:lnTo>
                <a:lnTo>
                  <a:pt x="16786" y="16310"/>
                </a:lnTo>
                <a:lnTo>
                  <a:pt x="16341" y="17687"/>
                </a:lnTo>
                <a:lnTo>
                  <a:pt x="15815" y="17081"/>
                </a:lnTo>
                <a:lnTo>
                  <a:pt x="16503" y="14602"/>
                </a:lnTo>
                <a:lnTo>
                  <a:pt x="16786" y="13169"/>
                </a:lnTo>
                <a:lnTo>
                  <a:pt x="16867" y="12012"/>
                </a:lnTo>
                <a:lnTo>
                  <a:pt x="16867" y="9642"/>
                </a:lnTo>
                <a:lnTo>
                  <a:pt x="16705" y="7989"/>
                </a:lnTo>
                <a:lnTo>
                  <a:pt x="16422" y="6612"/>
                </a:lnTo>
                <a:lnTo>
                  <a:pt x="16220" y="5675"/>
                </a:lnTo>
                <a:lnTo>
                  <a:pt x="15856" y="4518"/>
                </a:lnTo>
                <a:lnTo>
                  <a:pt x="16382" y="3967"/>
                </a:lnTo>
                <a:close/>
              </a:path>
              <a:path w="21600" h="21600">
                <a:moveTo>
                  <a:pt x="18889" y="1377"/>
                </a:moveTo>
                <a:lnTo>
                  <a:pt x="19415" y="826"/>
                </a:lnTo>
                <a:lnTo>
                  <a:pt x="20194" y="2576"/>
                </a:lnTo>
                <a:lnTo>
                  <a:pt x="20831" y="4683"/>
                </a:lnTo>
                <a:lnTo>
                  <a:pt x="21357" y="7204"/>
                </a:lnTo>
                <a:lnTo>
                  <a:pt x="21650" y="9450"/>
                </a:lnTo>
                <a:lnTo>
                  <a:pt x="21600" y="12301"/>
                </a:lnTo>
                <a:lnTo>
                  <a:pt x="21215" y="15938"/>
                </a:lnTo>
                <a:lnTo>
                  <a:pt x="20629" y="18348"/>
                </a:lnTo>
                <a:lnTo>
                  <a:pt x="19415" y="21655"/>
                </a:lnTo>
                <a:lnTo>
                  <a:pt x="18889" y="21159"/>
                </a:lnTo>
                <a:lnTo>
                  <a:pt x="19901" y="18404"/>
                </a:lnTo>
                <a:lnTo>
                  <a:pt x="20467" y="15593"/>
                </a:lnTo>
                <a:lnTo>
                  <a:pt x="20791" y="12342"/>
                </a:lnTo>
                <a:lnTo>
                  <a:pt x="20871" y="9532"/>
                </a:lnTo>
                <a:lnTo>
                  <a:pt x="20629" y="7411"/>
                </a:lnTo>
                <a:lnTo>
                  <a:pt x="20062" y="4628"/>
                </a:lnTo>
                <a:lnTo>
                  <a:pt x="19415" y="2810"/>
                </a:lnTo>
                <a:lnTo>
                  <a:pt x="18889" y="1377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4"/>
          <p:cNvSpPr/>
          <p:nvPr/>
        </p:nvSpPr>
        <p:spPr>
          <a:xfrm>
            <a:off x="971640" y="2276640"/>
            <a:ext cx="2448000" cy="2016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Зву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Воспринимаемый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человеческим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Tahoma"/>
              </a:rPr>
              <a:t>ухом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2124000" y="1700280"/>
            <a:ext cx="71640" cy="576360"/>
          </a:xfrm>
          <a:prstGeom prst="upArrow">
            <a:avLst>
              <a:gd name="adj1" fmla="val 50000"/>
              <a:gd name="adj2" fmla="val 201131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Oval 6"/>
          <p:cNvSpPr/>
          <p:nvPr/>
        </p:nvSpPr>
        <p:spPr>
          <a:xfrm>
            <a:off x="1187280" y="333360"/>
            <a:ext cx="2160720" cy="129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ультразву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AutoShape 7"/>
          <p:cNvSpPr/>
          <p:nvPr/>
        </p:nvSpPr>
        <p:spPr>
          <a:xfrm rot="10800000">
            <a:off x="2050560" y="4365720"/>
            <a:ext cx="71640" cy="720720"/>
          </a:xfrm>
          <a:prstGeom prst="upArrow">
            <a:avLst>
              <a:gd name="adj1" fmla="val 50000"/>
              <a:gd name="adj2" fmla="val 251508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1116000" y="5157720"/>
            <a:ext cx="2160720" cy="1366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ahoma"/>
              </a:rPr>
              <a:t>инфразву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AutoShape 12"/>
          <p:cNvSpPr/>
          <p:nvPr/>
        </p:nvSpPr>
        <p:spPr>
          <a:xfrm>
            <a:off x="3276720" y="333360"/>
            <a:ext cx="4319640" cy="358920"/>
          </a:xfrm>
          <a:custGeom>
            <a:avLst/>
            <a:gdLst>
              <a:gd name="textAreaLeft" fmla="*/ 756000 w 4319640"/>
              <a:gd name="textAreaRight" fmla="*/ 3132000 w 431964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4356000" y="708120"/>
            <a:ext cx="47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ень высокий звук н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оспринимаемый человеческим ух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меняется в медицине с лечебной цель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AutoShape 15"/>
          <p:cNvSpPr/>
          <p:nvPr/>
        </p:nvSpPr>
        <p:spPr>
          <a:xfrm>
            <a:off x="3276720" y="6093000"/>
            <a:ext cx="4032000" cy="360360"/>
          </a:xfrm>
          <a:custGeom>
            <a:avLst/>
            <a:gdLst>
              <a:gd name="textAreaLeft" fmla="*/ 705600 w 4032000"/>
              <a:gd name="textAreaRight" fmla="*/ 2923200 w 4032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4408560" y="4524480"/>
            <a:ext cx="441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чень низкий звук не воспринимаем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еловеческим ухом. Вызывает чувств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сталости, страха, повышенную раздражим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4"/>
          <p:cNvSpPr/>
          <p:nvPr/>
        </p:nvSpPr>
        <p:spPr>
          <a:xfrm>
            <a:off x="900000" y="2565360"/>
            <a:ext cx="2737080" cy="2232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Зву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воспринимаем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Tahoma"/>
              </a:rPr>
              <a:t>человеческим ух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Oval 6"/>
          <p:cNvSpPr/>
          <p:nvPr/>
        </p:nvSpPr>
        <p:spPr>
          <a:xfrm>
            <a:off x="5435640" y="476280"/>
            <a:ext cx="2521080" cy="14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узыкальный зву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364000" y="5013360"/>
            <a:ext cx="2521080" cy="144000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уковой уд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AutoShape 9"/>
          <p:cNvSpPr/>
          <p:nvPr/>
        </p:nvSpPr>
        <p:spPr>
          <a:xfrm rot="3425400">
            <a:off x="3973320" y="1003320"/>
            <a:ext cx="792000" cy="2185920"/>
          </a:xfrm>
          <a:prstGeom prst="upArrow">
            <a:avLst>
              <a:gd name="adj1" fmla="val 50000"/>
              <a:gd name="adj2" fmla="val 6900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AutoShape 10"/>
          <p:cNvSpPr/>
          <p:nvPr/>
        </p:nvSpPr>
        <p:spPr>
          <a:xfrm rot="6883800">
            <a:off x="3900240" y="4027320"/>
            <a:ext cx="792360" cy="2185920"/>
          </a:xfrm>
          <a:prstGeom prst="upArrow">
            <a:avLst>
              <a:gd name="adj1" fmla="val 50000"/>
              <a:gd name="adj2" fmla="val 6896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AutoShape 11"/>
          <p:cNvSpPr/>
          <p:nvPr/>
        </p:nvSpPr>
        <p:spPr>
          <a:xfrm rot="5400000">
            <a:off x="4476240" y="2732040"/>
            <a:ext cx="792360" cy="1754280"/>
          </a:xfrm>
          <a:prstGeom prst="upArrow">
            <a:avLst>
              <a:gd name="adj1" fmla="val 50000"/>
              <a:gd name="adj2" fmla="val 55350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Oval 16"/>
          <p:cNvSpPr/>
          <p:nvPr/>
        </p:nvSpPr>
        <p:spPr>
          <a:xfrm>
            <a:off x="5940360" y="2708280"/>
            <a:ext cx="2664000" cy="16556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у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4"/>
          <p:cNvSpPr/>
          <p:nvPr/>
        </p:nvSpPr>
        <p:spPr>
          <a:xfrm>
            <a:off x="3348000" y="4581360"/>
            <a:ext cx="2787840" cy="1944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ahoma"/>
              </a:rPr>
              <a:t>Музыкальный зву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468360" y="4005360"/>
            <a:ext cx="1655640" cy="936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емб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611280" y="2781360"/>
            <a:ext cx="1584360" cy="9349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ромк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1547640" y="1700280"/>
            <a:ext cx="1584360" cy="936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ибрац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3635280" y="1268280"/>
            <a:ext cx="165600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зонан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6877080" y="2492280"/>
            <a:ext cx="1655640" cy="792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емп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5796000" y="1557360"/>
            <a:ext cx="1584360" cy="863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она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7308720" y="3716280"/>
            <a:ext cx="158436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ит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13"/>
          <p:cNvSpPr/>
          <p:nvPr/>
        </p:nvSpPr>
        <p:spPr>
          <a:xfrm rot="17787600">
            <a:off x="2476080" y="4372920"/>
            <a:ext cx="482760" cy="898560"/>
          </a:xfrm>
          <a:prstGeom prst="upArrow">
            <a:avLst>
              <a:gd name="adj1" fmla="val 50000"/>
              <a:gd name="adj2" fmla="val 465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14"/>
          <p:cNvSpPr/>
          <p:nvPr/>
        </p:nvSpPr>
        <p:spPr>
          <a:xfrm rot="18528000">
            <a:off x="2586960" y="3037320"/>
            <a:ext cx="506160" cy="1720800"/>
          </a:xfrm>
          <a:prstGeom prst="upArrow">
            <a:avLst>
              <a:gd name="adj1" fmla="val 50000"/>
              <a:gd name="adj2" fmla="val 8499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15"/>
          <p:cNvSpPr/>
          <p:nvPr/>
        </p:nvSpPr>
        <p:spPr>
          <a:xfrm rot="19282200">
            <a:off x="3189240" y="2503080"/>
            <a:ext cx="514440" cy="1811520"/>
          </a:xfrm>
          <a:prstGeom prst="upArrow">
            <a:avLst>
              <a:gd name="adj1" fmla="val 50000"/>
              <a:gd name="adj2" fmla="val 8803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16"/>
          <p:cNvSpPr/>
          <p:nvPr/>
        </p:nvSpPr>
        <p:spPr>
          <a:xfrm>
            <a:off x="4356000" y="2276640"/>
            <a:ext cx="515880" cy="2125440"/>
          </a:xfrm>
          <a:prstGeom prst="upArrow">
            <a:avLst>
              <a:gd name="adj1" fmla="val 50000"/>
              <a:gd name="adj2" fmla="val 10300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AutoShape 17"/>
          <p:cNvSpPr/>
          <p:nvPr/>
        </p:nvSpPr>
        <p:spPr>
          <a:xfrm rot="1660800">
            <a:off x="5435280" y="2349000"/>
            <a:ext cx="514440" cy="1811520"/>
          </a:xfrm>
          <a:prstGeom prst="upArrow">
            <a:avLst>
              <a:gd name="adj1" fmla="val 50000"/>
              <a:gd name="adj2" fmla="val 8803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AutoShape 18"/>
          <p:cNvSpPr/>
          <p:nvPr/>
        </p:nvSpPr>
        <p:spPr>
          <a:xfrm rot="2617200">
            <a:off x="6186600" y="2894040"/>
            <a:ext cx="506160" cy="1720800"/>
          </a:xfrm>
          <a:prstGeom prst="upArrow">
            <a:avLst>
              <a:gd name="adj1" fmla="val 50000"/>
              <a:gd name="adj2" fmla="val 84993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AutoShape 19"/>
          <p:cNvSpPr/>
          <p:nvPr/>
        </p:nvSpPr>
        <p:spPr>
          <a:xfrm rot="3327000">
            <a:off x="6435720" y="4157280"/>
            <a:ext cx="482400" cy="898560"/>
          </a:xfrm>
          <a:prstGeom prst="upArrow">
            <a:avLst>
              <a:gd name="adj1" fmla="val 50000"/>
              <a:gd name="adj2" fmla="val 465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Oval 24"/>
          <p:cNvSpPr/>
          <p:nvPr/>
        </p:nvSpPr>
        <p:spPr>
          <a:xfrm>
            <a:off x="7308720" y="4869000"/>
            <a:ext cx="158436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инами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Oval 25"/>
          <p:cNvSpPr/>
          <p:nvPr/>
        </p:nvSpPr>
        <p:spPr>
          <a:xfrm>
            <a:off x="539640" y="5157720"/>
            <a:ext cx="1584360" cy="865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со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26"/>
          <p:cNvSpPr/>
          <p:nvPr/>
        </p:nvSpPr>
        <p:spPr>
          <a:xfrm rot="5230200">
            <a:off x="6508440" y="5092560"/>
            <a:ext cx="482760" cy="898560"/>
          </a:xfrm>
          <a:prstGeom prst="upArrow">
            <a:avLst>
              <a:gd name="adj1" fmla="val 50000"/>
              <a:gd name="adj2" fmla="val 465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28"/>
          <p:cNvSpPr/>
          <p:nvPr/>
        </p:nvSpPr>
        <p:spPr>
          <a:xfrm rot="16383000">
            <a:off x="2403360" y="5092200"/>
            <a:ext cx="482760" cy="898560"/>
          </a:xfrm>
          <a:prstGeom prst="upArrow">
            <a:avLst>
              <a:gd name="adj1" fmla="val 50000"/>
              <a:gd name="adj2" fmla="val 46532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Text Box 29"/>
          <p:cNvSpPr/>
          <p:nvPr/>
        </p:nvSpPr>
        <p:spPr>
          <a:xfrm>
            <a:off x="1479960" y="333360"/>
            <a:ext cx="626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Характеристики музыкального зву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6:36:16Z</dcterms:created>
  <dc:creator>Бабушка</dc:creator>
  <dc:description/>
  <dc:language>en-US</dc:language>
  <cp:lastModifiedBy>acer</cp:lastModifiedBy>
  <dcterms:modified xsi:type="dcterms:W3CDTF">2017-10-01T16:41:03Z</dcterms:modified>
  <cp:revision>19</cp:revision>
  <dc:subject/>
  <dc:title>Здоровье, музыка и мы</dc:title>
</cp:coreProperties>
</file>