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png" ContentType="image/png"/>
  <Override PartName="/ppt/media/clap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07A-14AF-47DA-B2C4-EEDB4C71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31A-4D1B-4D4A-BBE4-52105710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36D-EB37-4C8C-8EDD-B7A0CB77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AAD-8C1E-42E9-9C40-7D918DFE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C98-C499-4456-A99B-50AA94C1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D50-E850-43F0-A1BC-063C6AB3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9A3-23C5-4503-A539-7C011DF1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272A-816B-4FE8-8B8A-19F0C00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A63-08BE-4E56-85B1-A75C44C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A9E0-FF35-4DF8-89AB-89E803B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7F1E-38AD-4C32-BD1E-0F7A32AB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69B-EA17-4908-AE0F-1B2214A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6DAE-8971-450C-8E00-4199EC9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BBD8-49E2-4D12-87DC-9F3DFAD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F06-30DE-40F9-981A-F1D8C7C8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67A-5FAD-43A1-9DE6-9ED8E8D6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A9CB-E5FC-4974-9E1B-2250C0D2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EC6-C963-4029-958F-C1CC47A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DCE-3273-4C2D-8C59-AB50300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166-2A68-4403-92CA-F0935874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307-FAD0-4FE5-B163-6EE8DF5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B0D-FC15-4CAA-8940-617C8AA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92C-064B-4387-B684-E3886D9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8C1-7B8C-4697-BBB1-0D5AFDB8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2B4-D5FC-40BD-A186-B6E93A2533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8C9F-D4ED-4582-811F-90D1D7392B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732168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73280" y="2590920"/>
            <a:ext cx="75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Живой организм состоит на 90% из воды и поэтому положительное влияние классической музыки подтверждают исследования японского учёного Эмото Масару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682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провел исследования  кристаллизации воды с различной степенью загрязнения, при воздействии на воду классической и рок музыки, агрессивными и позитивными фраз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7" descr="F9CD4CAA"/>
          <p:cNvPicPr/>
          <p:nvPr/>
        </p:nvPicPr>
        <p:blipFill>
          <a:blip r:embed="rId1"/>
          <a:srcRect l="0" t="0" r="4170" b="7190"/>
          <a:stretch/>
        </p:blipFill>
        <p:spPr>
          <a:xfrm>
            <a:off x="611280" y="2492280"/>
            <a:ext cx="3600360" cy="3232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E965794"/>
          <p:cNvPicPr/>
          <p:nvPr/>
        </p:nvPicPr>
        <p:blipFill>
          <a:blip r:embed="rId2"/>
          <a:srcRect l="0" t="2521" r="0" b="3120"/>
          <a:stretch/>
        </p:blipFill>
        <p:spPr>
          <a:xfrm>
            <a:off x="5435640" y="2565360"/>
            <a:ext cx="3403440" cy="3211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087560" y="59500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одный танец кав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553440" y="5950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Бетхов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68360" y="4941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нимков видно, что идеальную кристаллизацию даёт вода, на которую оказала влияние народная и классическая му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2BBCF420"/>
          <p:cNvPicPr/>
          <p:nvPr/>
        </p:nvPicPr>
        <p:blipFill>
          <a:blip r:embed="rId1"/>
          <a:srcRect l="0" t="0" r="392" b="5347"/>
          <a:stretch/>
        </p:blipFill>
        <p:spPr>
          <a:xfrm>
            <a:off x="539640" y="333360"/>
            <a:ext cx="3745080" cy="347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FD3266C2"/>
          <p:cNvPicPr/>
          <p:nvPr/>
        </p:nvPicPr>
        <p:blipFill>
          <a:blip r:embed="rId2"/>
          <a:srcRect l="0" t="0" r="1091" b="7250"/>
          <a:stretch/>
        </p:blipFill>
        <p:spPr>
          <a:xfrm>
            <a:off x="5003640" y="404640"/>
            <a:ext cx="3745080" cy="3434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197000" y="40194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А.Моца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357240" y="4221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С.Б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E920F2E"/>
          <p:cNvPicPr/>
          <p:nvPr/>
        </p:nvPicPr>
        <p:blipFill>
          <a:blip r:embed="rId1"/>
          <a:srcRect l="0" t="0" r="1865" b="3394"/>
          <a:stretch/>
        </p:blipFill>
        <p:spPr>
          <a:xfrm>
            <a:off x="2627280" y="1700280"/>
            <a:ext cx="4826160" cy="4645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074320" y="549360"/>
            <a:ext cx="60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отическая кристаллизация в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ослушавшей» «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vy metal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ной сделан анализ изменения частоты пульса после прослушивания произведения Г.Свиридова «Время, вперёд!»неподготовленных слушателей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Количество респондентов 11 человек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2" name="Picture 4" descr="6E3F8319"/>
          <p:cNvPicPr/>
          <p:nvPr/>
        </p:nvPicPr>
        <p:blipFill>
          <a:blip r:embed="rId1"/>
          <a:srcRect l="2375" t="1358" r="6576" b="4873"/>
          <a:stretch/>
        </p:blipFill>
        <p:spPr>
          <a:xfrm>
            <a:off x="2195640" y="1989000"/>
            <a:ext cx="50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, показало: образцы, которые подвергались воздействию тонизирующей музыкой ежедневно в течение часа, растут намного активнее, а ростки фасоли регулярно «слушающие» музыку, проросли раньше на 2 дня. Следовательно, мне удалось подтвердить положительное влияние классической музыки на рост жив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6" descr="IMG_0648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ключение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59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так, в современных условиях, когда человек подвержен частым стрессам, широко применяется воздействие музыкой на психоэмоциональную сферу. Учеными исследовано положительное влияние классической музыки на организм, подтверждено экспериментально и даны рекомендации по применению музыкального материала в различных целях. Изучая эти сведения я обогатила свои знания в области музыки, физиологии человека, физики,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 позволило убедиться в позитивном влиянии музыки на человека и растения. Проведённый среди учащихся мониторинг показал, что звучание классической музыки во время перемен имеет положительный эффект. Подобранный  музыкальный материал можно прослушивать на уроках изобразите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лучших образцов мировой музыкальной культуры будет способствовать повышению общего уровня культуры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3695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чебное применение музыки имеет многовековую историю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вид, одухотворенно играя на лютне, излечил Саула от нервной депре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фагор применял музыку во время занятий математикой, так как считал, что она благотворно влияет на интелл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истотель считал музыку средством не только лечения, но и очищения души. И богиня древних римлян Минерва с равной благосклонностью покровительствовала и музыкантам, и врач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древнейшие учения земных цивилизаций содержат накопленный тысячелетиями опыт положительного воздействия музыки на растения, животных и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686D39E4"/>
          <p:cNvPicPr/>
          <p:nvPr/>
        </p:nvPicPr>
        <p:blipFill>
          <a:blip r:embed="rId1"/>
          <a:stretch/>
        </p:blipFill>
        <p:spPr>
          <a:xfrm>
            <a:off x="4211640" y="503280"/>
            <a:ext cx="2523960" cy="635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79E0C895"/>
          <p:cNvPicPr/>
          <p:nvPr/>
        </p:nvPicPr>
        <p:blipFill>
          <a:blip r:embed="rId2"/>
          <a:stretch/>
        </p:blipFill>
        <p:spPr>
          <a:xfrm>
            <a:off x="7093080" y="3789360"/>
            <a:ext cx="181296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56E28D92"/>
          <p:cNvPicPr/>
          <p:nvPr/>
        </p:nvPicPr>
        <p:blipFill>
          <a:blip r:embed="rId3"/>
          <a:stretch/>
        </p:blipFill>
        <p:spPr>
          <a:xfrm>
            <a:off x="7093080" y="549360"/>
            <a:ext cx="1780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14720" y="260280"/>
            <a:ext cx="3695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ытки научного осмысления механизма воздействия музыки на человека стали предприниматься в конц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 Появляются данные о благотворном влиянии музыки на центральную нервную систему, дыхание, кровообращение. Отмечается стимулирующее воздействие маршевой музыки на мышечную работоспособность уставших солдат, а мелодии доставляющие человеку радость, замедляют пульс, способствуют расширению сосудов и нормализуют артериальное д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455480" y="474012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Дворжак «Славянский танец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 помощью медицинского работника  был сделан анализ заболеваемости детей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5157360"/>
            <a:ext cx="72072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 видим, большой процент заболеваний нервной системы, глаз, органов пищеварения. Хорошо известно, что эти болезни, а так же утомляемость, усталость, вызываются испытываемым эмоциональным состоянием. Музыка же способна вызвать массу положительных эмоций, способствуя созданию эмоционального комфорта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Object 19"/>
          <p:cNvGraphicFramePr/>
          <p:nvPr/>
        </p:nvGraphicFramePr>
        <p:xfrm>
          <a:off x="2771640" y="836640"/>
          <a:ext cx="39769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39769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Психика реагирует на музыку даже тогда, когда мы ,жуя бутерброд или читая книгу, привычно включаем вполголоса магнитофон и, практически не замечая воздействия музыкальных звуков, осуществляем какую-либо свою деятельность на фоне ненавязчивых мелод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8" descr="so01915_"/>
          <p:cNvPicPr/>
          <p:nvPr/>
        </p:nvPicPr>
        <p:blipFill>
          <a:blip r:embed="rId1"/>
          <a:stretch/>
        </p:blipFill>
        <p:spPr>
          <a:xfrm>
            <a:off x="939960" y="306864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o01916_"/>
          <p:cNvPicPr/>
          <p:nvPr/>
        </p:nvPicPr>
        <p:blipFill>
          <a:blip r:embed="rId2"/>
          <a:stretch/>
        </p:blipFill>
        <p:spPr>
          <a:xfrm>
            <a:off x="5435640" y="299736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BD18223_"/>
          <p:cNvPicPr/>
          <p:nvPr/>
        </p:nvPicPr>
        <p:blipFill>
          <a:blip r:embed="rId3"/>
          <a:stretch/>
        </p:blipFill>
        <p:spPr>
          <a:xfrm rot="19486800">
            <a:off x="3368160" y="2727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BD18223_"/>
          <p:cNvPicPr/>
          <p:nvPr/>
        </p:nvPicPr>
        <p:blipFill>
          <a:blip r:embed="rId4"/>
          <a:stretch/>
        </p:blipFill>
        <p:spPr>
          <a:xfrm rot="1397400">
            <a:off x="5866920" y="2276280"/>
            <a:ext cx="824040" cy="81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BD18223_"/>
          <p:cNvPicPr/>
          <p:nvPr/>
        </p:nvPicPr>
        <p:blipFill>
          <a:blip r:embed="rId5"/>
          <a:stretch/>
        </p:blipFill>
        <p:spPr>
          <a:xfrm rot="2328600">
            <a:off x="1476360" y="2205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BD18223_"/>
          <p:cNvPicPr/>
          <p:nvPr/>
        </p:nvPicPr>
        <p:blipFill>
          <a:blip r:embed="rId6"/>
          <a:stretch/>
        </p:blipFill>
        <p:spPr>
          <a:xfrm rot="20565000">
            <a:off x="7164000" y="2276280"/>
            <a:ext cx="824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7704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Музыка – это, прежде всего звук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вук, как физическое явление –  это упругие колебания и волны, возникающие и распространяющиеся в газах, жидкостях и твёрдых телах, воспринимаемые человеческим ух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ound"/>
          <p:cNvSpPr/>
          <p:nvPr/>
        </p:nvSpPr>
        <p:spPr>
          <a:xfrm rot="11926800">
            <a:off x="5508360" y="2348640"/>
            <a:ext cx="2952720" cy="3745080"/>
          </a:xfrm>
          <a:custGeom>
            <a:avLst/>
            <a:gdLst>
              <a:gd name="textAreaLeft" fmla="*/ 104040 w 2952720"/>
              <a:gd name="textAreaRight" fmla="*/ 2880360 w 2952720"/>
              <a:gd name="textAreaTop" fmla="*/ 3893400 h 3745080"/>
              <a:gd name="textAreaBottom" fmla="*/ 49039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"/>
          <p:cNvSpPr/>
          <p:nvPr/>
        </p:nvSpPr>
        <p:spPr>
          <a:xfrm>
            <a:off x="971640" y="2276640"/>
            <a:ext cx="2448000" cy="201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в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человечески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ух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124000" y="1700280"/>
            <a:ext cx="71640" cy="576360"/>
          </a:xfrm>
          <a:prstGeom prst="upArrow">
            <a:avLst>
              <a:gd name="adj1" fmla="val 50000"/>
              <a:gd name="adj2" fmla="val 20113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187280" y="333360"/>
            <a:ext cx="2160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ультра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2050560" y="436572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116000" y="5157720"/>
            <a:ext cx="216072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инфра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3276720" y="333360"/>
            <a:ext cx="4319640" cy="358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356000" y="70812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нь высокий звук 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ринимаемый человеческим ух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няется в медицине с лечебной цел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3276720" y="6093000"/>
            <a:ext cx="4032000" cy="360360"/>
          </a:xfrm>
          <a:custGeom>
            <a:avLst/>
            <a:gdLst>
              <a:gd name="textAreaLeft" fmla="*/ 705600 w 4032000"/>
              <a:gd name="textAreaRight" fmla="*/ 2923200 w 40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408560" y="452448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нь низкий звук не воспринимаем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ческим ухом. Вызывает чув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лости, страха, повышенную раздраж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4"/>
          <p:cNvSpPr/>
          <p:nvPr/>
        </p:nvSpPr>
        <p:spPr>
          <a:xfrm>
            <a:off x="900000" y="2565360"/>
            <a:ext cx="2737080" cy="22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ву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человеческим ух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5435640" y="47628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364000" y="501336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 уд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9"/>
          <p:cNvSpPr/>
          <p:nvPr/>
        </p:nvSpPr>
        <p:spPr>
          <a:xfrm rot="3425400">
            <a:off x="3973320" y="1003320"/>
            <a:ext cx="792000" cy="2185920"/>
          </a:xfrm>
          <a:prstGeom prst="upArrow">
            <a:avLst>
              <a:gd name="adj1" fmla="val 50000"/>
              <a:gd name="adj2" fmla="val 69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0"/>
          <p:cNvSpPr/>
          <p:nvPr/>
        </p:nvSpPr>
        <p:spPr>
          <a:xfrm rot="6883800">
            <a:off x="3900240" y="4027320"/>
            <a:ext cx="792360" cy="2185920"/>
          </a:xfrm>
          <a:prstGeom prst="upArrow">
            <a:avLst>
              <a:gd name="adj1" fmla="val 50000"/>
              <a:gd name="adj2" fmla="val 6896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1"/>
          <p:cNvSpPr/>
          <p:nvPr/>
        </p:nvSpPr>
        <p:spPr>
          <a:xfrm rot="5400000">
            <a:off x="4476240" y="2732040"/>
            <a:ext cx="792360" cy="1754280"/>
          </a:xfrm>
          <a:prstGeom prst="upArrow">
            <a:avLst>
              <a:gd name="adj1" fmla="val 50000"/>
              <a:gd name="adj2" fmla="val 5535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5940360" y="2708280"/>
            <a:ext cx="2664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4"/>
          <p:cNvSpPr/>
          <p:nvPr/>
        </p:nvSpPr>
        <p:spPr>
          <a:xfrm>
            <a:off x="3348000" y="4581360"/>
            <a:ext cx="278784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68360" y="4005360"/>
            <a:ext cx="165564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611280" y="2781360"/>
            <a:ext cx="158436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омк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1547640" y="1700280"/>
            <a:ext cx="1584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бр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3635280" y="1268280"/>
            <a:ext cx="165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зона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877080" y="2492280"/>
            <a:ext cx="165564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5796000" y="1557360"/>
            <a:ext cx="158436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она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7308720" y="371628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3"/>
          <p:cNvSpPr/>
          <p:nvPr/>
        </p:nvSpPr>
        <p:spPr>
          <a:xfrm rot="17787600">
            <a:off x="2476080" y="437292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14"/>
          <p:cNvSpPr/>
          <p:nvPr/>
        </p:nvSpPr>
        <p:spPr>
          <a:xfrm rot="18528000">
            <a:off x="2586960" y="303732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15"/>
          <p:cNvSpPr/>
          <p:nvPr/>
        </p:nvSpPr>
        <p:spPr>
          <a:xfrm rot="19282200">
            <a:off x="3189240" y="250308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4356000" y="2276640"/>
            <a:ext cx="515880" cy="2125440"/>
          </a:xfrm>
          <a:prstGeom prst="upArrow">
            <a:avLst>
              <a:gd name="adj1" fmla="val 50000"/>
              <a:gd name="adj2" fmla="val 1030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7"/>
          <p:cNvSpPr/>
          <p:nvPr/>
        </p:nvSpPr>
        <p:spPr>
          <a:xfrm rot="1660800">
            <a:off x="5435280" y="234900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8"/>
          <p:cNvSpPr/>
          <p:nvPr/>
        </p:nvSpPr>
        <p:spPr>
          <a:xfrm rot="2617200">
            <a:off x="6186600" y="289404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9"/>
          <p:cNvSpPr/>
          <p:nvPr/>
        </p:nvSpPr>
        <p:spPr>
          <a:xfrm rot="3327000">
            <a:off x="6435720" y="4157280"/>
            <a:ext cx="482400" cy="898560"/>
          </a:xfrm>
          <a:prstGeom prst="upArrow">
            <a:avLst>
              <a:gd name="adj1" fmla="val 50000"/>
              <a:gd name="adj2" fmla="val 465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24"/>
          <p:cNvSpPr/>
          <p:nvPr/>
        </p:nvSpPr>
        <p:spPr>
          <a:xfrm>
            <a:off x="7308720" y="486900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25"/>
          <p:cNvSpPr/>
          <p:nvPr/>
        </p:nvSpPr>
        <p:spPr>
          <a:xfrm>
            <a:off x="539640" y="515772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26"/>
          <p:cNvSpPr/>
          <p:nvPr/>
        </p:nvSpPr>
        <p:spPr>
          <a:xfrm rot="5230200">
            <a:off x="6508440" y="509256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28"/>
          <p:cNvSpPr/>
          <p:nvPr/>
        </p:nvSpPr>
        <p:spPr>
          <a:xfrm rot="16383000">
            <a:off x="2403360" y="509220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1479960" y="33336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рактеристики музыкального зв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6:36:16Z</dcterms:created>
  <dc:creator>Бабушка</dc:creator>
  <dc:description/>
  <dc:language>en-US</dc:language>
  <cp:lastModifiedBy>acer</cp:lastModifiedBy>
  <dcterms:modified xsi:type="dcterms:W3CDTF">2017-10-01T16:41:03Z</dcterms:modified>
  <cp:revision>19</cp:revision>
  <dc:subject/>
  <dc:title>Здоровье, музыка и мы</dc:title>
</cp:coreProperties>
</file>