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FBB-525C-4044-B286-22ED7C2F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92F-7234-486B-90CA-91827CD1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2D0-660D-49FD-B6AC-6F653B92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289-36A3-469B-99B3-5503E829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BC2-7B3A-45FC-9D05-A86D6CD1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CC4-3252-4E2C-82B2-20BA2669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B7D5-D873-495B-8EFE-1FEF8074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F40-476D-4A8D-8AD6-D7029ABA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581-117E-46E5-9219-2053EE0A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B40-5541-4D87-81B3-F1DA3FE3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D8A-097C-49C1-A49D-30CAE297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AEC-B126-4772-A2D1-7E30BC1A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4B31-4440-4D1C-9EFC-9BDC303244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Times New Roman"/>
              </a:rPr>
              <a:t>ПРОЕКТ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«ТАЙНЫ ПЕСКА»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оспитатели: Егорова Ольга Генриховна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Щевелева Наталья Владимир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Times New Roman"/>
              </a:rPr>
              <a:t>Важнейшее значение для развития детей имеет их практическая деятельность, а особый интерес представляет детское экспериментирование с компонентами неживой природы, так как именно эксперименты составляют основу всякого знания, потому что без них любые понятия превращаются в сухие абстракции.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53337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IMG_4306"/>
          <p:cNvPicPr/>
          <p:nvPr/>
        </p:nvPicPr>
        <p:blipFill>
          <a:blip r:embed="rId1"/>
          <a:stretch/>
        </p:blipFill>
        <p:spPr>
          <a:xfrm>
            <a:off x="380880" y="33526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MG_4312"/>
          <p:cNvPicPr/>
          <p:nvPr/>
        </p:nvPicPr>
        <p:blipFill>
          <a:blip r:embed="rId2"/>
          <a:stretch/>
        </p:blipFill>
        <p:spPr>
          <a:xfrm>
            <a:off x="5251320" y="2901960"/>
            <a:ext cx="271332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Times New Roman"/>
              </a:rPr>
              <a:t>Создание детьми образов различных предметов из цветного песка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6019920"/>
            <a:ext cx="8540640" cy="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400" bIns="324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IMG_4381"/>
          <p:cNvPicPr/>
          <p:nvPr/>
        </p:nvPicPr>
        <p:blipFill>
          <a:blip r:embed="rId1"/>
          <a:stretch/>
        </p:blipFill>
        <p:spPr>
          <a:xfrm rot="20546400">
            <a:off x="456840" y="19810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IMG_4383"/>
          <p:cNvPicPr/>
          <p:nvPr/>
        </p:nvPicPr>
        <p:blipFill>
          <a:blip r:embed="rId2"/>
          <a:stretch/>
        </p:blipFill>
        <p:spPr>
          <a:xfrm rot="1357200">
            <a:off x="5790960" y="2133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IMG_4384"/>
          <p:cNvPicPr/>
          <p:nvPr/>
        </p:nvPicPr>
        <p:blipFill>
          <a:blip r:embed="rId3"/>
          <a:stretch/>
        </p:blipFill>
        <p:spPr>
          <a:xfrm>
            <a:off x="3200400" y="4038480"/>
            <a:ext cx="26258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Times New Roman"/>
              </a:rPr>
              <a:t>Поддерживать интерес у детей к использованию многообразия песка для художественного творчества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5790960"/>
            <a:ext cx="854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IMG_4301"/>
          <p:cNvPicPr/>
          <p:nvPr/>
        </p:nvPicPr>
        <p:blipFill>
          <a:blip r:embed="rId1"/>
          <a:stretch/>
        </p:blipFill>
        <p:spPr>
          <a:xfrm rot="20176200">
            <a:off x="685440" y="2209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MG_4311"/>
          <p:cNvPicPr/>
          <p:nvPr/>
        </p:nvPicPr>
        <p:blipFill>
          <a:blip r:embed="rId2"/>
          <a:stretch/>
        </p:blipFill>
        <p:spPr>
          <a:xfrm rot="1456800">
            <a:off x="6019560" y="2285640"/>
            <a:ext cx="2701800" cy="202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G_4315"/>
          <p:cNvPicPr/>
          <p:nvPr/>
        </p:nvPicPr>
        <p:blipFill>
          <a:blip r:embed="rId3"/>
          <a:stretch/>
        </p:blipFill>
        <p:spPr>
          <a:xfrm>
            <a:off x="3581280" y="4038480"/>
            <a:ext cx="24735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Times New Roman"/>
              </a:rPr>
              <a:t>Воспитание у детей интереса к познавательной деятельности, желание исследовать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5943600"/>
            <a:ext cx="85406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IMG_4305"/>
          <p:cNvPicPr/>
          <p:nvPr/>
        </p:nvPicPr>
        <p:blipFill>
          <a:blip r:embed="rId1"/>
          <a:stretch/>
        </p:blipFill>
        <p:spPr>
          <a:xfrm>
            <a:off x="0" y="1600200"/>
            <a:ext cx="2778120" cy="208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MG_4309"/>
          <p:cNvPicPr/>
          <p:nvPr/>
        </p:nvPicPr>
        <p:blipFill>
          <a:blip r:embed="rId2"/>
          <a:stretch/>
        </p:blipFill>
        <p:spPr>
          <a:xfrm>
            <a:off x="2971800" y="19810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MG_4303"/>
          <p:cNvPicPr/>
          <p:nvPr/>
        </p:nvPicPr>
        <p:blipFill>
          <a:blip r:embed="rId3"/>
          <a:stretch/>
        </p:blipFill>
        <p:spPr>
          <a:xfrm>
            <a:off x="6172200" y="1600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G_4299"/>
          <p:cNvPicPr/>
          <p:nvPr/>
        </p:nvPicPr>
        <p:blipFill>
          <a:blip r:embed="rId4"/>
          <a:stretch/>
        </p:blipFill>
        <p:spPr>
          <a:xfrm>
            <a:off x="609480" y="4003560"/>
            <a:ext cx="2141640" cy="285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MG_4307"/>
          <p:cNvPicPr/>
          <p:nvPr/>
        </p:nvPicPr>
        <p:blipFill>
          <a:blip r:embed="rId5"/>
          <a:stretch/>
        </p:blipFill>
        <p:spPr>
          <a:xfrm>
            <a:off x="4495680" y="44197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Times New Roman"/>
              </a:rPr>
              <a:t>Расширять кругозор детей на основе экспериментирования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5867280"/>
            <a:ext cx="85406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IMG_4317"/>
          <p:cNvPicPr/>
          <p:nvPr/>
        </p:nvPicPr>
        <p:blipFill>
          <a:blip r:embed="rId1"/>
          <a:stretch/>
        </p:blipFill>
        <p:spPr>
          <a:xfrm>
            <a:off x="838080" y="1905120"/>
            <a:ext cx="2713320" cy="361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G_4321"/>
          <p:cNvPicPr/>
          <p:nvPr/>
        </p:nvPicPr>
        <p:blipFill>
          <a:blip r:embed="rId2"/>
          <a:stretch/>
        </p:blipFill>
        <p:spPr>
          <a:xfrm>
            <a:off x="4419720" y="2209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3-21T04:56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