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3.png" ContentType="image/png"/>
  <Override PartName="/ppt/media/image4.png" ContentType="image/png"/>
  <Override PartName="/ppt/media/image2.png" ContentType="image/png"/>
  <Override PartName="/ppt/media/image27.png" ContentType="image/png"/>
  <Override PartName="/ppt/media/image30.wmf" ContentType="image/x-wmf"/>
  <Override PartName="/ppt/media/image28.wmf" ContentType="image/x-wmf"/>
  <Override PartName="/ppt/media/image29.wmf" ContentType="image/x-wmf"/>
  <Override PartName="/ppt/media/image11.png" ContentType="image/png"/>
  <Override PartName="/ppt/media/image6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1DF-D902-4070-9C63-5D4F6C3B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610-D35C-437B-91E2-BCF08AF1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5D2-10E2-45C7-A898-17719547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0F2-6D87-4A3D-83F0-9671208E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E96-AC7C-4A80-BCB7-FF9C7360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6D2-85C8-44DA-9DAF-1AD5CAB9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33D-F2DE-4AAB-82E3-A331FE04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E4D-B407-451B-8356-D02DED82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F01-D293-475D-A6B7-6C014544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CA1-4450-4BE5-A356-E8FF57CA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02B-E766-497F-87CA-71587AAA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2C5-4231-4B22-B69C-42D754DA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8285-B087-4642-B3C3-3CE098BFD0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60;&#1086;&#1090;&#1086;&#1072;&#1083;&#1100;&#1073;&#1086;&#1084;.ppt" TargetMode="External"/><Relationship Id="rId2" Type="http://schemas.openxmlformats.org/officeDocument/2006/relationships/hyperlink" Target="file:///&#1041;&#1086;&#1075;&#1072;&#1090;&#1099;&#1088;&#1080;%20&#1047;&#1077;&#1084;&#1083;&#1080;%20&#1056;&#1091;&#1089;&#1089;&#1082;&#1086;&#1081;.ppt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pklabdo.lanta-net.ru/" TargetMode="External"/><Relationship Id="rId2" Type="http://schemas.openxmlformats.org/officeDocument/2006/relationships/hyperlink" Target="http://ipklabdo.lanta-net.ru/" TargetMode="External"/><Relationship Id="rId3" Type="http://schemas.openxmlformats.org/officeDocument/2006/relationships/hyperlink" Target="http://www.openclass.ru/" TargetMode="External"/><Relationship Id="rId4" Type="http://schemas.openxmlformats.org/officeDocument/2006/relationships/hyperlink" Target="http://www.openclass.ru/" TargetMode="External"/><Relationship Id="rId5" Type="http://schemas.openxmlformats.org/officeDocument/2006/relationships/hyperlink" Target="http://www.openclass.ru/" TargetMode="External"/><Relationship Id="rId6" Type="http://schemas.openxmlformats.org/officeDocument/2006/relationships/hyperlink" Target="http://www.openclass.ru/" TargetMode="External"/><Relationship Id="rId7" Type="http://schemas.openxmlformats.org/officeDocument/2006/relationships/hyperlink" Target="http://www.openclass.ru/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Педагогический проект: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Arial Black"/>
              </a:rPr>
              <a:t>«Формирование позитивных взаимоотношений  родителей и детей посредством совместной 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Arial Black"/>
              </a:rPr>
              <a:t>проектной деятельности»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3860640"/>
            <a:ext cx="820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Автор проект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ерных Надежда Михайлов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оспитатель МБДО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воронежского детского са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ичуринского рай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9" descr="15ed30e5f3206ffd3982e0b7745e24ef"/>
          <p:cNvPicPr/>
          <p:nvPr/>
        </p:nvPicPr>
        <p:blipFill>
          <a:blip r:embed="rId1"/>
          <a:stretch/>
        </p:blipFill>
        <p:spPr>
          <a:xfrm>
            <a:off x="6377040" y="2511360"/>
            <a:ext cx="265104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050920" y="260280"/>
            <a:ext cx="489744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РАБОТЫ С РОД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1484280"/>
            <a:ext cx="29876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ЕЙНЫЕ МИНИ-ПРОЕК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50920" y="3429000"/>
            <a:ext cx="302580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НИ ОТКРЫТЫХ ДВЕР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975280" y="2060640"/>
            <a:ext cx="291780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УЛЬТАЦИИ, БЕСЕ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724360" y="3716280"/>
            <a:ext cx="3024360" cy="4334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АЗДН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187280" y="5300640"/>
            <a:ext cx="316872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ДИТЕЛЬСКИЕ СОБРАНИЯ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ЕЙНЫЕ ГОСТИ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859280" y="5300640"/>
            <a:ext cx="338472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ЕЩЕНИЕ СЕМЕ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ИТАННИК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9"/>
          <p:cNvSpPr/>
          <p:nvPr/>
        </p:nvSpPr>
        <p:spPr>
          <a:xfrm flipH="1">
            <a:off x="3058920" y="981000"/>
            <a:ext cx="1368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10"/>
          <p:cNvSpPr/>
          <p:nvPr/>
        </p:nvSpPr>
        <p:spPr>
          <a:xfrm flipH="1">
            <a:off x="3058920" y="981000"/>
            <a:ext cx="136836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3779640" y="981000"/>
            <a:ext cx="647640" cy="424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4427640" y="981000"/>
            <a:ext cx="86364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4427640" y="981000"/>
            <a:ext cx="143964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4572000" y="1125360"/>
            <a:ext cx="1440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179280" y="2421000"/>
            <a:ext cx="2737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ВМЕСТНЫЕ ПРОГУЛКИ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КСКУР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4427640" y="981000"/>
            <a:ext cx="136980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19"/>
          <p:cNvSpPr/>
          <p:nvPr/>
        </p:nvSpPr>
        <p:spPr>
          <a:xfrm flipH="1">
            <a:off x="2916360" y="98100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324000" y="4437000"/>
            <a:ext cx="287964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ГЛЯДНАЯ ПРОПАГАН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5867280" y="2924280"/>
            <a:ext cx="2952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ВЫСТАВКИ, КОНКУРС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5508720" y="4437000"/>
            <a:ext cx="295092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ДНИ ДОБРЫХ ДЕ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5796000" y="1268280"/>
            <a:ext cx="316872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ОБЩЕНИЕ ОПЫТ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ЕЙНОГО ВОСПИТА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27"/>
          <p:cNvSpPr/>
          <p:nvPr/>
        </p:nvSpPr>
        <p:spPr>
          <a:xfrm flipH="1">
            <a:off x="3347640" y="981000"/>
            <a:ext cx="1079640" cy="352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28"/>
          <p:cNvSpPr/>
          <p:nvPr/>
        </p:nvSpPr>
        <p:spPr>
          <a:xfrm>
            <a:off x="4427640" y="981000"/>
            <a:ext cx="86364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29"/>
          <p:cNvSpPr/>
          <p:nvPr/>
        </p:nvSpPr>
        <p:spPr>
          <a:xfrm>
            <a:off x="4427640" y="1052640"/>
            <a:ext cx="1296720" cy="30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Book Antiqua"/>
              </a:rPr>
              <a:t>    </a:t>
            </a:r>
            <a:r>
              <a:rPr b="1" lang="ru-RU" sz="3200" spc="-1" strike="noStrike">
                <a:solidFill>
                  <a:srgbClr val="00ccff"/>
                </a:solidFill>
                <a:latin typeface="Book Antiqua"/>
              </a:rPr>
              <a:t>Формы работы с детьм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96" name="Diagram 3"/>
          <p:cNvGrpSpPr/>
          <p:nvPr/>
        </p:nvGrpSpPr>
        <p:grpSpPr>
          <a:xfrm>
            <a:off x="2462040" y="1751040"/>
            <a:ext cx="4246560" cy="4215240"/>
            <a:chOff x="2462040" y="1751040"/>
            <a:chExt cx="4246560" cy="4215240"/>
          </a:xfrm>
        </p:grpSpPr>
        <p:sp>
          <p:nvSpPr>
            <p:cNvPr id="97" name="_s1028"/>
            <p:cNvSpPr/>
            <p:nvPr/>
          </p:nvSpPr>
          <p:spPr>
            <a:xfrm flipH="1" flipV="1">
              <a:off x="3823920" y="3002400"/>
              <a:ext cx="447480" cy="5338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29"/>
            <p:cNvSpPr/>
            <p:nvPr/>
          </p:nvSpPr>
          <p:spPr>
            <a:xfrm>
              <a:off x="3030480" y="2143440"/>
              <a:ext cx="969840" cy="973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Творческая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речевая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еятельность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0"/>
            <p:cNvSpPr/>
            <p:nvPr/>
          </p:nvSpPr>
          <p:spPr>
            <a:xfrm flipH="1" flipV="1">
              <a:off x="3422160" y="3704040"/>
              <a:ext cx="684360" cy="1209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1"/>
            <p:cNvSpPr/>
            <p:nvPr/>
          </p:nvSpPr>
          <p:spPr>
            <a:xfrm>
              <a:off x="2462040" y="3131640"/>
              <a:ext cx="970200" cy="973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Интегрированная 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НОД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2"/>
            <p:cNvSpPr/>
            <p:nvPr/>
          </p:nvSpPr>
          <p:spPr>
            <a:xfrm flipH="1">
              <a:off x="3563640" y="4151880"/>
              <a:ext cx="601560" cy="349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2658960" y="4257360"/>
              <a:ext cx="969840" cy="974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ни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обрых дел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4"/>
            <p:cNvSpPr/>
            <p:nvPr/>
          </p:nvSpPr>
          <p:spPr>
            <a:xfrm flipH="1">
              <a:off x="4181040" y="4364280"/>
              <a:ext cx="237960" cy="656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5"/>
            <p:cNvSpPr/>
            <p:nvPr/>
          </p:nvSpPr>
          <p:spPr>
            <a:xfrm>
              <a:off x="3530520" y="4992120"/>
              <a:ext cx="969840" cy="9741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Интервью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родителе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6"/>
            <p:cNvSpPr/>
            <p:nvPr/>
          </p:nvSpPr>
          <p:spPr>
            <a:xfrm>
              <a:off x="4749840" y="4364280"/>
              <a:ext cx="237960" cy="656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7"/>
            <p:cNvSpPr/>
            <p:nvPr/>
          </p:nvSpPr>
          <p:spPr>
            <a:xfrm>
              <a:off x="4668840" y="4992120"/>
              <a:ext cx="969840" cy="9741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Экскурси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_s1038"/>
            <p:cNvSpPr/>
            <p:nvPr/>
          </p:nvSpPr>
          <p:spPr>
            <a:xfrm>
              <a:off x="5002200" y="4150440"/>
              <a:ext cx="603000" cy="349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9"/>
            <p:cNvSpPr/>
            <p:nvPr/>
          </p:nvSpPr>
          <p:spPr>
            <a:xfrm>
              <a:off x="5540400" y="4257360"/>
              <a:ext cx="969840" cy="9741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Праздники,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развлечения</a:t>
              </a: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,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_s1040"/>
            <p:cNvSpPr/>
            <p:nvPr/>
          </p:nvSpPr>
          <p:spPr>
            <a:xfrm flipV="1">
              <a:off x="5059440" y="3702600"/>
              <a:ext cx="685800" cy="1209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_s1041"/>
            <p:cNvSpPr/>
            <p:nvPr/>
          </p:nvSpPr>
          <p:spPr>
            <a:xfrm>
              <a:off x="5738760" y="3131640"/>
              <a:ext cx="969840" cy="973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Создание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мини-проект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 flipV="1">
              <a:off x="4894200" y="3000960"/>
              <a:ext cx="447480" cy="5356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_s1043"/>
            <p:cNvSpPr/>
            <p:nvPr/>
          </p:nvSpPr>
          <p:spPr>
            <a:xfrm>
              <a:off x="5168880" y="2142000"/>
              <a:ext cx="969840" cy="973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Различные виды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етско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еятельност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1044"/>
            <p:cNvSpPr/>
            <p:nvPr/>
          </p:nvSpPr>
          <p:spPr>
            <a:xfrm flipV="1">
              <a:off x="4583160" y="2723400"/>
              <a:ext cx="0" cy="6998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_s1045"/>
            <p:cNvSpPr/>
            <p:nvPr/>
          </p:nvSpPr>
          <p:spPr>
            <a:xfrm>
              <a:off x="4098960" y="1751040"/>
              <a:ext cx="969840" cy="9741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Выставки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етских работ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_s1046"/>
            <p:cNvSpPr/>
            <p:nvPr/>
          </p:nvSpPr>
          <p:spPr>
            <a:xfrm>
              <a:off x="4098960" y="3423600"/>
              <a:ext cx="969840" cy="9738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Организованная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образовательная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деятельность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6" name="Picture 30" descr=""/>
          <p:cNvPicPr/>
          <p:nvPr/>
        </p:nvPicPr>
        <p:blipFill>
          <a:blip r:embed="rId11"/>
          <a:stretch/>
        </p:blipFill>
        <p:spPr>
          <a:xfrm>
            <a:off x="0" y="549360"/>
            <a:ext cx="2870280" cy="4602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2" descr=""/>
          <p:cNvPicPr/>
          <p:nvPr/>
        </p:nvPicPr>
        <p:blipFill>
          <a:blip r:embed="rId12"/>
          <a:stretch/>
        </p:blipFill>
        <p:spPr>
          <a:xfrm>
            <a:off x="6383160" y="4886280"/>
            <a:ext cx="2760840" cy="394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C9C3B4EE"/>
          <p:cNvPicPr/>
          <p:nvPr/>
        </p:nvPicPr>
        <p:blipFill>
          <a:blip r:embed="rId13"/>
          <a:stretch/>
        </p:blipFill>
        <p:spPr>
          <a:xfrm>
            <a:off x="6372360" y="549360"/>
            <a:ext cx="2771640" cy="413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6" descr=""/>
          <p:cNvPicPr/>
          <p:nvPr/>
        </p:nvPicPr>
        <p:blipFill>
          <a:blip r:embed="rId14"/>
          <a:stretch/>
        </p:blipFill>
        <p:spPr>
          <a:xfrm>
            <a:off x="6804000" y="2924280"/>
            <a:ext cx="2340000" cy="3406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15"/>
          <a:stretch/>
        </p:blipFill>
        <p:spPr>
          <a:xfrm>
            <a:off x="0" y="5067360"/>
            <a:ext cx="2771640" cy="357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16"/>
          <a:stretch/>
        </p:blipFill>
        <p:spPr>
          <a:xfrm>
            <a:off x="0" y="3141720"/>
            <a:ext cx="2325600" cy="32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50920" y="404280"/>
            <a:ext cx="48243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ccff"/>
                </a:solidFill>
                <a:latin typeface="Arial Black"/>
              </a:rPr>
              <a:t>Использование ИКТ</a:t>
            </a:r>
            <a:r>
              <a:rPr b="1" i="1" lang="ru-RU" sz="2300" spc="-1" strike="noStrike">
                <a:solidFill>
                  <a:srgbClr val="e5ffff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36003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Личностно-ориентированного обучения и воспит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азвивающего обуч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Здоровьесбере-гающ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оектн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гровая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нформационно-коммуникаци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Арка 2"/>
          <p:cNvSpPr/>
          <p:nvPr/>
        </p:nvSpPr>
        <p:spPr>
          <a:xfrm rot="16200000">
            <a:off x="3137040" y="3423960"/>
            <a:ext cx="1785960" cy="50004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w="1785918" h="500066">
                <a:moveTo>
                  <a:pt x="0" y="250032"/>
                </a:moveTo>
                <a:lnTo>
                  <a:pt x="0" y="250032"/>
                </a:lnTo>
                <a:cubicBezTo>
                  <a:pt x="1" y="111942"/>
                  <a:pt x="399792" y="-1"/>
                  <a:pt x="892959" y="0"/>
                </a:cubicBezTo>
                <a:cubicBezTo>
                  <a:pt x="1386126" y="0"/>
                  <a:pt x="1785918" y="111943"/>
                  <a:pt x="1785918" y="250033"/>
                </a:cubicBezTo>
                <a:cubicBezTo>
                  <a:pt x="1785918" y="250033"/>
                  <a:pt x="1785917" y="250034"/>
                  <a:pt x="1785917" y="250034"/>
                </a:cubicBezTo>
                <a:lnTo>
                  <a:pt x="1660902" y="250033"/>
                </a:lnTo>
                <a:cubicBezTo>
                  <a:pt x="1660902" y="180988"/>
                  <a:pt x="1317082" y="125016"/>
                  <a:pt x="892959" y="125016"/>
                </a:cubicBezTo>
                <a:cubicBezTo>
                  <a:pt x="468835" y="125016"/>
                  <a:pt x="125016" y="180988"/>
                  <a:pt x="125016" y="250033"/>
                </a:cubicBezTo>
                <a:cubicBezTo>
                  <a:pt x="125015" y="250033"/>
                  <a:pt x="125016" y="250033"/>
                  <a:pt x="125016" y="250034"/>
                </a:cubicBezTo>
                <a:lnTo>
                  <a:pt x="0" y="250032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Арка 3"/>
          <p:cNvSpPr/>
          <p:nvPr/>
        </p:nvSpPr>
        <p:spPr>
          <a:xfrm rot="5400000">
            <a:off x="7676280" y="3421800"/>
            <a:ext cx="1785960" cy="50472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504720"/>
              <a:gd name="textAreaBottom" fmla="*/ 252360 h 504720"/>
            </a:gdLst>
            <a:ahLst/>
            <a:rect l="textAreaLeft" t="textAreaTop" r="textAreaRight" b="textAreaBottom"/>
            <a:pathLst>
              <a:path w="1785918" h="357190">
                <a:moveTo>
                  <a:pt x="0" y="178594"/>
                </a:moveTo>
                <a:lnTo>
                  <a:pt x="0" y="178594"/>
                </a:lnTo>
                <a:cubicBezTo>
                  <a:pt x="2" y="79959"/>
                  <a:pt x="399793" y="-1"/>
                  <a:pt x="892959" y="0"/>
                </a:cubicBezTo>
                <a:cubicBezTo>
                  <a:pt x="1386126" y="0"/>
                  <a:pt x="1785918" y="79959"/>
                  <a:pt x="1785918" y="178595"/>
                </a:cubicBezTo>
                <a:cubicBezTo>
                  <a:pt x="1785918" y="178595"/>
                  <a:pt x="1785917" y="178596"/>
                  <a:pt x="1785917" y="178596"/>
                </a:cubicBezTo>
                <a:lnTo>
                  <a:pt x="1696621" y="178595"/>
                </a:lnTo>
                <a:cubicBezTo>
                  <a:pt x="1696621" y="129277"/>
                  <a:pt x="1336809" y="89297"/>
                  <a:pt x="892959" y="89297"/>
                </a:cubicBezTo>
                <a:cubicBezTo>
                  <a:pt x="449108" y="89297"/>
                  <a:pt x="89297" y="129277"/>
                  <a:pt x="89297" y="178595"/>
                </a:cubicBezTo>
                <a:cubicBezTo>
                  <a:pt x="89296" y="178595"/>
                  <a:pt x="89297" y="178595"/>
                  <a:pt x="89297" y="178595"/>
                </a:cubicBezTo>
                <a:lnTo>
                  <a:pt x="0" y="178594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Арка 4"/>
          <p:cNvSpPr/>
          <p:nvPr/>
        </p:nvSpPr>
        <p:spPr>
          <a:xfrm>
            <a:off x="5219640" y="1268280"/>
            <a:ext cx="1785960" cy="500040"/>
          </a:xfrm>
          <a:custGeom>
            <a:avLst/>
            <a:gdLst/>
            <a:ahLst/>
            <a:rect l="l" t="t" r="r" b="b"/>
            <a:pathLst>
              <a:path w="1785938" h="500062">
                <a:moveTo>
                  <a:pt x="0" y="250031"/>
                </a:moveTo>
                <a:cubicBezTo>
                  <a:pt x="0" y="111943"/>
                  <a:pt x="399796" y="0"/>
                  <a:pt x="892969" y="0"/>
                </a:cubicBezTo>
                <a:cubicBezTo>
                  <a:pt x="1386142" y="0"/>
                  <a:pt x="1785938" y="111943"/>
                  <a:pt x="1785938" y="250031"/>
                </a:cubicBezTo>
                <a:lnTo>
                  <a:pt x="1660923" y="250031"/>
                </a:lnTo>
                <a:cubicBezTo>
                  <a:pt x="1660923" y="180987"/>
                  <a:pt x="1317098" y="125015"/>
                  <a:pt x="892969" y="125015"/>
                </a:cubicBezTo>
                <a:cubicBezTo>
                  <a:pt x="468840" y="125015"/>
                  <a:pt x="125015" y="180987"/>
                  <a:pt x="125015" y="250031"/>
                </a:cubicBezTo>
                <a:lnTo>
                  <a:pt x="0" y="250031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Арка 5"/>
          <p:cNvSpPr/>
          <p:nvPr/>
        </p:nvSpPr>
        <p:spPr>
          <a:xfrm rot="10800000">
            <a:off x="5292360" y="5660640"/>
            <a:ext cx="1785960" cy="4986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498600"/>
              <a:gd name="textAreaBottom" fmla="*/ 249480 h 498600"/>
            </a:gdLst>
            <a:ahLst/>
            <a:rect l="textAreaLeft" t="textAreaTop" r="textAreaRight" b="textAreaBottom"/>
            <a:pathLst>
              <a:path w="1785918" h="642942">
                <a:moveTo>
                  <a:pt x="0" y="321470"/>
                </a:moveTo>
                <a:lnTo>
                  <a:pt x="0" y="321470"/>
                </a:lnTo>
                <a:cubicBezTo>
                  <a:pt x="1" y="143926"/>
                  <a:pt x="399792" y="-1"/>
                  <a:pt x="892959" y="0"/>
                </a:cubicBezTo>
                <a:cubicBezTo>
                  <a:pt x="1386126" y="0"/>
                  <a:pt x="1785918" y="143927"/>
                  <a:pt x="1785918" y="321471"/>
                </a:cubicBezTo>
                <a:cubicBezTo>
                  <a:pt x="1785918" y="321471"/>
                  <a:pt x="1785917" y="321472"/>
                  <a:pt x="1785917" y="321472"/>
                </a:cubicBezTo>
                <a:lnTo>
                  <a:pt x="1625183" y="321471"/>
                </a:lnTo>
                <a:cubicBezTo>
                  <a:pt x="1625183" y="232698"/>
                  <a:pt x="1297355" y="160735"/>
                  <a:pt x="892959" y="160735"/>
                </a:cubicBezTo>
                <a:cubicBezTo>
                  <a:pt x="488562" y="160735"/>
                  <a:pt x="160735" y="232698"/>
                  <a:pt x="160735" y="321471"/>
                </a:cubicBezTo>
                <a:cubicBezTo>
                  <a:pt x="160734" y="321471"/>
                  <a:pt x="160735" y="321471"/>
                  <a:pt x="160735" y="321472"/>
                </a:cubicBezTo>
                <a:lnTo>
                  <a:pt x="0" y="32147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Овал 7"/>
          <p:cNvSpPr/>
          <p:nvPr/>
        </p:nvSpPr>
        <p:spPr>
          <a:xfrm>
            <a:off x="4643280" y="2492280"/>
            <a:ext cx="3168720" cy="1225800"/>
          </a:xfrm>
          <a:prstGeom prst="ellipse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Constantia"/>
              </a:rPr>
              <a:t>Организованная образовательная деятельность в ДО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Овал 8"/>
          <p:cNvSpPr/>
          <p:nvPr/>
        </p:nvSpPr>
        <p:spPr>
          <a:xfrm rot="2599200">
            <a:off x="6586560" y="1699920"/>
            <a:ext cx="2557440" cy="114300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Constantia"/>
              </a:rPr>
              <a:t>Дидактические материал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Овал 9"/>
          <p:cNvSpPr/>
          <p:nvPr/>
        </p:nvSpPr>
        <p:spPr>
          <a:xfrm rot="19402200">
            <a:off x="6587640" y="4723920"/>
            <a:ext cx="2392560" cy="114300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CD, DV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Овал 10"/>
          <p:cNvSpPr/>
          <p:nvPr/>
        </p:nvSpPr>
        <p:spPr>
          <a:xfrm rot="2976600">
            <a:off x="3529440" y="4615200"/>
            <a:ext cx="2406600" cy="104292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Constantia"/>
              </a:rPr>
              <a:t>Презентаци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Овал 7"/>
          <p:cNvSpPr/>
          <p:nvPr/>
        </p:nvSpPr>
        <p:spPr>
          <a:xfrm>
            <a:off x="4716360" y="3573360"/>
            <a:ext cx="3168720" cy="1222560"/>
          </a:xfrm>
          <a:prstGeom prst="ellipse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Совместная деятельность взрослых и детей в семь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250920" y="260280"/>
            <a:ext cx="331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ff"/>
                </a:solidFill>
                <a:latin typeface="Arial Black"/>
              </a:rPr>
              <a:t>    </a:t>
            </a: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Технологии</a:t>
            </a:r>
            <a:r>
              <a:rPr b="1" lang="ru-RU" sz="3200" spc="-1" strike="noStrike">
                <a:solidFill>
                  <a:srgbClr val="e5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Овал 8"/>
          <p:cNvSpPr/>
          <p:nvPr/>
        </p:nvSpPr>
        <p:spPr>
          <a:xfrm rot="19047600">
            <a:off x="3419640" y="1557000"/>
            <a:ext cx="2557440" cy="114300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Электронные энциклопе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doni MT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" name="Diagram 4"/>
          <p:cNvGrpSpPr/>
          <p:nvPr/>
        </p:nvGrpSpPr>
        <p:grpSpPr>
          <a:xfrm>
            <a:off x="755280" y="1541520"/>
            <a:ext cx="7521120" cy="3982320"/>
            <a:chOff x="755280" y="1541520"/>
            <a:chExt cx="7521120" cy="3982320"/>
          </a:xfrm>
        </p:grpSpPr>
        <p:sp>
          <p:nvSpPr>
            <p:cNvPr id="138" name="_s2052"/>
            <p:cNvSpPr/>
            <p:nvPr/>
          </p:nvSpPr>
          <p:spPr>
            <a:xfrm>
              <a:off x="3205800" y="3264480"/>
              <a:ext cx="2052360" cy="17449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53"/>
            <p:cNvSpPr/>
            <p:nvPr/>
          </p:nvSpPr>
          <p:spPr>
            <a:xfrm>
              <a:off x="3492360" y="1541520"/>
              <a:ext cx="30236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Воспитанники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2054"/>
            <p:cNvSpPr/>
            <p:nvPr/>
          </p:nvSpPr>
          <p:spPr>
            <a:xfrm>
              <a:off x="4114440" y="2349000"/>
              <a:ext cx="2052360" cy="1744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55"/>
            <p:cNvSpPr/>
            <p:nvPr/>
          </p:nvSpPr>
          <p:spPr>
            <a:xfrm>
              <a:off x="6224040" y="2535480"/>
              <a:ext cx="2052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Родители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воспитанников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56"/>
            <p:cNvSpPr/>
            <p:nvPr/>
          </p:nvSpPr>
          <p:spPr>
            <a:xfrm>
              <a:off x="3492360" y="1820520"/>
              <a:ext cx="2052360" cy="174492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57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2057"/>
            <p:cNvSpPr/>
            <p:nvPr/>
          </p:nvSpPr>
          <p:spPr>
            <a:xfrm>
              <a:off x="6156360" y="3992400"/>
              <a:ext cx="2052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Музыкальный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руководитель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58"/>
            <p:cNvSpPr/>
            <p:nvPr/>
          </p:nvSpPr>
          <p:spPr>
            <a:xfrm>
              <a:off x="3926160" y="2669400"/>
              <a:ext cx="2047680" cy="1744920"/>
            </a:xfrm>
            <a:prstGeom prst="ellipse">
              <a:avLst/>
            </a:prstGeom>
            <a:solidFill>
              <a:srgbClr val="336699">
                <a:alpha val="50000"/>
              </a:srgbClr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_s2059"/>
            <p:cNvSpPr/>
            <p:nvPr/>
          </p:nvSpPr>
          <p:spPr>
            <a:xfrm>
              <a:off x="5436360" y="5088960"/>
              <a:ext cx="2052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Сотрудники районной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детской библиотеки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0"/>
            <p:cNvSpPr/>
            <p:nvPr/>
          </p:nvSpPr>
          <p:spPr>
            <a:xfrm>
              <a:off x="2755800" y="2904120"/>
              <a:ext cx="2052360" cy="17449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2061"/>
            <p:cNvSpPr/>
            <p:nvPr/>
          </p:nvSpPr>
          <p:spPr>
            <a:xfrm>
              <a:off x="755280" y="3992400"/>
              <a:ext cx="20523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Инструктор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по ФИЗО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_s2062"/>
            <p:cNvSpPr/>
            <p:nvPr/>
          </p:nvSpPr>
          <p:spPr>
            <a:xfrm>
              <a:off x="2918160" y="2354040"/>
              <a:ext cx="2047680" cy="1744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2063"/>
            <p:cNvSpPr/>
            <p:nvPr/>
          </p:nvSpPr>
          <p:spPr>
            <a:xfrm>
              <a:off x="902160" y="2468880"/>
              <a:ext cx="2052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Воспитатели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групп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Rectangle 20"/>
          <p:cNvSpPr/>
          <p:nvPr/>
        </p:nvSpPr>
        <p:spPr>
          <a:xfrm>
            <a:off x="4788000" y="3108240"/>
            <a:ext cx="207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324000" y="260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Интеграция участников образователь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Этапы реализации проекта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1403280" y="1628640"/>
            <a:ext cx="609624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403280" y="1628640"/>
            <a:ext cx="609624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онно-подготовитель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нтябр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403280" y="3068640"/>
            <a:ext cx="609624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октябрь - апрел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1619280" y="4581360"/>
            <a:ext cx="6095880" cy="12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лючитель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ма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Организационно-подготовительный этап (сентябрь).</a:t>
            </a:r>
            <a:r>
              <a:rPr b="1" lang="ru-RU" sz="3200" spc="-1" strike="noStrike" u="sng">
                <a:solidFill>
                  <a:srgbClr val="00ccff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Определение темы и проблемы будущего про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становка цели, формулировка задач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Разработка плана движения к цели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ставление плана-схемы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бор, накопление материал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Организация предметно-развивающей сре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дготовка методического сопровождения образовательной раб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одумывание заключительного этапа про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дготовительная работа с родителями воспитанник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ставление перспективного плана совместной деятельности взрослых  и детей по реализации про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Arial Black"/>
              </a:rPr>
              <a:t>Основной этап (октябрь-апрель)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Диагностика направленности ребенка на мир семь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оздание необходимой предметно-развивающей сре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Внедрение современных образовательных технолог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тегрированная о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бразовательная деятельность с воспитанникам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лан реализации основного этап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79280" y="549360"/>
          <a:ext cx="8856720" cy="7688160"/>
        </p:xfrm>
        <a:graphic>
          <a:graphicData uri="http://schemas.openxmlformats.org/drawingml/2006/table">
            <a:tbl>
              <a:tblPr/>
              <a:tblGrid>
                <a:gridCol w="1190880"/>
                <a:gridCol w="4209840"/>
                <a:gridCol w="182520"/>
                <a:gridCol w="32734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ff"/>
                          </a:solidFill>
                          <a:latin typeface="Arial Black"/>
                        </a:rPr>
                        <a:t>Месяц, те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ff"/>
                          </a:solidFill>
                          <a:latin typeface="Arial Black"/>
                        </a:rPr>
                        <a:t>Совместная деятельност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ff"/>
                          </a:solidFill>
                          <a:latin typeface="Arial Black"/>
                        </a:rPr>
                        <a:t>педагогов и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ff"/>
                          </a:solidFill>
                          <a:latin typeface="Arial Black"/>
                        </a:rPr>
                        <a:t>Совместная деятельност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ff"/>
                          </a:solidFill>
                          <a:latin typeface="Arial Black"/>
                        </a:rPr>
                        <a:t>с родител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Семей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ый альб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нтервью родителей «Расскажи, почему меня так назвали?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нтегрированная образовательная деятельност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стречи с интересными людьми: рассказы родителей о своей професси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и в Заворонежскую СОШ, магазин,  библиотеку, музей «Русской избы»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сультация «Об именах, фамилиях, отчествах»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ьское собрание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Как хорошо, что есть семья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Беседы с детьми о своей семье, родственниках. Рассказы о своем детстве, о школьных годах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зготовление семейного альбома.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оллективные творческие дела: выставка семейных альбо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Самая любимая мама дорогая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ематический экспресс-опрос родителей и детей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нтегрированная образовательная деятельность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изкультурный досуг «Кошка с котята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я в библиотеку «Самая прекрасная из женщин - Женщина с ребенком на рук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осмотр презентации «День матери»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вместное с детьми размышление о проведении праздника для мам. 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ешение: 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овести праздник в последнюю пятницу ноябр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сультации «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 возникновения праздника «День матери», «Детская игрушка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глядная информация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собенности воспитания ребёнка мамой и папой»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одительское собрание «Зачем нужна мама?» с просмотром презентации «День матери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Буклет «Материнские заповед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ллаж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«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рдечко для мамочки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оллективные творческие дела:  Выставка домашних игрушек «Во что играли наши мамы»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Выставка 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Сердечко для мамочки!» 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Праздник, посвященный Дню Матери «Самая любимая мама дорогая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50920" y="115920"/>
          <a:ext cx="8713800" cy="5608440"/>
        </p:xfrm>
        <a:graphic>
          <a:graphicData uri="http://schemas.openxmlformats.org/drawingml/2006/table">
            <a:tbl>
              <a:tblPr/>
              <a:tblGrid>
                <a:gridCol w="1081080"/>
                <a:gridCol w="3240000"/>
                <a:gridCol w="4392720"/>
              </a:tblGrid>
              <a:tr h="47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Декабрь-янва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Ново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годняя елоч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Диалоговая беседа на тему «Что мы знаем о Новом годе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нтегрированная образовательная деятельность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осмотр презентации  «Необычные варианты встречи Нового года в разных странах»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зготовление украшений для группы «Творческая мастерская Деда Мороза и Снегурочки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я в библиотеку «Елка как символ праздни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вместное с детьми размышление об украшении группы к празднику, проведении праздник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хождение вместе с детьми  информации о праздновании Нового года и его истори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апка-портфолио «Вечерний досуг в кругу семьи»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сультация «Воспитаем творческую личность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одительское собрание «Скоро, скоро Новый год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исьмо Деду Мороз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частие родителей в улучшении предметно-развивающей среды групп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зготовление костюмов к утреннику, «елочек-красавиц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я к районной (городской) Новогодней ел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оллективные творческие дела: Украшение группы к новому году. Выставка «ёлочек-красавиц». Новогодний утренник «В гости к царю Гороху»,  спортивное развлечение «Сюрпризы от елочки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4" name="Picture 11" descr=""/>
          <p:cNvPicPr/>
          <p:nvPr/>
        </p:nvPicPr>
        <p:blipFill>
          <a:blip r:embed="rId1"/>
          <a:stretch/>
        </p:blipFill>
        <p:spPr>
          <a:xfrm>
            <a:off x="3276720" y="4923000"/>
            <a:ext cx="2984400" cy="386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4873680"/>
            <a:ext cx="2981160" cy="396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6518160" y="4886280"/>
            <a:ext cx="2625840" cy="39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08000" y="189000"/>
          <a:ext cx="8856720" cy="7321320"/>
        </p:xfrm>
        <a:graphic>
          <a:graphicData uri="http://schemas.openxmlformats.org/drawingml/2006/table">
            <a:tbl>
              <a:tblPr/>
              <a:tblGrid>
                <a:gridCol w="1262160"/>
                <a:gridCol w="3993840"/>
                <a:gridCol w="216000"/>
                <a:gridCol w="3384720"/>
              </a:tblGrid>
              <a:tr h="27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Нашей Родины сыны нынче прослав-ляютс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ыяснение знаний детей об истории своей страны и военных сражениях; о былинах и сказках, об армии и видах войск и т. п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Интегрированная образовательная деятельность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суждение с детьми вопроса « Как можно поздравить ветеранов войны, военнослужащих?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я в библиотеку «Поэты и писатели о настоящих мужчин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Беседы родителей с детьми дома о Великой Отечественной войне, о родственниках, принимавших участие в боевых действиях; о фотографиях, хранящихся в семейном альбом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сультация «Растим мужчину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ыпуск тематической стенгазеты «Растем вмест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здание детско-родительских мини-проек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оллективные творческие дела: Выставка рисунков.  Музыкально-спортивный праздник «Нашей Родины сыны нынче прославляются!»                                                                         Совместная детско-родительская  презентация мини-проекта «Богатыри Земли Русско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Март-апр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Счастли-вый выходной день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и в музеи города Мичуринска: в дом-музей И. В. Мичурина, дом-музей Голицыных, краеведческий музей, музей им. Герасимов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тегрированная образовательная деятельность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ние коллекций в групп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диции семьи и ДО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сультация «Поиграй со мной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Беседы родителей с детьми о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фессиях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здание коллажа на тему «Мой счастливый выходной день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одительское собрание «Созвучие чувст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Буклет «Как хорошо нам вместе!»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оллективные творческие дела: выставка коллажей «Мой самый счастливый выходной день!». Обобщение семейного опыта проведения совместных выходных дней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оздание коллекций. Дни добрых дел.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31640" y="260280"/>
            <a:ext cx="5699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 Black"/>
              </a:rPr>
              <a:t>«Начала заложенные в детстве человека, похожи на вырезанные на коре молодого дерева буквы, растущие вместе с ним, составляющие неотъемлемую часть его».</a:t>
            </a:r>
            <a:br>
              <a:rPr sz="2400"/>
            </a:br>
            <a:r>
              <a:rPr b="1" i="1" lang="ru-RU" sz="2400" spc="-1" strike="noStrike">
                <a:solidFill>
                  <a:srgbClr val="e5ffff"/>
                </a:solidFill>
                <a:latin typeface="Arial Black"/>
              </a:rPr>
              <a:t>                            В. Гюго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Творческое название проект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Неразлучные друзья 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зрослые и дети!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12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3129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Заключительный этап (май)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оведение праздника «Неразлучные друзья – взрослые и дети!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Заключительная диагност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Анализ результатов работы и сопоставление их с прогнозируемыми результа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Ознакомление с результатами работы на итоговом педсовете ДО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едставление материалов по  теме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езентация проекта на МО воспитателей райо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Размещение материалов проекта на сайтах образовательных сообщест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форум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Определение дальнейших целей и перспектив рабо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Перспективы проект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мина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астер-клас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мещение в сети интер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Вывод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569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заимодействие с семьей посредством проектной деятельности  с использованием разнообразных форм работы обеспечивает организацию оптимальных условий как для развития личности ребёнка, так и его ближайшего окруж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роцесс взаимодействия</a:t>
            </a:r>
            <a:r>
              <a:rPr b="1" lang="ru-RU" sz="18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зрослых и детей на основе сотрудничества, диалога, взаимопомощи;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вышение педагогической компетентности родителей в вопросах  воспитания и развития детей способствовало гармонизации детско-родительских отношений,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успешной социализации ребенка дошкольника, формированию его социальной компетент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 Black"/>
              </a:rPr>
              <a:t>Итак, процесс установления позитивных детско-родительских отношений  эффективен при совместных усилиях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емьи и ДОУ   по созданию единого пространства развития каждого ребенка </a:t>
            </a:r>
            <a:r>
              <a:rPr b="1" i="1" lang="ru-RU" sz="1800" spc="-1" strike="noStrike">
                <a:solidFill>
                  <a:srgbClr val="ffffff"/>
                </a:solidFill>
                <a:latin typeface="Arial Black"/>
              </a:rPr>
              <a:t>на основе использования проектного метода, обеспечивающего активное усвоение дошкольниками семейных ценностей, социальных норм и правил в единстве мотивационного, когнитивного и деятельностно-практического компонента их жизнедеятельности.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ипотеза подтверди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Результативность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Разработка консультаций, методических рекомендаций для родителей и педагог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ыпуск буклетов «Материнские заповеди», «Как хорошо нам вместе!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атическая о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рганизация выставо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одуктов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совмест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й творческой деятельности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рослых и детей в группе детского сад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вместное проведение различны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мероприятий по теме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1"/>
              </a:rPr>
              <a:t>Фотоальбом совместных мероприятий, продуктов творческой деятельности детей и взрослых по проек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2"/>
              </a:rPr>
              <a:t>Совместная детско-родительская  презентация мини-проекта «Богатыри Земли Русской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здание коллекций: коллекция фантиков «Бумажная фантазия»,  игрушек из киндер-сюрпризов «Игрушечная страна», открыток «Эти прекрасные цветы»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4"/>
          <p:cNvSpPr/>
          <p:nvPr/>
        </p:nvSpPr>
        <p:spPr>
          <a:xfrm rot="16200000">
            <a:off x="1331280" y="-891360"/>
            <a:ext cx="1152360" cy="3313080"/>
          </a:xfrm>
          <a:prstGeom prst="downArrow">
            <a:avLst>
              <a:gd name="adj1" fmla="val 50000"/>
              <a:gd name="adj2" fmla="val 404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оциальный паспорт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нкетирование, опро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924360" y="189000"/>
            <a:ext cx="5219640" cy="143964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накомство с семьей, выявление трудносте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мейного воспитания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ределение наиболее значим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рм работы с родителя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90000" y="234936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разование род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3995640" y="2133720"/>
          <a:ext cx="51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133720"/>
                    <a:ext cx="5148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0"/>
          <p:cNvSpPr/>
          <p:nvPr/>
        </p:nvSpPr>
        <p:spPr>
          <a:xfrm>
            <a:off x="179280" y="328464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ы сотрудничест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Object 11"/>
          <p:cNvGraphicFramePr/>
          <p:nvPr/>
        </p:nvGraphicFramePr>
        <p:xfrm>
          <a:off x="3995640" y="3213000"/>
          <a:ext cx="5148360" cy="11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213000"/>
                    <a:ext cx="514836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12"/>
          <p:cNvSpPr/>
          <p:nvPr/>
        </p:nvSpPr>
        <p:spPr>
          <a:xfrm>
            <a:off x="-135000" y="414972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ица проживающие с ребенк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Object 13"/>
          <p:cNvGraphicFramePr/>
          <p:nvPr/>
        </p:nvGraphicFramePr>
        <p:xfrm>
          <a:off x="3995640" y="4437000"/>
          <a:ext cx="514836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4437000"/>
                    <a:ext cx="5148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14"/>
          <p:cNvSpPr/>
          <p:nvPr/>
        </p:nvSpPr>
        <p:spPr>
          <a:xfrm>
            <a:off x="0" y="5229360"/>
            <a:ext cx="3635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рудности семей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оспит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Object 15"/>
          <p:cNvGraphicFramePr/>
          <p:nvPr/>
        </p:nvGraphicFramePr>
        <p:xfrm>
          <a:off x="3995640" y="5589720"/>
          <a:ext cx="5148360" cy="115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5589720"/>
                    <a:ext cx="5148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 rot="16200000">
            <a:off x="1691640" y="-1251360"/>
            <a:ext cx="1225440" cy="3960720"/>
          </a:xfrm>
          <a:prstGeom prst="downArrow">
            <a:avLst>
              <a:gd name="adj1" fmla="val 50000"/>
              <a:gd name="adj2" fmla="val 40461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Диагностика направленно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ребенка на мир семь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5148360" y="115920"/>
            <a:ext cx="3600360" cy="10810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явление интеллектуального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тивационно-потребностного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веденческого компонент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5400" y="1987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250920" y="1413000"/>
            <a:ext cx="3112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личие представлен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 мире семь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79280" y="2349360"/>
            <a:ext cx="4206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личие представлений о свое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причастности к миру семь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250920" y="33577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личие представлений о важности мира семьи для челове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Object 21"/>
          <p:cNvGraphicFramePr/>
          <p:nvPr/>
        </p:nvGraphicFramePr>
        <p:xfrm>
          <a:off x="5148360" y="1413000"/>
          <a:ext cx="36748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413000"/>
                    <a:ext cx="3674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7"/>
          <p:cNvGraphicFramePr/>
          <p:nvPr/>
        </p:nvGraphicFramePr>
        <p:xfrm>
          <a:off x="5148360" y="2421000"/>
          <a:ext cx="3671640" cy="95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421000"/>
                    <a:ext cx="367164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49"/>
          <p:cNvGraphicFramePr/>
          <p:nvPr/>
        </p:nvGraphicFramePr>
        <p:xfrm>
          <a:off x="5148360" y="3500280"/>
          <a:ext cx="3678120" cy="99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3500280"/>
                    <a:ext cx="367812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55"/>
          <p:cNvGraphicFramePr/>
          <p:nvPr/>
        </p:nvGraphicFramePr>
        <p:xfrm>
          <a:off x="5148360" y="4581360"/>
          <a:ext cx="3671640" cy="105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4581360"/>
                    <a:ext cx="367164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59"/>
          <p:cNvSpPr/>
          <p:nvPr/>
        </p:nvSpPr>
        <p:spPr>
          <a:xfrm>
            <a:off x="250920" y="4365720"/>
            <a:ext cx="3911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елание рассказать о семь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ейных ценност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60"/>
          <p:cNvSpPr/>
          <p:nvPr/>
        </p:nvSpPr>
        <p:spPr>
          <a:xfrm>
            <a:off x="179280" y="5445000"/>
            <a:ext cx="4764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мение реализовывать представл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знания о мире семь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действиях и действи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4" name="Object 61"/>
          <p:cNvGraphicFramePr/>
          <p:nvPr/>
        </p:nvGraphicFramePr>
        <p:xfrm>
          <a:off x="5076720" y="5716440"/>
          <a:ext cx="3743280" cy="102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Object 6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5716440"/>
                    <a:ext cx="374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4608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О семь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Антон Мосолов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емья нужна потому, что без неё скуч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Татьяна Сухушина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емья нужна, чтобы друг другу помогать, ухаживать, заботить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Соня Дрямова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 Black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емья – это много, много человек, которые друг друга любя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Андрей Желтотрубов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 Black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емья – это когда мама и папа никогда не ругаю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Никита Короле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 семье главное – любовь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32360" y="765000"/>
            <a:ext cx="3960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О семейных традиц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 нашей семье есть замечательная традиция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гулки по вых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ная игрот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ворческая семейная мастер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ные путешеств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нь сладкое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ный фотоальб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ные исследов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блиотечный д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45720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Высказывания дете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8" descr="IMG_0430"/>
          <p:cNvPicPr/>
          <p:nvPr/>
        </p:nvPicPr>
        <p:blipFill>
          <a:blip r:embed="rId1"/>
          <a:stretch/>
        </p:blipFill>
        <p:spPr>
          <a:xfrm>
            <a:off x="6632640" y="4651200"/>
            <a:ext cx="2511360" cy="441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7"/>
          <p:cNvGraphicFramePr/>
          <p:nvPr/>
        </p:nvGraphicFramePr>
        <p:xfrm>
          <a:off x="971640" y="4941720"/>
          <a:ext cx="727236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941720"/>
                    <a:ext cx="727236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26"/>
          <p:cNvGraphicFramePr/>
          <p:nvPr/>
        </p:nvGraphicFramePr>
        <p:xfrm>
          <a:off x="404640" y="2637000"/>
          <a:ext cx="401976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640" y="2637000"/>
                    <a:ext cx="401976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9"/>
          <p:cNvSpPr/>
          <p:nvPr/>
        </p:nvSpPr>
        <p:spPr>
          <a:xfrm>
            <a:off x="1619280" y="450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ahoma"/>
              </a:rPr>
              <a:t>Анализ участия родителей в проек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4"/>
          <p:cNvSpPr/>
          <p:nvPr/>
        </p:nvSpPr>
        <p:spPr>
          <a:xfrm rot="16200000">
            <a:off x="1475640" y="-1107000"/>
            <a:ext cx="1295280" cy="3888000"/>
          </a:xfrm>
          <a:prstGeom prst="downArrow">
            <a:avLst>
              <a:gd name="adj1" fmla="val 50000"/>
              <a:gd name="adj2" fmla="val 4045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Анкетирование, опро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родителей по окончании проек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4211640" y="333360"/>
            <a:ext cx="4681440" cy="7920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Выявление уровня удовлетворенности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учет социального заказа родителе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7" name="Object 29"/>
          <p:cNvGraphicFramePr/>
          <p:nvPr/>
        </p:nvGraphicFramePr>
        <p:xfrm>
          <a:off x="4859280" y="1989000"/>
          <a:ext cx="4038480" cy="171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1989000"/>
                    <a:ext cx="403848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32"/>
          <p:cNvSpPr/>
          <p:nvPr/>
        </p:nvSpPr>
        <p:spPr>
          <a:xfrm>
            <a:off x="179280" y="1844640"/>
            <a:ext cx="374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Удовлетворенность родителей работой в данном направлен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4932360" y="1197000"/>
            <a:ext cx="421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обходимость продолжения работы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       в данном направлен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Информационные ресурс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5075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Арнаутова Е. П. Основы сотрудничества педагога с семьей дошкольника. — М.: Просвещение, 1994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Арнаутова Е.П. Планируем работу с семьей. // Управление ДОУ 2002г., № 4 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Взаимодействие педагогов ДОУ с родителями.- М.: ТЦ Сфера, 2009. (Библиотека журнала «Воспитатель ДОУ»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Диагностика направленности ребенка на мир семьи</a:t>
            </a: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 // </a:t>
            </a: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М.: Центр педагогического образования, 201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Дошкольное учреждение и семья – единое пространство детского развития // под редакцией Дороновой Т. Н. // ТЦ  «Сфера» ЛИНКА-ПРЕСС, 2007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Доронова Т. Н., Глушкова Г. В., Гризик Т. И. Вместе с семьей: Пособие по взаимодействию ДОУ и родителей. — М.: Просвещение, 2005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Зверева О.Л., Кротова Т.В.  // Общение педагога с родителями в ДОУ// Управление ДОУ 2002г., № 4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Е.С. Евдокимова,  Н.В. Додокина  Детский сад и семья. Методика  работы с родителями // Мозаика-Синтез, 2007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95280" y="4292640"/>
            <a:ext cx="85089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айт МБДОУ Заворонежского д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/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 </a:t>
            </a:r>
            <a:r>
              <a:rPr b="1" lang="ru-RU" sz="1600" spc="-1" strike="noStrike" u="sng">
                <a:solidFill>
                  <a:srgbClr val="00ccff"/>
                </a:solidFill>
                <a:uFillTx/>
                <a:latin typeface="Arial Black"/>
              </a:rPr>
              <a:t>http://</a:t>
            </a:r>
            <a:r>
              <a:rPr b="1" lang="en-US" sz="1600" spc="-1" strike="noStrike" u="sng">
                <a:solidFill>
                  <a:srgbClr val="00ccff"/>
                </a:solidFill>
                <a:uFillTx/>
                <a:latin typeface="Arial Black"/>
              </a:rPr>
              <a:t>zavoronesz</a:t>
            </a:r>
            <a:r>
              <a:rPr b="1" lang="ru-RU" sz="1600" spc="-1" strike="noStrike" u="sng">
                <a:solidFill>
                  <a:srgbClr val="00ccff"/>
                </a:solidFill>
                <a:uFillTx/>
                <a:latin typeface="Arial Black"/>
              </a:rPr>
              <a:t>dou.68</a:t>
            </a:r>
            <a:r>
              <a:rPr b="1" lang="en-US" sz="1600" spc="-1" strike="noStrike" u="sng">
                <a:solidFill>
                  <a:srgbClr val="00ccff"/>
                </a:solidFill>
                <a:uFillTx/>
                <a:latin typeface="Arial Black"/>
              </a:rPr>
              <a:t>edu</a:t>
            </a:r>
            <a:r>
              <a:rPr b="1" lang="ru-RU" sz="1600" spc="-1" strike="noStrike" u="sng">
                <a:solidFill>
                  <a:srgbClr val="00ccff"/>
                </a:solidFill>
                <a:uFillTx/>
                <a:latin typeface="Arial Black"/>
              </a:rPr>
              <a:t>.ru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Arial Black"/>
                <a:hlinkClick r:id="rId1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Тамбов ВИКИ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Arial Black"/>
                <a:hlinkClick r:id="rId2"/>
              </a:rPr>
              <a:t>http://ipklabdo.lanta-net.ru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Открытый класс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Arial Black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Arial Black"/>
                <a:hlinkClick r:id="rId4"/>
              </a:rPr>
              <a:t>://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Arial Black"/>
                <a:hlinkClick r:id="rId5"/>
              </a:rPr>
              <a:t>www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Arial Black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Arial Black"/>
                <a:hlinkClick r:id="rId7"/>
              </a:rPr>
              <a:t>openclass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ru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еть творческих учителей 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http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://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www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it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n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ru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Педсовет </a:t>
            </a:r>
            <a:r>
              <a:rPr b="1" lang="en-US" sz="1600" spc="-1" strike="noStrike">
                <a:solidFill>
                  <a:srgbClr val="00ccff"/>
                </a:solidFill>
                <a:latin typeface="Arial Black"/>
              </a:rPr>
              <a:t>http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://</a:t>
            </a:r>
            <a:r>
              <a:rPr b="1" lang="en-US" sz="1600" spc="-1" strike="noStrike">
                <a:solidFill>
                  <a:srgbClr val="00ccff"/>
                </a:solidFill>
                <a:latin typeface="Arial Black"/>
              </a:rPr>
              <a:t>pedsovet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.</a:t>
            </a:r>
            <a:r>
              <a:rPr b="1" lang="en-US" sz="1600" spc="-1" strike="noStrike">
                <a:solidFill>
                  <a:srgbClr val="00ccff"/>
                </a:solidFill>
                <a:latin typeface="Arial Black"/>
              </a:rPr>
              <a:t>ru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Мааам.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ru http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://</a:t>
            </a:r>
            <a:r>
              <a:rPr b="0" lang="ru-RU" sz="1600" spc="-1" strike="noStrike">
                <a:solidFill>
                  <a:srgbClr val="00ccff"/>
                </a:solidFill>
                <a:latin typeface="Arial Black"/>
              </a:rPr>
              <a:t>www.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maaam</a:t>
            </a:r>
            <a:r>
              <a:rPr b="0" lang="ru-RU" sz="1600" spc="-1" strike="noStrike">
                <a:solidFill>
                  <a:srgbClr val="00ccff"/>
                </a:solidFill>
                <a:latin typeface="Arial Black"/>
              </a:rPr>
              <a:t>.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ru</a:t>
            </a:r>
            <a:r>
              <a:rPr b="0" lang="ru-RU" sz="1600" spc="-1" strike="noStrike">
                <a:solidFill>
                  <a:srgbClr val="00ccff"/>
                </a:solidFill>
                <a:latin typeface="Arial Black"/>
              </a:rPr>
              <a:t>/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00cc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одительские онлайн-форумы </a:t>
            </a: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http://</a:t>
            </a: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forum</a:t>
            </a: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krasmama</a:t>
            </a: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ru</a:t>
            </a: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/, </a:t>
            </a:r>
            <a:r>
              <a:rPr b="1" lang="en-US" sz="1600" spc="-1" strike="noStrike">
                <a:solidFill>
                  <a:srgbClr val="00ccff"/>
                </a:solidFill>
                <a:latin typeface="Arial Black"/>
              </a:rPr>
              <a:t>http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://</a:t>
            </a: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ccff"/>
                </a:solidFill>
                <a:latin typeface="Arial Black"/>
              </a:rPr>
              <a:t>www.ya-roditel.ru/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forum</a:t>
            </a:r>
            <a:r>
              <a:rPr b="0" lang="ru-RU" sz="1600" spc="-1" strike="noStrike">
                <a:solidFill>
                  <a:srgbClr val="00ccff"/>
                </a:solidFill>
                <a:latin typeface="Arial Black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700360" y="4005360"/>
            <a:ext cx="36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Интернет-ресур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Tahoma"/>
              </a:rPr>
              <a:t>Паспорт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Тип проекта: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актико-ориентированный, долгосрочный, открытый, группов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Участники проекта: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воспитате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, дети среднего дошкольного возраста, родители, музыкальный руководитель, инструктор по ФИЗО, сотрудники детской районной библиоте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Сроки реализации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ентябрь-м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Условия реализации: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детский сад – «открытая система» воспитания, обеспечивающая физическое, психическое, эмоциональное благополучие детства в условиях семьи и детского сада, партнёрское общение и заинтересованность детей и родителей, командная организация работы, интеграция со специалистами ДОУ, методические разрабо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Средства контроля и обеспечение достоверности реализации проекта: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анкетирование родителей, диагностика уровня сформированности сопричастности  детей к семейным традициям и ценностям семьи, организация экскурсий, фото и видеоматериа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Актуальность проект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последние годы в нашей стране сложилась сложная социально-экономическая обстановка, в связи с чем возрос фактор занятости родителей, перенос родительских функций на образовательные учреждения, уменьшение продолжительности общения в семье и обеднение его содержания, дефицит теплоты и внимательного отношения друг к другу, исчезновение совместных форм полезной деятельности ребенка и взросло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 детей нечеткие, несформированные представления о семье, семейных традициях, об уровне ценности семьи. Родители недооценивают значимость семейного воспитания, семейных традиций, нет согласованности в вопросах воспитания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то приводит к нарушению детско-родительских отношений, следствием которого в недалеком будущем могут возникнуть проблемы в социально-нравственном развитии и в становлении личности ребенка. А ведь именно в дошкольном возрасте, когда формируются основные черты личности, роль родителей, как воспитателей,  особенно  велика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Основополагающий вопрос: </a:t>
            </a:r>
            <a:br>
              <a:rPr sz="2400"/>
            </a:br>
            <a:r>
              <a:rPr b="1" lang="ru-RU" sz="2000" spc="-1" strike="noStrike">
                <a:solidFill>
                  <a:srgbClr val="e5ffff"/>
                </a:solidFill>
                <a:latin typeface="Arial Black"/>
              </a:rPr>
              <a:t>Как сделать эффективным процесс взаимодействия</a:t>
            </a:r>
            <a:r>
              <a:rPr b="1" lang="ru-RU" sz="2000" spc="-1" strike="noStrike" u="sng">
                <a:solidFill>
                  <a:srgbClr val="00ccff"/>
                </a:solidFill>
                <a:uFillTx/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e5ffff"/>
                </a:solidFill>
                <a:latin typeface="Arial Black"/>
              </a:rPr>
              <a:t>взрослых и детей, способствующий комфортному развитию личности, формированию социальной компетентности детей в новых социально-экономических условиях? </a:t>
            </a:r>
            <a:r>
              <a:rPr b="0" lang="ru-RU" sz="1600" spc="-1" strike="noStrike">
                <a:solidFill>
                  <a:srgbClr val="e5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e5ffff"/>
                </a:solidFill>
                <a:latin typeface="Arial Black"/>
              </a:rPr>
              <a:t> 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ccff"/>
                </a:solidFill>
                <a:latin typeface="Arial Black"/>
              </a:rPr>
              <a:t>Проблемные вопросы</a:t>
            </a:r>
            <a:r>
              <a:rPr b="0" lang="ru-RU" sz="1400" spc="-1" strike="noStrike">
                <a:solidFill>
                  <a:srgbClr val="00ccff"/>
                </a:solidFill>
                <a:latin typeface="Arial Black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Что такое семь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Зачем человеку семь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Что такое  родословная? Откуда я родом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Что такое  традиции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Кто такие защитники Отечества?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Как можно порадовать близких люде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68360" y="3716280"/>
            <a:ext cx="7991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Гипотеза:</a:t>
            </a:r>
            <a:br>
              <a:rPr sz="2400"/>
            </a:br>
            <a:r>
              <a:rPr b="1" lang="ru-RU" sz="1800" spc="-1" strike="noStrike">
                <a:solidFill>
                  <a:srgbClr val="e5ffff"/>
                </a:solidFill>
                <a:latin typeface="Arial Black"/>
              </a:rPr>
              <a:t>Если будет создана и реализована модель взаимодействия с семьей на основе использования проектного метода, обеспечивающая активное усвоение детьми среднего дошкольного возраста семейных ценностей, социальных норм и правил в единстве мотивационного, когнитивного и деятельностно-практического компонента их жизнедеятельности, то процесс взаимодействия и гармонизации детско-родительских отношений будет эффектив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Цель проекта:</a:t>
            </a:r>
            <a:r>
              <a:rPr b="0" lang="ru-RU" sz="3200" spc="-1" strike="noStrike">
                <a:solidFill>
                  <a:srgbClr val="e5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птимизация детско-родительских отношений в совместной проектной деятельност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оздать эмоционально благополучную атмосферу дома и в детском саду, где взаимоотношения между взрослыми и детьми построены на основе доброжелательности и взаимоува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формировать у детей интерес к своей семье, семейным традициям, воспитывать уважение к членам семьи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Формировать и развивать у детей навыки исследовательской работы в совместной деятельности со взрослыми. Обогащать детско-родительские отношения опытом совместной творческой деятель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буждать детей к выполнению общественно значимых заданий, к добрым делам для семьи, родного дома, детского са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Упражнять в проявлении сострадания, заботливости, внимательности к родным и близким, друзьям и сверстникам, к тем, кто о них заботи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Формировать у родителей мотивации к организации разнообразных форм семейного досуга, к установлению в семье правил, норм поведения, традиций, т.е. потребность к формированию семейных ценност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Предполагаемый результат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Гармонизация детско-родительских отношений  в процессе использования интерактивных форм взаимодействия детей  с родителями через совместную проектную деятель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здание дома и в группе детского сада  условий для формирования у детей интереса к своей семье,  сохранению семейных традиций и обычаев, воспитание уважения к членам семь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образовательного проце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вышение уровня педагогического образования родителей для осуществления полноценного воспитания и развития ребенка в семь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вышение уровня родительской активности в организации совместной деятельности по воспитанию де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Нахождение эффективных форм и содержания взаимодействия педагогов и родител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Учет социального запроса (интересов, нужд, потребностей) родителей во взаимодействии с ДО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чет личного опыта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емственность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заимное доверие; открытость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нтегр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ифференцированный подход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обровольность, значим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трудничество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сихологическая комфортность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ариативность содержания, форм и методов образования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оянство обратной связ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Принципы взаимодействи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Стратегия взаимодействия с семье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Oval 3"/>
          <p:cNvSpPr/>
          <p:nvPr/>
        </p:nvSpPr>
        <p:spPr>
          <a:xfrm>
            <a:off x="2916360" y="1557360"/>
            <a:ext cx="2950920" cy="12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 е м ь 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Oval 4"/>
          <p:cNvSpPr/>
          <p:nvPr/>
        </p:nvSpPr>
        <p:spPr>
          <a:xfrm>
            <a:off x="468360" y="3357720"/>
            <a:ext cx="2663640" cy="1150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словия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979640" y="4941720"/>
            <a:ext cx="2665440" cy="115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ормы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val 6"/>
          <p:cNvSpPr/>
          <p:nvPr/>
        </p:nvSpPr>
        <p:spPr>
          <a:xfrm>
            <a:off x="3780000" y="3645000"/>
            <a:ext cx="2663640" cy="100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оды изу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Oval 7"/>
          <p:cNvSpPr/>
          <p:nvPr/>
        </p:nvSpPr>
        <p:spPr>
          <a:xfrm>
            <a:off x="5940360" y="4653000"/>
            <a:ext cx="2627280" cy="1297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циальный за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8"/>
          <p:cNvSpPr/>
          <p:nvPr/>
        </p:nvSpPr>
        <p:spPr>
          <a:xfrm flipH="1">
            <a:off x="2050920" y="2492280"/>
            <a:ext cx="1152720" cy="720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9"/>
          <p:cNvSpPr/>
          <p:nvPr/>
        </p:nvSpPr>
        <p:spPr>
          <a:xfrm flipH="1">
            <a:off x="3635280" y="2708280"/>
            <a:ext cx="144720" cy="1944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5651640" y="2565360"/>
            <a:ext cx="1657080" cy="1944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586728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5364000" y="2565360"/>
            <a:ext cx="0" cy="9349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7:46:57Z</dcterms:created>
  <dc:creator>Надежда</dc:creator>
  <dc:description/>
  <dc:language>en-US</dc:language>
  <cp:lastModifiedBy>Надежда</cp:lastModifiedBy>
  <dcterms:modified xsi:type="dcterms:W3CDTF">2017-10-01T08:01:03Z</dcterms:modified>
  <cp:revision>301</cp:revision>
  <dc:subject/>
  <dc:title>Слайд 1</dc:title>
</cp:coreProperties>
</file>