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3.png" ContentType="image/png"/>
  <Override PartName="/ppt/media/image4.png" ContentType="image/png"/>
  <Override PartName="/ppt/media/image2.png" ContentType="image/png"/>
  <Override PartName="/ppt/media/image27.png" ContentType="image/png"/>
  <Override PartName="/ppt/media/image30.wmf" ContentType="image/x-wmf"/>
  <Override PartName="/ppt/media/image28.wmf" ContentType="image/x-wmf"/>
  <Override PartName="/ppt/media/image29.wmf" ContentType="image/x-wmf"/>
  <Override PartName="/ppt/media/image11.png" ContentType="image/png"/>
  <Override PartName="/ppt/media/image6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0DAA-C7EF-4776-B29E-A0410F67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7E7-51D0-4202-882E-9ECA3865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1D2-D671-47CD-89D8-DF9CE7B9A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D36C-C9A8-4107-A7C4-D51424D2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6B9-C4B9-4136-8ED3-617C41A6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8B6E-3014-4180-9097-30736716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6FC9-2469-47DE-9A78-0B617A3A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6B9-EE3D-4B53-8478-AF524B40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9CA-C746-4625-ADC0-32E0F318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2B64-B046-411E-9539-D47BEDD0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080-70A4-4C71-A8FD-4058242D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3C9-824F-4936-895D-7EA871CF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BC2F-CE51-49AD-A9D0-2E6EA0E1F3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4.png"/><Relationship Id="rId10" Type="http://schemas.openxmlformats.org/officeDocument/2006/relationships/image" Target="../media/image7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&#1060;&#1086;&#1090;&#1086;&#1072;&#1083;&#1100;&#1073;&#1086;&#1084;.ppt" TargetMode="External"/><Relationship Id="rId2" Type="http://schemas.openxmlformats.org/officeDocument/2006/relationships/hyperlink" Target="file:///&#1041;&#1086;&#1075;&#1072;&#1090;&#1099;&#1088;&#1080;%20&#1047;&#1077;&#1084;&#1083;&#1080;%20&#1056;&#1091;&#1089;&#1089;&#1082;&#1086;&#1081;.ppt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pklabdo.lanta-net.ru/" TargetMode="External"/><Relationship Id="rId2" Type="http://schemas.openxmlformats.org/officeDocument/2006/relationships/hyperlink" Target="http://ipklabdo.lanta-net.ru/" TargetMode="External"/><Relationship Id="rId3" Type="http://schemas.openxmlformats.org/officeDocument/2006/relationships/hyperlink" Target="http://www.openclass.ru/" TargetMode="External"/><Relationship Id="rId4" Type="http://schemas.openxmlformats.org/officeDocument/2006/relationships/hyperlink" Target="http://www.openclass.ru/" TargetMode="External"/><Relationship Id="rId5" Type="http://schemas.openxmlformats.org/officeDocument/2006/relationships/hyperlink" Target="http://www.openclass.ru/" TargetMode="External"/><Relationship Id="rId6" Type="http://schemas.openxmlformats.org/officeDocument/2006/relationships/hyperlink" Target="http://www.openclass.ru/" TargetMode="External"/><Relationship Id="rId7" Type="http://schemas.openxmlformats.org/officeDocument/2006/relationships/hyperlink" Target="http://www.openclass.ru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Педагогический проект: </a:t>
            </a:r>
            <a:br>
              <a:rPr sz="3200"/>
            </a:br>
            <a:r>
              <a:rPr b="0" lang="ru-RU" sz="3200" spc="-1" strike="noStrike">
                <a:solidFill>
                  <a:srgbClr val="e5ff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Arial Black"/>
              </a:rPr>
              <a:t>«Формирование позитивных взаимоотношений  родителей и детей посредством совместной 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Arial Black"/>
              </a:rPr>
              <a:t>проектной деятельности»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3860640"/>
            <a:ext cx="820872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Автор проект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ерных Надежда Михайловн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оспитатель МБДО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Заворонежского детского сад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Мичуринского рай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9" descr="15ed30e5f3206ffd3982e0b7745e24ef"/>
          <p:cNvPicPr/>
          <p:nvPr/>
        </p:nvPicPr>
        <p:blipFill>
          <a:blip r:embed="rId1"/>
          <a:stretch/>
        </p:blipFill>
        <p:spPr>
          <a:xfrm>
            <a:off x="6377040" y="2511360"/>
            <a:ext cx="2651040" cy="37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2050920" y="260280"/>
            <a:ext cx="4897440" cy="719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РАБОТЫ С РОДИТЕЛ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0" y="1484280"/>
            <a:ext cx="298764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ЕЙНЫЕ МИНИ-ПРОЕКТ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250920" y="3429000"/>
            <a:ext cx="30258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НИ ОТКРЫТЫХ ДВЕР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975280" y="2060640"/>
            <a:ext cx="291780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УЛЬТАЦИИ, БЕСЕД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5724360" y="3716280"/>
            <a:ext cx="3024360" cy="43344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АЗДНИК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1187280" y="5300640"/>
            <a:ext cx="3168720" cy="720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ОДИТЕЛЬСКИЕ СОБРАНИЯ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ЕЙНЫЕ ГОСТИНЫ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4859280" y="5300640"/>
            <a:ext cx="3384720" cy="792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СЕЩЕНИЕ СЕМЕ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ИТАННИКОВ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Line 9"/>
          <p:cNvSpPr/>
          <p:nvPr/>
        </p:nvSpPr>
        <p:spPr>
          <a:xfrm flipH="1">
            <a:off x="3058920" y="981000"/>
            <a:ext cx="136836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Line 10"/>
          <p:cNvSpPr/>
          <p:nvPr/>
        </p:nvSpPr>
        <p:spPr>
          <a:xfrm flipH="1">
            <a:off x="3058920" y="981000"/>
            <a:ext cx="1368360" cy="24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79640" y="981000"/>
            <a:ext cx="647640" cy="424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Line 12"/>
          <p:cNvSpPr/>
          <p:nvPr/>
        </p:nvSpPr>
        <p:spPr>
          <a:xfrm>
            <a:off x="4427640" y="981000"/>
            <a:ext cx="86364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4427640" y="981000"/>
            <a:ext cx="1439640" cy="22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572000" y="1125360"/>
            <a:ext cx="14400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179280" y="2421000"/>
            <a:ext cx="2737080" cy="576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ВМЕСТНЫЕ ПРОГУЛКИ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ЭКСКУР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Line 16"/>
          <p:cNvSpPr/>
          <p:nvPr/>
        </p:nvSpPr>
        <p:spPr>
          <a:xfrm>
            <a:off x="4427640" y="981000"/>
            <a:ext cx="136980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Line 19"/>
          <p:cNvSpPr/>
          <p:nvPr/>
        </p:nvSpPr>
        <p:spPr>
          <a:xfrm flipH="1">
            <a:off x="2916360" y="98100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324000" y="4437000"/>
            <a:ext cx="287964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АГЛЯДНАЯ ПРОПАГАН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5867280" y="2924280"/>
            <a:ext cx="2952720" cy="50328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ВЫСТАВКИ, КОНКУРСЫ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5508720" y="4437000"/>
            <a:ext cx="2950920" cy="5047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ДНИ ДОБРЫХ ДЕ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5796000" y="1268280"/>
            <a:ext cx="3168720" cy="4320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ОБЩЕНИЕ ОПЫТА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МЕЙНОГО ВОСПИТА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Line 27"/>
          <p:cNvSpPr/>
          <p:nvPr/>
        </p:nvSpPr>
        <p:spPr>
          <a:xfrm flipH="1">
            <a:off x="3347640" y="981000"/>
            <a:ext cx="1079640" cy="352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Line 28"/>
          <p:cNvSpPr/>
          <p:nvPr/>
        </p:nvSpPr>
        <p:spPr>
          <a:xfrm>
            <a:off x="4427640" y="981000"/>
            <a:ext cx="863640" cy="417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Line 29"/>
          <p:cNvSpPr/>
          <p:nvPr/>
        </p:nvSpPr>
        <p:spPr>
          <a:xfrm>
            <a:off x="4427640" y="1052640"/>
            <a:ext cx="1296720" cy="30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Book Antiqua"/>
              </a:rPr>
              <a:t>    </a:t>
            </a:r>
            <a:r>
              <a:rPr b="1" lang="ru-RU" sz="3200" spc="-1" strike="noStrike">
                <a:solidFill>
                  <a:srgbClr val="00ccff"/>
                </a:solidFill>
                <a:latin typeface="Book Antiqua"/>
              </a:rPr>
              <a:t>Формы работы с детьм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96" name="Diagram 3"/>
          <p:cNvGrpSpPr/>
          <p:nvPr/>
        </p:nvGrpSpPr>
        <p:grpSpPr>
          <a:xfrm>
            <a:off x="2462040" y="1751040"/>
            <a:ext cx="4246560" cy="4215240"/>
            <a:chOff x="2462040" y="1751040"/>
            <a:chExt cx="4246560" cy="4215240"/>
          </a:xfrm>
        </p:grpSpPr>
        <p:sp>
          <p:nvSpPr>
            <p:cNvPr id="97" name="_s1028"/>
            <p:cNvSpPr/>
            <p:nvPr/>
          </p:nvSpPr>
          <p:spPr>
            <a:xfrm flipH="1" flipV="1">
              <a:off x="3823920" y="3002400"/>
              <a:ext cx="447480" cy="5338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_s1029"/>
            <p:cNvSpPr/>
            <p:nvPr/>
          </p:nvSpPr>
          <p:spPr>
            <a:xfrm>
              <a:off x="3030480" y="2143440"/>
              <a:ext cx="969840" cy="97380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Творческ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речев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еятельность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_s1030"/>
            <p:cNvSpPr/>
            <p:nvPr/>
          </p:nvSpPr>
          <p:spPr>
            <a:xfrm flipH="1" flipV="1">
              <a:off x="3422160" y="3704040"/>
              <a:ext cx="684360" cy="1209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_s1031"/>
            <p:cNvSpPr/>
            <p:nvPr/>
          </p:nvSpPr>
          <p:spPr>
            <a:xfrm>
              <a:off x="2462040" y="3131640"/>
              <a:ext cx="970200" cy="9738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Интегрированная 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НОД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_s1032"/>
            <p:cNvSpPr/>
            <p:nvPr/>
          </p:nvSpPr>
          <p:spPr>
            <a:xfrm flipH="1">
              <a:off x="3563640" y="4151880"/>
              <a:ext cx="601560" cy="349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_s1033"/>
            <p:cNvSpPr/>
            <p:nvPr/>
          </p:nvSpPr>
          <p:spPr>
            <a:xfrm>
              <a:off x="2658960" y="4257360"/>
              <a:ext cx="969840" cy="9741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ни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обрых дел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_s1034"/>
            <p:cNvSpPr/>
            <p:nvPr/>
          </p:nvSpPr>
          <p:spPr>
            <a:xfrm flipH="1">
              <a:off x="4181040" y="4364280"/>
              <a:ext cx="237960" cy="656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_s1035"/>
            <p:cNvSpPr/>
            <p:nvPr/>
          </p:nvSpPr>
          <p:spPr>
            <a:xfrm>
              <a:off x="3530520" y="4992120"/>
              <a:ext cx="969840" cy="9741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Интервью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родителе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_s1036"/>
            <p:cNvSpPr/>
            <p:nvPr/>
          </p:nvSpPr>
          <p:spPr>
            <a:xfrm>
              <a:off x="4749840" y="4364280"/>
              <a:ext cx="237960" cy="656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_s1037"/>
            <p:cNvSpPr/>
            <p:nvPr/>
          </p:nvSpPr>
          <p:spPr>
            <a:xfrm>
              <a:off x="4668840" y="4992120"/>
              <a:ext cx="969840" cy="9741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Экскурси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_s1038"/>
            <p:cNvSpPr/>
            <p:nvPr/>
          </p:nvSpPr>
          <p:spPr>
            <a:xfrm>
              <a:off x="5002200" y="4150440"/>
              <a:ext cx="603000" cy="3492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_s1039"/>
            <p:cNvSpPr/>
            <p:nvPr/>
          </p:nvSpPr>
          <p:spPr>
            <a:xfrm>
              <a:off x="5540400" y="4257360"/>
              <a:ext cx="969840" cy="97416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Праздники,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развлечения</a:t>
              </a: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,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_s1040"/>
            <p:cNvSpPr/>
            <p:nvPr/>
          </p:nvSpPr>
          <p:spPr>
            <a:xfrm flipV="1">
              <a:off x="5059440" y="3702600"/>
              <a:ext cx="685800" cy="1209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_s1041"/>
            <p:cNvSpPr/>
            <p:nvPr/>
          </p:nvSpPr>
          <p:spPr>
            <a:xfrm>
              <a:off x="5738760" y="3131640"/>
              <a:ext cx="969840" cy="9738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Создание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мини-проект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_s1042"/>
            <p:cNvSpPr/>
            <p:nvPr/>
          </p:nvSpPr>
          <p:spPr>
            <a:xfrm flipV="1">
              <a:off x="4894200" y="3000960"/>
              <a:ext cx="447480" cy="5356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_s1043"/>
            <p:cNvSpPr/>
            <p:nvPr/>
          </p:nvSpPr>
          <p:spPr>
            <a:xfrm>
              <a:off x="5168880" y="2142000"/>
              <a:ext cx="969840" cy="9738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Различные виды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етской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еятельност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_s1044"/>
            <p:cNvSpPr/>
            <p:nvPr/>
          </p:nvSpPr>
          <p:spPr>
            <a:xfrm flipV="1">
              <a:off x="4583160" y="2723400"/>
              <a:ext cx="0" cy="6998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_s1045"/>
            <p:cNvSpPr/>
            <p:nvPr/>
          </p:nvSpPr>
          <p:spPr>
            <a:xfrm>
              <a:off x="4098960" y="1751040"/>
              <a:ext cx="969840" cy="974160"/>
            </a:xfrm>
            <a:prstGeom prst="ellips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Выставки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Book Antiqua"/>
                  <a:ea typeface="Arial"/>
                </a:rPr>
                <a:t>детских работ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_s1046"/>
            <p:cNvSpPr/>
            <p:nvPr/>
          </p:nvSpPr>
          <p:spPr>
            <a:xfrm>
              <a:off x="4098960" y="3423600"/>
              <a:ext cx="969840" cy="97380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e5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Организованн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образовательная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  <a:ea typeface="Arial"/>
                </a:rPr>
                <a:t>деятельность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6" name="Picture 30" descr=""/>
          <p:cNvPicPr/>
          <p:nvPr/>
        </p:nvPicPr>
        <p:blipFill>
          <a:blip r:embed="rId11"/>
          <a:stretch/>
        </p:blipFill>
        <p:spPr>
          <a:xfrm>
            <a:off x="0" y="549360"/>
            <a:ext cx="2870280" cy="4602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2" descr=""/>
          <p:cNvPicPr/>
          <p:nvPr/>
        </p:nvPicPr>
        <p:blipFill>
          <a:blip r:embed="rId12"/>
          <a:stretch/>
        </p:blipFill>
        <p:spPr>
          <a:xfrm>
            <a:off x="6383160" y="4886280"/>
            <a:ext cx="2760840" cy="3943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C9C3B4EE"/>
          <p:cNvPicPr/>
          <p:nvPr/>
        </p:nvPicPr>
        <p:blipFill>
          <a:blip r:embed="rId13"/>
          <a:stretch/>
        </p:blipFill>
        <p:spPr>
          <a:xfrm>
            <a:off x="6372360" y="549360"/>
            <a:ext cx="2771640" cy="413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6" descr=""/>
          <p:cNvPicPr/>
          <p:nvPr/>
        </p:nvPicPr>
        <p:blipFill>
          <a:blip r:embed="rId14"/>
          <a:stretch/>
        </p:blipFill>
        <p:spPr>
          <a:xfrm>
            <a:off x="6804000" y="2924280"/>
            <a:ext cx="2340000" cy="3406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"/>
          <p:cNvPicPr/>
          <p:nvPr/>
        </p:nvPicPr>
        <p:blipFill>
          <a:blip r:embed="rId15"/>
          <a:stretch/>
        </p:blipFill>
        <p:spPr>
          <a:xfrm>
            <a:off x="0" y="5067360"/>
            <a:ext cx="2771640" cy="3579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" descr=""/>
          <p:cNvPicPr/>
          <p:nvPr/>
        </p:nvPicPr>
        <p:blipFill>
          <a:blip r:embed="rId16"/>
          <a:stretch/>
        </p:blipFill>
        <p:spPr>
          <a:xfrm>
            <a:off x="0" y="3141720"/>
            <a:ext cx="2325600" cy="32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50920" y="404280"/>
            <a:ext cx="482436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ccff"/>
                </a:solidFill>
                <a:latin typeface="Arial Black"/>
              </a:rPr>
              <a:t>Использование ИКТ</a:t>
            </a:r>
            <a:r>
              <a:rPr b="1" i="1" lang="ru-RU" sz="2300" spc="-1" strike="noStrike">
                <a:solidFill>
                  <a:srgbClr val="e5ffff"/>
                </a:solidFill>
                <a:latin typeface="Arial Black"/>
              </a:rPr>
              <a:t> </a:t>
            </a:r>
            <a:endParaRPr b="0" lang="en-US" sz="23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36003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Личностно-ориентированного обучения и воспита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Развивающего обучен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Здоровьесбере-гающ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оектна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гровая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нформационно-коммуникационны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Арка 2"/>
          <p:cNvSpPr/>
          <p:nvPr/>
        </p:nvSpPr>
        <p:spPr>
          <a:xfrm rot="16200000">
            <a:off x="3137040" y="3423960"/>
            <a:ext cx="1785960" cy="50004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500040"/>
              <a:gd name="textAreaBottom" fmla="*/ 250200 h 500040"/>
            </a:gdLst>
            <a:ahLst/>
            <a:rect l="textAreaLeft" t="textAreaTop" r="textAreaRight" b="textAreaBottom"/>
            <a:pathLst>
              <a:path w="1785918" h="500066">
                <a:moveTo>
                  <a:pt x="0" y="250032"/>
                </a:moveTo>
                <a:lnTo>
                  <a:pt x="0" y="250032"/>
                </a:lnTo>
                <a:cubicBezTo>
                  <a:pt x="1" y="111942"/>
                  <a:pt x="399792" y="-1"/>
                  <a:pt x="892959" y="0"/>
                </a:cubicBezTo>
                <a:cubicBezTo>
                  <a:pt x="1386126" y="0"/>
                  <a:pt x="1785918" y="111943"/>
                  <a:pt x="1785918" y="250033"/>
                </a:cubicBezTo>
                <a:cubicBezTo>
                  <a:pt x="1785918" y="250033"/>
                  <a:pt x="1785917" y="250034"/>
                  <a:pt x="1785917" y="250034"/>
                </a:cubicBezTo>
                <a:lnTo>
                  <a:pt x="1660902" y="250033"/>
                </a:lnTo>
                <a:cubicBezTo>
                  <a:pt x="1660902" y="180988"/>
                  <a:pt x="1317082" y="125016"/>
                  <a:pt x="892959" y="125016"/>
                </a:cubicBezTo>
                <a:cubicBezTo>
                  <a:pt x="468835" y="125016"/>
                  <a:pt x="125016" y="180988"/>
                  <a:pt x="125016" y="250033"/>
                </a:cubicBezTo>
                <a:cubicBezTo>
                  <a:pt x="125015" y="250033"/>
                  <a:pt x="125016" y="250033"/>
                  <a:pt x="125016" y="250034"/>
                </a:cubicBezTo>
                <a:lnTo>
                  <a:pt x="0" y="250032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Арка 3"/>
          <p:cNvSpPr/>
          <p:nvPr/>
        </p:nvSpPr>
        <p:spPr>
          <a:xfrm rot="5400000">
            <a:off x="7676280" y="3421800"/>
            <a:ext cx="1785960" cy="50472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504720"/>
              <a:gd name="textAreaBottom" fmla="*/ 252360 h 504720"/>
            </a:gdLst>
            <a:ahLst/>
            <a:rect l="textAreaLeft" t="textAreaTop" r="textAreaRight" b="textAreaBottom"/>
            <a:pathLst>
              <a:path w="1785918" h="357190">
                <a:moveTo>
                  <a:pt x="0" y="178594"/>
                </a:moveTo>
                <a:lnTo>
                  <a:pt x="0" y="178594"/>
                </a:lnTo>
                <a:cubicBezTo>
                  <a:pt x="2" y="79959"/>
                  <a:pt x="399793" y="-1"/>
                  <a:pt x="892959" y="0"/>
                </a:cubicBezTo>
                <a:cubicBezTo>
                  <a:pt x="1386126" y="0"/>
                  <a:pt x="1785918" y="79959"/>
                  <a:pt x="1785918" y="178595"/>
                </a:cubicBezTo>
                <a:cubicBezTo>
                  <a:pt x="1785918" y="178595"/>
                  <a:pt x="1785917" y="178596"/>
                  <a:pt x="1785917" y="178596"/>
                </a:cubicBezTo>
                <a:lnTo>
                  <a:pt x="1696621" y="178595"/>
                </a:lnTo>
                <a:cubicBezTo>
                  <a:pt x="1696621" y="129277"/>
                  <a:pt x="1336809" y="89297"/>
                  <a:pt x="892959" y="89297"/>
                </a:cubicBezTo>
                <a:cubicBezTo>
                  <a:pt x="449108" y="89297"/>
                  <a:pt x="89297" y="129277"/>
                  <a:pt x="89297" y="178595"/>
                </a:cubicBezTo>
                <a:cubicBezTo>
                  <a:pt x="89296" y="178595"/>
                  <a:pt x="89297" y="178595"/>
                  <a:pt x="89297" y="178595"/>
                </a:cubicBezTo>
                <a:lnTo>
                  <a:pt x="0" y="178594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Арка 4"/>
          <p:cNvSpPr/>
          <p:nvPr/>
        </p:nvSpPr>
        <p:spPr>
          <a:xfrm>
            <a:off x="5219640" y="1268280"/>
            <a:ext cx="1785960" cy="500040"/>
          </a:xfrm>
          <a:custGeom>
            <a:avLst/>
            <a:gdLst/>
            <a:ahLst/>
            <a:rect l="l" t="t" r="r" b="b"/>
            <a:pathLst>
              <a:path w="1785938" h="500062">
                <a:moveTo>
                  <a:pt x="0" y="250031"/>
                </a:moveTo>
                <a:cubicBezTo>
                  <a:pt x="0" y="111943"/>
                  <a:pt x="399796" y="0"/>
                  <a:pt x="892969" y="0"/>
                </a:cubicBezTo>
                <a:cubicBezTo>
                  <a:pt x="1386142" y="0"/>
                  <a:pt x="1785938" y="111943"/>
                  <a:pt x="1785938" y="250031"/>
                </a:cubicBezTo>
                <a:lnTo>
                  <a:pt x="1660923" y="250031"/>
                </a:lnTo>
                <a:cubicBezTo>
                  <a:pt x="1660923" y="180987"/>
                  <a:pt x="1317098" y="125015"/>
                  <a:pt x="892969" y="125015"/>
                </a:cubicBezTo>
                <a:cubicBezTo>
                  <a:pt x="468840" y="125015"/>
                  <a:pt x="125015" y="180987"/>
                  <a:pt x="125015" y="250031"/>
                </a:cubicBezTo>
                <a:lnTo>
                  <a:pt x="0" y="250031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6f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Арка 5"/>
          <p:cNvSpPr/>
          <p:nvPr/>
        </p:nvSpPr>
        <p:spPr>
          <a:xfrm rot="10800000">
            <a:off x="5292360" y="5660640"/>
            <a:ext cx="1785960" cy="498600"/>
          </a:xfrm>
          <a:custGeom>
            <a:avLst/>
            <a:gdLst>
              <a:gd name="textAreaLeft" fmla="*/ 0 w 1785960"/>
              <a:gd name="textAreaRight" fmla="*/ 1786320 w 1785960"/>
              <a:gd name="textAreaTop" fmla="*/ 0 h 498600"/>
              <a:gd name="textAreaBottom" fmla="*/ 249480 h 498600"/>
            </a:gdLst>
            <a:ahLst/>
            <a:rect l="textAreaLeft" t="textAreaTop" r="textAreaRight" b="textAreaBottom"/>
            <a:pathLst>
              <a:path w="1785918" h="642942">
                <a:moveTo>
                  <a:pt x="0" y="321470"/>
                </a:moveTo>
                <a:lnTo>
                  <a:pt x="0" y="321470"/>
                </a:lnTo>
                <a:cubicBezTo>
                  <a:pt x="1" y="143926"/>
                  <a:pt x="399792" y="-1"/>
                  <a:pt x="892959" y="0"/>
                </a:cubicBezTo>
                <a:cubicBezTo>
                  <a:pt x="1386126" y="0"/>
                  <a:pt x="1785918" y="143927"/>
                  <a:pt x="1785918" y="321471"/>
                </a:cubicBezTo>
                <a:cubicBezTo>
                  <a:pt x="1785918" y="321471"/>
                  <a:pt x="1785917" y="321472"/>
                  <a:pt x="1785917" y="321472"/>
                </a:cubicBezTo>
                <a:lnTo>
                  <a:pt x="1625183" y="321471"/>
                </a:lnTo>
                <a:cubicBezTo>
                  <a:pt x="1625183" y="232698"/>
                  <a:pt x="1297355" y="160735"/>
                  <a:pt x="892959" y="160735"/>
                </a:cubicBezTo>
                <a:cubicBezTo>
                  <a:pt x="488562" y="160735"/>
                  <a:pt x="160735" y="232698"/>
                  <a:pt x="160735" y="321471"/>
                </a:cubicBezTo>
                <a:cubicBezTo>
                  <a:pt x="160734" y="321471"/>
                  <a:pt x="160735" y="321471"/>
                  <a:pt x="160735" y="321472"/>
                </a:cubicBezTo>
                <a:lnTo>
                  <a:pt x="0" y="32147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Овал 7"/>
          <p:cNvSpPr/>
          <p:nvPr/>
        </p:nvSpPr>
        <p:spPr>
          <a:xfrm>
            <a:off x="4643280" y="2492280"/>
            <a:ext cx="3168720" cy="1225800"/>
          </a:xfrm>
          <a:prstGeom prst="ellipse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Constantia"/>
              </a:rPr>
              <a:t>Организованная образовательная деятельность в ДО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Овал 8"/>
          <p:cNvSpPr/>
          <p:nvPr/>
        </p:nvSpPr>
        <p:spPr>
          <a:xfrm rot="2599200">
            <a:off x="6586560" y="1699920"/>
            <a:ext cx="2557440" cy="114300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Constantia"/>
              </a:rPr>
              <a:t>Дидактические материал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Овал 9"/>
          <p:cNvSpPr/>
          <p:nvPr/>
        </p:nvSpPr>
        <p:spPr>
          <a:xfrm rot="19402200">
            <a:off x="6587640" y="4723920"/>
            <a:ext cx="2392560" cy="114300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Tahoma"/>
              </a:rPr>
              <a:t>CD, DV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Овал 10"/>
          <p:cNvSpPr/>
          <p:nvPr/>
        </p:nvSpPr>
        <p:spPr>
          <a:xfrm rot="2976600">
            <a:off x="3529440" y="4615200"/>
            <a:ext cx="2406600" cy="104292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Constantia"/>
              </a:rPr>
              <a:t>Презентаци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Овал 7"/>
          <p:cNvSpPr/>
          <p:nvPr/>
        </p:nvSpPr>
        <p:spPr>
          <a:xfrm>
            <a:off x="4716360" y="3573360"/>
            <a:ext cx="3168720" cy="1222560"/>
          </a:xfrm>
          <a:prstGeom prst="ellipse">
            <a:avLst/>
          </a:prstGeom>
          <a:solidFill>
            <a:srgbClr val="00264d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Совместная деятельность взрослых и детей в семь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Заголовок 1"/>
          <p:cNvSpPr/>
          <p:nvPr/>
        </p:nvSpPr>
        <p:spPr>
          <a:xfrm>
            <a:off x="250920" y="260280"/>
            <a:ext cx="3313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ccff"/>
                </a:solidFill>
                <a:latin typeface="Arial Black"/>
              </a:rPr>
              <a:t>    </a:t>
            </a: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Технологии</a:t>
            </a:r>
            <a:r>
              <a:rPr b="1" lang="ru-RU" sz="3200" spc="-1" strike="noStrike">
                <a:solidFill>
                  <a:srgbClr val="e5ff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Овал 8"/>
          <p:cNvSpPr/>
          <p:nvPr/>
        </p:nvSpPr>
        <p:spPr>
          <a:xfrm rot="19047600">
            <a:off x="3419640" y="1557000"/>
            <a:ext cx="2557440" cy="1143000"/>
          </a:xfrm>
          <a:prstGeom prst="ellipse">
            <a:avLst/>
          </a:prstGeom>
          <a:solidFill>
            <a:srgbClr val="77d9e8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Электронные энциклопед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Bodoni MT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Diagram 4"/>
          <p:cNvGrpSpPr/>
          <p:nvPr/>
        </p:nvGrpSpPr>
        <p:grpSpPr>
          <a:xfrm>
            <a:off x="755280" y="1541520"/>
            <a:ext cx="7521120" cy="3982320"/>
            <a:chOff x="755280" y="1541520"/>
            <a:chExt cx="7521120" cy="3982320"/>
          </a:xfrm>
        </p:grpSpPr>
        <p:sp>
          <p:nvSpPr>
            <p:cNvPr id="138" name="_s2052"/>
            <p:cNvSpPr/>
            <p:nvPr/>
          </p:nvSpPr>
          <p:spPr>
            <a:xfrm>
              <a:off x="3205800" y="3264480"/>
              <a:ext cx="2052360" cy="17449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_s2053"/>
            <p:cNvSpPr/>
            <p:nvPr/>
          </p:nvSpPr>
          <p:spPr>
            <a:xfrm>
              <a:off x="3492360" y="1541520"/>
              <a:ext cx="3023640" cy="2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Воспитанники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_s2054"/>
            <p:cNvSpPr/>
            <p:nvPr/>
          </p:nvSpPr>
          <p:spPr>
            <a:xfrm>
              <a:off x="4114440" y="2349000"/>
              <a:ext cx="2052360" cy="1744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_s2055"/>
            <p:cNvSpPr/>
            <p:nvPr/>
          </p:nvSpPr>
          <p:spPr>
            <a:xfrm>
              <a:off x="6224040" y="2535480"/>
              <a:ext cx="2052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Родители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воспитанников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_s2056"/>
            <p:cNvSpPr/>
            <p:nvPr/>
          </p:nvSpPr>
          <p:spPr>
            <a:xfrm>
              <a:off x="3492360" y="1820520"/>
              <a:ext cx="2052360" cy="1744920"/>
            </a:xfrm>
            <a:prstGeom prst="ellipse">
              <a:avLst/>
            </a:prstGeom>
            <a:solidFill>
              <a:srgbClr val="00ccff">
                <a:alpha val="50000"/>
              </a:srgbClr>
            </a:solidFill>
            <a:ln w="5724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_s2057"/>
            <p:cNvSpPr/>
            <p:nvPr/>
          </p:nvSpPr>
          <p:spPr>
            <a:xfrm>
              <a:off x="6156360" y="3992400"/>
              <a:ext cx="2052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Музыкальный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руководитель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_s2058"/>
            <p:cNvSpPr/>
            <p:nvPr/>
          </p:nvSpPr>
          <p:spPr>
            <a:xfrm>
              <a:off x="3926160" y="2669400"/>
              <a:ext cx="2047680" cy="1744920"/>
            </a:xfrm>
            <a:prstGeom prst="ellipse">
              <a:avLst/>
            </a:prstGeom>
            <a:solidFill>
              <a:srgbClr val="336699">
                <a:alpha val="50000"/>
              </a:srgbClr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2059"/>
            <p:cNvSpPr/>
            <p:nvPr/>
          </p:nvSpPr>
          <p:spPr>
            <a:xfrm>
              <a:off x="5436360" y="5088960"/>
              <a:ext cx="2052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Сотрудники районной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детской библиотеки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2060"/>
            <p:cNvSpPr/>
            <p:nvPr/>
          </p:nvSpPr>
          <p:spPr>
            <a:xfrm>
              <a:off x="2755800" y="2904120"/>
              <a:ext cx="2052360" cy="1744920"/>
            </a:xfrm>
            <a:prstGeom prst="ellipse">
              <a:avLst/>
            </a:prstGeom>
            <a:solidFill>
              <a:srgbClr val="003366">
                <a:alpha val="50000"/>
              </a:srgbClr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2061"/>
            <p:cNvSpPr/>
            <p:nvPr/>
          </p:nvSpPr>
          <p:spPr>
            <a:xfrm>
              <a:off x="755280" y="3992400"/>
              <a:ext cx="20523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Инструктор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по ФИЗО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_s2062"/>
            <p:cNvSpPr/>
            <p:nvPr/>
          </p:nvSpPr>
          <p:spPr>
            <a:xfrm>
              <a:off x="2918160" y="2354040"/>
              <a:ext cx="2047680" cy="1744920"/>
            </a:xfrm>
            <a:prstGeom prst="ellipse">
              <a:avLst/>
            </a:prstGeom>
            <a:solidFill>
              <a:srgbClr val="ffcc00">
                <a:alpha val="50000"/>
              </a:srgbClr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_s2063"/>
            <p:cNvSpPr/>
            <p:nvPr/>
          </p:nvSpPr>
          <p:spPr>
            <a:xfrm>
              <a:off x="902160" y="2468880"/>
              <a:ext cx="205236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 </a:t>
              </a: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Воспитатели 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Bodoni MT"/>
                  <a:ea typeface="Arial"/>
                </a:rPr>
                <a:t>группы</a:t>
              </a:r>
              <a:endParaRPr b="0" lang="en-US" sz="1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0" name="Rectangle 20"/>
          <p:cNvSpPr/>
          <p:nvPr/>
        </p:nvSpPr>
        <p:spPr>
          <a:xfrm>
            <a:off x="4788000" y="3108240"/>
            <a:ext cx="207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324000" y="2602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Интеграция участников образовательного процесс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Этапы реализации проекта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1403280" y="1628640"/>
            <a:ext cx="609624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1403280" y="1628640"/>
            <a:ext cx="609624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ационно-подготовитель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сентябр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1403280" y="3068640"/>
            <a:ext cx="6096240" cy="1143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октябрь - апрель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1619280" y="4581360"/>
            <a:ext cx="6095880" cy="1224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лючительны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ма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Организационно-подготовительный этап (сентябрь).</a:t>
            </a:r>
            <a:r>
              <a:rPr b="1" lang="ru-RU" sz="3200" spc="-1" strike="noStrike" u="sng">
                <a:solidFill>
                  <a:srgbClr val="00ccff"/>
                </a:solidFill>
                <a:uFillTx/>
                <a:latin typeface="Arial Black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пределение темы и проблемы будущего про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становка цели, формулировка задач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Разработка плана движения к цели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ставление плана-схемы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бор, накопление материал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рганизация предметно-развивающей сред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дготовка методического сопровождения образовательной работ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одумывание заключительного этапа про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дготовительная работа с родителями воспитанников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ставление перспективного плана совместной деятельности взрослых  и детей по реализации проект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Arial Black"/>
              </a:rPr>
              <a:t>Основной этап (октябрь-апрель)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Диагностика направленности ребенка на мир семь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оздание необходимой предметно-развивающей сред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Внедрение современных образовательных технолог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тегрированная о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бразовательная деятельность с воспитанниками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План реализации основного этапа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79280" y="549360"/>
          <a:ext cx="8856720" cy="7688160"/>
        </p:xfrm>
        <a:graphic>
          <a:graphicData uri="http://schemas.openxmlformats.org/drawingml/2006/table">
            <a:tbl>
              <a:tblPr/>
              <a:tblGrid>
                <a:gridCol w="1190880"/>
                <a:gridCol w="4209840"/>
                <a:gridCol w="182520"/>
                <a:gridCol w="327348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Месяц, тем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Совместная деятельно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педагогов и дете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Совместная деятельность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ff"/>
                          </a:solidFill>
                          <a:latin typeface="Arial Black"/>
                        </a:rPr>
                        <a:t>с родителям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Окт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Семей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ный альбом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тервью родителей «Расскажи, почему меня так назвали?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тегрированная образовательная деятельность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стречи с интересными людьми: рассказы родителей о своей професси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и в Заворонежскую СОШ, магазин,  библиотеку, музей «Русской избы» и др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я «Об именах, фамилиях, отчествах»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дительское собрание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«Как хорошо, что есть семья…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еседы с детьми о своей семье, родственниках. Рассказы о своем детстве, о школьных годах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зготовление семейного альбома.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выставка семейных альбом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Нояб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Самая любимая мама дорогая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ематический экспресс-опрос родителей и детей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тегрированная образовательная деятельность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Физкультурный досуг «Кошка с котята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я в библиотеку «Самая прекрасная из женщин - Женщина с ребенком на рук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осмотр презентации «День матери»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ое с детьми размышление о проведении праздника для мам. </a:t>
                      </a: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ешение: 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овести праздник в последнюю пятницу ноябр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и «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тория возникновения праздника «День матери», «Детская игрушка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глядная информация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собенности воспитания ребёнка мамой и папой»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одительское собрание «Зачем нужна мама?» с просмотром презентации «День матери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уклет «Материнские заповед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здание к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ллаж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«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рдечко для мамочки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 Выставка домашних игрушек «Во что играли наши мамы»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. 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Выставка 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Сердечко для мамочки!» </a:t>
                      </a: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Праздник, посвященный Дню Матери «Самая любимая мама дорогая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50920" y="115920"/>
          <a:ext cx="8713800" cy="5608440"/>
        </p:xfrm>
        <a:graphic>
          <a:graphicData uri="http://schemas.openxmlformats.org/drawingml/2006/table">
            <a:tbl>
              <a:tblPr/>
              <a:tblGrid>
                <a:gridCol w="1081080"/>
                <a:gridCol w="3240000"/>
                <a:gridCol w="4392720"/>
              </a:tblGrid>
              <a:tr h="478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Декабрь-январ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Ново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годняя елоч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Диалоговая беседа на тему «Что мы знаем о Новом годе?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нтегрированная образовательная деятельность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осмотр презентации  «Необычные варианты встречи Нового года в разных странах»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зготовление украшений для группы «Творческая мастерская Деда Мороза и Снегурочки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я в библиотеку «Елка как символ праздника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вместное с детьми размышление об украшении группы к празднику, проведении праздник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Нахождение вместе с детьми  информации о праздновании Нового года и его истори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апка-портфолио «Вечерний досуг в кругу семьи»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я «Воспитаем творческую личность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одительское собрание «Скоро, скоро Новый год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исьмо Деду Мороз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частие родителей в улучшении предметно-развивающей среды группы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Изготовление костюмов к утреннику, «елочек-красавиц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я к районной (городской) Новогодней елк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Украшение группы к новому году. Выставка «ёлочек-красавиц». Новогодний утренник «В гости к царю Гороху»,  спортивное развлечение «Сюрпризы от елочки»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4" name="Picture 11" descr=""/>
          <p:cNvPicPr/>
          <p:nvPr/>
        </p:nvPicPr>
        <p:blipFill>
          <a:blip r:embed="rId1"/>
          <a:stretch/>
        </p:blipFill>
        <p:spPr>
          <a:xfrm>
            <a:off x="3276720" y="4923000"/>
            <a:ext cx="2984400" cy="386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4873680"/>
            <a:ext cx="2981160" cy="396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3"/>
          <a:stretch/>
        </p:blipFill>
        <p:spPr>
          <a:xfrm>
            <a:off x="6518160" y="4886280"/>
            <a:ext cx="2625840" cy="39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08000" y="189000"/>
          <a:ext cx="8856720" cy="7321320"/>
        </p:xfrm>
        <a:graphic>
          <a:graphicData uri="http://schemas.openxmlformats.org/drawingml/2006/table">
            <a:tbl>
              <a:tblPr/>
              <a:tblGrid>
                <a:gridCol w="1262160"/>
                <a:gridCol w="3993840"/>
                <a:gridCol w="216000"/>
                <a:gridCol w="3384720"/>
              </a:tblGrid>
              <a:tr h="27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Нашей Родины сыны нынче прослав-ляютс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ыяснение знаний детей об истории своей страны и военных сражениях; о былинах и сказках, об армии и видах войск и т. п.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  Интегрированная образовательная деятельность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Обсуждение с детьми вопроса « Как можно поздравить ветеранов войны, военнослужащих?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я в библиотеку «Поэты и писатели о настоящих мужчин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еседы родителей с детьми дома о Великой Отечественной войне, о родственниках, принимавших участие в боевых действиях; о фотографиях, хранящихся в семейном альбом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я «Растим мужчину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Выпуск тематической стенгазеты «Растем вместе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здание детско-родительских мини-проект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4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Выставка рисунков.  Музыкально-спортивный праздник «Нашей Родины сыны нынче прославляются!»                                                                         Совместная детско-родительская  презентация мини-проекта «Богатыри Земли Русско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 </a:t>
                      </a:r>
                      <a:r>
                        <a:rPr b="1" lang="ru-RU" sz="1600" spc="-1" strike="noStrike" u="sng">
                          <a:solidFill>
                            <a:srgbClr val="ffcc00"/>
                          </a:solidFill>
                          <a:uFillTx/>
                          <a:latin typeface="Arial Black"/>
                        </a:rPr>
                        <a:t>Март-апрел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«Счастли-вый выходной день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Экскурсии в музеи города Мичуринска: в дом-музей И. В. Мичурина, дом-музей Голицыных, краеведческий музей, музей им. Герасимова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нтегрированная образовательная деятельность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оздание коллекций в группе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Традиции семьи и ДОУ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Консультация «Поиграй со мной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еседы родителей с детьми о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фессиях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Создание коллажа на тему «Мой счастливый выходной день!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Родительское собрание «Созвучие чувств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Буклет «Как хорошо нам вместе!»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7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Коллективные творческие дела: выставка коллажей «Мой самый счастливый выходной день!». Обобщение семейного опыта проведения совместных выходных дней.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Создание коллекций. Дни добрых дел.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31640" y="260280"/>
            <a:ext cx="569916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5ffff"/>
                </a:solidFill>
                <a:latin typeface="Arial Black"/>
              </a:rPr>
              <a:t>«Начала заложенные в детстве человека, похожи на вырезанные на коре молодого дерева буквы, растущие вместе с ним, составляющие неотъемлемую часть его».</a:t>
            </a:r>
            <a:br>
              <a:rPr sz="2400"/>
            </a:br>
            <a:r>
              <a:rPr b="1" i="1" lang="ru-RU" sz="2400" spc="-1" strike="noStrike">
                <a:solidFill>
                  <a:srgbClr val="e5ffff"/>
                </a:solidFill>
                <a:latin typeface="Arial Black"/>
              </a:rPr>
              <a:t>                            В. Гюго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3213000"/>
            <a:ext cx="822960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Творческое название проект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Неразлучные друзья -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взрослые и дети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Picture 12" descr=""/>
          <p:cNvPicPr/>
          <p:nvPr/>
        </p:nvPicPr>
        <p:blipFill>
          <a:blip r:embed="rId1"/>
          <a:stretch/>
        </p:blipFill>
        <p:spPr>
          <a:xfrm>
            <a:off x="395280" y="4653000"/>
            <a:ext cx="312912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Заключительный этап (май)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оведение праздника «Неразлучные друзья – взрослые и дети!»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Заключительная диагности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Анализ результатов работы и сопоставление их с прогнозируемыми результат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знакомление с результатами работы на итоговом педсовете ДО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едставление материалов по  теме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езентация проекта на МО воспитателей район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Размещение материалов проекта на сайтах образовательных сообществ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форума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Определение дальнейших целей и перспектив работ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                  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Перспективы проект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емина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астер-класс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Размещение в сети интерн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Вывод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56908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заимодействие с семьей посредством проектной деятельности  с использованием разнообразных форм работы обеспечивает организацию оптимальных условий как для развития личности ребёнка, так и его ближайшего окружени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роцесс взаимодействия</a:t>
            </a:r>
            <a:r>
              <a:rPr b="1" lang="ru-RU" sz="18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зрослых и детей на основе сотрудничества, диалога, взаимопомощи;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вышение педагогической компетентности родителей в вопросах  воспитания и развития детей способствовало гармонизации детско-родительских отношений,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спешной социализации ребенка дошкольника, формированию его социальной компетент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 Black"/>
              </a:rPr>
              <a:t>Итак, процесс установления позитивных детско-родительских отношений  эффективен при совместных усилиях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и и ДОУ   по созданию единого пространства развития каждого ребенка </a:t>
            </a:r>
            <a:r>
              <a:rPr b="1" i="1" lang="ru-RU" sz="1800" spc="-1" strike="noStrike">
                <a:solidFill>
                  <a:srgbClr val="ffffff"/>
                </a:solidFill>
                <a:latin typeface="Arial Black"/>
              </a:rPr>
              <a:t>на основе использования проектного метода, обеспечивающего активное усвоение дошкольниками семейных ценностей, социальных норм и правил в единстве мотивационного, когнитивного и деятельностно-практического компонента их жизнедеятельности.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ипотеза подтвердила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Результативность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Разработка консультаций, методических рекомендаций для родителей и педагог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ыпуск буклетов «Материнские заповеди», «Как хорошо нам вместе!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атическая о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рганизация выставок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продуктов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совмест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й творческой деятельности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зрослых и детей в группе детского сад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вместное проведение различных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мероприятий по теме проек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1"/>
              </a:rPr>
              <a:t>Фотоальбом совместных мероприятий, продуктов творческой деятельности детей и взрослых по проект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Arial Black"/>
                <a:hlinkClick r:id="rId2"/>
              </a:rPr>
              <a:t>Совместная детско-родительская  презентация мини-проекта «Богатыри Земли Русской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здание коллекций: коллекция фантиков «Бумажная фантазия»,  игрушек из киндер-сюрпризов «Игрушечная страна», открыток «Эти прекрасные цветы»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4"/>
          <p:cNvSpPr/>
          <p:nvPr/>
        </p:nvSpPr>
        <p:spPr>
          <a:xfrm rot="16200000">
            <a:off x="1331280" y="-891360"/>
            <a:ext cx="1152360" cy="3313080"/>
          </a:xfrm>
          <a:prstGeom prst="downArrow">
            <a:avLst>
              <a:gd name="adj1" fmla="val 50000"/>
              <a:gd name="adj2" fmla="val 40450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Социальный паспорт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анкетирование, опро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3924360" y="189000"/>
            <a:ext cx="5219640" cy="143964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Знакомство с семьей, выявление трудносте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емейного воспитания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ределение наиболее значимых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орм работы с родителя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90000" y="2349360"/>
            <a:ext cx="31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бразование родител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3995640" y="2133720"/>
          <a:ext cx="5148360" cy="10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2133720"/>
                    <a:ext cx="5148360" cy="10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10"/>
          <p:cNvSpPr/>
          <p:nvPr/>
        </p:nvSpPr>
        <p:spPr>
          <a:xfrm>
            <a:off x="179280" y="3284640"/>
            <a:ext cx="317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ы сотрудничеств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0" name="Object 11"/>
          <p:cNvGraphicFramePr/>
          <p:nvPr/>
        </p:nvGraphicFramePr>
        <p:xfrm>
          <a:off x="3995640" y="3213000"/>
          <a:ext cx="5148360" cy="118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3213000"/>
                    <a:ext cx="514836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Rectangle 12"/>
          <p:cNvSpPr/>
          <p:nvPr/>
        </p:nvSpPr>
        <p:spPr>
          <a:xfrm>
            <a:off x="-135000" y="4149720"/>
            <a:ext cx="416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Лица проживающие с ребенк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3" name="Object 13"/>
          <p:cNvGraphicFramePr/>
          <p:nvPr/>
        </p:nvGraphicFramePr>
        <p:xfrm>
          <a:off x="3995640" y="4437000"/>
          <a:ext cx="514836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95640" y="4437000"/>
                    <a:ext cx="51483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14"/>
          <p:cNvSpPr/>
          <p:nvPr/>
        </p:nvSpPr>
        <p:spPr>
          <a:xfrm>
            <a:off x="0" y="5229360"/>
            <a:ext cx="3635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рудности семейного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воспит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6" name="Object 15"/>
          <p:cNvGraphicFramePr/>
          <p:nvPr/>
        </p:nvGraphicFramePr>
        <p:xfrm>
          <a:off x="3995640" y="5589720"/>
          <a:ext cx="5148360" cy="1152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5589720"/>
                    <a:ext cx="514836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/>
          <p:cNvSpPr/>
          <p:nvPr/>
        </p:nvSpPr>
        <p:spPr>
          <a:xfrm rot="16200000">
            <a:off x="1691640" y="-1251360"/>
            <a:ext cx="1225440" cy="3960720"/>
          </a:xfrm>
          <a:prstGeom prst="downArrow">
            <a:avLst>
              <a:gd name="adj1" fmla="val 50000"/>
              <a:gd name="adj2" fmla="val 40461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Диагностика направленност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ребенка на мир семь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5148360" y="115920"/>
            <a:ext cx="3600360" cy="10810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ыявление интеллектуального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отивационно-потребностного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веденческого компоненто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5400" y="19875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Rectangle 15"/>
          <p:cNvSpPr/>
          <p:nvPr/>
        </p:nvSpPr>
        <p:spPr>
          <a:xfrm>
            <a:off x="250920" y="1413000"/>
            <a:ext cx="31129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личие представлен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 мире семь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179280" y="2349360"/>
            <a:ext cx="4206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личие представлений о свое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причастности к миру семь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250920" y="33577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личие представлений о важности мира семьи для человек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4" name="Object 21"/>
          <p:cNvGraphicFramePr/>
          <p:nvPr/>
        </p:nvGraphicFramePr>
        <p:xfrm>
          <a:off x="5148360" y="1413000"/>
          <a:ext cx="3674880" cy="8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413000"/>
                    <a:ext cx="367488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7"/>
          <p:cNvGraphicFramePr/>
          <p:nvPr/>
        </p:nvGraphicFramePr>
        <p:xfrm>
          <a:off x="5148360" y="2421000"/>
          <a:ext cx="3671640" cy="95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2421000"/>
                    <a:ext cx="367164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49"/>
          <p:cNvGraphicFramePr/>
          <p:nvPr/>
        </p:nvGraphicFramePr>
        <p:xfrm>
          <a:off x="5148360" y="3500280"/>
          <a:ext cx="3678120" cy="99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9" name="Object 4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48360" y="3500280"/>
                    <a:ext cx="367812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55"/>
          <p:cNvGraphicFramePr/>
          <p:nvPr/>
        </p:nvGraphicFramePr>
        <p:xfrm>
          <a:off x="5148360" y="4581360"/>
          <a:ext cx="3671640" cy="1059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1" name="Object 5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8360" y="4581360"/>
                    <a:ext cx="3671640" cy="10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59"/>
          <p:cNvSpPr/>
          <p:nvPr/>
        </p:nvSpPr>
        <p:spPr>
          <a:xfrm>
            <a:off x="250920" y="4365720"/>
            <a:ext cx="39114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Желание рассказать о семь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емейных ценностя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Rectangle 60"/>
          <p:cNvSpPr/>
          <p:nvPr/>
        </p:nvSpPr>
        <p:spPr>
          <a:xfrm>
            <a:off x="179280" y="5445000"/>
            <a:ext cx="47642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мение реализовывать представлен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знания о мире семь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действиях и действи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4" name="Object 61"/>
          <p:cNvGraphicFramePr/>
          <p:nvPr/>
        </p:nvGraphicFramePr>
        <p:xfrm>
          <a:off x="5076720" y="5716440"/>
          <a:ext cx="3743280" cy="1025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5" name="Object 6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5716440"/>
                    <a:ext cx="37432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4608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О семь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Антон Мосолов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я нужна потому, что без неё скучно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Татьяна Сухушина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я нужна, чтобы друг другу помогать, ухаживать, заботить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Соня Дрямова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я – это много, много человек, которые друг друга любя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Андрей Желтотрубов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 Black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емья – это когда мама и папа никогда не ругаю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Никита Короле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В семье главное – любовь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32360" y="765000"/>
            <a:ext cx="39607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О семейных традиция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нашей семье есть замечательная традиция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огулки по выходны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ая игрот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ворческая семейная мастерск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ые путешеств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ень сладкоеж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ый фотоальбо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емейные исследования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блиотечный ден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457200" y="11592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Высказывания детей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8" descr="IMG_0430"/>
          <p:cNvPicPr/>
          <p:nvPr/>
        </p:nvPicPr>
        <p:blipFill>
          <a:blip r:embed="rId1"/>
          <a:stretch/>
        </p:blipFill>
        <p:spPr>
          <a:xfrm>
            <a:off x="6632640" y="4651200"/>
            <a:ext cx="2511360" cy="441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Object 7"/>
          <p:cNvGraphicFramePr/>
          <p:nvPr/>
        </p:nvGraphicFramePr>
        <p:xfrm>
          <a:off x="971640" y="4941720"/>
          <a:ext cx="727236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941720"/>
                    <a:ext cx="727236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Object 26"/>
          <p:cNvGraphicFramePr/>
          <p:nvPr/>
        </p:nvGraphicFramePr>
        <p:xfrm>
          <a:off x="404640" y="2637000"/>
          <a:ext cx="4019760" cy="171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640" y="2637000"/>
                    <a:ext cx="401976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9"/>
          <p:cNvSpPr/>
          <p:nvPr/>
        </p:nvSpPr>
        <p:spPr>
          <a:xfrm>
            <a:off x="1619280" y="4508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ahoma"/>
              </a:rPr>
              <a:t>Анализ участия родителей в проект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4"/>
          <p:cNvSpPr/>
          <p:nvPr/>
        </p:nvSpPr>
        <p:spPr>
          <a:xfrm rot="16200000">
            <a:off x="1475640" y="-1107000"/>
            <a:ext cx="1295280" cy="3888000"/>
          </a:xfrm>
          <a:prstGeom prst="downArrow">
            <a:avLst>
              <a:gd name="adj1" fmla="val 50000"/>
              <a:gd name="adj2" fmla="val 40453"/>
            </a:avLst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Анкетирование, опрос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родителей по окончании проек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4211640" y="333360"/>
            <a:ext cx="4681440" cy="7920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Выявление уровня удовлетворенности,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учет социального заказа родителе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17" name="Object 29"/>
          <p:cNvGraphicFramePr/>
          <p:nvPr/>
        </p:nvGraphicFramePr>
        <p:xfrm>
          <a:off x="4859280" y="1989000"/>
          <a:ext cx="4038480" cy="171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1989000"/>
                    <a:ext cx="4038480" cy="171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32"/>
          <p:cNvSpPr/>
          <p:nvPr/>
        </p:nvSpPr>
        <p:spPr>
          <a:xfrm>
            <a:off x="179280" y="1844640"/>
            <a:ext cx="3745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Удовлетворенность родителей работой в данном направлен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33"/>
          <p:cNvSpPr/>
          <p:nvPr/>
        </p:nvSpPr>
        <p:spPr>
          <a:xfrm>
            <a:off x="4932360" y="1197000"/>
            <a:ext cx="4211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Необходимость продолжения работы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        в данном направлен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Информационные ресурсы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50752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Арнаутова Е. П. Основы сотрудничества педагога с семьей дошкольника. — М.: Просвещение, 1994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Арнаутова Е.П. Планируем работу с семьей. // Управление ДОУ 2002г., № 4 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Взаимодействие педагогов ДОУ с родителями.- М.: ТЦ Сфера, 2009. (Библиотека журнала «Воспитатель ДОУ»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Диагностика направленности ребенка на мир семьи</a:t>
            </a: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 // </a:t>
            </a: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М.: Центр педагогического образования, 201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Дошкольное учреждение и семья – единое пространство детского развития // под редакцией Дороновой Т. Н. // ТЦ  «Сфера» ЛИНКА-ПРЕСС, 200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Доронова Т. Н., Глушкова Г. В., Гризик Т. И. Вместе с семьей: Пособие по взаимодействию ДОУ и родителей. — М.: Просвещение, 2005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Зверева О.Л., Кротова Т.В.  // Общение педагога с родителями в ДОУ// Управление ДОУ 2002г., № 4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-263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Е.С. Евдокимова,  Н.В. Додокина  Детский сад и семья. Методика  работы с родителями // Мозаика-Синтез, 2007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63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395280" y="4292640"/>
            <a:ext cx="85089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айт МБДОУ Заворонежского д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/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 </a:t>
            </a:r>
            <a:r>
              <a:rPr b="1" lang="ru-RU" sz="1600" spc="-1" strike="noStrike" u="sng">
                <a:solidFill>
                  <a:srgbClr val="00ccff"/>
                </a:solidFill>
                <a:uFillTx/>
                <a:latin typeface="Arial Black"/>
              </a:rPr>
              <a:t>http://</a:t>
            </a:r>
            <a:r>
              <a:rPr b="1" lang="en-US" sz="1600" spc="-1" strike="noStrike" u="sng">
                <a:solidFill>
                  <a:srgbClr val="00ccff"/>
                </a:solidFill>
                <a:uFillTx/>
                <a:latin typeface="Arial Black"/>
              </a:rPr>
              <a:t>zavoronesz</a:t>
            </a:r>
            <a:r>
              <a:rPr b="1" lang="ru-RU" sz="1600" spc="-1" strike="noStrike" u="sng">
                <a:solidFill>
                  <a:srgbClr val="00ccff"/>
                </a:solidFill>
                <a:uFillTx/>
                <a:latin typeface="Arial Black"/>
              </a:rPr>
              <a:t>dou.68</a:t>
            </a:r>
            <a:r>
              <a:rPr b="1" lang="en-US" sz="1600" spc="-1" strike="noStrike" u="sng">
                <a:solidFill>
                  <a:srgbClr val="00ccff"/>
                </a:solidFill>
                <a:uFillTx/>
                <a:latin typeface="Arial Black"/>
              </a:rPr>
              <a:t>edu</a:t>
            </a:r>
            <a:r>
              <a:rPr b="1" lang="ru-RU" sz="1600" spc="-1" strike="noStrike" u="sng">
                <a:solidFill>
                  <a:srgbClr val="00ccff"/>
                </a:solidFill>
                <a:uFillTx/>
                <a:latin typeface="Arial Black"/>
              </a:rPr>
              <a:t>.ru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Arial Black"/>
                <a:hlinkClick r:id="rId1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Тамбов ВИКИ 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Arial Black"/>
                <a:hlinkClick r:id="rId2"/>
              </a:rPr>
              <a:t>http://ipklabdo.lanta-net.ru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Открытый класс 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Arial Black"/>
                <a:hlinkClick r:id="rId3"/>
              </a:rPr>
              <a:t>http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Arial Black"/>
                <a:hlinkClick r:id="rId4"/>
              </a:rPr>
              <a:t>://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Arial Black"/>
                <a:hlinkClick r:id="rId5"/>
              </a:rPr>
              <a:t>www</a:t>
            </a:r>
            <a:r>
              <a:rPr b="0" lang="ru-RU" sz="1600" spc="-1" strike="noStrike" u="sng">
                <a:solidFill>
                  <a:srgbClr val="00ccff"/>
                </a:solidFill>
                <a:uFillTx/>
                <a:latin typeface="Arial Black"/>
                <a:hlinkClick r:id="rId6"/>
              </a:rPr>
              <a:t>.</a:t>
            </a:r>
            <a:r>
              <a:rPr b="0" lang="en-US" sz="1600" spc="-1" strike="noStrike" u="sng">
                <a:solidFill>
                  <a:srgbClr val="00ccff"/>
                </a:solidFill>
                <a:uFillTx/>
                <a:latin typeface="Arial Black"/>
                <a:hlinkClick r:id="rId7"/>
              </a:rPr>
              <a:t>openclass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ru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Сеть творческих учителей 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http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://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www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it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n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ru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Педсовет </a:t>
            </a:r>
            <a:r>
              <a:rPr b="1" lang="en-US" sz="1600" spc="-1" strike="noStrike">
                <a:solidFill>
                  <a:srgbClr val="00ccff"/>
                </a:solidFill>
                <a:latin typeface="Arial Black"/>
              </a:rPr>
              <a:t>http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://</a:t>
            </a:r>
            <a:r>
              <a:rPr b="1" lang="en-US" sz="1600" spc="-1" strike="noStrike">
                <a:solidFill>
                  <a:srgbClr val="00ccff"/>
                </a:solidFill>
                <a:latin typeface="Arial Black"/>
              </a:rPr>
              <a:t>pedsovet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.</a:t>
            </a:r>
            <a:r>
              <a:rPr b="1" lang="en-US" sz="1600" spc="-1" strike="noStrike">
                <a:solidFill>
                  <a:srgbClr val="00ccff"/>
                </a:solidFill>
                <a:latin typeface="Arial Black"/>
              </a:rPr>
              <a:t>ru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Arial Black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Мааам.</a:t>
            </a:r>
            <a:r>
              <a:rPr b="1" lang="en-US" sz="1600" spc="-1" strike="noStrike">
                <a:solidFill>
                  <a:srgbClr val="ffffff"/>
                </a:solidFill>
                <a:latin typeface="Arial Black"/>
              </a:rPr>
              <a:t>ru http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://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www.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maaam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.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ru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/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00cc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Родительские онлайн-форумы 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http://</a:t>
            </a: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forum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krasmama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.</a:t>
            </a:r>
            <a:r>
              <a:rPr b="1" lang="en-US" sz="1600" spc="-1" strike="noStrike">
                <a:solidFill>
                  <a:srgbClr val="00ccff"/>
                </a:solidFill>
                <a:latin typeface="Tahoma"/>
              </a:rPr>
              <a:t>ru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/, </a:t>
            </a:r>
            <a:r>
              <a:rPr b="1" lang="en-US" sz="1600" spc="-1" strike="noStrike">
                <a:solidFill>
                  <a:srgbClr val="00ccff"/>
                </a:solidFill>
                <a:latin typeface="Arial Black"/>
              </a:rPr>
              <a:t>http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://</a:t>
            </a:r>
            <a:r>
              <a:rPr b="1" lang="ru-RU" sz="16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www.ya-roditel.ru/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forum</a:t>
            </a:r>
            <a:r>
              <a:rPr b="0" lang="ru-RU" sz="1600" spc="-1" strike="noStrike">
                <a:solidFill>
                  <a:srgbClr val="00ccff"/>
                </a:solidFill>
                <a:latin typeface="Arial Black"/>
              </a:rPr>
              <a:t>/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2700360" y="4005360"/>
            <a:ext cx="3673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Интернет-ресурс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ff"/>
                </a:solidFill>
                <a:latin typeface="Tahoma"/>
              </a:rPr>
              <a:t>Паспорт проекта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Тип проекта: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рактико-ориентированный, долгосрочный, открытый, группов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Участники проекта: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воспитате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, дети среднего дошкольного возраста, родители, музыкальный руководитель, инструктор по ФИЗО, сотрудники детской районной библиоте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Сроки реализации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ентябрь-м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Условия реализации: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 детский сад – «открытая система» воспитания, обеспечивающая физическое, психическое, эмоциональное благополучие детства в условиях семьи и детского сада, партнёрское общение и заинтересованность детей и родителей, командная организация работы, интеграция со специалистами ДОУ, методические разработ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ff"/>
                </a:solidFill>
                <a:latin typeface="Arial Black"/>
              </a:rPr>
              <a:t>Средства контроля и обеспечение достоверности реализации проекта: </a:t>
            </a: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анкетирование родителей, диагностика уровня сформированности сопричастности  детей к семейным традициям и ценностям семьи, организация экскурсий, фото и видеоматериал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Актуальность проект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последние годы в нашей стране сложилась сложная социально-экономическая обстановка, в связи с чем возрос фактор занятости родителей, перенос родительских функций на образовательные учреждения, уменьшение продолжительности общения в семье и обеднение его содержания, дефицит теплоты и внимательного отношения друг к другу, исчезновение совместных форм полезной деятельности ребенка и взрослого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 детей нечеткие, несформированные представления о семье, семейных традициях, об уровне ценности семьи. Родители недооценивают значимость семейного воспитания, семейных традиций, нет согласованности в вопросах воспитания дет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то приводит к нарушению детско-родительских отношений, следствием которого в недалеком будущем могут возникнуть проблемы в социально-нравственном развитии и в становлении личности ребенка. А ведь именно в дошкольном возрасте, когда формируются основные черты личности, роль родителей, как воспитателей,  особенно  велика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Основополагающий вопрос: </a:t>
            </a:r>
            <a:br>
              <a:rPr sz="2400"/>
            </a:br>
            <a:r>
              <a:rPr b="1" lang="ru-RU" sz="2000" spc="-1" strike="noStrike">
                <a:solidFill>
                  <a:srgbClr val="e5ffff"/>
                </a:solidFill>
                <a:latin typeface="Arial Black"/>
              </a:rPr>
              <a:t>Как сделать эффективным процесс взаимодействия</a:t>
            </a:r>
            <a:r>
              <a:rPr b="1" lang="ru-RU" sz="2000" spc="-1" strike="noStrike" u="sng">
                <a:solidFill>
                  <a:srgbClr val="00ccff"/>
                </a:solidFill>
                <a:uFillTx/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e5ffff"/>
                </a:solidFill>
                <a:latin typeface="Arial Black"/>
              </a:rPr>
              <a:t>взрослых и детей, способствующий комфортному развитию личности, формированию социальной компетентности детей в новых социально-экономических условиях? </a:t>
            </a:r>
            <a:r>
              <a:rPr b="0" lang="ru-RU" sz="1600" spc="-1" strike="noStrike">
                <a:solidFill>
                  <a:srgbClr val="e5ffff"/>
                </a:solidFill>
                <a:latin typeface="Arial Black"/>
              </a:rPr>
              <a:t> </a:t>
            </a:r>
            <a:r>
              <a:rPr b="1" lang="ru-RU" sz="1600" spc="-1" strike="noStrike">
                <a:solidFill>
                  <a:srgbClr val="00ccff"/>
                </a:solidFill>
                <a:latin typeface="Arial Black"/>
              </a:rPr>
              <a:t> </a:t>
            </a:r>
            <a:r>
              <a:rPr b="0" lang="ru-RU" sz="1600" spc="-1" strike="noStrike">
                <a:solidFill>
                  <a:srgbClr val="e5ffff"/>
                </a:solidFill>
                <a:latin typeface="Arial Black"/>
              </a:rPr>
              <a:t>  </a:t>
            </a:r>
            <a:endParaRPr b="0" lang="en-US" sz="1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ccff"/>
                </a:solidFill>
                <a:latin typeface="Arial Black"/>
              </a:rPr>
              <a:t>Проблемные вопросы</a:t>
            </a:r>
            <a:r>
              <a:rPr b="0" lang="ru-RU" sz="1400" spc="-1" strike="noStrike">
                <a:solidFill>
                  <a:srgbClr val="00ccff"/>
                </a:solidFill>
                <a:latin typeface="Arial Black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Что такое семь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Зачем человеку семь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Что такое  родословная? Откуда я родом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Что такое  традиции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Кто такие защитники Отечества? </a:t>
            </a: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Black"/>
              </a:rPr>
              <a:t>Как можно порадовать близких люде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468360" y="3716280"/>
            <a:ext cx="79912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Гипотеза:</a:t>
            </a:r>
            <a:br>
              <a:rPr sz="2400"/>
            </a:br>
            <a:r>
              <a:rPr b="1" lang="ru-RU" sz="1800" spc="-1" strike="noStrike">
                <a:solidFill>
                  <a:srgbClr val="e5ffff"/>
                </a:solidFill>
                <a:latin typeface="Arial Black"/>
              </a:rPr>
              <a:t>Если будет создана и реализована модель взаимодействия с семьей на основе использования проектного метода, обеспечивающая активное усвоение детьми среднего дошкольного возраста семейных ценностей, социальных норм и правил в единстве мотивационного, когнитивного и деятельностно-практического компонента их жизнедеятельности, то процесс взаимодействия и гармонизации детско-родительских отношений будет эффективны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ff"/>
                </a:solidFill>
                <a:latin typeface="Arial Black"/>
              </a:rPr>
              <a:t>Цель проекта:</a:t>
            </a:r>
            <a:r>
              <a:rPr b="0" lang="ru-RU" sz="3200" spc="-1" strike="noStrike">
                <a:solidFill>
                  <a:srgbClr val="e5ffff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оптимизация детско-родительских отношений в совместной проектной деятельности.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Arial Black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оздать эмоционально благополучную атмосферу дома и в детском саду, где взаимоотношения между взрослыми и детьми построены на основе доброжелательности и взаимоуважени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Сформировать у детей интерес к своей семье, семейным традициям, воспитывать уважение к членам семьи.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Формировать и развивать у детей навыки исследовательской работы в совместной деятельности со взрослыми. Обогащать детско-родительские отношения опытом совместной творческой деятельност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Побуждать детей к выполнению общественно значимых заданий, к добрым делам для семьи, родного дома, детского са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Упражнять в проявлении сострадания, заботливости, внимательности к родным и близким, друзьям и сверстникам, к тем, кто о них заботится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Формировать у родителей мотивации к организации разнообразных форм семейного досуга, к установлению в семье правил, норм поведения, традиций, т.е. потребность к формированию семейных ценностей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Arial Black"/>
              </a:rPr>
              <a:t>Предполагаемый результат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Гармонизация детско-родительских отношений  в процессе использования интерактивных форм взаимодействия детей  с родителями через совместную проектную деятельность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здание дома и в группе детского сада  условий для формирования у детей интереса к своей семье,  сохранению семейных традиций и обычаев, воспитание уважения к членам семь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образовательного процесс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вышение уровня педагогического образования родителей для осуществления полноценного воспитания и развития ребенка в семье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Повышение уровня родительской активности в организации совместной деятельности по воспитанию дет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Нахождение эффективных форм и содержания взаимодействия педагогов и родителе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Учет социального запроса (интересов, нужд, потребностей) родителей во взаимодействии с ДО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учет личного опыта родител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еемственность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заимное доверие; открытость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интеграц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ифференцированный подход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добровольность, значим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отрудничество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сихологическая комфортность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ариативность содержания, форм и методов образования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стоянство обратной связ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Принципы взаимодействия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569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ff"/>
                </a:solidFill>
                <a:latin typeface="Tahoma"/>
              </a:rPr>
              <a:t>Стратегия взаимодействия с семьей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Oval 3"/>
          <p:cNvSpPr/>
          <p:nvPr/>
        </p:nvSpPr>
        <p:spPr>
          <a:xfrm>
            <a:off x="2916360" y="1557360"/>
            <a:ext cx="2950920" cy="122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е м ь 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68360" y="3357720"/>
            <a:ext cx="2663640" cy="115092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словия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Oval 5"/>
          <p:cNvSpPr/>
          <p:nvPr/>
        </p:nvSpPr>
        <p:spPr>
          <a:xfrm>
            <a:off x="1979640" y="4941720"/>
            <a:ext cx="2665440" cy="1151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Формы рабо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Oval 6"/>
          <p:cNvSpPr/>
          <p:nvPr/>
        </p:nvSpPr>
        <p:spPr>
          <a:xfrm>
            <a:off x="3780000" y="3645000"/>
            <a:ext cx="2663640" cy="1008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етоды изуч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Oval 7"/>
          <p:cNvSpPr/>
          <p:nvPr/>
        </p:nvSpPr>
        <p:spPr>
          <a:xfrm>
            <a:off x="5940360" y="4653000"/>
            <a:ext cx="2627280" cy="12970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циальный заказ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Line 8"/>
          <p:cNvSpPr/>
          <p:nvPr/>
        </p:nvSpPr>
        <p:spPr>
          <a:xfrm flipH="1">
            <a:off x="2050920" y="2492280"/>
            <a:ext cx="1152720" cy="720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Line 9"/>
          <p:cNvSpPr/>
          <p:nvPr/>
        </p:nvSpPr>
        <p:spPr>
          <a:xfrm flipH="1">
            <a:off x="3635280" y="2708280"/>
            <a:ext cx="144720" cy="1944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5651640" y="2565360"/>
            <a:ext cx="1657080" cy="19447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Line 11"/>
          <p:cNvSpPr/>
          <p:nvPr/>
        </p:nvSpPr>
        <p:spPr>
          <a:xfrm>
            <a:off x="586728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5364000" y="2565360"/>
            <a:ext cx="0" cy="934920"/>
          </a:xfrm>
          <a:prstGeom prst="line">
            <a:avLst/>
          </a:prstGeom>
          <a:ln w="5724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8T07:46:57Z</dcterms:created>
  <dc:creator>Надежда</dc:creator>
  <dc:description/>
  <dc:language>en-US</dc:language>
  <cp:lastModifiedBy>Надежда</cp:lastModifiedBy>
  <dcterms:modified xsi:type="dcterms:W3CDTF">2017-10-01T08:01:03Z</dcterms:modified>
  <cp:revision>301</cp:revision>
  <dc:subject/>
  <dc:title>Слайд 1</dc:title>
</cp:coreProperties>
</file>