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74B-A30F-4A44-9B60-3958743E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14A-B6F2-4A3D-A7B5-42F24FA3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282EA-49F5-4B41-8192-AAFD450E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9FF4B-C157-4535-84C7-0FAB60F3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4E5B0D-D4E8-402B-A220-31CC26F7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C76A2-E189-4A1A-8DD1-EAF6F57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203D0-719F-4187-9989-83F8F1A4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30BC3-FDB8-4276-863F-45CD4FF1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A824F-0B18-49E9-BE49-AF6F271C8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67152-BE2A-43C6-B4B0-C20841FD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A58F1-262E-421C-9D31-7BF140793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C62-3FAB-4C6B-A4F4-3D76F08C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6F2-E34A-4C5E-8895-B52C1226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547E-89CF-4462-89EA-EF3CD673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EC4E-F433-4AAE-9677-936254B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FA7B-9763-4BD7-85B2-A75D366D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5990-EA98-4DCB-B77A-75F79F99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1150-BA06-43B0-84C9-B802F41E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4D0-0F74-49CE-9638-5FC73953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B6D18-85C0-4DD0-9A86-0F261863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35F-0D38-4FF4-AE68-1FD35262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B5A4-B1DC-4AC0-8033-1AFD83A4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1EE9-CBBB-43D5-BD22-B6288F64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7AD37-7E38-4FDC-91A0-4E804E41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EB90-07C8-42A2-B758-443DAA78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7B7E-E4DF-4A11-AEED-26020AB92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1753-14AD-42AE-9171-B1DAC7B8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89D6F-3DC3-41B2-A29C-55167909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396C8-70A7-4D1E-B520-2D9467EC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863CC-B424-44FC-8289-446A7D0C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90186-97F6-433E-96D4-9E91F481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EB98-888C-4793-90F7-B227576B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3D0CA-21EA-41E3-A066-C904DB4A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944F-A793-46B1-8222-39CF84F9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BB431-DB88-4701-B818-E7877267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695F3-18B0-4A57-9B21-A854DCE2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36D33-F781-4A57-90FA-7CE72CB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1FB54-1FA9-4EC5-96F1-2FFD555AA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D0A1-FC6F-4C53-A72D-1D2B129E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8097-2FED-42E1-BA40-C3D887DF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16E3B-1165-434D-947B-C4DCBE0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7F76D-1B56-43CF-AFB6-867AF29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B7A8-A210-48B1-8D9F-4C54EC019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0DC3D-AC9A-4CD6-853B-91ABFDD2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BABF-3882-471B-9B8C-8FB9FE94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5A820-DF71-46BF-A07A-FCECEDA2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17C29-1B57-419C-B851-00524CBD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E8540-17F6-4C9E-92C9-B53DF9391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DBAA9-1217-45A2-B260-BD6F46D8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09B53-13D7-4327-8156-1A092491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22347-03AD-423F-B68D-8F7B4462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7A59C-D93B-4ADF-BCFE-44CD6123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975C8-637A-4DA8-B4FE-8E2B7810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9106-DCD1-4690-92CA-3D08EB30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CD68-1441-4888-B98D-97EE2155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98DC8-4953-4640-A69C-59FEF8B0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8FE5-9C18-4A15-A1F7-74B53299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21486-2524-41E9-BCAF-24278CB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6943F-98C3-4EBD-BF66-8D9F9CE63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7FC41-1B93-470E-B6BC-5DC7958F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6DEB-C70F-4612-BDBA-5C111C17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39CB0-1F45-431D-8B60-194D1AB2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ED6E8-15AA-40A4-A475-9ECAA1AD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A5C5A-92E0-49E2-809E-565D50A66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E0B7-C917-4BC4-9936-A6B01936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AE197-D27E-4515-855A-A959424D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7A47D-FFB7-4D95-B1B7-62267E1B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48116-24C9-4B86-9EDD-C292C42D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CBA8E-890B-4051-AACF-E6FA7485A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57BAC-017D-45D1-869B-22D31EC7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4EFE3-9F72-4B07-8EAC-43CA5534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203844-BE82-43CA-9DCC-095E044E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7BB69-8C8C-41C2-ADAC-7A67EC93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A2536-CA41-4243-AF61-55EE059F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DEC32-E5D0-4003-B727-9E1BA22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2687-6642-4545-85C4-BDA5A72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9D925-1EA7-43D5-83C7-DB49002A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C51A-EF67-443E-84AB-C65D7EA1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5319-C04C-41A1-BB41-3B111DCB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10C1DA-D852-4D7F-A76E-ACFF00DB6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34A93-FFA4-4586-8285-CA8921F4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6DD1F-01F3-4E36-B13D-CB127B3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B36C4-6697-4B0A-BEED-276C4DF8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3BD6E-FF0F-43D6-812C-0849EA33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3600B-EC97-43CE-94A7-793812E5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C5ECC-068F-4B53-96CF-2243D30B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076-32C5-4970-811E-8D9B3E70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5922-4183-45BE-A992-E41F0B58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C97FD6-D014-4E5A-A86B-F5108884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0DBDA-F9AD-4B39-B352-FE992778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CAAFE-B39E-43BC-9586-5CD980130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6B1875-0151-414D-A59C-EBCC1047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BE6A3-A04B-4AC2-AB4E-24583F1A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A8383-0324-4491-BFB8-ECC349CB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15CEB5-6B26-49E3-9364-43811701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66EC6-8AAD-4F2C-B3AF-32BD1FA4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8B07E-D1F4-42EF-ABA6-BACF8B57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B6A7-97B8-4E78-9D27-2E3478FB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2BCB5-528B-4AA1-B42C-E1843CD7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649DF-F8B8-4723-BD58-2BF2EAB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71E9CB-591B-47EA-8FB7-D3471BAD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E21DB-53A4-426A-99A8-12EE5463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4CCBB-E49E-4E53-913E-26AD8E78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2BF9A-0E9B-44D3-8800-3F3532D3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7A18-5170-49E9-8550-5FE7CAC1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AFA50-CFC0-4D15-9802-ECB466F3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26FD52-79CA-4A9E-81DA-A0EF010F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99028-6E1C-4CEC-A93C-DD1DA52E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5D3-6F72-4084-86AB-CE675EA0A86E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BED0-3246-4EF5-89B4-FDAE794E7ECA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5371-AC4B-4500-8F00-D3957A71D655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a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efa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fa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efa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476E-03B3-4CB5-AA04-2E85DD0966F9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0895-7BC3-4796-AC99-849B19AA9200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67DB-B8DF-49D6-9DCA-2B9BEA8D6A37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1266-53B2-43D5-A6F0-29A386054518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3615-6C1E-49AA-A9F3-A13BFA521BBB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a5b592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a5b592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d26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44d26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d26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44d26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19f80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6AA1-ADCD-4CB3-98A1-01832615AC67}" type="slidenum">
              <a:rPr b="0" lang="en-US" sz="1200" spc="-1" strike="noStrike">
                <a:solidFill>
                  <a:srgbClr val="919f8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3"/>
          <p:cNvSpPr txBox="1"/>
          <p:nvPr/>
        </p:nvSpPr>
        <p:spPr>
          <a:xfrm>
            <a:off x="928800" y="214200"/>
            <a:ext cx="72738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"Назови правило".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00" name="Picture 4" descr="тн 10"/>
          <p:cNvPicPr/>
          <p:nvPr/>
        </p:nvPicPr>
        <p:blipFill>
          <a:blip r:embed="rId2"/>
          <a:stretch/>
        </p:blipFill>
        <p:spPr>
          <a:xfrm>
            <a:off x="539640" y="2060640"/>
            <a:ext cx="1727280" cy="1811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тн 9"/>
          <p:cNvPicPr/>
          <p:nvPr/>
        </p:nvPicPr>
        <p:blipFill>
          <a:blip r:embed="rId3"/>
          <a:stretch/>
        </p:blipFill>
        <p:spPr>
          <a:xfrm>
            <a:off x="2843280" y="1844640"/>
            <a:ext cx="1728720" cy="18003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6" descr="тн 5"/>
          <p:cNvPicPr/>
          <p:nvPr/>
        </p:nvPicPr>
        <p:blipFill>
          <a:blip r:embed="rId4"/>
          <a:stretch/>
        </p:blipFill>
        <p:spPr>
          <a:xfrm>
            <a:off x="1476360" y="4365720"/>
            <a:ext cx="1700280" cy="1815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тн 7"/>
          <p:cNvPicPr/>
          <p:nvPr/>
        </p:nvPicPr>
        <p:blipFill>
          <a:blip r:embed="rId5"/>
          <a:stretch/>
        </p:blipFill>
        <p:spPr>
          <a:xfrm>
            <a:off x="3851280" y="3789360"/>
            <a:ext cx="1727280" cy="18842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тн 6"/>
          <p:cNvPicPr/>
          <p:nvPr/>
        </p:nvPicPr>
        <p:blipFill>
          <a:blip r:embed="rId6"/>
          <a:stretch/>
        </p:blipFill>
        <p:spPr>
          <a:xfrm>
            <a:off x="5651640" y="1916280"/>
            <a:ext cx="1703160" cy="17762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9" descr="тн 4"/>
          <p:cNvPicPr/>
          <p:nvPr/>
        </p:nvPicPr>
        <p:blipFill>
          <a:blip r:embed="rId7"/>
          <a:stretch/>
        </p:blipFill>
        <p:spPr>
          <a:xfrm>
            <a:off x="6804000" y="4076640"/>
            <a:ext cx="1660680" cy="1779480"/>
          </a:xfrm>
          <a:prstGeom prst="rect">
            <a:avLst/>
          </a:prstGeom>
          <a:ln w="0">
            <a:noFill/>
          </a:ln>
        </p:spPr>
      </p:pic>
      <p:sp>
        <p:nvSpPr>
          <p:cNvPr id="406" name="Line 10"/>
          <p:cNvSpPr/>
          <p:nvPr/>
        </p:nvSpPr>
        <p:spPr>
          <a:xfrm>
            <a:off x="826920" y="2421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Line 11"/>
          <p:cNvSpPr/>
          <p:nvPr/>
        </p:nvSpPr>
        <p:spPr>
          <a:xfrm>
            <a:off x="755640" y="2565360"/>
            <a:ext cx="1295280" cy="7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Line 12"/>
          <p:cNvSpPr/>
          <p:nvPr/>
        </p:nvSpPr>
        <p:spPr>
          <a:xfrm>
            <a:off x="2987640" y="2421000"/>
            <a:ext cx="1368360" cy="64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9" name="Line 13"/>
          <p:cNvSpPr/>
          <p:nvPr/>
        </p:nvSpPr>
        <p:spPr>
          <a:xfrm>
            <a:off x="1619280" y="5013360"/>
            <a:ext cx="144000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0" name="Line 14"/>
          <p:cNvSpPr/>
          <p:nvPr/>
        </p:nvSpPr>
        <p:spPr>
          <a:xfrm>
            <a:off x="4067280" y="4508640"/>
            <a:ext cx="1368360" cy="43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Line 15"/>
          <p:cNvSpPr/>
          <p:nvPr/>
        </p:nvSpPr>
        <p:spPr>
          <a:xfrm>
            <a:off x="5867280" y="2492280"/>
            <a:ext cx="1368720" cy="505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Line 16"/>
          <p:cNvSpPr/>
          <p:nvPr/>
        </p:nvSpPr>
        <p:spPr>
          <a:xfrm>
            <a:off x="6948360" y="4581360"/>
            <a:ext cx="144000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D:\ИРИНА\внеклассная работа\охрана природы\img9.jpg"/>
          <p:cNvPicPr/>
          <p:nvPr/>
        </p:nvPicPr>
        <p:blipFill>
          <a:blip r:embed="rId2"/>
          <a:stretch/>
        </p:blipFill>
        <p:spPr>
          <a:xfrm>
            <a:off x="357120" y="0"/>
            <a:ext cx="7756560" cy="4627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D:\ИРИНА\внеклассная работа\охрана природы\img10.jpg"/>
          <p:cNvPicPr/>
          <p:nvPr/>
        </p:nvPicPr>
        <p:blipFill>
          <a:blip r:embed="rId3"/>
          <a:srcRect l="0" t="0" r="54863" b="0"/>
          <a:stretch/>
        </p:blipFill>
        <p:spPr>
          <a:xfrm>
            <a:off x="5715000" y="2286000"/>
            <a:ext cx="2500200" cy="238140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D:\ИРИНА\внеклассная работа\охрана природы\img10.jpg"/>
          <p:cNvPicPr/>
          <p:nvPr/>
        </p:nvPicPr>
        <p:blipFill>
          <a:blip r:embed="rId4"/>
          <a:srcRect l="50169" t="0" r="0" b="5571"/>
          <a:stretch/>
        </p:blipFill>
        <p:spPr>
          <a:xfrm>
            <a:off x="2928960" y="4714920"/>
            <a:ext cx="23572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10:22:04Z</dcterms:created>
  <dc:creator>1</dc:creator>
  <dc:description/>
  <dc:language>en-US</dc:language>
  <cp:lastModifiedBy>Катенок</cp:lastModifiedBy>
  <dcterms:modified xsi:type="dcterms:W3CDTF">2010-06-24T11:39:27Z</dcterms:modified>
  <cp:revision>2</cp:revision>
  <dc:subject/>
  <dc:title>Слайд 1</dc:title>
</cp:coreProperties>
</file>