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DDC-A2F2-4AF1-ABBC-26859D0C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0A2-2112-4EE3-B8A3-FA264D4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A1B6B-CE67-45EA-9C24-936568E4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F995-21F9-4C03-B455-00DFD75D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77F2-5215-4C77-B8DE-37FC4F3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CD2D0-7383-483E-A284-B8620F2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454CF-AED0-4CE4-A90F-DC18E387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012B8-82D4-40F5-A17A-32AF17F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F2A41-EF64-43C4-BF8E-CC7393A7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3FEA1-66AB-4123-B64B-5020F149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EC6F-8617-407F-B1E2-012D8470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1AD-2991-4EA5-95F1-43C56D17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C2D-29EE-4FA2-B50C-7F3435E2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C81-4C6A-408B-BA58-B49E927F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7824-AE17-4DB5-93FC-3344D06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B26A-7092-47AD-AC1D-3A9A6B3F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1792-CC24-4C32-B477-02C6F93D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EBE4-97F6-4975-9519-EB869698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C9A-D39F-4898-822B-17B9BA6B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277A-BC02-477F-B005-489463B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666-0060-4FEB-A320-6E71226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C7A-B44E-448E-A4A8-F23CF9E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269C-61A0-4ACF-B225-2E5B614F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F5AD-41BF-4C85-92D7-567ED6CF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0F41-B7D6-48FC-84D9-BF6A2448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EE1D-0D4E-40A7-9D2C-C1B143A3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9FCE-97D5-4FCC-8FFF-4B9DDC2E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70A3-5CBB-4D92-B667-02E53E6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36D0-D02E-4B6B-B031-7A4BDBD8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A8F4-E4B6-4893-B39E-FCCD18F6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1F7F-4573-4835-819D-71ACB97C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9A5-A238-49AC-A81A-B9B086FA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47D7-5D5F-4C11-8505-2AA4A11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559F-C81C-439A-9BC6-7C9A60C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BBF5-F3F9-4059-9A3E-76CB7E72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7C3F-D35C-497F-B66C-EFFD28E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E11B-3073-4D77-A4DD-A6F69FE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3318-86C8-4759-A1A1-B9A777C2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7E67-DDEF-4796-99C1-713E9607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5D8A-67BD-410E-A885-B9CDCA03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AF1E-F436-445E-B699-79117A6B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8A70-C0F6-454E-885B-1EF6C67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BA9-8B02-4B07-A49C-97ADC76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6DEC-3EB4-4409-9853-66F9B3D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303B-A7B7-4903-8F21-80D9654F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4776-E470-4FCB-A192-CB4E58AE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3ED5-9E1D-4CFF-B5B5-290626F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6F92-5DA5-417D-8D56-662F4D5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50D9-7880-4F87-BC6A-D5258B4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E5F3-833B-4DB4-A9DC-C945201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5FC7-4F85-4BE4-A008-897E2E1D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D832C-F001-4AB3-A1EF-CEF7281F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7486-7617-4FFC-A082-C58FA128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137-9572-4633-9569-3B006A8A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D360-227A-4B77-B01B-100D818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1AED-45D7-4107-B6B5-85E4FC29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AA52-08E1-497D-91BA-03B7749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5C22B-9B57-4CEC-8E3E-5D5B9B1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9BFF-721F-4B30-A60F-DC42A07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710C-65B7-439D-9060-DE01896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D268-1A80-4186-8A62-77B370D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A24A-64E3-4333-A851-EEB0A36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54B3E-274B-472B-A411-2B04C207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18B1-EE09-428B-BB36-4BCC725C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0D2-EDD2-4265-88AC-198B2377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0EFE-F804-4008-BB21-939DD223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ADBB-DD0C-4F1C-9E4F-A97E214B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5BB6-0AEF-4771-BC75-485C6A40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FC96-69DD-41D6-9EF3-70E80B69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6A61A-4D8A-4BFA-8267-CD4AD5F8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A12A4-425C-41BB-8F61-0E6359D2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F536-5F2A-4BB2-A230-432E2176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489DE-3F6E-445F-8001-D6BB79F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DE4D-B4D2-4AD1-83AC-E837AD8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6EBB3-66E3-41CE-AECE-18E7366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362-2644-4097-ABE2-700E7AE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C249-322E-4873-9037-343446A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C5D85-A17E-4A16-8D4D-86119F15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33D3C-45D7-4A99-83F3-55681D5C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7FBC-02BD-4A8E-89B2-CDC0BA92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D5F3-1E4A-494A-940A-F490C017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DE7E9-46F2-4D59-B917-117B5F1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2825E-9BDE-4EFA-B979-C9825531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AC7AB-0B04-4654-A21C-9B35C3CC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8CC6-5B51-44CF-AB69-1D1881D9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BF60-CF02-47F8-A02F-D3AEF5B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28F-1A48-47CD-B1D4-ABC05F3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5D8E-7F46-4A68-995B-9D95185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C9D2-D0AA-44BA-8CFC-5939366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86F9-30CA-408F-8915-90922FB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DE5A6-5F96-4C6A-843B-E9A4F4E1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F840-A2B4-4808-9014-8177CC3A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AE54A-480B-4ED2-8556-198C4CDF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3D52-60DF-4617-918E-7B688F1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582D7-42B4-4BFD-BE58-E46F294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DE19-11C5-4495-8AC1-F099027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0CBDC-6A15-4A14-AA3B-AB8E7B77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B40-DE4C-47BF-803C-D459CAC7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E8F71-CD97-49E7-86E8-F77D99B5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E2308-5BC4-4FDF-B146-DACFD0A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FE270-35CB-4C48-9A86-6FC779A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EE2D4-96C4-49D3-9673-87BEC4F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9FEB-8A04-4D4A-9DEB-323E99E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9B485-B3AD-47BA-A7D9-1729CC9F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A465-46BD-4464-A758-AA2CD15B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906E5-00B3-4281-9E85-6D6A51B8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6DDE-9D5B-438D-8220-AC87DD9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18E1-EFC9-4842-B69D-6B45BAC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329D-AC8A-4337-BD04-787C4E821BA2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B420-8A4C-4132-88B6-F7DAA1CD3983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E2A7-6F76-4A1B-AD50-42A6F7D40293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F38-D9B8-4877-B67A-C70E85B65ECA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50C-AD4B-4F58-AF44-536CE4B9D8F1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FEC-F9B7-42D6-A469-AF3570455810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4E59-0332-44CC-BC65-0FB9193177DB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C321-BDE4-40BE-9263-5C8488FFE617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76C-963C-4185-9F78-A5F4E3BDC6BD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3"/>
          <p:cNvSpPr txBox="1"/>
          <p:nvPr/>
        </p:nvSpPr>
        <p:spPr>
          <a:xfrm>
            <a:off x="928800" y="21420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Назови правило"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0" name="Picture 4" descr="тн 10"/>
          <p:cNvPicPr/>
          <p:nvPr/>
        </p:nvPicPr>
        <p:blipFill>
          <a:blip r:embed="rId2"/>
          <a:stretch/>
        </p:blipFill>
        <p:spPr>
          <a:xfrm>
            <a:off x="539640" y="2060640"/>
            <a:ext cx="1727280" cy="1811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тн 9"/>
          <p:cNvPicPr/>
          <p:nvPr/>
        </p:nvPicPr>
        <p:blipFill>
          <a:blip r:embed="rId3"/>
          <a:stretch/>
        </p:blipFill>
        <p:spPr>
          <a:xfrm>
            <a:off x="2843280" y="1844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тн 5"/>
          <p:cNvPicPr/>
          <p:nvPr/>
        </p:nvPicPr>
        <p:blipFill>
          <a:blip r:embed="rId4"/>
          <a:stretch/>
        </p:blipFill>
        <p:spPr>
          <a:xfrm>
            <a:off x="1476360" y="4365720"/>
            <a:ext cx="1700280" cy="181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тн 7"/>
          <p:cNvPicPr/>
          <p:nvPr/>
        </p:nvPicPr>
        <p:blipFill>
          <a:blip r:embed="rId5"/>
          <a:stretch/>
        </p:blipFill>
        <p:spPr>
          <a:xfrm>
            <a:off x="3851280" y="3789360"/>
            <a:ext cx="1727280" cy="1884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тн 6"/>
          <p:cNvPicPr/>
          <p:nvPr/>
        </p:nvPicPr>
        <p:blipFill>
          <a:blip r:embed="rId6"/>
          <a:stretch/>
        </p:blipFill>
        <p:spPr>
          <a:xfrm>
            <a:off x="5651640" y="1916280"/>
            <a:ext cx="1703160" cy="1776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тн 4"/>
          <p:cNvPicPr/>
          <p:nvPr/>
        </p:nvPicPr>
        <p:blipFill>
          <a:blip r:embed="rId7"/>
          <a:stretch/>
        </p:blipFill>
        <p:spPr>
          <a:xfrm>
            <a:off x="6804000" y="4076640"/>
            <a:ext cx="1660680" cy="1779480"/>
          </a:xfrm>
          <a:prstGeom prst="rect">
            <a:avLst/>
          </a:prstGeom>
          <a:ln w="0">
            <a:noFill/>
          </a:ln>
        </p:spPr>
      </p:pic>
      <p:sp>
        <p:nvSpPr>
          <p:cNvPr id="406" name="Line 10"/>
          <p:cNvSpPr/>
          <p:nvPr/>
        </p:nvSpPr>
        <p:spPr>
          <a:xfrm>
            <a:off x="82692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755640" y="2565360"/>
            <a:ext cx="12952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2987640" y="2421000"/>
            <a:ext cx="1368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1619280" y="5013360"/>
            <a:ext cx="1440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4067280" y="4508640"/>
            <a:ext cx="1368360" cy="43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5867280" y="2492280"/>
            <a:ext cx="136872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6948360" y="4581360"/>
            <a:ext cx="144000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D:\ИРИНА\внеклассная работа\охрана природы\img9.jpg"/>
          <p:cNvPicPr/>
          <p:nvPr/>
        </p:nvPicPr>
        <p:blipFill>
          <a:blip r:embed="rId2"/>
          <a:stretch/>
        </p:blipFill>
        <p:spPr>
          <a:xfrm>
            <a:off x="357120" y="0"/>
            <a:ext cx="7756560" cy="4627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D:\ИРИНА\внеклассная работа\охрана природы\img10.jpg"/>
          <p:cNvPicPr/>
          <p:nvPr/>
        </p:nvPicPr>
        <p:blipFill>
          <a:blip r:embed="rId3"/>
          <a:srcRect l="0" t="0" r="54863" b="0"/>
          <a:stretch/>
        </p:blipFill>
        <p:spPr>
          <a:xfrm>
            <a:off x="5715000" y="2286000"/>
            <a:ext cx="2500200" cy="2381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D:\ИРИНА\внеклассная работа\охрана природы\img10.jpg"/>
          <p:cNvPicPr/>
          <p:nvPr/>
        </p:nvPicPr>
        <p:blipFill>
          <a:blip r:embed="rId4"/>
          <a:srcRect l="50169" t="0" r="0" b="5571"/>
          <a:stretch/>
        </p:blipFill>
        <p:spPr>
          <a:xfrm>
            <a:off x="2928960" y="4714920"/>
            <a:ext cx="2357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22:04Z</dcterms:created>
  <dc:creator>1</dc:creator>
  <dc:description/>
  <dc:language>en-US</dc:language>
  <cp:lastModifiedBy>Катенок</cp:lastModifiedBy>
  <dcterms:modified xsi:type="dcterms:W3CDTF">2010-06-24T11:39:27Z</dcterms:modified>
  <cp:revision>2</cp:revision>
  <dc:subject/>
  <dc:title>Слайд 1</dc:title>
</cp:coreProperties>
</file>