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8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C1DA-EAE7-4635-825A-FDCF0197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936D-05D2-4377-89D1-E183BDB0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AD94-28EA-4074-A9AD-587AF2E8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9CF0-A3AC-4322-A3F9-E725342E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9805-4A79-458F-A97A-D6279A3C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F47A-E336-4A73-8110-B7646066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931D-B484-4B93-A0C8-29CA5A002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C96F-2AC1-41DC-A3EC-93F7FFD4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B75-75A5-4518-8B3E-DCC341FD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F889-4F80-4A96-B843-D857C1E49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A442-A923-430B-B686-EF61719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3E7C-29B1-448F-AAEE-6C71DAD6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3A4-257C-4DA7-AEE9-54C6EB32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EC294-054E-47BF-B863-2AAD5778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DE6C-198E-4C3B-81C0-8D636277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0878-6C53-4CFB-BB23-69E678BB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68E1-4F4E-41C9-8E0B-27DBEB9F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F5E65-46AD-44A5-B815-C92BA41B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C5B29-39B1-4186-BC42-A4B36D83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6F05-7B88-4D75-B4A6-19F216914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DAF04-4FE8-4472-8C70-7B8AC630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F75F7-0863-4374-9D44-DD8E8580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8EC-EAEF-463F-B0EE-5AB14426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84D2-7B07-4509-B0E9-B0CF2D24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14669-EBC4-4DB2-85A5-47F30182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F6D6-5000-497F-B9C3-CF7F541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6BD38-4EC9-44FC-AC7E-794E6F5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6127-28B5-4842-B6AD-5D3B9339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7168-CA1C-47F4-94C1-AD178319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CEFEB-2CA1-4EB7-9B26-38C0C241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794A3-DD24-4AB6-97C4-87630F49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5F3A7-0C9D-4C1E-89CC-818AD3EF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73274-C804-4AFB-957E-B23092CB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5B2-459D-41B9-BFD3-274EFEAC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41A00-565C-4B95-8D35-DF9F0752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28BF-B986-4A90-B013-AB607190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D45E-EA95-4104-A1B7-D9D153CC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272C4-73FF-46A3-8B44-5C1B16E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C9056-9CC5-4225-87D3-3BC6D343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86DDF-752E-443D-A76D-08D0848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27CD3-E677-4AAB-8A76-411CCDB7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1183-85C7-4D1A-92E8-4236F725D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B109F-21D8-42B6-BDA7-28814AA0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E23D-2A24-4E1D-9168-BF47234B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084-4251-46D5-BA8F-0620EBF2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2FB-A487-40C5-8D45-3A63A92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5CE-BAEA-4BC0-AE77-EBA59195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C05-FFFD-4A20-8F98-47479DB3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71DC-08C2-40FC-BA0D-32AF54A7715A}" type="slidenum"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F776-2643-4B70-8E01-D63BFA53496E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2d2d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2d2d2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8c8c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FB69-0F0A-4B38-9888-AF7E1CCEB325}" type="slidenum">
              <a:rPr b="0" lang="ru-RU" sz="1200" spc="-1" strike="noStrike">
                <a:solidFill>
                  <a:srgbClr val="c8c8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8003b">
                  <a:alpha val="45098"/>
                </a:srgbClr>
              </a:gs>
              <a:gs pos="100000">
                <a:srgbClr val="b4008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20066">
                  <a:alpha val="45098"/>
                </a:srgbClr>
              </a:gs>
              <a:gs pos="100000">
                <a:srgbClr val="f1004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6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6666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c007f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4005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c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8007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6161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729-607B-4C62-B9A1-6502CEC0D53E}" type="slidenum">
              <a:rPr b="0" lang="ru-RU" sz="1200" spc="-1" strike="noStrike">
                <a:solidFill>
                  <a:srgbClr val="6161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5" name="Заголовок 1" descr=""/>
          <p:cNvPicPr/>
          <p:nvPr/>
        </p:nvPicPr>
        <p:blipFill>
          <a:blip r:embed="rId3"/>
          <a:stretch/>
        </p:blipFill>
        <p:spPr>
          <a:xfrm>
            <a:off x="2627280" y="476280"/>
            <a:ext cx="5499000" cy="1096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3" descr=""/>
          <p:cNvPicPr/>
          <p:nvPr/>
        </p:nvPicPr>
        <p:blipFill>
          <a:blip r:embed="rId4"/>
          <a:stretch/>
        </p:blipFill>
        <p:spPr>
          <a:xfrm>
            <a:off x="179280" y="54936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5"/>
          <p:cNvSpPr/>
          <p:nvPr/>
        </p:nvSpPr>
        <p:spPr>
          <a:xfrm>
            <a:off x="2195640" y="1557360"/>
            <a:ext cx="6408720" cy="501660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Прямоугольник 2"/>
          <p:cNvSpPr/>
          <p:nvPr/>
        </p:nvSpPr>
        <p:spPr>
          <a:xfrm>
            <a:off x="1959120" y="1557360"/>
            <a:ext cx="66452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проект 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хранение нравственного здоровья детей посредством приобщения их к традициям русского народа и фольклору 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Волна 1"/>
          <p:cNvSpPr/>
          <p:nvPr/>
        </p:nvSpPr>
        <p:spPr>
          <a:xfrm>
            <a:off x="826920" y="-34920"/>
            <a:ext cx="7345440" cy="1297080"/>
          </a:xfrm>
          <a:custGeom>
            <a:avLst/>
            <a:gdLst>
              <a:gd name="textAreaLeft" fmla="*/ 0 w 7345440"/>
              <a:gd name="textAreaRight" fmla="*/ 7345800 w 7345440"/>
              <a:gd name="textAreaTop" fmla="*/ 398520 h 1297080"/>
              <a:gd name="textAreaBottom" fmla="*/ 89856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3318"/>
                </a:moveTo>
                <a:cubicBezTo>
                  <a:pt x="7200" y="-8436"/>
                  <a:pt x="14400" y="15072"/>
                  <a:pt x="21600" y="3318"/>
                </a:cubicBezTo>
                <a:lnTo>
                  <a:pt x="21600" y="18282"/>
                </a:lnTo>
                <a:cubicBezTo>
                  <a:pt x="14400" y="30036"/>
                  <a:pt x="7200" y="6528"/>
                  <a:pt x="0" y="18282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Прямоугольник 2"/>
          <p:cNvSpPr/>
          <p:nvPr/>
        </p:nvSpPr>
        <p:spPr>
          <a:xfrm>
            <a:off x="539640" y="1262160"/>
            <a:ext cx="4176720" cy="533556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ое собрание на тему: «Нужно ли приобщать детей к национальной культуре?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мини-музея «Горница»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тические консультац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Рисунок 4" descr=""/>
          <p:cNvPicPr/>
          <p:nvPr/>
        </p:nvPicPr>
        <p:blipFill>
          <a:blip r:embed="rId3"/>
          <a:stretch/>
        </p:blipFill>
        <p:spPr>
          <a:xfrm>
            <a:off x="5148360" y="2133720"/>
            <a:ext cx="3671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Волна 2"/>
          <p:cNvSpPr/>
          <p:nvPr/>
        </p:nvSpPr>
        <p:spPr>
          <a:xfrm>
            <a:off x="395280" y="404640"/>
            <a:ext cx="7561440" cy="863640"/>
          </a:xfrm>
          <a:custGeom>
            <a:avLst/>
            <a:gdLst>
              <a:gd name="textAreaLeft" fmla="*/ 0 w 7561440"/>
              <a:gd name="textAreaRight" fmla="*/ 7561800 w 756144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1"/>
          <p:cNvSpPr/>
          <p:nvPr/>
        </p:nvSpPr>
        <p:spPr>
          <a:xfrm>
            <a:off x="395280" y="404640"/>
            <a:ext cx="8064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Волна 3"/>
          <p:cNvSpPr/>
          <p:nvPr/>
        </p:nvSpPr>
        <p:spPr>
          <a:xfrm>
            <a:off x="539640" y="195120"/>
            <a:ext cx="7417080" cy="1081080"/>
          </a:xfrm>
          <a:custGeom>
            <a:avLst/>
            <a:gdLst>
              <a:gd name="textAreaLeft" fmla="*/ 88560 w 7417080"/>
              <a:gd name="textAreaRight" fmla="*/ 7328520 w 7417080"/>
              <a:gd name="textAreaTop" fmla="*/ 270360 h 1081080"/>
              <a:gd name="textAreaBottom" fmla="*/ 8110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071" y="-6865"/>
                  <a:pt x="14271" y="12265"/>
                  <a:pt x="21342" y="2700"/>
                </a:cubicBezTo>
                <a:lnTo>
                  <a:pt x="21600" y="18900"/>
                </a:lnTo>
                <a:cubicBezTo>
                  <a:pt x="14529" y="28465"/>
                  <a:pt x="7329" y="9335"/>
                  <a:pt x="258" y="18900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анкетирования родителей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Скругленный прямоугольник 4"/>
          <p:cNvSpPr/>
          <p:nvPr/>
        </p:nvSpPr>
        <p:spPr>
          <a:xfrm>
            <a:off x="3708360" y="1484280"/>
            <a:ext cx="5040360" cy="5113440"/>
          </a:xfrm>
          <a:custGeom>
            <a:avLst/>
            <a:gdLst>
              <a:gd name="textAreaLeft" fmla="*/ 245880 w 5040360"/>
              <a:gd name="textAreaRight" fmla="*/ 4794480 w 5040360"/>
              <a:gd name="textAreaTop" fmla="*/ 245880 h 5113440"/>
              <a:gd name="textAreaBottom" fmla="*/ 4867560 h 5113440"/>
            </a:gdLst>
            <a:ahLst/>
            <a:rect l="textAreaLeft" t="textAreaTop" r="textAreaRight" b="textAreaBottom"/>
            <a:pathLst>
              <a:path w="21600" h="21913">
                <a:moveTo>
                  <a:pt x="3600" y="0"/>
                </a:moveTo>
                <a:arcTo wR="3600" hR="3600" stAng="16200000" swAng="-5400000"/>
                <a:lnTo>
                  <a:pt x="0" y="18313"/>
                </a:lnTo>
                <a:arcTo wR="3600" hR="3600" stAng="10800000" swAng="-5400000"/>
                <a:lnTo>
                  <a:pt x="18000" y="21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Диаграмма 8" descr=""/>
          <p:cNvPicPr/>
          <p:nvPr/>
        </p:nvPicPr>
        <p:blipFill>
          <a:blip r:embed="rId3"/>
          <a:stretch/>
        </p:blipFill>
        <p:spPr>
          <a:xfrm>
            <a:off x="3608280" y="1722600"/>
            <a:ext cx="4710240" cy="442908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5"/>
          <p:cNvSpPr/>
          <p:nvPr/>
        </p:nvSpPr>
        <p:spPr>
          <a:xfrm>
            <a:off x="395280" y="1268280"/>
            <a:ext cx="3097080" cy="547380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нкетировании принимали участие 18 семе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100% родителей ответили, что приобщать детей к народным традициям необходимо. Основной причиной по мнению родителей является то, что традиции незаслуженно забыты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100% из народных праздников знают Пасху, Рождество, Крещение. 65% назвали Масленицу, Старый Новый г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50% семей отмечают Пасху в семейном кругу,20% ходят колядовать под Старый Новый год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35% рассказывают детям о праздниках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80% назвали традиционным праздником в городе «Проводы русской зимы»,25% - «День города»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72% предложили проведения совместных чаепитий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72% родителей так или иначе принимают участие в проведении праздников в детском саду. (Украшение группы к празднику, изготовление костюмов, подготовка поделок , выпечки к Ярмарке и т.д.)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70 % родителей всё устраивает в работе ДОУ по приобщению детей к народной культуре.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Волна 1"/>
          <p:cNvSpPr/>
          <p:nvPr/>
        </p:nvSpPr>
        <p:spPr>
          <a:xfrm>
            <a:off x="1042920" y="411120"/>
            <a:ext cx="6769080" cy="934920"/>
          </a:xfrm>
          <a:custGeom>
            <a:avLst/>
            <a:gdLst>
              <a:gd name="textAreaLeft" fmla="*/ 0 w 6769080"/>
              <a:gd name="textAreaRight" fmla="*/ 6769440 w 6769080"/>
              <a:gd name="textAreaTop" fmla="*/ 233640 h 934920"/>
              <a:gd name="textAreaBottom" fmla="*/ 701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ающий этап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79400" y="1557360"/>
            <a:ext cx="75834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Волна 1"/>
          <p:cNvSpPr/>
          <p:nvPr/>
        </p:nvSpPr>
        <p:spPr>
          <a:xfrm>
            <a:off x="755640" y="333360"/>
            <a:ext cx="7561440" cy="1511280"/>
          </a:xfrm>
          <a:custGeom>
            <a:avLst/>
            <a:gdLst>
              <a:gd name="textAreaLeft" fmla="*/ 265320 w 7561440"/>
              <a:gd name="textAreaRight" fmla="*/ 7296120 w 7561440"/>
              <a:gd name="textAreaTop" fmla="*/ 377640 h 1511280"/>
              <a:gd name="textAreaBottom" fmla="*/ 1133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821" y="-6865"/>
                  <a:pt x="14021" y="12265"/>
                  <a:pt x="20842" y="2700"/>
                </a:cubicBezTo>
                <a:lnTo>
                  <a:pt x="21600" y="18900"/>
                </a:lnTo>
                <a:cubicBezTo>
                  <a:pt x="14779" y="28465"/>
                  <a:pt x="7579" y="9335"/>
                  <a:pt x="758" y="18900"/>
                </a:cubicBezTo>
                <a:close/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образовательные результат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Прямоугольник с одним вырезанным скругленным углом 3"/>
          <p:cNvSpPr/>
          <p:nvPr/>
        </p:nvSpPr>
        <p:spPr>
          <a:xfrm>
            <a:off x="324000" y="1844640"/>
            <a:ext cx="2952720" cy="482436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ы знания детей о народной культуре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о чувство уважения к людям пожилого возраста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шей группы активно принимают участие в городских мероприятиях: «В огне рождественской свечи», «Пасхальные встречи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Прямоугольник с одним вырезанным углом 2"/>
          <p:cNvSpPr/>
          <p:nvPr/>
        </p:nvSpPr>
        <p:spPr>
          <a:xfrm>
            <a:off x="3259080" y="1844640"/>
            <a:ext cx="3113280" cy="488016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ов проведены 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-класс «Народное сокровище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тое мероприятие «Нет милее дружка, чем родная матушка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родском методическом объединении поделилась опытом по теме «Взгляд на воспитание дошкольников через приобщение к национальной культуре»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Прямоугольник с двумя скругленными противолежащими углами 5"/>
          <p:cNvSpPr/>
          <p:nvPr/>
        </p:nvSpPr>
        <p:spPr>
          <a:xfrm>
            <a:off x="6372360" y="1844640"/>
            <a:ext cx="2520720" cy="482436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дителей проведены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ьские собрание нетрадиционной формы «Чаепитие у самовара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«Влияние фольклора на речь дошкольника»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8" name="Прямоугольник с одним вырезанным углом 3"/>
          <p:cNvSpPr/>
          <p:nvPr/>
        </p:nvSpPr>
        <p:spPr>
          <a:xfrm>
            <a:off x="395280" y="981000"/>
            <a:ext cx="6985080" cy="540072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 система работы, по приобщению детей к русской народной культуре через русские народные иг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лнена и обновлена предметно-развивающая сре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а картотека русских - народных игр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н  сборник сценариев развлечений и народных праздников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111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0" name="Прямоугольник с одним вырезанным скругленным углом 2"/>
          <p:cNvSpPr/>
          <p:nvPr/>
        </p:nvSpPr>
        <p:spPr>
          <a:xfrm>
            <a:off x="971640" y="484200"/>
            <a:ext cx="7488000" cy="6119640"/>
          </a:xfrm>
          <a:prstGeom prst="pie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упление по теме проекта на городских методических объединениях педагогов ДО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о Всероссийских конкурсах по теме проек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Лента лицом вниз 1"/>
          <p:cNvSpPr/>
          <p:nvPr/>
        </p:nvSpPr>
        <p:spPr>
          <a:xfrm>
            <a:off x="395280" y="0"/>
            <a:ext cx="8424720" cy="1125360"/>
          </a:xfrm>
          <a:custGeom>
            <a:avLst/>
            <a:gdLst>
              <a:gd name="textAreaLeft" fmla="*/ 1053000 w 8424720"/>
              <a:gd name="textAreaRight" fmla="*/ 7371720 w 8424720"/>
              <a:gd name="textAreaTop" fmla="*/ 187560 h 1125360"/>
              <a:gd name="textAreaBottom" fmla="*/ 112572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900" stAng="16200000" swAng="5400000"/>
                <a:lnTo>
                  <a:pt x="5400" y="3600"/>
                </a:lnTo>
                <a:lnTo>
                  <a:pt x="16200" y="3600"/>
                </a:lnTo>
                <a:lnTo>
                  <a:pt x="162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8900" y="18000"/>
                </a:lnTo>
                <a:lnTo>
                  <a:pt x="18900" y="20700"/>
                </a:lnTo>
                <a:arcTo wR="675" hR="900" stAng="0" swAng="5400000"/>
                <a:lnTo>
                  <a:pt x="3375" y="21600"/>
                </a:lnTo>
                <a:arcTo wR="675" hR="900" stAng="5400000" swAng="5400000"/>
                <a:lnTo>
                  <a:pt x="27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5400" y="900"/>
                </a:moveTo>
                <a:arcTo wR="675" hR="900" stAng="0" swAng="5400000"/>
                <a:lnTo>
                  <a:pt x="3375" y="1800"/>
                </a:lnTo>
                <a:arcTo wR="675" hR="900" stAng="16200000" swAng="-5400000"/>
                <a:arcTo wR="675" hR="900" stAng="10800000" swAng="-5400000"/>
                <a:lnTo>
                  <a:pt x="5400" y="3600"/>
                </a:lnTo>
              </a:path>
              <a:path fill="none" w="21600" h="21600">
                <a:moveTo>
                  <a:pt x="16200" y="900"/>
                </a:moveTo>
                <a:arcTo wR="675" hR="900" stAng="10800000" swAng="-5400000"/>
                <a:lnTo>
                  <a:pt x="18225" y="1800"/>
                </a:lnTo>
                <a:arcTo wR="675" hR="900" stAng="16200000" swAng="5400000"/>
                <a:arcTo wR="675" hR="900" stAng="0" swAng="5400000"/>
                <a:lnTo>
                  <a:pt x="16200" y="3600"/>
                </a:lnTo>
              </a:path>
              <a:path fill="none" w="21600" h="21600">
                <a:moveTo>
                  <a:pt x="2700" y="2700"/>
                </a:moveTo>
                <a:lnTo>
                  <a:pt x="2700" y="18000"/>
                </a:lnTo>
              </a:path>
              <a:path fill="none" w="21600" h="21600">
                <a:moveTo>
                  <a:pt x="18900" y="2700"/>
                </a:moveTo>
                <a:lnTo>
                  <a:pt x="18900" y="18000"/>
                </a:lnTo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Информационные ресурс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797040" y="1125360"/>
            <a:ext cx="7878600" cy="554364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Аникин В.П. Русские народные поговорки, пословицы, загадки, детский фольклор.-М-1957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грамма нового поколения Вераксы Н. Е., Васильева М. А., Комарова «От рождения до школы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нязева О.А., Маханева М. Д. «Приобщение детей к истокам русской народной культуры»-С Пб: Детство-ПРЕСС-2000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Куприна Л. С. , Бударина Т. А., Маркеева О. А. Приобщение детей к истокам русской культуры: Конспекты занятий и сценарии календарно-обрядовых праздников. Методическое пособие для педагогов дошкольных образовательных учреждений-С Пб: Детство-ПРЕСС -2003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ет рес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docs.exdat.com/docs/index-454461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maaam.ru/detskijsad/priobschenie-mladshih-doshkolnikov-k-ruskoi-narodnoi-kulture.htm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www.google.ru/imghp?hl=ru&amp;tab=i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Загнутый угол 1"/>
          <p:cNvSpPr/>
          <p:nvPr/>
        </p:nvSpPr>
        <p:spPr>
          <a:xfrm>
            <a:off x="179280" y="189000"/>
            <a:ext cx="5183280" cy="6524640"/>
          </a:xfrm>
          <a:prstGeom prst="foldedCorner">
            <a:avLst>
              <a:gd name="adj" fmla="val 16666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реч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ли в настоящее время, в условиях социально-экономической и культурной жизни России, возрождать национальные традиции?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5" descr=""/>
          <p:cNvPicPr/>
          <p:nvPr/>
        </p:nvPicPr>
        <p:blipFill>
          <a:blip r:embed="rId2"/>
          <a:stretch/>
        </p:blipFill>
        <p:spPr>
          <a:xfrm>
            <a:off x="-179280" y="1260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Вертикальный свиток 3"/>
          <p:cNvSpPr/>
          <p:nvPr/>
        </p:nvSpPr>
        <p:spPr>
          <a:xfrm>
            <a:off x="395280" y="260280"/>
            <a:ext cx="7993080" cy="6362640"/>
          </a:xfrm>
          <a:prstGeom prst="verticalScroll">
            <a:avLst>
              <a:gd name="adj" fmla="val 12500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на основе прошлого можно понять настоящее и предвидеть будущее. К большому сожалению, мы успели растерять, то что годами копили наши предки-забыли культуру своего народа, своего родного кра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Горизонтальный свиток 1"/>
          <p:cNvSpPr/>
          <p:nvPr/>
        </p:nvSpPr>
        <p:spPr>
          <a:xfrm>
            <a:off x="611280" y="333360"/>
            <a:ext cx="7705800" cy="6120000"/>
          </a:xfrm>
          <a:prstGeom prst="horizontalScroll">
            <a:avLst>
              <a:gd name="adj" fmla="val 12500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нравственного здоровья детей посредством приобщения их к традициям русского народа и фольклор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Схема 2" descr=""/>
          <p:cNvPicPr/>
          <p:nvPr/>
        </p:nvPicPr>
        <p:blipFill>
          <a:blip r:embed="rId3"/>
          <a:stretch/>
        </p:blipFill>
        <p:spPr>
          <a:xfrm>
            <a:off x="1511280" y="1395360"/>
            <a:ext cx="6121440" cy="4078440"/>
          </a:xfrm>
          <a:prstGeom prst="rect">
            <a:avLst/>
          </a:prstGeom>
          <a:ln w="0">
            <a:noFill/>
          </a:ln>
        </p:spPr>
      </p:pic>
      <p:pic>
        <p:nvPicPr>
          <p:cNvPr id="217" name="Прямоугольник 6" descr=""/>
          <p:cNvPicPr/>
          <p:nvPr/>
        </p:nvPicPr>
        <p:blipFill>
          <a:blip r:embed="rId4"/>
          <a:stretch/>
        </p:blipFill>
        <p:spPr>
          <a:xfrm>
            <a:off x="109440" y="-23760"/>
            <a:ext cx="90838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"/>
          <p:cNvSpPr/>
          <p:nvPr/>
        </p:nvSpPr>
        <p:spPr>
          <a:xfrm>
            <a:off x="611280" y="333360"/>
            <a:ext cx="7921440" cy="5784840"/>
          </a:xfrm>
          <a:prstGeom prst="rect">
            <a:avLst/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з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у детей представлений о многообразии народных культур и положительного отношения к ним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предметно-развивающей среды обеспечивающей погружение ребенка в социально-культурный опыт народ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Лента лицом вниз 1"/>
          <p:cNvSpPr/>
          <p:nvPr/>
        </p:nvSpPr>
        <p:spPr>
          <a:xfrm>
            <a:off x="0" y="311040"/>
            <a:ext cx="8785080" cy="1513080"/>
          </a:xfrm>
          <a:custGeom>
            <a:avLst/>
            <a:gdLst>
              <a:gd name="textAreaLeft" fmla="*/ 1335600 w 8785080"/>
              <a:gd name="textAreaRight" fmla="*/ 7449480 w 8785080"/>
              <a:gd name="textAreaTop" fmla="*/ 252000 h 1513080"/>
              <a:gd name="textAreaBottom" fmla="*/ 15134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09" y="0"/>
                </a:lnTo>
                <a:arcTo wR="675" hR="900" stAng="16200000" swAng="5400000"/>
                <a:lnTo>
                  <a:pt x="5984" y="3600"/>
                </a:lnTo>
                <a:lnTo>
                  <a:pt x="15616" y="3600"/>
                </a:lnTo>
                <a:lnTo>
                  <a:pt x="15616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8316" y="18000"/>
                </a:lnTo>
                <a:lnTo>
                  <a:pt x="18316" y="20700"/>
                </a:lnTo>
                <a:arcTo wR="675" hR="900" stAng="0" swAng="5400000"/>
                <a:lnTo>
                  <a:pt x="3959" y="21600"/>
                </a:lnTo>
                <a:arcTo wR="675" hR="900" stAng="5400000" swAng="5400000"/>
                <a:lnTo>
                  <a:pt x="3284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5984" y="900"/>
                </a:moveTo>
                <a:arcTo wR="675" hR="900" stAng="0" swAng="5400000"/>
                <a:lnTo>
                  <a:pt x="3959" y="1800"/>
                </a:lnTo>
                <a:arcTo wR="675" hR="900" stAng="16200000" swAng="-5400000"/>
                <a:arcTo wR="675" hR="900" stAng="10800000" swAng="-5400000"/>
                <a:lnTo>
                  <a:pt x="5984" y="3600"/>
                </a:lnTo>
              </a:path>
              <a:path fill="none" w="21600" h="21600">
                <a:moveTo>
                  <a:pt x="15616" y="900"/>
                </a:moveTo>
                <a:arcTo wR="675" hR="900" stAng="10800000" swAng="-5400000"/>
                <a:lnTo>
                  <a:pt x="17641" y="1800"/>
                </a:lnTo>
                <a:arcTo wR="675" hR="900" stAng="16200000" swAng="5400000"/>
                <a:arcTo wR="675" hR="900" stAng="0" swAng="5400000"/>
                <a:lnTo>
                  <a:pt x="15616" y="3600"/>
                </a:lnTo>
              </a:path>
              <a:path fill="none" w="21600" h="21600">
                <a:moveTo>
                  <a:pt x="3284" y="2700"/>
                </a:moveTo>
                <a:lnTo>
                  <a:pt x="3284" y="18000"/>
                </a:lnTo>
              </a:path>
              <a:path fill="none" w="21600" h="21600">
                <a:moveTo>
                  <a:pt x="18316" y="2700"/>
                </a:moveTo>
                <a:lnTo>
                  <a:pt x="18316" y="18000"/>
                </a:lnTo>
              </a:path>
            </a:pathLst>
          </a:custGeom>
          <a:solidFill>
            <a:srgbClr val="4c99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п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Горизонтальный свиток 7"/>
          <p:cNvSpPr/>
          <p:nvPr/>
        </p:nvSpPr>
        <p:spPr>
          <a:xfrm>
            <a:off x="755640" y="1557360"/>
            <a:ext cx="7561440" cy="5284800"/>
          </a:xfrm>
          <a:prstGeom prst="horizontalScroll">
            <a:avLst>
              <a:gd name="adj" fmla="val 12500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тельный этап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и анализ педагогической и методической литератур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передового  опыта по данной теме исследовани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диагностика знаний де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2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Загнутый угол 1"/>
          <p:cNvSpPr/>
          <p:nvPr/>
        </p:nvSpPr>
        <p:spPr>
          <a:xfrm>
            <a:off x="285840" y="642960"/>
            <a:ext cx="5510160" cy="5616720"/>
          </a:xfrm>
          <a:prstGeom prst="foldedCorner">
            <a:avLst>
              <a:gd name="adj" fmla="val 16666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сследов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за детьми; Индивидуальные бесед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деятельность(подвижные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, игры-забавы, хороводы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атривание слайдов, картин, экскурсии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фольклорных произведени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Круглая лента лицом вниз 1"/>
          <p:cNvSpPr/>
          <p:nvPr/>
        </p:nvSpPr>
        <p:spPr>
          <a:xfrm>
            <a:off x="1258920" y="112680"/>
            <a:ext cx="6913440" cy="936720"/>
          </a:xfrm>
          <a:custGeom>
            <a:avLst/>
            <a:gdLst>
              <a:gd name="textAreaLeft" fmla="*/ 1020240 w 6913440"/>
              <a:gd name="textAreaRight" fmla="*/ 5893200 w 6913440"/>
              <a:gd name="textAreaTop" fmla="*/ 234000 h 936720"/>
              <a:gd name="textAreaBottom" fmla="*/ 902160 h 936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12532" stAng="8091547" swAng="-712458"/>
                <a:lnTo>
                  <a:pt x="3188" y="20796"/>
                </a:lnTo>
                <a:arcTo wR="21600" hR="12532" stAng="7379089" swAng="-3958177"/>
                <a:lnTo>
                  <a:pt x="18412" y="17075"/>
                </a:lnTo>
                <a:arcTo wR="21600" hR="12532" stAng="3420911" swAng="-712458"/>
                <a:lnTo>
                  <a:pt x="18900" y="8865"/>
                </a:lnTo>
                <a:lnTo>
                  <a:pt x="21600" y="0"/>
                </a:lnTo>
                <a:lnTo>
                  <a:pt x="21600" y="0"/>
                </a:lnTo>
                <a:arcTo wR="21600" hR="12532" stAng="2708453" swAng="1376076"/>
                <a:lnTo>
                  <a:pt x="15712" y="5072"/>
                </a:lnTo>
                <a:arcTo wR="21600" hR="12532" stAng="4084529" swAng="2630941"/>
                <a:lnTo>
                  <a:pt x="5888" y="1351"/>
                </a:lnTo>
                <a:arcTo wR="21600" hR="12532" stAng="6715471" swAng="1376076"/>
                <a:lnTo>
                  <a:pt x="2700" y="8865"/>
                </a:lnTo>
                <a:close/>
              </a:path>
              <a:path fill="none" w="21600" h="21600">
                <a:moveTo>
                  <a:pt x="5888" y="5072"/>
                </a:moveTo>
                <a:arcTo wR="21600" hR="12532" stAng="6715471" swAng="663618"/>
                <a:lnTo>
                  <a:pt x="5888" y="1351"/>
                </a:lnTo>
              </a:path>
              <a:path fill="none" w="21600" h="21600">
                <a:moveTo>
                  <a:pt x="15712" y="5072"/>
                </a:moveTo>
                <a:arcTo wR="21600" hR="12532" stAng="4084529" swAng="-663618"/>
                <a:lnTo>
                  <a:pt x="15712" y="1351"/>
                </a:lnTo>
              </a:path>
              <a:path fill="none" w="21600" h="21600">
                <a:moveTo>
                  <a:pt x="3188" y="17075"/>
                </a:moveTo>
                <a:lnTo>
                  <a:pt x="3188" y="4596"/>
                </a:lnTo>
              </a:path>
              <a:path fill="none" w="21600" h="21600">
                <a:moveTo>
                  <a:pt x="18412" y="17075"/>
                </a:moveTo>
                <a:lnTo>
                  <a:pt x="18412" y="4596"/>
                </a:lnTo>
              </a:path>
            </a:pathLst>
          </a:cu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сновной этап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Загнутый угол 3"/>
          <p:cNvSpPr/>
          <p:nvPr/>
        </p:nvSpPr>
        <p:spPr>
          <a:xfrm>
            <a:off x="928800" y="1285920"/>
            <a:ext cx="7777080" cy="5400720"/>
          </a:xfrm>
          <a:prstGeom prst="foldedCorner">
            <a:avLst>
              <a:gd name="adj" fmla="val 16666"/>
            </a:avLst>
          </a:prstGeom>
          <a:solidFill>
            <a:srgbClr val="87bbff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учение интереса дет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роведение цикла познавательных мероприяти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литературы в «Уголок книги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 мини-музея «Горница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уголка народного творчеств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и проведение  мероприятия «Нет милее дружка, чем родная матушка»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грывание  произведений фольклора в мине-театре «Сказка»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едагогов ДОУ проведение мастер-класса, круглого стола, открытого мероприят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2:31:32Z</dcterms:created>
  <dc:creator>компьютер</dc:creator>
  <dc:description/>
  <dc:language>en-US</dc:language>
  <cp:lastModifiedBy>Elena</cp:lastModifiedBy>
  <dcterms:modified xsi:type="dcterms:W3CDTF">2017-10-01T14:32:32Z</dcterms:modified>
  <cp:revision>86</cp:revision>
  <dc:subject/>
  <dc:title>Муниципальное бюджетное дошкольное образовательное учреждение «Детский сад «Золотая рыбка»</dc:title>
</cp:coreProperties>
</file>