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F7C-D9C8-4F0B-96E6-2B0172BE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A6A-C190-4232-A040-5F47B82E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779-E5F7-44FD-AC60-FF026E02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6C6-5724-4D2B-B2C3-5BB611C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A741-F833-4CCB-A8AB-35E2D304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159B-6888-4D46-997E-31E044A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924A-BCBA-46F1-A83E-BFD7A9F3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DD3-4659-4FAC-A27D-6CF67E34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C11E-F5B4-45A3-84F1-DAE7D65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4EC1-B75E-47D8-8016-60439D45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BDAA-D152-43D3-B755-5B5586F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865-2015-4834-98BC-C1A7FB42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AE88-A8F9-45A7-80DA-ED70B59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A79-E31B-44FE-A1D1-FE5C8B2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076-FB1B-4298-BA2D-4DFF7E98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3ECA-132D-40D6-9CF9-9F9DE9C5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800-AF46-435F-9B5B-A7B4A652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A4208-4956-4D01-BE37-6A2C69F2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4B45-BD6A-4669-9602-50E82E82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857D-40A9-493D-A638-3D125AB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8A0A-1713-4D71-8B92-BC7C8E6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37D9-2F06-4722-8505-88A1EDB2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7D0-3878-4975-A0C7-49248AE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5342-E7FA-4C0A-937D-46EF878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893D-D802-4F53-8D45-B286B35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4933-81AA-4FCC-836B-3EAFE97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12BD-CE5D-4015-976D-9C38471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977B-D674-421C-B34B-3EAB1967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DED4-F0D7-407B-8DFC-DFBA6F37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12BA-8FD2-4DB5-BDE9-3261EAB0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E233-233B-45F5-B44A-4AFC06C6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F080-42C3-4B6F-A8AF-88A721A7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98EC-DFA9-456B-BE48-BB28FCB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9EB-5504-4C8F-8C4D-1ECDD75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7797-C3FD-4E18-84FD-43142D3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B4AA-D1C8-40B7-9997-D83EEE37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5CEB-14A8-4DE1-8FC0-C68AC269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65DF-6E62-4BF8-B5DC-69F37B0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C5EE-3E86-4294-8F1C-00E6F5E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8F86-A449-460A-B2EB-A07647B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8E06-CEA5-4F57-9420-E467ED31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3FB9-4DCE-4F52-BF9D-3F7F4F03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0A45-8B80-4346-96CD-518E0C36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CFE-2A22-4966-9EF0-6923803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813-4149-42A2-A16A-BDC9B5A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9BB-8BF1-4CB7-AF0E-F60BE39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ACF-48A1-4778-96B4-B0DDF7B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776-F938-4DE5-BA5B-2581F724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B037-0E6A-4747-B219-5FF7E6B82A18}" type="slidenum"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F92-553B-4FBD-AF68-C795C75DA2A2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CC8-A484-48F4-982C-C60AAF034BED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DEB8-95C3-4C9C-AEA3-B9F0D4BDE5C4}" type="slidenum"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1" descr=""/>
          <p:cNvPicPr/>
          <p:nvPr/>
        </p:nvPicPr>
        <p:blipFill>
          <a:blip r:embed="rId3"/>
          <a:stretch/>
        </p:blipFill>
        <p:spPr>
          <a:xfrm>
            <a:off x="2627280" y="476280"/>
            <a:ext cx="5499000" cy="1096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2195640" y="1557360"/>
            <a:ext cx="6408720" cy="501660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1959120" y="1557360"/>
            <a:ext cx="6645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проект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хранение нравственного здоровья детей посредством приобщения их к традициям русского народа и фольклору 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Волна 1"/>
          <p:cNvSpPr/>
          <p:nvPr/>
        </p:nvSpPr>
        <p:spPr>
          <a:xfrm>
            <a:off x="826920" y="-34920"/>
            <a:ext cx="7345440" cy="1297080"/>
          </a:xfrm>
          <a:custGeom>
            <a:avLst/>
            <a:gdLst>
              <a:gd name="textAreaLeft" fmla="*/ 0 w 7345440"/>
              <a:gd name="textAreaRight" fmla="*/ 7345800 w 7345440"/>
              <a:gd name="textAreaTop" fmla="*/ 398520 h 1297080"/>
              <a:gd name="textAreaBottom" fmla="*/ 898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3318"/>
                </a:moveTo>
                <a:cubicBezTo>
                  <a:pt x="7200" y="-8436"/>
                  <a:pt x="14400" y="15072"/>
                  <a:pt x="21600" y="3318"/>
                </a:cubicBezTo>
                <a:lnTo>
                  <a:pt x="21600" y="18282"/>
                </a:lnTo>
                <a:cubicBezTo>
                  <a:pt x="14400" y="30036"/>
                  <a:pt x="7200" y="6528"/>
                  <a:pt x="0" y="18282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539640" y="1262160"/>
            <a:ext cx="4176720" cy="533556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на тему: «Нужно ли приобщать детей к национальной культуре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ини-музея «Горница»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консульт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5148360" y="2133720"/>
            <a:ext cx="367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Волна 2"/>
          <p:cNvSpPr/>
          <p:nvPr/>
        </p:nvSpPr>
        <p:spPr>
          <a:xfrm>
            <a:off x="395280" y="404640"/>
            <a:ext cx="7561440" cy="863640"/>
          </a:xfrm>
          <a:custGeom>
            <a:avLst/>
            <a:gdLst>
              <a:gd name="textAreaLeft" fmla="*/ 0 w 7561440"/>
              <a:gd name="textAreaRight" fmla="*/ 7561800 w 756144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"/>
          <p:cNvSpPr/>
          <p:nvPr/>
        </p:nvSpPr>
        <p:spPr>
          <a:xfrm>
            <a:off x="395280" y="404640"/>
            <a:ext cx="806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Волна 3"/>
          <p:cNvSpPr/>
          <p:nvPr/>
        </p:nvSpPr>
        <p:spPr>
          <a:xfrm>
            <a:off x="539640" y="195120"/>
            <a:ext cx="7417080" cy="1081080"/>
          </a:xfrm>
          <a:custGeom>
            <a:avLst/>
            <a:gdLst>
              <a:gd name="textAreaLeft" fmla="*/ 88560 w 7417080"/>
              <a:gd name="textAreaRight" fmla="*/ 7328520 w 741708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71" y="-6865"/>
                  <a:pt x="14271" y="12265"/>
                  <a:pt x="21342" y="2700"/>
                </a:cubicBezTo>
                <a:lnTo>
                  <a:pt x="21600" y="18900"/>
                </a:lnTo>
                <a:cubicBezTo>
                  <a:pt x="14529" y="28465"/>
                  <a:pt x="7329" y="9335"/>
                  <a:pt x="258" y="18900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родителе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Скругленный прямоугольник 4"/>
          <p:cNvSpPr/>
          <p:nvPr/>
        </p:nvSpPr>
        <p:spPr>
          <a:xfrm>
            <a:off x="3708360" y="1484280"/>
            <a:ext cx="5040360" cy="5113440"/>
          </a:xfrm>
          <a:custGeom>
            <a:avLst/>
            <a:gdLst>
              <a:gd name="textAreaLeft" fmla="*/ 245880 w 5040360"/>
              <a:gd name="textAreaRight" fmla="*/ 4794480 w 5040360"/>
              <a:gd name="textAreaTop" fmla="*/ 245880 h 5113440"/>
              <a:gd name="textAreaBottom" fmla="*/ 4867560 h 5113440"/>
            </a:gdLst>
            <a:ahLst/>
            <a:rect l="textAreaLeft" t="textAreaTop" r="textAreaRight" b="textAreaBottom"/>
            <a:pathLst>
              <a:path w="21600" h="21913">
                <a:moveTo>
                  <a:pt x="3600" y="0"/>
                </a:moveTo>
                <a:arcTo wR="3600" hR="3600" stAng="16200000" swAng="-5400000"/>
                <a:lnTo>
                  <a:pt x="0" y="18313"/>
                </a:lnTo>
                <a:arcTo wR="3600" hR="3600" stAng="10800000" swAng="-5400000"/>
                <a:lnTo>
                  <a:pt x="18000" y="21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Диаграмма 8" descr=""/>
          <p:cNvPicPr/>
          <p:nvPr/>
        </p:nvPicPr>
        <p:blipFill>
          <a:blip r:embed="rId3"/>
          <a:stretch/>
        </p:blipFill>
        <p:spPr>
          <a:xfrm>
            <a:off x="3608280" y="1722600"/>
            <a:ext cx="4710240" cy="44290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395280" y="1268280"/>
            <a:ext cx="3097080" cy="547380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кетировании принимали участие 18 семе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00% родителей ответили, что приобщать детей к народным традициям необходимо. Основной причиной по мнению родителей является то, что традиции незаслуженно забыты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100% из народных праздников знают Пасху, Рождество, Крещение. 65% назвали Масленицу, Старый Новый г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0% семей отмечают Пасху в семейном кругу,20% ходят колядовать под Старый Новый г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5% рассказывают детям о праздника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80% назвали традиционным праздником в городе «Проводы русской зимы»,25% - «День города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2% предложили проведения совместных чаепити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72% родителей так или иначе принимают участие в проведении праздников в детском саду. (Украшение группы к празднику, изготовление костюмов, подготовка поделок , выпечки к Ярмарке и т.д.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70 % родителей всё устраивает в работе ДОУ по приобщению детей к народной культур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Волна 1"/>
          <p:cNvSpPr/>
          <p:nvPr/>
        </p:nvSpPr>
        <p:spPr>
          <a:xfrm>
            <a:off x="1042920" y="411120"/>
            <a:ext cx="6769080" cy="934920"/>
          </a:xfrm>
          <a:custGeom>
            <a:avLst/>
            <a:gdLst>
              <a:gd name="textAreaLeft" fmla="*/ 0 w 6769080"/>
              <a:gd name="textAreaRight" fmla="*/ 6769440 w 676908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этап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79400" y="1557360"/>
            <a:ext cx="75834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Волна 1"/>
          <p:cNvSpPr/>
          <p:nvPr/>
        </p:nvSpPr>
        <p:spPr>
          <a:xfrm>
            <a:off x="755640" y="333360"/>
            <a:ext cx="7561440" cy="1511280"/>
          </a:xfrm>
          <a:custGeom>
            <a:avLst/>
            <a:gdLst>
              <a:gd name="textAreaLeft" fmla="*/ 265320 w 7561440"/>
              <a:gd name="textAreaRight" fmla="*/ 7296120 w 75614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821" y="-6865"/>
                  <a:pt x="14021" y="12265"/>
                  <a:pt x="20842" y="2700"/>
                </a:cubicBezTo>
                <a:lnTo>
                  <a:pt x="21600" y="18900"/>
                </a:lnTo>
                <a:cubicBezTo>
                  <a:pt x="14779" y="28465"/>
                  <a:pt x="7579" y="9335"/>
                  <a:pt x="758" y="18900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образовательные результа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рямоугольник с одним вырезанным скругленным углом 3"/>
          <p:cNvSpPr/>
          <p:nvPr/>
        </p:nvSpPr>
        <p:spPr>
          <a:xfrm>
            <a:off x="324000" y="1844640"/>
            <a:ext cx="2952720" cy="482436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ы знания детей о народной культур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о чувство уважения к людям пожилого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шей группы активно принимают участие в городских мероприятиях: «В огне рождественской свечи», «Пасхальные встречи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Прямоугольник с одним вырезанным углом 2"/>
          <p:cNvSpPr/>
          <p:nvPr/>
        </p:nvSpPr>
        <p:spPr>
          <a:xfrm>
            <a:off x="3259080" y="1844640"/>
            <a:ext cx="3113280" cy="488016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ов проведены 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 «Народное сокровище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мероприятие «Нет милее дружка, чем родная матушка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родском методическом объединении поделилась опытом по теме «Взгляд на воспитание дошкольников через приобщение к национальной культуре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оугольник с двумя скругленными противолежащими углами 5"/>
          <p:cNvSpPr/>
          <p:nvPr/>
        </p:nvSpPr>
        <p:spPr>
          <a:xfrm>
            <a:off x="6372360" y="1844640"/>
            <a:ext cx="2520720" cy="482436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 проведен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е нетрадиционной формы «Чаепитие у самовара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«Влияние фольклора на речь дошкольника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с одним вырезанным углом 3"/>
          <p:cNvSpPr/>
          <p:nvPr/>
        </p:nvSpPr>
        <p:spPr>
          <a:xfrm>
            <a:off x="395280" y="981000"/>
            <a:ext cx="6985080" cy="540072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 система работы, по приобщению детей к русской народной культуре через русские народные иг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ена и обновлена предметно-развивающая сре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картотека русских - народных иг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  сборник сценариев развлечений и народных празд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с одним вырезанным скругленным углом 2"/>
          <p:cNvSpPr/>
          <p:nvPr/>
        </p:nvSpPr>
        <p:spPr>
          <a:xfrm>
            <a:off x="971640" y="484200"/>
            <a:ext cx="7488000" cy="611964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по теме проекта на городских методических объединениях педагогов ДО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 Всероссийских конкурсах по теме про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Лента лицом вниз 1"/>
          <p:cNvSpPr/>
          <p:nvPr/>
        </p:nvSpPr>
        <p:spPr>
          <a:xfrm>
            <a:off x="395280" y="0"/>
            <a:ext cx="8424720" cy="1125360"/>
          </a:xfrm>
          <a:custGeom>
            <a:avLst/>
            <a:gdLst>
              <a:gd name="textAreaLeft" fmla="*/ 1053000 w 8424720"/>
              <a:gd name="textAreaRight" fmla="*/ 7371720 w 8424720"/>
              <a:gd name="textAreaTop" fmla="*/ 18756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900" stAng="16200000" swAng="5400000"/>
                <a:lnTo>
                  <a:pt x="5400" y="3600"/>
                </a:lnTo>
                <a:lnTo>
                  <a:pt x="16200" y="3600"/>
                </a:lnTo>
                <a:lnTo>
                  <a:pt x="162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8900" y="18000"/>
                </a:lnTo>
                <a:lnTo>
                  <a:pt x="18900" y="20700"/>
                </a:lnTo>
                <a:arcTo wR="675" hR="900" stAng="0" swAng="5400000"/>
                <a:lnTo>
                  <a:pt x="3375" y="21600"/>
                </a:lnTo>
                <a:arcTo wR="675" hR="900" stAng="5400000" swAng="5400000"/>
                <a:lnTo>
                  <a:pt x="27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5400" y="900"/>
                </a:moveTo>
                <a:arcTo wR="675" hR="900" stAng="0" swAng="5400000"/>
                <a:lnTo>
                  <a:pt x="3375" y="1800"/>
                </a:lnTo>
                <a:arcTo wR="675" hR="900" stAng="16200000" swAng="-5400000"/>
                <a:arcTo wR="675" hR="900" stAng="10800000" swAng="-5400000"/>
                <a:lnTo>
                  <a:pt x="5400" y="3600"/>
                </a:lnTo>
              </a:path>
              <a:path fill="none" w="21600" h="21600">
                <a:moveTo>
                  <a:pt x="16200" y="900"/>
                </a:moveTo>
                <a:arcTo wR="675" hR="900" stAng="10800000" swAng="-5400000"/>
                <a:lnTo>
                  <a:pt x="18225" y="1800"/>
                </a:lnTo>
                <a:arcTo wR="675" hR="900" stAng="16200000" swAng="5400000"/>
                <a:arcTo wR="675" hR="900" stAng="0" swAng="5400000"/>
                <a:lnTo>
                  <a:pt x="16200" y="3600"/>
                </a:lnTo>
              </a:path>
              <a:path fill="none" w="21600" h="21600">
                <a:moveTo>
                  <a:pt x="2700" y="2700"/>
                </a:moveTo>
                <a:lnTo>
                  <a:pt x="2700" y="18000"/>
                </a:lnTo>
              </a:path>
              <a:path fill="none" w="21600" h="21600">
                <a:moveTo>
                  <a:pt x="18900" y="2700"/>
                </a:moveTo>
                <a:lnTo>
                  <a:pt x="18900" y="18000"/>
                </a:lnTo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797040" y="1125360"/>
            <a:ext cx="7878600" cy="554364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никин В.П. Русские народные поговорки, пословицы, загадки, детский фольклор.-М-195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грамма нового поколения Вераксы Н. Е., Васильева М. А., Комарова 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нязева О.А., Маханева М. Д. «Приобщение детей к истокам русской народной культуры»-С Пб: Детство-ПРЕСС-2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уприна Л. С. , Бударина Т. А., Маркеева О. А. Приобщение детей к истокам русской культуры: Конспекты занятий и сценарии календарно-обрядовых праздников. Методическое пособие для педагогов дошкольных образовательных учреждений-С Пб: Детство-ПРЕСС -200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docs.exdat.com/docs/index-454461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aam.ru/detskijsad/priobschenie-mladshih-doshkolnikov-k-ruskoi-narodnoi-kulture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google.ru/imghp?hl=ru&amp;tab=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Загнутый угол 1"/>
          <p:cNvSpPr/>
          <p:nvPr/>
        </p:nvSpPr>
        <p:spPr>
          <a:xfrm>
            <a:off x="179280" y="189000"/>
            <a:ext cx="5183280" cy="6524640"/>
          </a:xfrm>
          <a:prstGeom prst="foldedCorner">
            <a:avLst>
              <a:gd name="adj" fmla="val 16666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ли в настоящее время, в условиях социально-экономической и культурной жизни России, возрождать национальные традиции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5" descr=""/>
          <p:cNvPicPr/>
          <p:nvPr/>
        </p:nvPicPr>
        <p:blipFill>
          <a:blip r:embed="rId2"/>
          <a:stretch/>
        </p:blipFill>
        <p:spPr>
          <a:xfrm>
            <a:off x="-179280" y="1260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Вертикальный свиток 3"/>
          <p:cNvSpPr/>
          <p:nvPr/>
        </p:nvSpPr>
        <p:spPr>
          <a:xfrm>
            <a:off x="395280" y="260280"/>
            <a:ext cx="7993080" cy="6362640"/>
          </a:xfrm>
          <a:prstGeom prst="verticalScroll">
            <a:avLst>
              <a:gd name="adj" fmla="val 12500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а основе прошлого можно понять настоящее и предвидеть будущее. К большому сожалению, мы успели растерять, то что годами копили наши предки-забыли культуру своего народа, своего родного кра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Горизонтальный свиток 1"/>
          <p:cNvSpPr/>
          <p:nvPr/>
        </p:nvSpPr>
        <p:spPr>
          <a:xfrm>
            <a:off x="611280" y="333360"/>
            <a:ext cx="7705800" cy="6120000"/>
          </a:xfrm>
          <a:prstGeom prst="horizontalScroll">
            <a:avLst>
              <a:gd name="adj" fmla="val 12500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нравственного здоровья детей посредством приобщения их к традициям русского народа и фольклор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Схема 2" descr=""/>
          <p:cNvPicPr/>
          <p:nvPr/>
        </p:nvPicPr>
        <p:blipFill>
          <a:blip r:embed="rId3"/>
          <a:stretch/>
        </p:blipFill>
        <p:spPr>
          <a:xfrm>
            <a:off x="1511280" y="1395360"/>
            <a:ext cx="6121440" cy="40784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6" descr=""/>
          <p:cNvPicPr/>
          <p:nvPr/>
        </p:nvPicPr>
        <p:blipFill>
          <a:blip r:embed="rId4"/>
          <a:stretch/>
        </p:blipFill>
        <p:spPr>
          <a:xfrm>
            <a:off x="109440" y="-23760"/>
            <a:ext cx="9083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"/>
          <p:cNvSpPr/>
          <p:nvPr/>
        </p:nvSpPr>
        <p:spPr>
          <a:xfrm>
            <a:off x="611280" y="333360"/>
            <a:ext cx="7921440" cy="578484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представлений о многообразии народных культур и положительного отношения к ни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обеспечивающей погружение ребенка в социально-культурный опыт народ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Лента лицом вниз 1"/>
          <p:cNvSpPr/>
          <p:nvPr/>
        </p:nvSpPr>
        <p:spPr>
          <a:xfrm>
            <a:off x="0" y="311040"/>
            <a:ext cx="8785080" cy="1513080"/>
          </a:xfrm>
          <a:custGeom>
            <a:avLst/>
            <a:gdLst>
              <a:gd name="textAreaLeft" fmla="*/ 1335600 w 8785080"/>
              <a:gd name="textAreaRight" fmla="*/ 7449480 w 8785080"/>
              <a:gd name="textAreaTop" fmla="*/ 25200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09" y="0"/>
                </a:lnTo>
                <a:arcTo wR="675" hR="900" stAng="16200000" swAng="5400000"/>
                <a:lnTo>
                  <a:pt x="5984" y="3600"/>
                </a:lnTo>
                <a:lnTo>
                  <a:pt x="15616" y="3600"/>
                </a:lnTo>
                <a:lnTo>
                  <a:pt x="15616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8316" y="18000"/>
                </a:lnTo>
                <a:lnTo>
                  <a:pt x="18316" y="20700"/>
                </a:lnTo>
                <a:arcTo wR="675" hR="900" stAng="0" swAng="5400000"/>
                <a:lnTo>
                  <a:pt x="3959" y="21600"/>
                </a:lnTo>
                <a:arcTo wR="675" hR="900" stAng="5400000" swAng="5400000"/>
                <a:lnTo>
                  <a:pt x="3284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5984" y="900"/>
                </a:moveTo>
                <a:arcTo wR="675" hR="900" stAng="0" swAng="5400000"/>
                <a:lnTo>
                  <a:pt x="3959" y="1800"/>
                </a:lnTo>
                <a:arcTo wR="675" hR="900" stAng="16200000" swAng="-5400000"/>
                <a:arcTo wR="675" hR="900" stAng="10800000" swAng="-5400000"/>
                <a:lnTo>
                  <a:pt x="5984" y="3600"/>
                </a:lnTo>
              </a:path>
              <a:path fill="none" w="21600" h="21600">
                <a:moveTo>
                  <a:pt x="15616" y="900"/>
                </a:moveTo>
                <a:arcTo wR="675" hR="900" stAng="10800000" swAng="-5400000"/>
                <a:lnTo>
                  <a:pt x="17641" y="1800"/>
                </a:lnTo>
                <a:arcTo wR="675" hR="900" stAng="16200000" swAng="5400000"/>
                <a:arcTo wR="675" hR="900" stAng="0" swAng="5400000"/>
                <a:lnTo>
                  <a:pt x="15616" y="3600"/>
                </a:lnTo>
              </a:path>
              <a:path fill="none" w="21600" h="21600">
                <a:moveTo>
                  <a:pt x="3284" y="2700"/>
                </a:moveTo>
                <a:lnTo>
                  <a:pt x="3284" y="18000"/>
                </a:lnTo>
              </a:path>
              <a:path fill="none" w="21600" h="21600">
                <a:moveTo>
                  <a:pt x="18316" y="2700"/>
                </a:moveTo>
                <a:lnTo>
                  <a:pt x="18316" y="18000"/>
                </a:lnTo>
              </a:path>
            </a:pathLst>
          </a:cu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Горизонтальный свиток 7"/>
          <p:cNvSpPr/>
          <p:nvPr/>
        </p:nvSpPr>
        <p:spPr>
          <a:xfrm>
            <a:off x="755640" y="1557360"/>
            <a:ext cx="7561440" cy="5284800"/>
          </a:xfrm>
          <a:prstGeom prst="horizontalScroll">
            <a:avLst>
              <a:gd name="adj" fmla="val 12500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анализ педагогической и 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ередового  опыта по данной теме исследов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диагностика знаний де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Загнутый угол 1"/>
          <p:cNvSpPr/>
          <p:nvPr/>
        </p:nvSpPr>
        <p:spPr>
          <a:xfrm>
            <a:off x="285840" y="642960"/>
            <a:ext cx="5510160" cy="5616720"/>
          </a:xfrm>
          <a:prstGeom prst="foldedCorner">
            <a:avLst>
              <a:gd name="adj" fmla="val 16666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детьми; Индивидуальные бесе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(подвиж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игры-забавы, хорово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лайдов, картин, экскурс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фольклорных произвед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Круглая лента лицом вниз 1"/>
          <p:cNvSpPr/>
          <p:nvPr/>
        </p:nvSpPr>
        <p:spPr>
          <a:xfrm>
            <a:off x="1258920" y="112680"/>
            <a:ext cx="6913440" cy="936720"/>
          </a:xfrm>
          <a:custGeom>
            <a:avLst/>
            <a:gdLst>
              <a:gd name="textAreaLeft" fmla="*/ 1020240 w 6913440"/>
              <a:gd name="textAreaRight" fmla="*/ 5893200 w 6913440"/>
              <a:gd name="textAreaTop" fmla="*/ 234000 h 936720"/>
              <a:gd name="textAreaBottom" fmla="*/ 90216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12532" stAng="8091547" swAng="-712458"/>
                <a:lnTo>
                  <a:pt x="3188" y="20796"/>
                </a:lnTo>
                <a:arcTo wR="21600" hR="12532" stAng="7379089" swAng="-3958177"/>
                <a:lnTo>
                  <a:pt x="18412" y="17075"/>
                </a:lnTo>
                <a:arcTo wR="21600" hR="12532" stAng="3420911" swAng="-712458"/>
                <a:lnTo>
                  <a:pt x="18900" y="8865"/>
                </a:lnTo>
                <a:lnTo>
                  <a:pt x="21600" y="0"/>
                </a:lnTo>
                <a:lnTo>
                  <a:pt x="21600" y="0"/>
                </a:lnTo>
                <a:arcTo wR="21600" hR="12532" stAng="2708453" swAng="1376076"/>
                <a:lnTo>
                  <a:pt x="15712" y="5072"/>
                </a:lnTo>
                <a:arcTo wR="21600" hR="12532" stAng="4084529" swAng="2630941"/>
                <a:lnTo>
                  <a:pt x="5888" y="1351"/>
                </a:lnTo>
                <a:arcTo wR="21600" hR="12532" stAng="6715471" swAng="1376076"/>
                <a:lnTo>
                  <a:pt x="2700" y="8865"/>
                </a:lnTo>
                <a:close/>
              </a:path>
              <a:path fill="none" w="21600" h="21600">
                <a:moveTo>
                  <a:pt x="5888" y="5072"/>
                </a:moveTo>
                <a:arcTo wR="21600" hR="12532" stAng="6715471" swAng="663618"/>
                <a:lnTo>
                  <a:pt x="5888" y="1351"/>
                </a:lnTo>
              </a:path>
              <a:path fill="none" w="21600" h="21600">
                <a:moveTo>
                  <a:pt x="15712" y="5072"/>
                </a:moveTo>
                <a:arcTo wR="21600" hR="12532" stAng="4084529" swAng="-663618"/>
                <a:lnTo>
                  <a:pt x="15712" y="1351"/>
                </a:lnTo>
              </a:path>
              <a:path fill="none" w="21600" h="21600">
                <a:moveTo>
                  <a:pt x="3188" y="17075"/>
                </a:moveTo>
                <a:lnTo>
                  <a:pt x="3188" y="4596"/>
                </a:lnTo>
              </a:path>
              <a:path fill="none" w="21600" h="21600">
                <a:moveTo>
                  <a:pt x="18412" y="17075"/>
                </a:moveTo>
                <a:lnTo>
                  <a:pt x="18412" y="4596"/>
                </a:lnTo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сновной этап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Загнутый угол 3"/>
          <p:cNvSpPr/>
          <p:nvPr/>
        </p:nvSpPr>
        <p:spPr>
          <a:xfrm>
            <a:off x="928800" y="1285920"/>
            <a:ext cx="7777080" cy="5400720"/>
          </a:xfrm>
          <a:prstGeom prst="foldedCorner">
            <a:avLst>
              <a:gd name="adj" fmla="val 16666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ение интереса де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ведение цикла познавательных мероприяти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литературы в «Уголок книги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 мини-музея «Горница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уголка народного творчест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проведение  мероприятия «Нет милее дружка, чем родная матушка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 произведений фольклора в мине-театре «Сказка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ов ДОУ проведение мастер-класса, круглого стола, открытого мероприят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2:31:32Z</dcterms:created>
  <dc:creator>компьютер</dc:creator>
  <dc:description/>
  <dc:language>en-US</dc:language>
  <cp:lastModifiedBy>Elena</cp:lastModifiedBy>
  <dcterms:modified xsi:type="dcterms:W3CDTF">2017-10-01T14:32:32Z</dcterms:modified>
  <cp:revision>86</cp:revision>
  <dc:subject/>
  <dc:title>Муниципальное бюджетное дошкольное образовательное учреждение «Детский сад «Золотая рыбка»</dc:title>
</cp:coreProperties>
</file>