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FA7-125E-45E3-B34F-1B68AFC1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A08-9227-4BDE-86ED-22138B21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062-2127-4A12-8991-F489E4C8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BF0-A95D-45D0-A6E4-27BF5C21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A54-AB59-486F-B959-3E2A13BF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4D0-AEA5-43F4-83C4-6F1B9F44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490-90A6-44C6-B325-BB7B66EE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55B-1F88-4157-B99A-69EBEB8E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362-FDEA-422E-951B-915A2580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DBE-8F17-429D-9C58-5C3521D1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808-1CAF-42D6-8C32-3D22A8E8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BED-F694-41A8-8D93-47849BB7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79E0-CF8C-465C-8BBD-39AF03588D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блон тренаж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4280"/>
            <a:ext cx="8572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Как использов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Два первых слайда – основные, у них можно менять дизайн, но нельзя удалять: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а) кнопку на 1 слайде («начало теста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б) заголовок, блок текста и кнопку на 2 слайде («отметка за тест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) сами 1-й и 2-й слайды (а также вставлять слайды между ни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Задания тренажера начинаются с 3-го(!) слайда. Также рекомендуется сразу добавить к шаблону необходимое количество слайдов и придерживаться его (т.к. при беспорядочном удалении и вставке слайдов может нарушиться их нумерация, что важно для правильной работы тренажер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Работа по составлению тренажера не требует ни одной строчки программирования. Все, что Вам нужно сделать – это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рименить к правильным объектам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DA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, а к неправильным –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NET 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см. как это сделано на 2 примерах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 тренажере на одном слайде возможен ТОЛЬКО ОДИН ПРАВИЛЬНЫЙ ОТВЕТ. Количество неправильных ответов не ограниче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Переход между слайдами осуществляется программно. При этом у каждого слайда нужно отключать «переход по клик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cdolls24.gif"/>
          <p:cNvPicPr/>
          <p:nvPr/>
        </p:nvPicPr>
        <p:blipFill>
          <a:blip r:embed="rId2"/>
          <a:stretch/>
        </p:blipFill>
        <p:spPr>
          <a:xfrm>
            <a:off x="642960" y="571680"/>
            <a:ext cx="2448000" cy="2447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500280" y="642960"/>
            <a:ext cx="51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Arial"/>
              </a:rPr>
              <a:t>Тест по математике для 2 класса (конец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714240" y="3357720"/>
            <a:ext cx="4714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Как называется фигур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350028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к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цилин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Куб 7"/>
          <p:cNvSpPr/>
          <p:nvPr/>
        </p:nvSpPr>
        <p:spPr>
          <a:xfrm>
            <a:off x="2071800" y="1643040"/>
            <a:ext cx="2143080" cy="1928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Реши граф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114300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4"/>
          <p:cNvSpPr/>
          <p:nvPr/>
        </p:nvSpPr>
        <p:spPr>
          <a:xfrm>
            <a:off x="385776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Арка 7"/>
          <p:cNvSpPr/>
          <p:nvPr/>
        </p:nvSpPr>
        <p:spPr>
          <a:xfrm>
            <a:off x="3357720" y="2357280"/>
            <a:ext cx="2500200" cy="1857600"/>
          </a:xfrm>
          <a:custGeom>
            <a:avLst/>
            <a:gdLst/>
            <a:ahLst/>
            <a:rect l="l" t="t" r="r" b="b"/>
            <a:pathLst>
              <a:path w="2500312" h="1857375">
                <a:moveTo>
                  <a:pt x="0" y="928688"/>
                </a:moveTo>
                <a:cubicBezTo>
                  <a:pt x="0" y="415788"/>
                  <a:pt x="559714" y="0"/>
                  <a:pt x="1250156" y="0"/>
                </a:cubicBezTo>
                <a:cubicBezTo>
                  <a:pt x="1940598" y="0"/>
                  <a:pt x="2500312" y="415788"/>
                  <a:pt x="2500312" y="928688"/>
                </a:cubicBezTo>
                <a:lnTo>
                  <a:pt x="2035968" y="928688"/>
                </a:lnTo>
                <a:cubicBezTo>
                  <a:pt x="2035968" y="672238"/>
                  <a:pt x="1684148" y="464344"/>
                  <a:pt x="1250156" y="464344"/>
                </a:cubicBezTo>
                <a:cubicBezTo>
                  <a:pt x="816164" y="464344"/>
                  <a:pt x="464344" y="672238"/>
                  <a:pt x="464344" y="928688"/>
                </a:cubicBezTo>
                <a:lnTo>
                  <a:pt x="0" y="92868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ашивка 8"/>
          <p:cNvSpPr/>
          <p:nvPr/>
        </p:nvSpPr>
        <p:spPr>
          <a:xfrm>
            <a:off x="4214880" y="2143080"/>
            <a:ext cx="857160" cy="928800"/>
          </a:xfrm>
          <a:custGeom>
            <a:avLst/>
            <a:gdLst>
              <a:gd name="textAreaLeft" fmla="*/ 0 w 857160"/>
              <a:gd name="textAreaRight" fmla="*/ 857520 w 85716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2286000" y="264312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000680" y="142884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Arial"/>
              </a:rPr>
              <a:t>+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5929200" y="257184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йди на чертеже цилинд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Цилиндр 3"/>
          <p:cNvSpPr/>
          <p:nvPr/>
        </p:nvSpPr>
        <p:spPr>
          <a:xfrm>
            <a:off x="714240" y="3786120"/>
            <a:ext cx="2000520" cy="2143080"/>
          </a:xfrm>
          <a:prstGeom prst="can">
            <a:avLst>
              <a:gd name="adj" fmla="val 23333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Куб 4"/>
          <p:cNvSpPr/>
          <p:nvPr/>
        </p:nvSpPr>
        <p:spPr>
          <a:xfrm>
            <a:off x="3714840" y="2786040"/>
            <a:ext cx="2071440" cy="2000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5"/>
          <p:cNvSpPr/>
          <p:nvPr/>
        </p:nvSpPr>
        <p:spPr>
          <a:xfrm>
            <a:off x="6500880" y="3571920"/>
            <a:ext cx="2000160" cy="185724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ерно: 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метка: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alibri"/>
              </a:rPr>
              <a:t>Найди число, в котором 9 дес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кругленный прямоугольник 3"/>
          <p:cNvSpPr/>
          <p:nvPr/>
        </p:nvSpPr>
        <p:spPr>
          <a:xfrm>
            <a:off x="3500280" y="28576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Calibri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5"/>
          <p:cNvSpPr/>
          <p:nvPr/>
        </p:nvSpPr>
        <p:spPr>
          <a:xfrm>
            <a:off x="6286680" y="15717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Найди число, в котором 5дес.8е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3"/>
          <p:cNvSpPr/>
          <p:nvPr/>
        </p:nvSpPr>
        <p:spPr>
          <a:xfrm>
            <a:off x="62866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5"/>
          <p:cNvSpPr/>
          <p:nvPr/>
        </p:nvSpPr>
        <p:spPr>
          <a:xfrm>
            <a:off x="357192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Вставь пропущенное число: 30…5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3"/>
          <p:cNvSpPr/>
          <p:nvPr/>
        </p:nvSpPr>
        <p:spPr>
          <a:xfrm>
            <a:off x="114300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4"/>
          <p:cNvSpPr/>
          <p:nvPr/>
        </p:nvSpPr>
        <p:spPr>
          <a:xfrm>
            <a:off x="378612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Найди на чертеже лу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ятно 1 3"/>
          <p:cNvSpPr/>
          <p:nvPr/>
        </p:nvSpPr>
        <p:spPr>
          <a:xfrm>
            <a:off x="6429240" y="2571840"/>
            <a:ext cx="642960" cy="571320"/>
          </a:xfrm>
          <a:prstGeom prst="irregularSeal1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ятно 1 4"/>
          <p:cNvSpPr/>
          <p:nvPr/>
        </p:nvSpPr>
        <p:spPr>
          <a:xfrm>
            <a:off x="1428840" y="3929040"/>
            <a:ext cx="714240" cy="785880"/>
          </a:xfrm>
          <a:prstGeom prst="irregularSeal1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ятно 1 5"/>
          <p:cNvSpPr/>
          <p:nvPr/>
        </p:nvSpPr>
        <p:spPr>
          <a:xfrm>
            <a:off x="4143240" y="4214880"/>
            <a:ext cx="571680" cy="714240"/>
          </a:xfrm>
          <a:prstGeom prst="irregularSeal1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8"/>
          <p:cNvCxnSpPr/>
          <p:nvPr/>
        </p:nvCxnSpPr>
        <p:spPr>
          <a:xfrm flipV="1">
            <a:off x="6500520" y="2714400"/>
            <a:ext cx="1500840" cy="107208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70" name="Овал 9"/>
          <p:cNvSpPr/>
          <p:nvPr/>
        </p:nvSpPr>
        <p:spPr>
          <a:xfrm>
            <a:off x="6429240" y="371484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1"/>
          <p:cNvSpPr/>
          <p:nvPr/>
        </p:nvSpPr>
        <p:spPr>
          <a:xfrm>
            <a:off x="857160" y="3357720"/>
            <a:ext cx="1714680" cy="14256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3"/>
          <p:cNvSpPr/>
          <p:nvPr/>
        </p:nvSpPr>
        <p:spPr>
          <a:xfrm>
            <a:off x="3999960" y="2571840"/>
            <a:ext cx="571320" cy="14288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5"/>
          <p:cNvSpPr/>
          <p:nvPr/>
        </p:nvSpPr>
        <p:spPr>
          <a:xfrm>
            <a:off x="4500720" y="3929040"/>
            <a:ext cx="14256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6"/>
          <p:cNvSpPr/>
          <p:nvPr/>
        </p:nvSpPr>
        <p:spPr>
          <a:xfrm>
            <a:off x="3929040" y="250020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Закончи фразу: длина спички 4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57192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Program Files\Microsoft Office\Media\CntCD1\ClipArt3\j0234319.wmf"/>
          <p:cNvPicPr/>
          <p:nvPr/>
        </p:nvPicPr>
        <p:blipFill>
          <a:blip r:embed="rId2"/>
          <a:stretch/>
        </p:blipFill>
        <p:spPr>
          <a:xfrm>
            <a:off x="3143160" y="1643040"/>
            <a:ext cx="289728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Длина комнаты 5м, а ширина на 2м меньше. Чему равна ширин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кругленный прямоугольник 3"/>
          <p:cNvSpPr/>
          <p:nvPr/>
        </p:nvSpPr>
        <p:spPr>
          <a:xfrm>
            <a:off x="128592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3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4"/>
          <p:cNvSpPr/>
          <p:nvPr/>
        </p:nvSpPr>
        <p:spPr>
          <a:xfrm>
            <a:off x="385776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7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3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Назови фигур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5357880" y="3000240"/>
            <a:ext cx="353520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324000" y="3643200"/>
            <a:ext cx="367668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прям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3571920" y="49291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авильный пятиугольник 7"/>
          <p:cNvSpPr/>
          <p:nvPr/>
        </p:nvSpPr>
        <p:spPr>
          <a:xfrm>
            <a:off x="3429000" y="1643040"/>
            <a:ext cx="1857240" cy="1643040"/>
          </a:xfrm>
          <a:prstGeom prst="pentagon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Груздев Дмитрий Анатольевич</cp:lastModifiedBy>
  <dcterms:modified xsi:type="dcterms:W3CDTF">2017-10-01T16:46:35Z</dcterms:modified>
  <cp:revision>120</cp:revision>
  <dc:subject/>
  <dc:title>Слайд 1</dc:title>
</cp:coreProperties>
</file>