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FC0-6CAF-47A4-8AF8-019DC2B8C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910-3C03-4A90-B04B-137306D30D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05D-4DF5-46AD-968A-C8ECF7D4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0DC-2A83-4425-AD0C-A840D3FA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CD1-D09F-4B61-8B84-22F40501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DEC-D491-4AA1-BD11-E5F1B761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032E-FC16-4914-B2EF-72C634A0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C6E9-08D8-4A68-AFAC-0B8C3F5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0A7D-6C2A-417B-B20B-E208276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7E74-2718-4DE9-A53A-C83BFE4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4040-803A-4163-8A40-07D79D25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D1C-8DFE-4B72-A45D-8E1FEB6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B4D6-D8C3-4044-8DDE-8B3CE82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AD8-D247-4368-8653-71D1DFEB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FC1-D4AD-4019-8908-65A74A1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EF40-4B74-4E54-B256-D977DBB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191-284F-4322-8E94-EDD4CD31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B91-4318-4581-85E1-3F49088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5919-EECF-4C30-AC4A-E8A3F639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F227-ACBD-441B-BEA0-8B59C792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3948-FA81-4669-AA4A-C0526C8A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F121-3942-4DF3-932C-561932D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B264A-87A9-4D54-A2A0-B00D580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31F6-2A55-449C-95ED-59A6C18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EBC-CA83-4818-93B7-2758655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4E03-415B-4D22-85FE-A8D9F0E6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1C27-B382-4D8E-AA9B-8242F6F5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3F6A-1196-4091-AF1A-D6606DC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DD76-CF59-4715-9CEE-863BD5C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36D2-3DA7-42E1-8E9F-CA858EF2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64E3-EA26-4838-8F3C-49254416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DFA8-92E0-4BDD-8A50-ACAEC986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8B2E-CE5D-4984-B6F5-3D6D2DA8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62DF-4B7D-46B4-BBA2-3373CD6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BF94-988B-4E1C-8448-4FB9F81B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91C-7C00-4751-B759-A40A43F3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2EEC-4250-4FA8-98FB-6EA3BD52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8B7F-81DA-4A6F-B7F2-83A65B47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B64C-7166-4696-B7CC-30D3472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9E94-EC7C-4598-BC8A-70CD293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8035-F724-44F4-B396-0F40EF5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058E-90C6-4E02-A22A-8BD9574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BE0B-BE9E-41E6-84CD-D902351B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2597-E229-412A-BB5C-E5E7038C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A252-A08A-4D47-A24F-40FB117A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299-D3CA-44BA-9BDA-3690564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7B1-4A76-4FD5-834F-EFBDB99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02B-A6C3-40E3-A506-62B8EC12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550-7304-4B0B-8220-F890A31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43E-BA25-4D6B-8F11-92C3891E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850A-BC21-41D9-8B44-031FB623F14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B79-F1D6-4CF5-8667-C920E438907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5D94-1A04-46FC-8DD4-BB53533F6AA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8337-7467-46F0-99FD-459D2D11600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682560" y="1554120"/>
            <a:ext cx="8217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5076720" y="2379600"/>
            <a:ext cx="2738520" cy="1706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4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388360" cy="1897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82692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9280" y="198252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84440" y="400644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3"/>
          <a:stretch/>
        </p:blipFill>
        <p:spPr>
          <a:xfrm>
            <a:off x="684360" y="2276640"/>
            <a:ext cx="2808000" cy="17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4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лавной задачей заповедника является охрана природных территорий с целью сохранения и приумножения биологического разнообразия растений и животны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32360" y="2060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упреждение пожа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003640" y="39333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ержание бракон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469800" y="274680"/>
            <a:ext cx="8217000" cy="133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84360" y="1483920"/>
            <a:ext cx="814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оведник – это территория суши, водного пространства, на которой в естественном состоянии сохраняется весь природный комплекс, имеющий научное или культурно-просветительное значение как типичное и редкое ландшафтное образование, места обитания редких и ценных живот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1128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азники – это временно или постоянно охраняемые территории с уникальными природными комплексами или отдельными его элементами, видами ценных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и природы – это уникальные, невосполнимые, ценные в экологическом, научном, культурном и эстетическом отношениях природные комплексы, а также объекты естественного и искусственного происхож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циональный природный парк – обширная территория с разнообразными природными территориальными комплексами, интересными или уникальными объектами природного, или исторического характера, обеспечивающими широкие возможности отдыха населения, развитие строго регламентированного туризма в условиях живописных ландшаф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959280" y="3657600"/>
            <a:ext cx="51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2" descr=""/>
          <p:cNvPicPr/>
          <p:nvPr/>
        </p:nvPicPr>
        <p:blipFill>
          <a:blip r:embed="rId2"/>
          <a:stretch/>
        </p:blipFill>
        <p:spPr>
          <a:xfrm>
            <a:off x="249120" y="12600"/>
            <a:ext cx="8639280" cy="1719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8360" y="12902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трально-Лесной биосферный Заповедник расположен в юго-западной части Валдайской возвышенности, в Тверской области , в округах Нелидовский, Селижаровский и Андреапольский , в верховьях реки Меж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6200" cy="126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оведник был создан в 1931 — площадь 24,5 тыс. га . На территории заповедника протекают две большие реки -  Волга и Западная Двина. Здесь берут начало многочисленные реки и ручьи, впадающие в Волг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4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машник непахуч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2771640" y="4724280"/>
            <a:ext cx="3567240" cy="2019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842920" y="4221000"/>
            <a:ext cx="394956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рань лес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7640" y="1988640"/>
            <a:ext cx="39272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ника дубра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1476360" y="2476440"/>
            <a:ext cx="2808360" cy="164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4"/>
          <a:stretch/>
        </p:blipFill>
        <p:spPr>
          <a:xfrm>
            <a:off x="5292720" y="2492280"/>
            <a:ext cx="2774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16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755640" y="141084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хомор крас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03640" y="155700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ый гри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8920" y="4005000"/>
            <a:ext cx="43606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ждев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2"/>
          <a:stretch/>
        </p:blipFill>
        <p:spPr>
          <a:xfrm>
            <a:off x="1116000" y="2008080"/>
            <a:ext cx="3103560" cy="192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3"/>
          <a:stretch/>
        </p:blipFill>
        <p:spPr>
          <a:xfrm>
            <a:off x="5003640" y="2060640"/>
            <a:ext cx="3240360" cy="187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"/>
          <p:cNvPicPr/>
          <p:nvPr/>
        </p:nvPicPr>
        <p:blipFill>
          <a:blip r:embed="rId4"/>
          <a:stretch/>
        </p:blipFill>
        <p:spPr>
          <a:xfrm>
            <a:off x="2556000" y="4437000"/>
            <a:ext cx="367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1332000" y="205740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2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971280" y="1341360"/>
            <a:ext cx="309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опейский кр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16360" y="134100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ая ночн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35280" y="4003560"/>
            <a:ext cx="4060800" cy="20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бр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2598840" cy="194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4"/>
          <a:stretch/>
        </p:blipFill>
        <p:spPr>
          <a:xfrm>
            <a:off x="3348000" y="4470480"/>
            <a:ext cx="2548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41:06Z</dcterms:created>
  <dc:creator>WiZaRd</dc:creator>
  <dc:description/>
  <dc:language>en-US</dc:language>
  <cp:lastModifiedBy>эксперт</cp:lastModifiedBy>
  <dcterms:modified xsi:type="dcterms:W3CDTF">2017-10-01T16:09:58Z</dcterms:modified>
  <cp:revision>27</cp:revision>
  <dc:subject/>
  <dc:title>Заповедники Тверской области</dc:title>
</cp:coreProperties>
</file>