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780B-EEDE-454A-9219-DBA087A5EA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7B16-33AA-486C-8D42-FADB19EFA88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A06-62AD-4C74-80CD-92820E28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3A2-312E-47C8-A4D6-CF573031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3AF-63B5-4F2A-BCB7-C9E82C06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074E-0EE0-4DBA-802F-DC1345FF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5AEC-5A72-40BA-901C-0AD7FE53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485E-005C-47B8-BAAF-00CD1204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41D7-12EF-4AF6-BB12-7E6DB804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B47F-70CC-4B35-BAC6-491B6530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5869F-F6D9-4CBE-B812-F5AF8B48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CF51-0686-42DA-BD2A-4CFAA041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7882-3A2F-4AA2-922B-685E1EA8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6480-C79E-4A31-A1AB-44C7077F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900F-8B03-46AC-998C-EEF2630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1893-2152-491D-9863-1ED6066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DF7A-C7B8-485D-BE79-CBA2C42E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9251-53AF-4057-AC44-AE85BF96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FAF6D-4EA1-47B4-9C1B-9C7DEECF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1547-C952-485D-8E31-7889187B5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94DC-3EF7-477A-8FA3-A0AB2398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4D480-5EDE-4CF4-88A2-D2709499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B8D9-6DAD-43FC-BD9E-F426ED9A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56C39-71E2-45D6-92C6-B5250249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3131-C4DA-4DF2-A926-3291CEF5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0C8C-3033-4FA1-AF53-CF32F1D8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0EC2-80BA-4192-AD55-5E0F5029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39D2C-3D22-4C76-B4D3-F164FB0B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45B3-5958-4629-B67A-3589311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2AD2-3912-4D0E-958E-F102F294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8CE5F-F1BC-48A6-B18F-4D2792AB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840BE-047C-4B7A-80D9-8BA57060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28C87-CE09-4588-A408-493246461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8BB7-9BAD-4114-9A54-6F18010C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27DCE-ED90-479E-B18C-FFC377C7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0AB-D5A4-4E3C-8341-F0C417A1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E6FF-E65D-4D65-B767-5ED30093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4C3A-7254-4347-B322-C2A061CE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9DA64-8DE9-44F3-8EE3-2F4C504D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2161A-83FE-49B2-AB5A-3A61A4335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5FBED-D4AE-45AD-AC5E-50EB4BD5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841A-6485-4C13-AE09-921136CB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26748-46B4-4BFE-9561-ED0C21B1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7E0E-599F-4F43-AB66-A9F0CBE54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FA750-848A-422C-92FC-F2898DE3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BD91-B8FE-4A07-8ADC-23E88CF5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8E4-24E1-4666-8AAA-E74E5A72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7FE5-4A1F-49FF-AF2C-42C97A8C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0C89-A851-4EFA-AB17-49855D5C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E5E-B03E-4A12-8411-07D3C6768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FABB-F52A-4DDA-85F6-3743E56D6F14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8F5A-750C-4324-8859-7F0109FE7931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65C6-9E3E-4CB9-839D-1287790D9567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D298-C21D-4B74-8FA3-F9347BBC0039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682560" y="1554120"/>
            <a:ext cx="8217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0" descr=""/>
          <p:cNvPicPr/>
          <p:nvPr/>
        </p:nvPicPr>
        <p:blipFill>
          <a:blip r:embed="rId1"/>
          <a:stretch/>
        </p:blipFill>
        <p:spPr>
          <a:xfrm>
            <a:off x="5076720" y="2379600"/>
            <a:ext cx="2738520" cy="1706760"/>
          </a:xfrm>
          <a:prstGeom prst="rect">
            <a:avLst/>
          </a:prstGeom>
          <a:ln w="0">
            <a:noFill/>
          </a:ln>
        </p:spPr>
      </p:pic>
      <p:pic>
        <p:nvPicPr>
          <p:cNvPr id="205" name="Rectangle 4" descr=""/>
          <p:cNvPicPr/>
          <p:nvPr/>
        </p:nvPicPr>
        <p:blipFill>
          <a:blip r:embed="rId2"/>
          <a:stretch/>
        </p:blipFill>
        <p:spPr>
          <a:xfrm>
            <a:off x="457200" y="139680"/>
            <a:ext cx="8388360" cy="1897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82692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859280" y="198252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урый медвед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84440" y="400644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Picture 9" descr=""/>
          <p:cNvPicPr/>
          <p:nvPr/>
        </p:nvPicPr>
        <p:blipFill>
          <a:blip r:embed="rId3"/>
          <a:stretch/>
        </p:blipFill>
        <p:spPr>
          <a:xfrm>
            <a:off x="684360" y="2276640"/>
            <a:ext cx="2808000" cy="17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4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388360" cy="1474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Главной задачей заповедника является охрана природных территорий с целью сохранения и приумножения биологического разнообразия растений и животны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932360" y="2060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дупреждение пожа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003640" y="39333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держание браконье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469800" y="274680"/>
            <a:ext cx="8217000" cy="1334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684360" y="1483920"/>
            <a:ext cx="8146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оведник – это территория суши, водного пространства, на которой в естественном состоянии сохраняется весь природный комплекс, имеющий научное или культурно-просветительное значение как типичное и редкое ландшафтное образование, места обитания редких и ценных животн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11280" y="1341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казники – это временно или постоянно охраняемые территории с уникальными природными комплексами или отдельными его элементами, видами ценных животных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амятники природы – это уникальные, невосполнимые, ценные в экологическом, научном, культурном и эстетическом отношениях природные комплексы, а также объекты естественного и искусственного происхождени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циональный природный парк – обширная территория с разнообразными природными территориальными комплексами, интересными или уникальными объектами природного, или исторического характера, обеспечивающими широкие возможности отдыха населения, развитие строго регламентированного туризма в условиях живописных ландшафт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3959280" y="3657600"/>
            <a:ext cx="5184720" cy="3213000"/>
          </a:xfrm>
          <a:prstGeom prst="rect">
            <a:avLst/>
          </a:prstGeom>
          <a:ln w="0">
            <a:noFill/>
          </a:ln>
        </p:spPr>
      </p:pic>
      <p:pic>
        <p:nvPicPr>
          <p:cNvPr id="179" name="Rectangle 2" descr=""/>
          <p:cNvPicPr/>
          <p:nvPr/>
        </p:nvPicPr>
        <p:blipFill>
          <a:blip r:embed="rId2"/>
          <a:stretch/>
        </p:blipFill>
        <p:spPr>
          <a:xfrm>
            <a:off x="249120" y="12600"/>
            <a:ext cx="8639280" cy="1719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468360" y="12902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Центрально-Лесной биосферный Заповедник расположен в юго-западной части Валдайской возвышенности, в Тверской области , в округах Нелидовский, Селижаровский и Андреапольский , в верховьях реки Меж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96200" cy="1262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оведник был создан в 1931 — площадь 24,5 тыс. га . На территории заповедника протекают две большие реки -  Волга и Западная Двина. Здесь берут начало многочисленные реки и ручьи, впадающие в Волгу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4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388360" cy="1474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838080" y="190476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омашник непахуч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2"/>
          <a:stretch/>
        </p:blipFill>
        <p:spPr>
          <a:xfrm>
            <a:off x="2771640" y="4724280"/>
            <a:ext cx="3567240" cy="20196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2842920" y="4221000"/>
            <a:ext cx="3949560" cy="20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ерань лес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787640" y="1988640"/>
            <a:ext cx="39272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ероника дубравн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1476360" y="2476440"/>
            <a:ext cx="2808360" cy="164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4"/>
          <a:stretch/>
        </p:blipFill>
        <p:spPr>
          <a:xfrm>
            <a:off x="5292720" y="2492280"/>
            <a:ext cx="27748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Rectangle 16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388360" cy="1474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755640" y="141084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ухомор красны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03640" y="155700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ый гри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58920" y="4005000"/>
            <a:ext cx="43606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ждевик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Picture 15" descr=""/>
          <p:cNvPicPr/>
          <p:nvPr/>
        </p:nvPicPr>
        <p:blipFill>
          <a:blip r:embed="rId2"/>
          <a:stretch/>
        </p:blipFill>
        <p:spPr>
          <a:xfrm>
            <a:off x="1116000" y="2008080"/>
            <a:ext cx="3103560" cy="192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1" descr=""/>
          <p:cNvPicPr/>
          <p:nvPr/>
        </p:nvPicPr>
        <p:blipFill>
          <a:blip r:embed="rId3"/>
          <a:stretch/>
        </p:blipFill>
        <p:spPr>
          <a:xfrm>
            <a:off x="5003640" y="2060640"/>
            <a:ext cx="3240360" cy="187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2" descr=""/>
          <p:cNvPicPr/>
          <p:nvPr/>
        </p:nvPicPr>
        <p:blipFill>
          <a:blip r:embed="rId4"/>
          <a:stretch/>
        </p:blipFill>
        <p:spPr>
          <a:xfrm>
            <a:off x="2556000" y="4437000"/>
            <a:ext cx="367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9" descr=""/>
          <p:cNvPicPr/>
          <p:nvPr/>
        </p:nvPicPr>
        <p:blipFill>
          <a:blip r:embed="rId1"/>
          <a:stretch/>
        </p:blipFill>
        <p:spPr>
          <a:xfrm>
            <a:off x="1332000" y="2057400"/>
            <a:ext cx="2592360" cy="1946160"/>
          </a:xfrm>
          <a:prstGeom prst="rect">
            <a:avLst/>
          </a:prstGeom>
          <a:ln w="0">
            <a:noFill/>
          </a:ln>
        </p:spPr>
      </p:pic>
      <p:pic>
        <p:nvPicPr>
          <p:cNvPr id="198" name="Rectangle 4" descr=""/>
          <p:cNvPicPr/>
          <p:nvPr/>
        </p:nvPicPr>
        <p:blipFill>
          <a:blip r:embed="rId2"/>
          <a:stretch/>
        </p:blipFill>
        <p:spPr>
          <a:xfrm>
            <a:off x="457200" y="244440"/>
            <a:ext cx="8388360" cy="14749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971280" y="1341360"/>
            <a:ext cx="30970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вропейский кр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716360" y="134100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ая ночни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635280" y="4003560"/>
            <a:ext cx="4060800" cy="20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обр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tretch/>
        </p:blipFill>
        <p:spPr>
          <a:xfrm>
            <a:off x="4952880" y="2057400"/>
            <a:ext cx="2598840" cy="19461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"/>
          <p:cNvPicPr/>
          <p:nvPr/>
        </p:nvPicPr>
        <p:blipFill>
          <a:blip r:embed="rId4"/>
          <a:stretch/>
        </p:blipFill>
        <p:spPr>
          <a:xfrm>
            <a:off x="3348000" y="4470480"/>
            <a:ext cx="254808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4T16:41:06Z</dcterms:created>
  <dc:creator>WiZaRd</dc:creator>
  <dc:description/>
  <dc:language>en-US</dc:language>
  <cp:lastModifiedBy>эксперт</cp:lastModifiedBy>
  <dcterms:modified xsi:type="dcterms:W3CDTF">2017-10-01T16:09:58Z</dcterms:modified>
  <cp:revision>27</cp:revision>
  <dc:subject/>
  <dc:title>Заповедники Тверской области</dc:title>
</cp:coreProperties>
</file>