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494-4014-4731-9CD1-29556E1D5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668E-57F1-4F8F-A367-718BE12B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3273-E0EC-44DE-9A19-0ED8C7DF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3AF-70D9-47AC-9A5C-CDF5F3D0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FCB1-AA2A-4553-AD6A-ED909E21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AE5-C79E-4227-8057-B3AE9FA6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66D7-87D7-4A02-AA38-642E0683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43C5-B20E-40A1-87D1-1A2670FD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5D4-ECA2-4FB5-9185-B7CC0513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441-EF6D-4A4F-8112-7F2DE602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E77F-5802-4B56-A99A-949963CB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364D-A045-4B83-B8E3-F1BD59F4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1F8C-0A03-4B00-AD57-B5E21982C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su.ru/nir/botgard/images/Vid22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Администратор\Мои документы\Мои рисунки\macro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714240" y="928800"/>
            <a:ext cx="6715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2f2f2"/>
                </a:solidFill>
                <a:latin typeface="Calibri"/>
              </a:rPr>
              <a:t>Заповедные зоны Республики Татарст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851280" y="5734080"/>
            <a:ext cx="47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: слушатель  курса повышения квалификации  ДОУ Вафина Гульнур Насретди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МАДОУ №97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Администратор\Мои документы\Мои рисунки\nature_050322_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"/>
          <p:cNvSpPr/>
          <p:nvPr/>
        </p:nvSpPr>
        <p:spPr>
          <a:xfrm>
            <a:off x="0" y="33120"/>
            <a:ext cx="9144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cc"/>
                </a:solidFill>
                <a:latin typeface="Arial"/>
                <a:ea typeface="Times New Roman"/>
              </a:rPr>
              <a:t>Климат территории,         на которой находится заповедник характеризуется                     как умеренно - континентальный с резкими колебаниями температур и выпадением осадков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Администратор\Мои документы\Мои рисунки\max_003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"/>
          <p:cNvSpPr/>
          <p:nvPr/>
        </p:nvSpPr>
        <p:spPr>
          <a:xfrm>
            <a:off x="285840" y="357120"/>
            <a:ext cx="79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eef4"/>
                </a:solidFill>
                <a:latin typeface="Calibri"/>
              </a:rPr>
              <a:t>Казанский зооботанический сад создан 1931 году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beef4"/>
                </a:solidFill>
                <a:latin typeface="Calibri"/>
              </a:rPr>
              <a:t>Расположен на берегу озера Кабан  и занимает площадь 8 га</a:t>
            </a:r>
            <a:r>
              <a:rPr b="1" lang="ru-RU" sz="1800" spc="-1" strike="noStrike">
                <a:solidFill>
                  <a:srgbClr val="dbeef4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5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Ханский родник Старая Казан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0" y="0"/>
            <a:ext cx="9144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Calibri"/>
              </a:rPr>
              <a:t>Памятники природы – это особо охраняемые объекты природы, обычно небольшой площади. Бывают водные, ботанические, зоологические,  геологические, природно – исторические.                  На территории РТ насчитывается </a:t>
            </a:r>
            <a:r>
              <a:rPr b="1" i="1" lang="ru-RU" sz="4400" spc="-1" strike="noStrike">
                <a:solidFill>
                  <a:srgbClr val="ff66cc"/>
                </a:solidFill>
                <a:latin typeface="Calibri"/>
              </a:rPr>
              <a:t>132 памятника природы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www.ksu.ru/shablon/img/univer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0" y="0"/>
            <a:ext cx="89298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Дата основания Казанского университета - одного из старейших университетов России - 5 (по новому стилю - 17) ноября 1804 года, когда императором Александром I были подписаны Утвердительная грамота и Устав Казанского императорского университ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www.ksu.ru/nir/botgard/images/s007.jpg"/>
          <p:cNvPicPr/>
          <p:nvPr/>
        </p:nvPicPr>
        <p:blipFill>
          <a:blip r:embed="rId1"/>
          <a:stretch/>
        </p:blipFill>
        <p:spPr>
          <a:xfrm>
            <a:off x="0" y="-136440"/>
            <a:ext cx="9144000" cy="70214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214200" y="0"/>
            <a:ext cx="85010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Ботанический сад  Казанского государственного университета основан        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1806</a:t>
            </a:r>
            <a:r>
              <a:rPr b="0" lang="ru-RU" sz="5400" spc="-1" strike="noStrike">
                <a:solidFill>
                  <a:srgbClr val="ffffff"/>
                </a:solidFill>
                <a:latin typeface="Calibri"/>
              </a:rPr>
              <a:t> году,  где имеются почти все представители мировой флоры.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http://www.ksu.ru/nir/botgard/images/Vid22_m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285840" y="214200"/>
            <a:ext cx="8429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Заказник – это участки, в пределах которого запрещены отдельные виды  и формы хозяйственной деятельности для обеспечения охраны одного или многих видов живых существ. 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Выделяют следующие вид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приро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охотничь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953735"/>
                </a:solidFill>
                <a:latin typeface="Calibri"/>
              </a:rPr>
              <a:t>специаль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77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1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3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святой родник и паломники в Старой Казан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142920" y="214200"/>
            <a:ext cx="8429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аиболее известные  природные заказники Татарстан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b0f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Calibri"/>
              </a:rPr>
              <a:t>Лобач-гора, ландшафтный заказник на правом берегу реки Вол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Ивановский сосновый бор, остров в Куйбышевском водохранили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Calibri"/>
              </a:rPr>
              <a:t>Склоны Корнимского  …. – это участки каменистой степи Новошешминского рай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File0014_0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ff00"/>
                </a:solidFill>
                <a:latin typeface="Calibri"/>
              </a:rPr>
              <a:t>На территории Татарстана находится</a:t>
            </a:r>
            <a:br>
              <a:rPr sz="2200"/>
            </a:br>
            <a:r>
              <a:rPr b="1" lang="ru-RU" sz="2200" spc="-1" strike="noStrike">
                <a:solidFill>
                  <a:srgbClr val="00ff00"/>
                </a:solidFill>
                <a:latin typeface="Calibri"/>
              </a:rPr>
              <a:t> 50,7% площади Куйбышевского водохранилища.</a:t>
            </a:r>
            <a:br>
              <a:rPr sz="2200"/>
            </a:br>
            <a:r>
              <a:rPr b="1" lang="ru-RU" sz="2200" spc="-1" strike="noStrike">
                <a:solidFill>
                  <a:srgbClr val="00ff00"/>
                </a:solidFill>
                <a:latin typeface="Calibri"/>
              </a:rPr>
              <a:t> Его средняя глубина около 9 м, а максимальная 41 м</a:t>
            </a:r>
            <a:r>
              <a:rPr b="1" lang="ru-RU" sz="2200" spc="-1" strike="noStrike">
                <a:solidFill>
                  <a:srgbClr val="00ffff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File0017_0"/>
          <p:cNvPicPr/>
          <p:nvPr/>
        </p:nvPicPr>
        <p:blipFill>
          <a:blip r:embed="rId1"/>
          <a:stretch/>
        </p:blipFill>
        <p:spPr>
          <a:xfrm>
            <a:off x="95400" y="-142920"/>
            <a:ext cx="9048600" cy="70009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ff66"/>
                </a:solidFill>
                <a:latin typeface="Calibri"/>
              </a:rPr>
              <a:t>Протяжённость водохранилища составляет более 600 км, а наибольшая ширина – 48 км </a:t>
            </a:r>
            <a:br>
              <a:rPr sz="2200"/>
            </a:br>
            <a:r>
              <a:rPr b="1" lang="ru-RU" sz="2200" spc="-1" strike="noStrike">
                <a:solidFill>
                  <a:srgbClr val="66ff66"/>
                </a:solidFill>
                <a:latin typeface="Calibri"/>
              </a:rPr>
              <a:t>/район устья Камы/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0880" y="5486400"/>
            <a:ext cx="54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ff66"/>
                </a:solidFill>
                <a:latin typeface="Times New Roman"/>
              </a:rPr>
              <a:t>Левый берег Волги в окрестностях с. Курало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1428840" y="20718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территории Куйбышевского водохранилища отмечен в целом 31 вид водоплавающих пт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1357200" y="3286080"/>
            <a:ext cx="62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 территории Куйбышевского водохранилища были замечены птицы, за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есё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ные в Красную книгу: лебедь- шипун. цапля больш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772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лая (было замечено 5 пар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07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Arial"/>
                <a:ea typeface="Times New Roman"/>
              </a:rPr>
              <a:t>ВОЛЖСКО-КАМСКИЙ</a:t>
            </a:r>
            <a:br>
              <a:rPr sz="5400"/>
            </a:br>
            <a:r>
              <a:rPr b="1" lang="ru-RU" sz="5400" spc="-1" strike="noStrike">
                <a:solidFill>
                  <a:srgbClr val="00b0f0"/>
                </a:solidFill>
                <a:latin typeface="Arial"/>
                <a:ea typeface="Times New Roman"/>
              </a:rPr>
              <a:t>заповедни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143000" y="2857680"/>
            <a:ext cx="6286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beef4"/>
                </a:solidFill>
                <a:latin typeface="Calibri"/>
              </a:rPr>
              <a:t>Расположение и история созда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-360"/>
            <a:ext cx="4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7" descr="ВОЛЖСКО-КАМСКИЙ заповедник - берку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0" y="24480"/>
            <a:ext cx="91440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ВОЛЖСКО-КАМСКИЙ</a:t>
            </a:r>
            <a:br>
              <a:rPr sz="6600"/>
            </a:br>
            <a:r>
              <a:rPr b="1" lang="ru-RU" sz="6600" spc="-1" strike="noStrike">
                <a:solidFill>
                  <a:srgbClr val="ff0000"/>
                </a:solidFill>
                <a:latin typeface="Arial"/>
                <a:ea typeface="Times New Roman"/>
              </a:rPr>
              <a:t>заповедник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b0f0"/>
                </a:solidFill>
                <a:latin typeface="Arial"/>
                <a:ea typeface="Times New Roman"/>
              </a:rPr>
              <a:t>Расположение и история создани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Documents and Settings\Администратор\Мои документы\Мои рисунки\macro_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357120" y="1500120"/>
            <a:ext cx="7786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-302400"/>
            <a:ext cx="914400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Заповедник площадью                         8 тыс. га расположен на востоке республики Татарстан, на левобережье Волги и состоит из двух обособленных участков </a:t>
            </a:r>
            <a:r>
              <a:rPr b="1" lang="ru-RU" sz="44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Раифского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и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Сараловского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.                                          Идея организации возникла в 1917 г., но воплотилась в жизнь только в 1960 г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6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6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6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2" descr="ВОЛЖСКО-КАМСКИЙ заповедник - енотовидная соба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 flipH="1">
            <a:off x="-720" y="0"/>
            <a:ext cx="89298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Раифский участок имеет равнинный рельеф с сетью оврагов и балок. Реки Раифского участка относят так называемым сухим рекам. Главная река –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Сумка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, большинство притоков которой крупные овраги и балки, по которым в весенне-осенний период стекаются ливневые воды. На территории много озер и болот, составляющих единую систему. Самое обширное – Раифское озеро, являющееся регулятором стока реки Сумки. Ранее Раифское, Белое и Илантовое озеро являлись одним общим водоемом, но в результате хозяйственной деятельности людей Большое Раифское озеро разделилось на три ча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ВОЛЖСКО-КАМСКИЙ заповедник - аполл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0" y="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Рельеф </a:t>
            </a: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Сараловского </a:t>
            </a:r>
            <a:r>
              <a:rPr b="1" i="1" lang="ru-RU" sz="3600" spc="-1" strike="noStrike">
                <a:solidFill>
                  <a:srgbClr val="ffff00"/>
                </a:solidFill>
                <a:latin typeface="Calibri"/>
              </a:rPr>
              <a:t>участка характеризуется перепадами высот.               В Сараловский участок входит полоса прилегающего Куйбышевского водохранилища. С его образованием исчез пойменный природный комплекс, а вместо него образовались заливы, мелководья и протоки, где развивается болотная растительность и созданы благоприятные условия для жизни рыб и водоплавающих птиц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Администратор\Мои документы\Мои рисунки\macro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785880" y="2071800"/>
            <a:ext cx="7429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0" y="-21708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Флора заповедника включает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844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а сосудистых растений. Наиболее многочисленны сложноцветные, злаковые, бобовые, осоковые, гвоздичные, крестоцветные, розоцветные, губоцветные, норичниковые, гречишные, зонтичные; 80% всех видов орхидных СССР, 60%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осок, 8 видов грушанок европейской флоры, 51 вид деревьев и кустарников.                В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ую книгу РТ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ключены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 65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ВОЛЖСКО-КАМСКИЙ заповедник - серый журав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14200" y="33120"/>
            <a:ext cx="82155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Птиц в заповеднике                 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195 видов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. Из них </a:t>
            </a:r>
            <a:r>
              <a:rPr b="0" lang="ru-RU" sz="4800" spc="-1" strike="noStrike">
                <a:solidFill>
                  <a:srgbClr val="ff0000"/>
                </a:solidFill>
                <a:latin typeface="Arial"/>
                <a:ea typeface="Times New Roman"/>
              </a:rPr>
              <a:t>9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ов занесено в Красные книги СССР и РСФСР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ru-RU" sz="4800" spc="-1" strike="noStrike">
                <a:solidFill>
                  <a:srgbClr val="ffff00"/>
                </a:solidFill>
                <a:latin typeface="Arial"/>
                <a:ea typeface="Times New Roman"/>
              </a:rPr>
              <a:t>орлан-белохвост, беркут, могильник, змееяд, скопа, сапсан, балобан,            черный аист,          черноголовый хохотун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ВОЛЖСКО-КАМСКИЙ заповедник - рыс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500040" y="357120"/>
            <a:ext cx="7715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Фауна заповедника насчитывает         </a:t>
            </a: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55 видов млекопитающих и 11 видов рептилий</a:t>
            </a:r>
            <a:r>
              <a:rPr b="0" lang="ru-RU" sz="7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C:\Documents and Settings\Администратор\Мои документы\Мои рисунки\valaam_00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3"/>
          <p:cNvSpPr/>
          <p:nvPr/>
        </p:nvSpPr>
        <p:spPr>
          <a:xfrm>
            <a:off x="285840" y="428760"/>
            <a:ext cx="88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alibri"/>
              </a:rPr>
              <a:t>В заповеднике имеется дендрарий (заложен в 1921), коллекция которого насчитывает более 400 видов, форм и сортов древесно-кустарниковых растений из Европы, Азии и Северной Америки; работает музей природы заповед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7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5" dur="77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6:46:05Z</dcterms:created>
  <dc:creator>USER</dc:creator>
  <dc:description/>
  <dc:language>en-US</dc:language>
  <cp:lastModifiedBy>user</cp:lastModifiedBy>
  <dcterms:modified xsi:type="dcterms:W3CDTF">2017-09-30T18:47:23Z</dcterms:modified>
  <cp:revision>26</cp:revision>
  <dc:subject/>
  <dc:title>Заповедные зоны Республики Татарстан</dc:title>
</cp:coreProperties>
</file>