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600-C3FD-495D-B5BB-6658CCD5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664-8726-4BFB-9967-A0271C76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E0A-7E6D-4C33-A5C2-92838DDA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684-9CDA-404B-92E7-D872E239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400-263A-4816-9B05-62BD4380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E57-9433-4BAE-B408-8BAE6B58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85B-D459-454A-BCD2-59F475CA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E0A-6E4F-45FC-A669-7C703FC5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B60-88D5-4756-ABAE-27AB2653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29D-FA64-4286-B317-C3326681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4D2-DC00-45EB-A851-44D5D4AE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57C-0FE4-4710-BD78-A02D2BE5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B617-9FAE-4179-AB85-EAF1868FF7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su.ru/nir/botgard/images/Vid22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Администратор\Мои документы\Мои рисунки\macro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714240" y="928800"/>
            <a:ext cx="6715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2f2f2"/>
                </a:solidFill>
                <a:latin typeface="Calibri"/>
              </a:rPr>
              <a:t>Заповедные зоны Республики Татарста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51280" y="5734080"/>
            <a:ext cx="47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 слушатель  курса повышения квалификации  ДОУ Вафина Гульнур Насретдин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 МАДОУ №97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Администратор\Мои документы\Мои рисунки\nature_050322_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0" y="33120"/>
            <a:ext cx="9144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cc"/>
                </a:solidFill>
                <a:latin typeface="Arial"/>
                <a:ea typeface="Times New Roman"/>
              </a:rPr>
              <a:t>Климат территории,         на которой находится заповедник характеризуется                     как умеренно - континентальный с резкими колебаниями температур и выпадением осадков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Администратор\Мои документы\Мои рисунки\max_00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285840" y="357120"/>
            <a:ext cx="792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beef4"/>
                </a:solidFill>
                <a:latin typeface="Calibri"/>
              </a:rPr>
              <a:t>Казанский зооботанический сад создан 1931 году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beef4"/>
                </a:solidFill>
                <a:latin typeface="Calibri"/>
              </a:rPr>
              <a:t>Расположен на берегу озера Кабан  и занимает площадь 8 га</a:t>
            </a:r>
            <a:r>
              <a:rPr b="1" lang="ru-RU" sz="1800" spc="-1" strike="noStrike">
                <a:solidFill>
                  <a:srgbClr val="dbeef4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2" descr="Ханский родник Старая Казан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0" y="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Памятники природы – это особо охраняемые объекты природы, обычно небольшой площади. Бывают водные, ботанические, зоологические,  геологические, природно – исторические.                  На территории РТ насчитывается </a:t>
            </a:r>
            <a:r>
              <a:rPr b="1" i="1" lang="ru-RU" sz="4400" spc="-1" strike="noStrike">
                <a:solidFill>
                  <a:srgbClr val="ff66cc"/>
                </a:solidFill>
                <a:latin typeface="Calibri"/>
              </a:rPr>
              <a:t>132 памятника природ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ksu.ru/shablon/img/unive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0" y="0"/>
            <a:ext cx="8929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Дата основания Казанского университета - одного из старейших университетов России - 5 (по новому стилю - 17) ноября 1804 года, когда императором Александром I были подписаны Утвердительная грамота и Устав Казанского императорского университ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www.ksu.ru/nir/botgard/images/s007.jpg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702144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214200" y="0"/>
            <a:ext cx="8501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Ботанический сад  Казанского государственного университета основан         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1806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году,  где имеются почти все представители мировой флоры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http://www.ksu.ru/nir/botgard/images/Vid22_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285840" y="214200"/>
            <a:ext cx="84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Заказник – это участки, в пределах которого запрещены отдельные виды  и формы хозяйственной деятельности для обеспечения охраны одного или многих видов живых существ.                           </a:t>
            </a: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Выделяют следующие ви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прир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охотнич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специальны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77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77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2" descr="святой родник и паломники в Старой Казан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142920" y="214200"/>
            <a:ext cx="84297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иболее известные  природные заказники Татарстан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Calibri"/>
              </a:rPr>
              <a:t>Лобач-гора, ландшафтный заказник на правом берегу реки Вол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Ивановский сосновый бор, остров в Куйбышевском водохранилищ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Склоны Корнимского  …. – это участки каменистой степи Новошешминского рай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File0014_0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00"/>
                </a:solidFill>
                <a:latin typeface="Calibri"/>
              </a:rPr>
              <a:t>На территории Татарстана находится</a:t>
            </a:r>
            <a:br>
              <a:rPr sz="2200"/>
            </a:br>
            <a:r>
              <a:rPr b="1" lang="ru-RU" sz="2200" spc="-1" strike="noStrike">
                <a:solidFill>
                  <a:srgbClr val="00ff00"/>
                </a:solidFill>
                <a:latin typeface="Calibri"/>
              </a:rPr>
              <a:t> 50,7% площади Куйбышевского водохранилища.</a:t>
            </a:r>
            <a:br>
              <a:rPr sz="2200"/>
            </a:br>
            <a:r>
              <a:rPr b="1" lang="ru-RU" sz="2200" spc="-1" strike="noStrike">
                <a:solidFill>
                  <a:srgbClr val="00ff00"/>
                </a:solidFill>
                <a:latin typeface="Calibri"/>
              </a:rPr>
              <a:t> Его средняя глубина около 9 м, а максимальная 41 м</a:t>
            </a: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ile0017_0"/>
          <p:cNvPicPr/>
          <p:nvPr/>
        </p:nvPicPr>
        <p:blipFill>
          <a:blip r:embed="rId1"/>
          <a:stretch/>
        </p:blipFill>
        <p:spPr>
          <a:xfrm>
            <a:off x="95400" y="-142920"/>
            <a:ext cx="9048600" cy="7000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ff66"/>
                </a:solidFill>
                <a:latin typeface="Calibri"/>
              </a:rPr>
              <a:t>Протяжённость водохранилища составляет более 600 км, а наибольшая ширина – 48 км </a:t>
            </a:r>
            <a:br>
              <a:rPr sz="2200"/>
            </a:br>
            <a:r>
              <a:rPr b="1" lang="ru-RU" sz="2200" spc="-1" strike="noStrike">
                <a:solidFill>
                  <a:srgbClr val="66ff66"/>
                </a:solidFill>
                <a:latin typeface="Calibri"/>
              </a:rPr>
              <a:t>/район устья Камы/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80880" y="548640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Times New Roman"/>
              </a:rPr>
              <a:t>Левый берег Волги в окрестностях с. Кура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1428840" y="207180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территории Куйбышевского водохранилища отмечен в целом 31 вид водоплавающи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1357200" y="3286080"/>
            <a:ext cx="62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территории Куйбышевского водохранилища были замечены птицы, за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сё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ные в Красную книгу: лебедь- шипун. цапля боль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лая (было замечено 5 па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07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Arial"/>
                <a:ea typeface="Times New Roman"/>
              </a:rPr>
              <a:t>ВОЛЖСКО-КАМСКИЙ</a:t>
            </a:r>
            <a:br>
              <a:rPr sz="5400"/>
            </a:br>
            <a:r>
              <a:rPr b="1" lang="ru-RU" sz="5400" spc="-1" strike="noStrike">
                <a:solidFill>
                  <a:srgbClr val="00b0f0"/>
                </a:solidFill>
                <a:latin typeface="Arial"/>
                <a:ea typeface="Times New Roman"/>
              </a:rPr>
              <a:t>заповедн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143000" y="2857680"/>
            <a:ext cx="6286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beef4"/>
                </a:solidFill>
                <a:latin typeface="Calibri"/>
              </a:rPr>
              <a:t>Расположение и история созда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-360"/>
            <a:ext cx="4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7" descr="ВОЛЖСКО-КАМСКИЙ заповедник - берку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0" y="2448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Times New Roman"/>
              </a:rPr>
              <a:t>ВОЛЖСКО-КАМСКИЙ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Times New Roman"/>
              </a:rPr>
              <a:t>заповедник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Arial"/>
                <a:ea typeface="Times New Roman"/>
              </a:rPr>
              <a:t>Расположение и история созда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Администратор\Мои документы\Мои рисунки\macro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57120" y="1500120"/>
            <a:ext cx="7786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-302400"/>
            <a:ext cx="914400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Заповедник площадью                         8 тыс. га расположен на востоке республики Татарстан, на левобережье Волги и состоит из двух обособленных участков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  <a:ea typeface="Times New Roman"/>
              </a:rPr>
              <a:t>–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Раифского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и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Сараловского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.                                          Идея организации возникла в 1917 г., но воплотилась в жизнь только в 1960 г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6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6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ВОЛЖСКО-КАМСКИЙ заповедник - енотовидная соба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 flipH="1">
            <a:off x="-720" y="0"/>
            <a:ext cx="89298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Раифский участок имеет равнинный рельеф с сетью оврагов и балок. Реки Раифского участка относят так называемым сухим рекам. Главная река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умка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, большинство притоков которой крупные овраги и балки, по которым в весенне-осенний период стекаются ливневые воды. На территории много озер и болот, составляющих единую систему. Самое обширное – Раифское озеро, являющееся регулятором стока реки Сумки. Ранее Раифское, Белое и Илантовое озеро являлись одним общим водоемом, но в результате хозяйственной деятельности людей Большое Раифское озеро разделилось на три ча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ВОЛЖСКО-КАМСКИЙ заповедник - апол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Рельеф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Сараловского </a:t>
            </a: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участка характеризуется перепадами высот.               В Сараловский участок входит полоса прилегающего Куйбышевского водохранилища. С его образованием исчез пойменный природный комплекс, а вместо него образовались заливы, мелководья и протоки, где развивается болотная растительность и созданы благоприятные условия для жизни рыб и водоплавающих птиц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Администратор\Мои документы\Мои рисунки\macro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785880" y="2071800"/>
            <a:ext cx="7429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0" y="-21708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Флора заповедника включает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844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а сосудистых растений. Наиболее многочисленны сложноцветные, злаковые, бобовые, осоковые, гвоздичные, крестоцветные, розоцветные, губоцветные, норичниковые, гречишные, зонтичные; 80% всех видов орхидных СССР, 60%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осок, 8 видов грушанок европейской флоры, 51 вид деревьев и кустарников.                В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Красную книгу РТ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ены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65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и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ВОЛЖСКО-КАМСКИЙ заповедник - серый журав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14200" y="33120"/>
            <a:ext cx="821556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Птиц в заповеднике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195 видов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. Из них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9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ов занесено в Красные книги СССР и РСФСР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орлан-белохвост, беркут, могильник, змееяд, скопа, сапсан, балобан,            черный аист,          черноголовый хохотун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ВОЛЖСКО-КАМСКИЙ заповедник - рыс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500040" y="357120"/>
            <a:ext cx="7715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Calibri"/>
              </a:rPr>
              <a:t>Фауна заповедника насчитывает         </a:t>
            </a: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55 видов млекопитающих и 11 видов рептилий</a:t>
            </a:r>
            <a:r>
              <a:rPr b="0" lang="ru-RU" sz="7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Администратор\Мои документы\Мои рисунки\valaam_0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285840" y="428760"/>
            <a:ext cx="88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В заповеднике имеется дендрарий (заложен в 1921), коллекция которого насчитывает более 400 видов, форм и сортов древесно-кустарниковых растений из Европы, Азии и Северной Америки; работает музей природы заповед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6:46:05Z</dcterms:created>
  <dc:creator>USER</dc:creator>
  <dc:description/>
  <dc:language>en-US</dc:language>
  <cp:lastModifiedBy>user</cp:lastModifiedBy>
  <dcterms:modified xsi:type="dcterms:W3CDTF">2017-09-30T18:47:23Z</dcterms:modified>
  <cp:revision>26</cp:revision>
  <dc:subject/>
  <dc:title>Заповедные зоны Республики Татарстан</dc:title>
</cp:coreProperties>
</file>