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509-F3A0-4525-ACC1-9BA70BF1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BAF-6D0F-4DD7-95A7-FC2D840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6CF-C49C-4321-AC79-D67C1EC3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871-8BD2-44D3-9499-7B9EB3CD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1B7-EA04-45B8-B4B0-9D5F05A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771-CFAF-4680-A219-39C3272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516-0818-4043-890D-A9216860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09C-0BFB-47E2-BC2A-6B27FA4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4FB-C2F7-4A53-819A-F4002F5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CF8-A1BD-486A-B8AF-7BEF17F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050-8B55-4277-989E-B8CAE08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BA8-F994-4B2D-A451-C3DC633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ED9E2-B5F0-49A7-9FD2-03260D5427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0159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зучить геометрический смысл коэффициентов линейной функции, условие параллельности их графиков, научиться определять точку пересечения граф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00" y="4319640"/>
            <a:ext cx="5184720" cy="27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стные упраж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является угол наклона к оси х прямой, заданной формул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6х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-4х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взаимное расположение прям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х + 5  и у =-2х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х  и у= 2х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Пример 1 учеб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5640" y="1655640"/>
            <a:ext cx="935964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6000"/>
          </a:bodyPr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ординаты точки пересечения графиков функций у = -3х + 1 и у = х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 (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искомая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= -3х + 1                            у = х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3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                        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3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 = 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          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3+1=-2  Ответ: (1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3240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04000" y="316872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Работа в класс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81 а, 1082, 1083, 1084 а,в, 1086 а,в, 1088 а,в,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39, № 1081б, 1084 б,г, 1086 б,г, 1088 б,г,е, 109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68360"/>
            <a:ext cx="101678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вида y = kx + b, где k и b - действительные числа, называется линейной функцией. Графиком линейной функции является пря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ю вида y = kx называют прямой пропорциональностью, и её график проходит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фик функции y = b параллелен оси абсцисс и проходит через точку с координатами (0;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k называют угловым коэффициентом. От него зависит угол наклона прямой к оси О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у двух различных прямых равны угловые коэффициенты, то графики этих функций будут параллель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Линейная функция и ее коэффици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5640" y="1767960"/>
            <a:ext cx="957564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ссмотрим коэффициент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пересечения с осью у (ординат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у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чка перес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сью у: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(0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7640" y="3527280"/>
            <a:ext cx="4713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Определите точку пересечения графика функции с осью 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6635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5х +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-7х —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27640" y="1663560"/>
            <a:ext cx="10191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4720" y="2808360"/>
            <a:ext cx="1246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3887640"/>
            <a:ext cx="1380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5256360"/>
            <a:ext cx="5076720" cy="105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29560" y="5327640"/>
            <a:ext cx="101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ст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0000"/>
          </a:bodyPr>
          <a:p>
            <a:pPr marL="3884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линейной функции, график которой пересекает ось орди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А(0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B(0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O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6666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эффициент b показывает точку пересечения графика линейной функции с осью 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-1098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Угловой коэффициент 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1" lang="ru-RU" sz="3200" spc="-1" strike="noStrike">
                <a:solidFill>
                  <a:srgbClr val="ff6666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89520" y="955800"/>
            <a:ext cx="5514840" cy="48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1640" y="5616720"/>
            <a:ext cx="59724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гловой коэффициент 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94320" y="2665440"/>
            <a:ext cx="5629320" cy="453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360360" y="1768320"/>
            <a:ext cx="5400720" cy="41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Коэффициент k — угловой коэффици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&gt;0 — угол наклона прямой у=kx+b к оси х остр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&lt;0 — угол наклона прямой у=kx+b к оси х ту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5400" y="3683160"/>
            <a:ext cx="730404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ересекаются: 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y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89280" y="2232000"/>
            <a:ext cx="721836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араллельны 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87640" y="2405160"/>
            <a:ext cx="5991120" cy="48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9:58:30Z</dcterms:created>
  <dc:creator/>
  <dc:description/>
  <dc:language>en-US</dc:language>
  <cp:lastModifiedBy/>
  <dcterms:modified xsi:type="dcterms:W3CDTF">2016-04-11T21:26:31Z</dcterms:modified>
  <cp:revision>2</cp:revision>
  <dc:subject/>
  <dc:title/>
</cp:coreProperties>
</file>