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D41-D0CB-423C-B078-306804BF1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62E-0F91-4EB0-B717-AAEACD0E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B6B-71D5-47FA-B5D4-AFF325C65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897-DC53-48AE-8B5A-0446AD9C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2B8-BFEA-4A79-BBEE-C32C71BB6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CF90-FB9F-4CAF-87A2-AA44ED97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A96-B6F8-4B42-9A4A-3118EEB5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90A-2868-4339-AAEA-3A90458A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8C7-ABC0-46DB-8942-7DD68B43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D175-CF8A-40F7-85D3-2EC09920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F763-5FD4-45C9-B2B2-45E11BAB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5FED-C338-430F-A8CB-AAEEF9F5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4F461-4534-4EB3-8CB7-BBEC1786553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Взаимное расположение графиков линейных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0159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just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0066"/>
                </a:solidFill>
                <a:latin typeface="Arial"/>
              </a:rPr>
              <a:t>Цель уро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изучить геометрический смысл коэффициентов линейной функции, условие параллельности их графиков, научиться определять точку пересечения граф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32000" y="4319640"/>
            <a:ext cx="5184720" cy="276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Устные упражн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является угол наклона к оси х прямой, заданной формуло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6х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-4х +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0,5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о взаимное расположение прямы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2х + 5  и у =-2х +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2х  и у= 2х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Пример 1 учебни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15640" y="1655640"/>
            <a:ext cx="935964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6000"/>
          </a:bodyPr>
          <a:p>
            <a:pPr marL="371160" indent="-2782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координаты точки пересечения графиков функций у = -3х + 1 и у = х —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 (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у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— искомая т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= -3х + 1                            у = х —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3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1                        у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3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+ 1 = 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4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1          у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-3+1=-2  Ответ: (1;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68360" y="3240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04000" y="316872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Работа в классе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81 а, 1082, 1083, 1084 а,в, 1086 а,в, 1088 а,в,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39, № 1081б, 1084 б,г, 1086 б,г, 1088 б,г,е, 1092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68360"/>
            <a:ext cx="101678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я вида y = kx + b, где k и b - действительные числа, называется линейной функцией. Графиком линейной функции является прям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ю вида y = kx называют прямой пропорциональностью, и её график проходит через начало координ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рафик функции y = b параллелен оси абсцисс и проходит через точку с координатами (0; b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k называют угловым коэффициентом. От него зависит угол наклона прямой к оси О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у двух различных прямых равны угловые коэффициенты, то графики этих функций будут параллель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Линейная функция и ее коэффици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5640" y="1767960"/>
            <a:ext cx="957564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Рассмотрим коэффициент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чка пересечения с осью у (ординат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=0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→у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чка пересе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 осью у:       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  <a:ea typeface="Arial"/>
              </a:rPr>
              <a:t> (0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47640" y="3527280"/>
            <a:ext cx="471348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Определите точку пересечения графика функции с осью 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6635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5х +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-7х —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27640" y="1663560"/>
            <a:ext cx="10191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4720" y="2808360"/>
            <a:ext cx="12463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99040" y="3887640"/>
            <a:ext cx="13809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-2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640" y="5256360"/>
            <a:ext cx="5076720" cy="1056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29560" y="5327640"/>
            <a:ext cx="1019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4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0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Устные упраж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0000"/>
          </a:bodyPr>
          <a:p>
            <a:pPr marL="3884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линейной функции, график которой пересекает ось ордина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чке А(0;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чке B(0;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очке O(0;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8440" indent="-2912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6666"/>
                </a:solidFill>
                <a:latin typeface="Arial"/>
              </a:rPr>
              <a:t>ВЫВ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коэффициент b показывает точку пересечения графика линейной функции с осью 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6000" y="-10980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Arial"/>
              </a:rPr>
              <a:t>Угловой коэффициент прям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=</a:t>
            </a:r>
            <a:r>
              <a:rPr b="1" lang="ru-RU" sz="3200" spc="-1" strike="noStrike">
                <a:solidFill>
                  <a:srgbClr val="ff6666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89520" y="955800"/>
            <a:ext cx="5514840" cy="487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31640" y="5616720"/>
            <a:ext cx="597240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Угловой коэффициент прям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594320" y="2665440"/>
            <a:ext cx="5629320" cy="45338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360360" y="1768320"/>
            <a:ext cx="5400720" cy="417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Коэффициент k — угловой коэффицие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&gt;0 — угол наклона прямой у=kx+b к оси х остр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k&lt;0 — угол наклона прямой у=kx+b к оси х туп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265400" y="3683160"/>
            <a:ext cx="730404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Взаимное расположение графиков линейных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пересекаются: 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≠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=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+b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y=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x+b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89280" y="2232000"/>
            <a:ext cx="7218360" cy="524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6666"/>
                </a:solidFill>
                <a:latin typeface="Arial"/>
              </a:rPr>
              <a:t>Взаимное расположение графиков линейных функ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ямые параллельны 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k</a:t>
            </a:r>
            <a:r>
              <a:rPr b="0" lang="ru-RU" sz="3200" spc="-1" strike="noStrike" baseline="-33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87640" y="2405160"/>
            <a:ext cx="5991120" cy="486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19:58:30Z</dcterms:created>
  <dc:creator/>
  <dc:description/>
  <dc:language>en-US</dc:language>
  <cp:lastModifiedBy/>
  <dcterms:modified xsi:type="dcterms:W3CDTF">2016-04-11T21:26:31Z</dcterms:modified>
  <cp:revision>2</cp:revision>
  <dc:subject/>
  <dc:title/>
</cp:coreProperties>
</file>