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0A76-5087-455C-A961-9B5828ED8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A909-D954-408E-BAFA-8350234D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6466-57E8-4CF1-8B57-E38E0C4AC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1809-7F36-4232-BD80-2425A2865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ED96-0133-4EBE-8E92-D33A7D9C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654B-A1F6-48B3-8A53-2A7B692B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42FC-1630-4B2C-B61F-F8C615CC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4F0E-1689-4DAA-8457-88A351C9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1DD7-F029-448C-8C5F-B0B26E11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E981-F2E3-499B-9B5C-E082B675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567D-342D-481D-BEDD-57FA4DF7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7D1D-A609-4EB7-8EF1-9BEE918B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70D8-7310-40B5-9040-E0DC67E61B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ir_liz@mail.ru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gidroponika.by/wp-content/gallery/foto-lekarstvennyih-rasteniy/shalfey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gidroponika.by/wp-content/gallery/foto-lekarstvennyih-rasteniy/shalfey1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gidroponika.by/wp-content/gallery/foto-lekarstvennyih-rasteniy/shalfey2.jpg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gidroponika.by/wp-content/gallery/foto-lekarstvennyih-rasteniy/mat-i-macheha1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gidroponika.by/wp-content/gallery/foto-lekarstvennyih-rasteniy/mat-i-macheha2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idroponika.by/wp-content/gallery/foto-lekarstvennyih-rasteniy/oblepiha1.jpg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5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униципальный конкурс «Информашка-2015» среди младших школьнико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оминация «Лекарственные растения»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езентация на тем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«Зеленый лекарь»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ыполнила: ученица 1 «Б» класс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Колесникова Елена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Дмитриевн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Муниципальное казенное общеобразовательное учреждение "Киреевский лицей" администрации муниципального образования Киреевский район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Телефон: 8 (48754) 6-23-69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-mail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onstantia"/>
                <a:hlinkClick r:id="rId1"/>
              </a:rPr>
              <a:t>kir_liz@mail.r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2960" y="14292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Лекарственные растени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4" descr="c_07.jpg"/>
          <p:cNvPicPr/>
          <p:nvPr/>
        </p:nvPicPr>
        <p:blipFill>
          <a:blip r:embed="rId1"/>
          <a:stretch/>
        </p:blipFill>
        <p:spPr>
          <a:xfrm>
            <a:off x="2428920" y="857160"/>
            <a:ext cx="4226040" cy="30006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7"/>
          <p:cNvSpPr/>
          <p:nvPr/>
        </p:nvSpPr>
        <p:spPr>
          <a:xfrm>
            <a:off x="1000080" y="3929040"/>
            <a:ext cx="6215040" cy="29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onstantia"/>
                <a:hlinkClick r:id="rId2" action="ppaction://hlinksldjump"/>
              </a:rPr>
              <a:t>Шалф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onstantia"/>
                <a:hlinkClick r:id="rId3" action="ppaction://hlinksldjump"/>
              </a:rPr>
              <a:t>Мать – и – маче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onstantia"/>
                <a:hlinkClick r:id="rId4" action="ppaction://hlinksldjump"/>
              </a:rPr>
              <a:t>Облепи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onstantia"/>
                <a:hlinkClick r:id="rId5" action="ppaction://hlinksldjump"/>
              </a:rPr>
              <a:t>Боярышник кроваво-крас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onstantia"/>
                <a:hlinkClick r:id="rId6" action="ppaction://hlinksldjump"/>
              </a:rPr>
              <a:t>Календу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onstantia"/>
                <a:hlinkClick r:id="rId7" action="ppaction://hlinksldjump"/>
              </a:rPr>
              <a:t>Зверобой продырявле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Шалф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"/>
          <p:cNvSpPr/>
          <p:nvPr/>
        </p:nvSpPr>
        <p:spPr>
          <a:xfrm>
            <a:off x="714240" y="3661200"/>
            <a:ext cx="77868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Многолетнее растение с многочисленными стеблями. Листья серебристо-зеленого цвета, покрытые легким ворсистым налетом, цветет многочисленными фиолетовыми цветами, собранными в соцве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В лекарственных целях используют листья, собранные во второй половине л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Улучшает память, помогает бороться с депрессией, повышает работоспособность. Положительно влияет на работу пищеварительной системы, снимает кишечные колики.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ормализует кровообращение, благоприятно воздействует на сосуды головного мозга. При заболеваниях органов дыхания оказывает антисептическое и бактерицидное действие. Принесет пользу при бронхиальной астме, ангине, ларингите и хроническом бронхи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4" descr="Шалфей. Лекарственные растения картинки и фото с описаниям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28800" y="857160"/>
            <a:ext cx="2714400" cy="214308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5" descr="Шалфей. Лекарственные растения картинки и фото с описаниями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00800" y="857160"/>
            <a:ext cx="2786040" cy="21430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6" descr="Шалфей. Лекарственные растения картинки и фото с описаниями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143160" y="1928880"/>
            <a:ext cx="2643120" cy="2000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Мать-и-мачех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"/>
          <p:cNvSpPr/>
          <p:nvPr/>
        </p:nvSpPr>
        <p:spPr>
          <a:xfrm>
            <a:off x="785880" y="4314240"/>
            <a:ext cx="7786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Это растение всегда спасало от многих недугов. В древние времена знахари готовили целительный отвар, вылечивающий людей от удушливого кашля. Она и сейчас является очень популярн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омогает при простудных заболеваниях, бронхитах, бронхиальной астме. Капли из ее отвара вылечат самый сильный насмор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7" descr="Мать-и-мачеха. Лекарственные растения картинки и фото с описаниям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00080" y="1143000"/>
            <a:ext cx="3214800" cy="23572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8" descr="Мать-и-мачеха. Лекарственные растения картинки и фото с описаниями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6200" y="1571760"/>
            <a:ext cx="3000600" cy="2357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Облепих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"/>
          <p:cNvSpPr/>
          <p:nvPr/>
        </p:nvSpPr>
        <p:spPr>
          <a:xfrm>
            <a:off x="714240" y="3519720"/>
            <a:ext cx="7786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Колючий кустарник с узкими длинными листьями и плодами ярко-оранжевого цвета. Свое название получила из-за большого количества ягод, плотно прилегфающих к вет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Является очень ценным растением, содержащим целый "букет" витаминов. Такой витаминный состав в растениях встречается очень редк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Болезни, которые можно вылечить с ее помощью, не перечесть. Препаратами можно вылечить самые различные внутренние хронические заболевания - воспаление желудка, кишечника, коли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блепиховое масло улучшает память, снижает уровень холестерина, защищает от воздействия радиации и препятствует росту опухол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У людей, употребляющих свежие плоды облепихи, укрепляется иммунитет и повышается физическая актив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5" descr="Облепиха. Лекарственные растения картинки и фото с описаниям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00080" y="857160"/>
            <a:ext cx="2500200" cy="17146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6" descr="Облепиха. Лекарственные растения картинки и фото с описаниями"/>
          <p:cNvPicPr/>
          <p:nvPr/>
        </p:nvPicPr>
        <p:blipFill>
          <a:blip r:embed="rId3"/>
          <a:stretch/>
        </p:blipFill>
        <p:spPr>
          <a:xfrm>
            <a:off x="5357880" y="857160"/>
            <a:ext cx="2530440" cy="17859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9" descr="Облепиха. Лекарственные растения картинки и фото с описаниями"/>
          <p:cNvPicPr/>
          <p:nvPr/>
        </p:nvPicPr>
        <p:blipFill>
          <a:blip r:embed="rId4"/>
          <a:stretch/>
        </p:blipFill>
        <p:spPr>
          <a:xfrm>
            <a:off x="3143160" y="2071800"/>
            <a:ext cx="2643120" cy="1571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Боярышник</a:t>
            </a: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кроваво-красны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"/>
          <p:cNvSpPr/>
          <p:nvPr/>
        </p:nvSpPr>
        <p:spPr>
          <a:xfrm>
            <a:off x="1071720" y="4318200"/>
            <a:ext cx="7786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Боярышник – кустарник, реже небольшое дерево семейства розоцветных,. Цветет, в мае — июне, плодоносит с августа по октябрь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В медицине используют цветки и плоды боярышника кроваво-красного. Плоды боярышника идут на приготовление жидкого экстракта, входящего в состав препарата кардиовален. Из цветков готовят настойку.</a:t>
            </a: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репараты боярышника назначают при функциональных расстройствах сердечной деятельности, при гипертонической болезни, стенокардии, антигионеврозах, мерцательной аритм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7" descr="boyarishnik-krovavo-krasniy_1.jpg"/>
          <p:cNvPicPr/>
          <p:nvPr/>
        </p:nvPicPr>
        <p:blipFill>
          <a:blip r:embed="rId1"/>
          <a:stretch/>
        </p:blipFill>
        <p:spPr>
          <a:xfrm>
            <a:off x="3071880" y="857160"/>
            <a:ext cx="2809800" cy="36133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nstantia"/>
              </a:rPr>
              <a:t>Календу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1"/>
          <p:cNvSpPr/>
          <p:nvPr/>
        </p:nvSpPr>
        <p:spPr>
          <a:xfrm>
            <a:off x="714240" y="4371480"/>
            <a:ext cx="7786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амый популярный цветок на дачных участках, клумбах и цветниках. Однолетнее растение, цветущее с июня по октябрь ярко-оранжевыми душистыми цветками. Его народное название ноготки знакомо всем с дет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Из цветов календулы делают настойки и мази, отвары используют для примочек. И все же это растение более широко используются для наружного применения, поскольку обладает сильным ранозаживляющим действ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7" descr="Календула. Лекарственные растения картинки и фото с описаниями"/>
          <p:cNvPicPr/>
          <p:nvPr/>
        </p:nvPicPr>
        <p:blipFill>
          <a:blip r:embed="rId1"/>
          <a:stretch/>
        </p:blipFill>
        <p:spPr>
          <a:xfrm>
            <a:off x="1143000" y="1000080"/>
            <a:ext cx="2928960" cy="21430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8" descr="Календула. Лекарственные растения картинки и фото с описаниями"/>
          <p:cNvPicPr/>
          <p:nvPr/>
        </p:nvPicPr>
        <p:blipFill>
          <a:blip r:embed="rId2"/>
          <a:stretch/>
        </p:blipFill>
        <p:spPr>
          <a:xfrm>
            <a:off x="5214960" y="100008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0" descr="Календула. Лекарственные растения картинки и фото с описаниями"/>
          <p:cNvPicPr/>
          <p:nvPr/>
        </p:nvPicPr>
        <p:blipFill>
          <a:blip r:embed="rId3"/>
          <a:stretch/>
        </p:blipFill>
        <p:spPr>
          <a:xfrm>
            <a:off x="3214800" y="2571840"/>
            <a:ext cx="2643120" cy="2000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Constantia"/>
              </a:rPr>
              <a:t>Зверобой продырявленный (зверобой трава)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1"/>
          <p:cNvSpPr/>
          <p:nvPr/>
        </p:nvSpPr>
        <p:spPr>
          <a:xfrm>
            <a:off x="714240" y="3273120"/>
            <a:ext cx="77868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веробой продырявленный - это широко известное в народе растение с ярко-жёлтыми цветками и специфическим, слегка терпковатым, но приятным запахом.  Растение многолетнее, травянистое, цветки собраны в метельчатые соцветия.  Трава зверобой издавна в народе считалась одной из главных врачебных трав. Растёт зверобой повсюду: на лугах, пустырях, в балках, на опушках леса, вдоль полей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Зверобой продырявленный широко применяется как в народной, так и в традиционной медицине.  В традиционной медицине зверобой используют как вяжущее, противовоспалительное и тонизирующее средство при кашле,  коликах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Крепкий настой зверобоя применяют в стоматологической практике для укрепления десен,  а также используют в качестве противовоспалительного средст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7" descr="Зверобой, свойства, фото"/>
          <p:cNvPicPr/>
          <p:nvPr/>
        </p:nvPicPr>
        <p:blipFill>
          <a:blip r:embed="rId1"/>
          <a:stretch/>
        </p:blipFill>
        <p:spPr>
          <a:xfrm>
            <a:off x="2928960" y="1285920"/>
            <a:ext cx="3214800" cy="2143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712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Constantia"/>
              </a:rPr>
              <a:t>Список литературы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1"/>
          <p:cNvSpPr/>
          <p:nvPr/>
        </p:nvSpPr>
        <p:spPr>
          <a:xfrm>
            <a:off x="1000080" y="873360"/>
            <a:ext cx="6929640" cy="52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трижев А. Русское разнотравье: Справочник.- м.: Москва Дрофа – Джамайка, 1995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астушенков Л.В. Растения - друзья здоровья. – Л.: Лениздат, 1989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Тризна А.А. Растения – жизнь и здоровье. Тула: Приок. кн. изд-во, 1992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Гаммерман А.Ф.; Кадаев Г.Н. и др. Лекарственные растения. Москва.: Высш. шк.; 1983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http://alopecya.ru/shalfej-kak-sredstvo-protiv-vypadeniya-volos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http://gref1.ru/wp-content/uploads/2014/07/c1d20a76411bdccb40e743ea214d30e5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http://www.liveinternet.ru/tags/%EE%E1%EB%E5%EF%E8%F5%E8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http://cutlife.ru/zdorove/boyaryshnik-poleznye-svojstva-protivopokazaniya-boyaryshnik-pri-beremennosti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http://www.laab.ru/node/5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https://ru.wikipedia.org/wiki/%D0%97%D0%B2%D0%B5%D1%80%D0%BE%D0%B1%D0%BE%D0%B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20:52:45Z</dcterms:created>
  <dc:creator>User</dc:creator>
  <dc:description/>
  <dc:language>en-US</dc:language>
  <cp:lastModifiedBy>Admin</cp:lastModifiedBy>
  <dcterms:modified xsi:type="dcterms:W3CDTF">2015-04-18T17:54:25Z</dcterms:modified>
  <cp:revision>44</cp:revision>
  <dc:subject/>
  <dc:title>Лекарственные растения.</dc:title>
</cp:coreProperties>
</file>