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92D-F915-42D8-9189-4220F9EF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70B-B7BF-490F-A27B-DA442222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64F-4175-45EB-AC95-55908D6C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A2E-7EB1-4C13-80D7-0963C77A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44B-2FCC-467B-8968-C095221B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C26-0D4C-47B9-BB19-F5A0BD60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30F-ED40-414C-B2A8-A4C4DDFF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574-DEFA-4755-BBB5-BDC972CA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817-9CDA-4BA6-97D9-BA832C6D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B97-ED75-4A91-A6EA-C387B86C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CB5-BFEE-49CD-8BD0-33AB675D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E78-E5B7-4582-A35A-1E20E95A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BA2-BF50-4E08-9EB0-9DFA8FCDE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ir_liz@mail.r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idroponika.by/wp-content/gallery/foto-lekarstvennyih-rasteniy/shalfey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gidroponika.by/wp-content/gallery/foto-lekarstvennyih-rasteniy/shalfey1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gidroponika.by/wp-content/gallery/foto-lekarstvennyih-rasteniy/shalfey2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idroponika.by/wp-content/gallery/foto-lekarstvennyih-rasteniy/mat-i-macheha1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gidroponika.by/wp-content/gallery/foto-lekarstvennyih-rasteniy/mat-i-macheha2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idroponika.by/wp-content/gallery/foto-lekarstvennyih-rasteniy/oblepiha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униципальный конкурс «Информашка-2015» среди младших школьник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минация «Лекарственные растения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зентация на тем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«Зеленый лекарь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полнила: ученица 1 «Б» класс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лесникова Елен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митриев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униципальное казенное общеобразовательное учреждение "Киреевский лицей" администрации муниципального образования Киреевский райо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лефон: 8 (48754) 6-23-6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-mail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kir_liz@mail.r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Лекарственные раст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c_07.jpg"/>
          <p:cNvPicPr/>
          <p:nvPr/>
        </p:nvPicPr>
        <p:blipFill>
          <a:blip r:embed="rId1"/>
          <a:stretch/>
        </p:blipFill>
        <p:spPr>
          <a:xfrm>
            <a:off x="2428920" y="857160"/>
            <a:ext cx="4226040" cy="30006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7"/>
          <p:cNvSpPr/>
          <p:nvPr/>
        </p:nvSpPr>
        <p:spPr>
          <a:xfrm>
            <a:off x="1000080" y="3929040"/>
            <a:ext cx="621504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2" action="ppaction://hlinksldjump"/>
              </a:rPr>
              <a:t>Шалф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3" action="ppaction://hlinksldjump"/>
              </a:rPr>
              <a:t>Мать – и – мач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4" action="ppaction://hlinksldjump"/>
              </a:rPr>
              <a:t>Облеп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5" action="ppaction://hlinksldjump"/>
              </a:rPr>
              <a:t>Боярышник кроваво-к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6" action="ppaction://hlinksldjump"/>
              </a:rPr>
              <a:t>Календ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7" action="ppaction://hlinksldjump"/>
              </a:rPr>
              <a:t>Зверобой продырявл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Шалф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714240" y="3661200"/>
            <a:ext cx="7786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ноголетнее растение с многочисленными стеблями. Листья серебристо-зеленого цвета, покрытые легким ворсистым налетом, цветет многочисленными фиолетовыми цветами, собранными в соцве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лекарственных целях используют листья, собранные во второй половине л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лучшает память, помогает бороться с депрессией, повышает работоспособность. Положительно влияет на работу пищеварительной системы, снимает кишечные колики.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ормализует кровообращение, благоприятно воздействует на сосуды головного мозга. При заболеваниях органов дыхания оказывает антисептическое и бактерицидное действие. Принесет пользу при бронхиальной астме, ангине, ларингите и хроническом бронх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Шалфей. Лекарственные растения картинки и фото с описания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857160"/>
            <a:ext cx="271440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Шалфей. Лекарственные растения картинки и фото с описаниям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0800" y="8571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Шалфей. Лекарственные растения картинки и фото с описания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43160" y="1928880"/>
            <a:ext cx="264312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Мать-и-маче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785880" y="4314240"/>
            <a:ext cx="7786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о растение всегда спасало от многих недугов. В древние времена знахари готовили целительный отвар, вылечивающий людей от удушливого кашля. Она и сейчас является очень популяр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могает при простудных заболеваниях, бронхитах, бронхиальной астме. Капли из ее отвара вылечат самый сильный насмор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Мать-и-мачеха. Лекарственные растения картинки и фото с описания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1143000"/>
            <a:ext cx="3214800" cy="2357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Мать-и-мачеха. Лекарственные растения картинки и фото с описаниям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1571760"/>
            <a:ext cx="3000600" cy="235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лепи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714240" y="3519720"/>
            <a:ext cx="7786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олючий кустарник с узкими длинными листьями и плодами ярко-оранжевого цвета. Свое название получила из-за большого количества ягод, плотно прилегфающих к вет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Является очень ценным растением, содержащим целый "букет" витаминов. Такой витаминный состав в растениях встречается очень ред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олезни, которые можно вылечить с ее помощью, не перечесть. Препаратами можно вылечить самые различные внутренние хронические заболевания - воспаление желудка, кишечника, коли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блепиховое масло улучшает память, снижает уровень холестерина, защищает от воздействия радиации и препятствует росту опухо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 людей, употребляющих свежие плоды облепихи, укрепляется иммунитет и повышается физическая а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Облепиха. Лекарственные растения картинки и фото с описания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85716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Облепиха. Лекарственные растения картинки и фото с описаниями"/>
          <p:cNvPicPr/>
          <p:nvPr/>
        </p:nvPicPr>
        <p:blipFill>
          <a:blip r:embed="rId3"/>
          <a:stretch/>
        </p:blipFill>
        <p:spPr>
          <a:xfrm>
            <a:off x="5357880" y="857160"/>
            <a:ext cx="2530440" cy="1785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Облепиха. Лекарственные растения картинки и фото с описаниями"/>
          <p:cNvPicPr/>
          <p:nvPr/>
        </p:nvPicPr>
        <p:blipFill>
          <a:blip r:embed="rId4"/>
          <a:stretch/>
        </p:blipFill>
        <p:spPr>
          <a:xfrm>
            <a:off x="3143160" y="2071800"/>
            <a:ext cx="2643120" cy="157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оярышник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роваво-крас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071720" y="4318200"/>
            <a:ext cx="778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оярышник – кустарник, реже небольшое дерево семейства розоцветных,. Цветет, в мае — июне, плодоносит с августа по октябр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медицине используют цветки и плоды боярышника кроваво-красного. Плоды боярышника идут на приготовление жидкого экстракта, входящего в состав препарата кардиовален. Из цветков готовят настойку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епараты боярышника назначают при функциональных расстройствах сердечной деятельности, при гипертонической болезни, стенокардии, антигионеврозах, мерцательной аритм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boyarishnik-krovavo-krasniy_1.jpg"/>
          <p:cNvPicPr/>
          <p:nvPr/>
        </p:nvPicPr>
        <p:blipFill>
          <a:blip r:embed="rId1"/>
          <a:stretch/>
        </p:blipFill>
        <p:spPr>
          <a:xfrm>
            <a:off x="3071880" y="857160"/>
            <a:ext cx="2809800" cy="361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ленд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714240" y="4371480"/>
            <a:ext cx="7786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амый популярный цветок на дачных участках, клумбах и цветниках. Однолетнее растение, цветущее с июня по октябрь ярко-оранжевыми душистыми цветками. Его народное название ноготки знакомо всем с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з цветов календулы делают настойки и мази, отвары используют для примочек. И все же это растение более широко используются для наружного применения, поскольку обладает сильным ранозаживляющим действ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7" descr="Календула. Лекарственные растения картинки и фото с описаниями"/>
          <p:cNvPicPr/>
          <p:nvPr/>
        </p:nvPicPr>
        <p:blipFill>
          <a:blip r:embed="rId1"/>
          <a:stretch/>
        </p:blipFill>
        <p:spPr>
          <a:xfrm>
            <a:off x="1143000" y="1000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Календула. Лекарственные растения картинки и фото с описаниями"/>
          <p:cNvPicPr/>
          <p:nvPr/>
        </p:nvPicPr>
        <p:blipFill>
          <a:blip r:embed="rId2"/>
          <a:stretch/>
        </p:blipFill>
        <p:spPr>
          <a:xfrm>
            <a:off x="5214960" y="1000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Календула. Лекарственные растения картинки и фото с описаниями"/>
          <p:cNvPicPr/>
          <p:nvPr/>
        </p:nvPicPr>
        <p:blipFill>
          <a:blip r:embed="rId3"/>
          <a:stretch/>
        </p:blipFill>
        <p:spPr>
          <a:xfrm>
            <a:off x="3214800" y="2571840"/>
            <a:ext cx="264312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nstantia"/>
              </a:rPr>
              <a:t>Зверобой продырявленный (зверобой трава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714240" y="3273120"/>
            <a:ext cx="7786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веробой продырявленный - это широко известное в народе растение с ярко-жёлтыми цветками и специфическим, слегка терпковатым, но приятным запахом.  Растение многолетнее, травянистое, цветки собраны в метельчатые соцветия.  Трава зверобой издавна в народе считалась одной из главных врачебных трав. Растёт зверобой повсюду: на лугах, пустырях, в балках, на опушках леса, вдоль полей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веробой продырявленный широко применяется как в народной, так и в традиционной медицине.  В традиционной медицине зверобой используют как вяжущее, противовоспалительное и тонизирующее средство при кашле,  колика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епкий настой зверобоя применяют в стоматологической практике для укрепления десен,  а также используют в качестве противовоспалительного сред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Зверобой, свойства, фото"/>
          <p:cNvPicPr/>
          <p:nvPr/>
        </p:nvPicPr>
        <p:blipFill>
          <a:blip r:embed="rId1"/>
          <a:stretch/>
        </p:blipFill>
        <p:spPr>
          <a:xfrm>
            <a:off x="2928960" y="1285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nstantia"/>
              </a:rPr>
              <a:t>Список литератур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1000080" y="873360"/>
            <a:ext cx="692964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рижев А. Русское разнотравье: Справочник.- м.: Москва Дрофа – Джамайка, 199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астушенков Л.В. Растения - друзья здоровья. – Л.: Лениздат, 198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ризна А.А. Растения – жизнь и здоровье. Тула: Приок. кн. изд-во, 199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Гаммерман А.Ф.; Кадаев Г.Н. и др. Лекарственные растения. Москва.: Высш. шк.; 198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alopecya.ru/shalfej-kak-sredstvo-protiv-vypadeniya-volo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gref1.ru/wp-content/uploads/2014/07/c1d20a76411bdccb40e743ea214d30e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www.liveinternet.ru/tags/%EE%E1%EB%E5%EF%E8%F5%E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cutlife.ru/zdorove/boyaryshnik-poleznye-svojstva-protivopokazaniya-boyaryshnik-pri-beremennost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www.laab.ru/node/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s://ru.wikipedia.org/wiki/%D0%97%D0%B2%D0%B5%D1%80%D0%BE%D0%B1%D0%BE%D0%B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20:52:45Z</dcterms:created>
  <dc:creator>User</dc:creator>
  <dc:description/>
  <dc:language>en-US</dc:language>
  <cp:lastModifiedBy>Admin</cp:lastModifiedBy>
  <dcterms:modified xsi:type="dcterms:W3CDTF">2015-04-18T17:54:25Z</dcterms:modified>
  <cp:revision>44</cp:revision>
  <dc:subject/>
  <dc:title>Лекарственные растения.</dc:title>
</cp:coreProperties>
</file>