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C5D1-35EB-4951-8BAD-290A776C55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1854-7845-4911-A961-30DEAAE220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7AA-8C55-46AF-97A9-48510590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507-9F5E-4D0D-8023-17850908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F39-6FE3-4AD9-91E7-DEF8218D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AA3-5D9D-42CF-870C-465ED652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93A-AD1B-419C-BD45-91133229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DD3-DC20-4A44-8E6A-17FFC6FA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68B-B759-4B80-9373-63D7C2CA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434-57A7-457B-8194-0957B99C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EE5-3210-48C6-B450-1C6D001B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46F-F933-4198-BD86-17BD99E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95B-184C-4C22-BAAA-33A166A8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B89-837C-41E2-8DF7-93981E81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bdef"/>
            </a:gs>
            <a:gs pos="100000">
              <a:srgbClr val="a0fcf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4019-6D3E-44B3-BD4B-FB62D0221F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1143000"/>
            <a:ext cx="81342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adadeb"/>
                </a:solidFill>
                <a:latin typeface="Impact"/>
              </a:rPr>
              <a:t> </a:t>
            </a:r>
            <a:r>
              <a:rPr b="1" lang="en-US" sz="80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adadeb"/>
                </a:solidFill>
                <a:latin typeface="Impact"/>
              </a:rPr>
              <a:t>Различаем  </a:t>
            </a:r>
            <a:endParaRPr b="1" lang="en-US" sz="8000" spc="1" strike="noStrike">
              <a:ln w="22320">
                <a:solidFill>
                  <a:srgbClr val="3333cc"/>
                </a:solidFill>
                <a:miter/>
              </a:ln>
              <a:solidFill>
                <a:srgbClr val="adadeb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adadeb"/>
                </a:solidFill>
                <a:latin typeface="Impact"/>
              </a:rPr>
              <a:t>[Р]-[Л]</a:t>
            </a:r>
            <a:endParaRPr b="1" lang="en-US" sz="8000" spc="1" strike="noStrike">
              <a:ln w="22320">
                <a:solidFill>
                  <a:srgbClr val="3333cc"/>
                </a:solidFill>
                <a:miter/>
              </a:ln>
              <a:solidFill>
                <a:srgbClr val="adadeb"/>
              </a:soli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181480" y="556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477120" y="5867280"/>
            <a:ext cx="15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038480" y="518148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Автор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dc46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Ефимова А.Б.</a:t>
            </a:r>
            <a:endParaRPr b="1" lang="en-US" sz="28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410080" y="59436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pic>
        <p:nvPicPr>
          <p:cNvPr id="54" name="Picture 13" descr="D:\Public\Зуйкова\foto_dspp_02.jpg"/>
          <p:cNvPicPr/>
          <p:nvPr/>
        </p:nvPicPr>
        <p:blipFill>
          <a:blip r:embed="rId1"/>
          <a:stretch/>
        </p:blipFill>
        <p:spPr>
          <a:xfrm>
            <a:off x="838080" y="3962520"/>
            <a:ext cx="2895840" cy="2200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>
            <a:off x="2362320" y="7010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Public\Зуйкова\доктор.jpg"/>
          <p:cNvPicPr/>
          <p:nvPr/>
        </p:nvPicPr>
        <p:blipFill>
          <a:blip r:embed="rId1"/>
          <a:stretch/>
        </p:blipFill>
        <p:spPr>
          <a:xfrm>
            <a:off x="152280" y="9144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057400" y="3657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505320" y="2209680"/>
            <a:ext cx="53337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3333cc"/>
                </a:solidFill>
                <a:latin typeface="Times New Roman"/>
              </a:rPr>
              <a:t>осмотрел горло.</a:t>
            </a:r>
            <a:endParaRPr b="1" lang="en-US" sz="55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267080" y="3429000"/>
            <a:ext cx="4648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429000" y="3581280"/>
            <a:ext cx="55627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685800" y="5638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1143000" y="5486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читай фразы.</a:t>
            </a:r>
            <a:endParaRPr b="1" lang="en-US" sz="36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Public\Зуйкова\vorona.jpg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3505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828800" y="1523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800600" y="2971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886200" y="32004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333cc"/>
                </a:solidFill>
                <a:latin typeface="Times New Roman"/>
              </a:rPr>
              <a:t>поранила крыло.</a:t>
            </a:r>
            <a:endParaRPr b="1" lang="en-US" sz="5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33520" y="5486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читай фразы.</a:t>
            </a:r>
            <a:endParaRPr b="1" lang="en-US" sz="36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14400" y="1522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Прочитай слово по первым звукам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880"/>
            <a:ext cx="556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pic>
        <p:nvPicPr>
          <p:cNvPr id="96" name="Picture 8" descr="D:\Public\Зуйкова\жук.jpg"/>
          <p:cNvPicPr/>
          <p:nvPr/>
        </p:nvPicPr>
        <p:blipFill>
          <a:blip r:embed="rId1"/>
          <a:stretch/>
        </p:blipFill>
        <p:spPr>
          <a:xfrm>
            <a:off x="457200" y="1752480"/>
            <a:ext cx="2411280" cy="18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D:\Public\Зуйкова\улитка.jpg"/>
          <p:cNvPicPr/>
          <p:nvPr/>
        </p:nvPicPr>
        <p:blipFill>
          <a:blip r:embed="rId2"/>
          <a:stretch/>
        </p:blipFill>
        <p:spPr>
          <a:xfrm>
            <a:off x="3048120" y="1676520"/>
            <a:ext cx="293364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D:\Public\Зуйкова\Безымянный.bmp"/>
          <p:cNvPicPr/>
          <p:nvPr/>
        </p:nvPicPr>
        <p:blipFill>
          <a:blip r:embed="rId3"/>
          <a:stretch/>
        </p:blipFill>
        <p:spPr>
          <a:xfrm>
            <a:off x="6172200" y="1066680"/>
            <a:ext cx="1803240" cy="2422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D:\Public\Зуйкова\nota.gif"/>
          <p:cNvPicPr/>
          <p:nvPr/>
        </p:nvPicPr>
        <p:blipFill>
          <a:blip r:embed="rId4"/>
          <a:stretch/>
        </p:blipFill>
        <p:spPr>
          <a:xfrm>
            <a:off x="304920" y="3733920"/>
            <a:ext cx="2925720" cy="292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D:\Public\Зуйкова\backgrounds[1][1].ru_3304.jpg"/>
          <p:cNvPicPr/>
          <p:nvPr/>
        </p:nvPicPr>
        <p:blipFill>
          <a:blip r:embed="rId5"/>
          <a:stretch/>
        </p:blipFill>
        <p:spPr>
          <a:xfrm>
            <a:off x="3276720" y="3886200"/>
            <a:ext cx="2579400" cy="2579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D:\Public\Зуйкова\лук.jpg"/>
          <p:cNvPicPr/>
          <p:nvPr/>
        </p:nvPicPr>
        <p:blipFill>
          <a:blip r:embed="rId6"/>
          <a:stretch/>
        </p:blipFill>
        <p:spPr>
          <a:xfrm>
            <a:off x="6400800" y="4191120"/>
            <a:ext cx="1755720" cy="2085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Public\Зуйкова\носорог.bmp"/>
          <p:cNvPicPr/>
          <p:nvPr/>
        </p:nvPicPr>
        <p:blipFill>
          <a:blip r:embed="rId1"/>
          <a:stretch/>
        </p:blipFill>
        <p:spPr>
          <a:xfrm>
            <a:off x="228600" y="1295280"/>
            <a:ext cx="4275000" cy="2907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D:\Public\Зуйкова\носорог.bmp"/>
          <p:cNvPicPr/>
          <p:nvPr/>
        </p:nvPicPr>
        <p:blipFill>
          <a:blip r:embed="rId2"/>
          <a:stretch/>
        </p:blipFill>
        <p:spPr>
          <a:xfrm>
            <a:off x="4648320" y="1295280"/>
            <a:ext cx="4221000" cy="2870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втори и сосчитай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57200" y="5257800"/>
            <a:ext cx="830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04920" y="441972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5800" y="51055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У двух носорогов было два рога,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А сколько рогов у ста носорогов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6"/>
          <p:cNvSpPr txBox="1"/>
          <p:nvPr/>
        </p:nvSpPr>
        <p:spPr>
          <a:xfrm>
            <a:off x="7238880" y="533520"/>
            <a:ext cx="152424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45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2666880" y="380880"/>
            <a:ext cx="129564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0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Е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8"/>
          <p:cNvSpPr txBox="1"/>
          <p:nvPr/>
        </p:nvSpPr>
        <p:spPr>
          <a:xfrm>
            <a:off x="380880" y="3581280"/>
            <a:ext cx="1676520" cy="26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Р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3276720" y="2971800"/>
            <a:ext cx="1828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-153000" y="228600"/>
            <a:ext cx="2438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066680" y="990720"/>
            <a:ext cx="685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14" name="WordArt 13"/>
          <p:cNvSpPr txBox="1"/>
          <p:nvPr/>
        </p:nvSpPr>
        <p:spPr>
          <a:xfrm>
            <a:off x="6553080" y="3505320"/>
            <a:ext cx="1828800" cy="23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л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5638680" y="0"/>
            <a:ext cx="17528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16" name="WordArt 20"/>
          <p:cNvSpPr txBox="1"/>
          <p:nvPr/>
        </p:nvSpPr>
        <p:spPr>
          <a:xfrm>
            <a:off x="4876920" y="533520"/>
            <a:ext cx="1828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62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О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Text Box 24"/>
          <p:cNvSpPr/>
          <p:nvPr/>
        </p:nvSpPr>
        <p:spPr>
          <a:xfrm flipH="1">
            <a:off x="1981080" y="5943600"/>
            <a:ext cx="6918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1447920" y="579132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оставь слово из рассыпавшихся букв.</a:t>
            </a: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5"/>
          <p:cNvSpPr txBox="1"/>
          <p:nvPr/>
        </p:nvSpPr>
        <p:spPr>
          <a:xfrm>
            <a:off x="-685800" y="2209680"/>
            <a:ext cx="41148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  </a:t>
            </a:r>
            <a:r>
              <a:rPr b="1" lang="en-US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5486400" y="2286000"/>
            <a:ext cx="1976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23880" y="457200"/>
            <a:ext cx="6629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447920" y="6858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одбери самостоятельно слова со звуками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Public\Зуйкова\DSC_2267-m.jpg"/>
          <p:cNvPicPr/>
          <p:nvPr/>
        </p:nvPicPr>
        <p:blipFill>
          <a:blip r:embed="rId1"/>
          <a:stretch/>
        </p:blipFill>
        <p:spPr>
          <a:xfrm>
            <a:off x="2189160" y="228600"/>
            <a:ext cx="4557600" cy="5334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1981080" y="6400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097680" y="6629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393920" y="6172200"/>
            <a:ext cx="58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447920" y="57913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828800" y="57913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 картинку и дифференцируемый звук (Р)-(Л)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D:\Public\Зуйкова\Los.jpg"/>
          <p:cNvPicPr/>
          <p:nvPr/>
        </p:nvPicPr>
        <p:blipFill>
          <a:blip r:embed="rId1"/>
          <a:stretch/>
        </p:blipFill>
        <p:spPr>
          <a:xfrm>
            <a:off x="1600200" y="304920"/>
            <a:ext cx="6248520" cy="5727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2133720" y="60199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картинку и дифференцируемый звук (Р)-(Л)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6" descr="D:\Public\Зуйкова\tomate-weibl-gr.jpg"/>
          <p:cNvPicPr/>
          <p:nvPr/>
        </p:nvPicPr>
        <p:blipFill>
          <a:blip r:embed="rId1"/>
          <a:stretch/>
        </p:blipFill>
        <p:spPr>
          <a:xfrm>
            <a:off x="1066680" y="228600"/>
            <a:ext cx="6858000" cy="543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27"/>
          <p:cNvSpPr/>
          <p:nvPr/>
        </p:nvSpPr>
        <p:spPr>
          <a:xfrm>
            <a:off x="1066680" y="57150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ови картинку и определи количество слогов в слове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Public\Зуйкова\lance5s.jpg"/>
          <p:cNvPicPr/>
          <p:nvPr/>
        </p:nvPicPr>
        <p:blipFill>
          <a:blip r:embed="rId1"/>
          <a:stretch/>
        </p:blipFill>
        <p:spPr>
          <a:xfrm>
            <a:off x="1905120" y="228600"/>
            <a:ext cx="5638680" cy="5018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1219320" y="5867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 позицию изучаемого звука в слове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600200" y="6248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pic>
        <p:nvPicPr>
          <p:cNvPr id="69" name="Picture 10" descr="D:\Public\Зуйкова\luna.jpg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319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D:\Public\Зуйкова\c214.jpg"/>
          <p:cNvPicPr/>
          <p:nvPr/>
        </p:nvPicPr>
        <p:blipFill>
          <a:blip r:embed="rId2"/>
          <a:stretch/>
        </p:blipFill>
        <p:spPr>
          <a:xfrm>
            <a:off x="5638680" y="152280"/>
            <a:ext cx="2286000" cy="3108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D:\Public\Зуйкова\27866b.jpg"/>
          <p:cNvPicPr/>
          <p:nvPr/>
        </p:nvPicPr>
        <p:blipFill>
          <a:blip r:embed="rId3"/>
          <a:stretch/>
        </p:blipFill>
        <p:spPr>
          <a:xfrm>
            <a:off x="380880" y="3352680"/>
            <a:ext cx="3810240" cy="254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D:\Public\Зуйкова\m_crow.jpg"/>
          <p:cNvPicPr/>
          <p:nvPr/>
        </p:nvPicPr>
        <p:blipFill>
          <a:blip r:embed="rId4"/>
          <a:stretch/>
        </p:blipFill>
        <p:spPr>
          <a:xfrm>
            <a:off x="5029200" y="34290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228600" y="6172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ови лишнее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Public\Зуйкова\reb18.gif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2447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838080" y="54864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Отгадай ребус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-228600" y="533520"/>
            <a:ext cx="8610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Знает каждая старушка:</a:t>
            </a: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В огороде есть петрушка.</a:t>
            </a: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Станет с ней вкусней в сто крат,</a:t>
            </a: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Суп, окрошка и салат. </a:t>
            </a: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066680" y="48769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и стихотворение и назови слова со звуком (Р)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2514600" y="457200"/>
            <a:ext cx="3267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трушка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:\Public\Зуйкова\ribak01.jpg"/>
          <p:cNvPicPr/>
          <p:nvPr/>
        </p:nvPicPr>
        <p:blipFill>
          <a:blip r:embed="rId1"/>
          <a:stretch/>
        </p:blipFill>
        <p:spPr>
          <a:xfrm>
            <a:off x="1905120" y="380880"/>
            <a:ext cx="5029200" cy="4024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990720" y="46483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и скороговор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990720" y="52578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Рыбу ловит рыболов, весь в реку уплыл улов.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8:51:09Z</dcterms:created>
  <dc:creator>guest</dc:creator>
  <dc:description/>
  <dc:language>en-US</dc:language>
  <cp:lastModifiedBy>Светлана Лукьянова</cp:lastModifiedBy>
  <dcterms:modified xsi:type="dcterms:W3CDTF">2017-10-01T11:58:09Z</dcterms:modified>
  <cp:revision>8</cp:revision>
  <dc:subject/>
  <dc:title>Презентация PowerPoint</dc:title>
</cp:coreProperties>
</file>