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7E3F-AA11-4C35-AC4A-F1395C41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38F-FF85-4E07-B769-ADD00E46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E1D-67A6-47BF-996F-FFA950AD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3B6-D4D3-498D-9FD6-EEA433DE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A1BF-A162-470A-B182-921448E8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6A15-9B54-493B-A96B-062B2CCF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1853-7C19-4708-B5FA-A09C12B9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54AE-C8F6-4507-8371-767ECA06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CA80-B556-46EA-96FF-C20F4E06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0F69-4E2A-4264-8674-6BA13809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0AA7-D029-4E4A-B492-06B4F655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ADA-79AF-4D88-9F43-29B4A884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01BE-EBD2-4195-85D4-5B7A7D6F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255D-30C8-49E4-878E-D3725308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5211-BCC5-42A9-B163-6DD7A642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34F9-03A9-45BD-BB92-B7927EB1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525F-84B5-4296-AC07-E3213A92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8D5-576C-4B11-A63B-102BF7EA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EFAB-2C3F-4A0E-A26A-61918719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D66-D8E3-4BBF-91E8-A14E4B4F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70A-6861-43F8-BAB6-97324B00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75C-F5F6-4FCA-9DCE-130B7811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3F4-9440-47F2-9B4D-FD282706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113-9E4E-45D4-8256-B5144408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c45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c45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c454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211F-6B56-4109-9371-F48383AB13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2de75a8025ea.png"/>
          <p:cNvPicPr/>
          <p:nvPr/>
        </p:nvPicPr>
        <p:blipFill>
          <a:blip r:embed="rId3"/>
          <a:stretch/>
        </p:blipFill>
        <p:spPr>
          <a:xfrm>
            <a:off x="5724360" y="4292640"/>
            <a:ext cx="3297240" cy="24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42" name="Прямоугольник 7"/>
          <p:cNvGrpSpPr/>
          <p:nvPr/>
        </p:nvGrpSpPr>
        <p:grpSpPr>
          <a:xfrm>
            <a:off x="-55440" y="-30240"/>
            <a:ext cx="220680" cy="6967440"/>
            <a:chOff x="-55440" y="-30240"/>
            <a:chExt cx="220680" cy="6967440"/>
          </a:xfrm>
        </p:grpSpPr>
        <p:pic>
          <p:nvPicPr>
            <p:cNvPr id="43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22068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0" y="0"/>
              <a:ext cx="10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Прямоугольник 8"/>
          <p:cNvGrpSpPr/>
          <p:nvPr/>
        </p:nvGrpSpPr>
        <p:grpSpPr>
          <a:xfrm>
            <a:off x="9034560" y="-30240"/>
            <a:ext cx="218880" cy="6967440"/>
            <a:chOff x="9034560" y="-30240"/>
            <a:chExt cx="218880" cy="6967440"/>
          </a:xfrm>
        </p:grpSpPr>
        <p:pic>
          <p:nvPicPr>
            <p:cNvPr id="46" name="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9034560" y="-30240"/>
              <a:ext cx="21888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9090000" y="0"/>
              <a:ext cx="10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Прямоугольник 10"/>
          <p:cNvGrpSpPr/>
          <p:nvPr/>
        </p:nvGrpSpPr>
        <p:grpSpPr>
          <a:xfrm>
            <a:off x="55440" y="-30240"/>
            <a:ext cx="9101160" cy="212760"/>
            <a:chOff x="55440" y="-30240"/>
            <a:chExt cx="9101160" cy="212760"/>
          </a:xfrm>
        </p:grpSpPr>
        <p:pic>
          <p:nvPicPr>
            <p:cNvPr id="49" name="Прямоугольник 10" descr=""/>
            <p:cNvPicPr/>
            <p:nvPr/>
          </p:nvPicPr>
          <p:blipFill>
            <a:blip r:embed="rId6"/>
            <a:stretch/>
          </p:blipFill>
          <p:spPr>
            <a:xfrm>
              <a:off x="55440" y="-30240"/>
              <a:ext cx="910116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08000" y="0"/>
              <a:ext cx="898992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Прямоугольник 11"/>
          <p:cNvGrpSpPr/>
          <p:nvPr/>
        </p:nvGrpSpPr>
        <p:grpSpPr>
          <a:xfrm>
            <a:off x="49320" y="6729480"/>
            <a:ext cx="9101160" cy="207720"/>
            <a:chOff x="49320" y="6729480"/>
            <a:chExt cx="9101160" cy="207720"/>
          </a:xfrm>
        </p:grpSpPr>
        <p:pic>
          <p:nvPicPr>
            <p:cNvPr id="52" name="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49320" y="6729480"/>
              <a:ext cx="910116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01520" y="6757920"/>
              <a:ext cx="899172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c45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c45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c454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CF03-CAA7-4EB0-8364-201460CFC4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Изобразительные средства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2920" y="3212640"/>
            <a:ext cx="4311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езентацию выполнил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ычёв Д.,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ченик 3 А класса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БОУ СШ №2 г. Вязьма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уководитель:Белова Е.М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.Новицкая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7632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1d31"/>
                </a:solidFill>
                <a:latin typeface="Calibri"/>
              </a:rPr>
              <a:t>Ливнем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грива падает седая,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9b6c"/>
                </a:solidFill>
                <a:latin typeface="Calibri"/>
              </a:rPr>
              <a:t>Ноздри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 -  </a:t>
            </a:r>
            <a:r>
              <a:rPr b="0" lang="ru-RU" sz="3200" spc="-1" strike="noStrike">
                <a:solidFill>
                  <a:srgbClr val="039b6c"/>
                </a:solidFill>
                <a:latin typeface="Calibri"/>
              </a:rPr>
              <a:t>словно трубы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боевые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рикоснись к ней  - и, преград не зная,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Унесёт тебя в поля родные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0476"/>
                </a:solidFill>
                <a:latin typeface="Calibri"/>
              </a:rPr>
              <a:t>Солнечной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она, </a:t>
            </a:r>
            <a:r>
              <a:rPr b="0" lang="ru-RU" sz="3200" spc="-1" strike="noStrike">
                <a:solidFill>
                  <a:srgbClr val="040476"/>
                </a:solidFill>
                <a:latin typeface="Calibri"/>
              </a:rPr>
              <a:t>горячей масти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На ногах </a:t>
            </a:r>
            <a:r>
              <a:rPr b="0" lang="ru-RU" sz="3200" spc="-1" strike="noStrike">
                <a:solidFill>
                  <a:srgbClr val="040476"/>
                </a:solidFill>
                <a:latin typeface="Calibri"/>
              </a:rPr>
              <a:t>янтарные копыта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И на ней  </a:t>
            </a:r>
            <a:r>
              <a:rPr b="0" lang="ru-RU" sz="3200" spc="-1" strike="noStrike">
                <a:solidFill>
                  <a:srgbClr val="eb1d31"/>
                </a:solidFill>
                <a:latin typeface="Calibri"/>
              </a:rPr>
              <a:t>четыре звонких счастья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Крепко – крепко дедушкой прибиты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В. Н. Орлов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Четыре коня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609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Верьте, не верьте,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Но есть у меня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Ровно четыре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Чудесных коня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1d31"/>
                </a:solidFill>
                <a:latin typeface="Calibri"/>
              </a:rPr>
              <a:t>Розовый конь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 –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Это утренний конь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Красная </a:t>
            </a:r>
            <a:r>
              <a:rPr b="0" lang="ru-RU" sz="1800" spc="-1" strike="noStrike">
                <a:solidFill>
                  <a:srgbClr val="039b6c"/>
                </a:solidFill>
                <a:latin typeface="Calibri"/>
              </a:rPr>
              <a:t>грива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Как </a:t>
            </a:r>
            <a:r>
              <a:rPr b="0" lang="ru-RU" sz="1800" spc="-1" strike="noStrike">
                <a:solidFill>
                  <a:srgbClr val="039b6c"/>
                </a:solidFill>
                <a:latin typeface="Calibri"/>
              </a:rPr>
              <a:t>будто огонь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Следом за ним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Прилетает за мной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В солнечном пламени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1d31"/>
                </a:solidFill>
                <a:latin typeface="Calibri"/>
              </a:rPr>
              <a:t>Конь золотой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Как хорошо мне,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И весело мне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Мчаться на этом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0476"/>
                </a:solidFill>
                <a:latin typeface="Calibri"/>
              </a:rPr>
              <a:t>Горячем  коне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В самом конце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Золотистого дня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Я </a:t>
            </a:r>
            <a:r>
              <a:rPr b="0" lang="ru-RU" sz="1800" spc="-1" strike="noStrike">
                <a:solidFill>
                  <a:srgbClr val="eb1d31"/>
                </a:solidFill>
                <a:latin typeface="Calibri"/>
              </a:rPr>
              <a:t>голубого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Седлаю </a:t>
            </a:r>
            <a:r>
              <a:rPr b="0" lang="ru-RU" sz="1800" spc="-1" strike="noStrike">
                <a:solidFill>
                  <a:srgbClr val="eb1d31"/>
                </a:solidFill>
                <a:latin typeface="Calibri"/>
              </a:rPr>
              <a:t>коня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40360" y="1125000"/>
            <a:ext cx="366840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Синяя </a:t>
            </a:r>
            <a:r>
              <a:rPr b="0" lang="ru-RU" sz="1800" spc="-1" strike="noStrike">
                <a:solidFill>
                  <a:srgbClr val="039b6c"/>
                </a:solidFill>
                <a:latin typeface="Calibri"/>
              </a:rPr>
              <a:t>грива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9b6c"/>
                </a:solidFill>
                <a:latin typeface="Calibri"/>
              </a:rPr>
              <a:t>Как 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синий </a:t>
            </a:r>
            <a:r>
              <a:rPr b="0" lang="ru-RU" sz="1800" spc="-1" strike="noStrike">
                <a:solidFill>
                  <a:srgbClr val="039b6c"/>
                </a:solidFill>
                <a:latin typeface="Calibri"/>
              </a:rPr>
              <a:t>дымок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Синий запутался 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В ней ветерок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Ночь опустилась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Над тихой землёй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9b6c"/>
                </a:solidFill>
                <a:latin typeface="Calibri"/>
              </a:rPr>
              <a:t>Месяц</a:t>
            </a:r>
            <a:r>
              <a:rPr b="0" lang="ru-RU" sz="1800" spc="-1" strike="noStrike">
                <a:solidFill>
                  <a:srgbClr val="039b6c"/>
                </a:solidFill>
                <a:latin typeface="Calibri"/>
              </a:rPr>
              <a:t> подковой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Плывёт золотой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К звёздам, горящим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В ночной вышине,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Я улетаю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1d31"/>
                </a:solidFill>
                <a:latin typeface="Calibri"/>
              </a:rPr>
              <a:t>На чёрном коне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Вот вдалеке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Разгорелся огонь –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Ждёт меня </a:t>
            </a:r>
            <a:r>
              <a:rPr b="0" lang="ru-RU" sz="1800" spc="-1" strike="noStrike">
                <a:solidFill>
                  <a:srgbClr val="eb1d31"/>
                </a:solidFill>
                <a:latin typeface="Calibri"/>
              </a:rPr>
              <a:t>розовый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Утренний </a:t>
            </a:r>
            <a:r>
              <a:rPr b="0" lang="ru-RU" sz="1800" spc="-1" strike="noStrike">
                <a:solidFill>
                  <a:srgbClr val="eb1d31"/>
                </a:solidFill>
                <a:latin typeface="Calibri"/>
              </a:rPr>
              <a:t>конь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Перелетаю с коня 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На коня: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-Ну–ка, друзья,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Догоните меня!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       </a:t>
            </a:r>
            <a:r>
              <a:rPr b="1" lang="ru-RU" sz="4000" spc="-1" strike="noStrike" u="sng">
                <a:solidFill>
                  <a:srgbClr val="aa01ff"/>
                </a:solidFill>
                <a:uFillTx/>
                <a:latin typeface="Calibri"/>
              </a:rPr>
              <a:t>Олицетворение</a:t>
            </a:r>
            <a:r>
              <a:rPr b="0" lang="ru-RU" sz="4000" spc="-1" strike="noStrike">
                <a:solidFill>
                  <a:srgbClr val="aa01ff"/>
                </a:solidFill>
                <a:latin typeface="Calibri"/>
              </a:rPr>
              <a:t> – это перенесение человеческих свойств, на неодушевлённые предметы, явления природы и животных.</a:t>
            </a:r>
            <a:endParaRPr b="0" lang="en-US" sz="4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c4545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4c4545"/>
                </a:solidFill>
                <a:latin typeface="Calibri"/>
              </a:rPr>
              <a:t>Например: </a:t>
            </a:r>
            <a:endParaRPr b="0" lang="en-US" sz="4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c4545"/>
                </a:solidFill>
                <a:latin typeface="Calibri"/>
              </a:rPr>
              <a:t>                          </a:t>
            </a:r>
            <a:r>
              <a:rPr b="0" lang="ru-RU" sz="4000" spc="-1" strike="noStrike">
                <a:solidFill>
                  <a:srgbClr val="aa01ff"/>
                </a:solidFill>
                <a:latin typeface="Calibri"/>
              </a:rPr>
              <a:t>звёзды задремали,</a:t>
            </a:r>
            <a:endParaRPr b="0" lang="en-US" sz="4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a01ff"/>
                </a:solidFill>
                <a:latin typeface="Calibri"/>
              </a:rPr>
              <a:t>                          </a:t>
            </a:r>
            <a:r>
              <a:rPr b="0" lang="ru-RU" sz="4000" spc="-1" strike="noStrike">
                <a:solidFill>
                  <a:srgbClr val="aa01ff"/>
                </a:solidFill>
                <a:latin typeface="Calibri"/>
              </a:rPr>
              <a:t>ветер воет.</a:t>
            </a:r>
            <a:endParaRPr b="0" lang="en-US" sz="40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. Е. Екимце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рбуз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6635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До утра по огороду</a:t>
            </a:r>
            <a:endParaRPr b="0" lang="en-US" sz="36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01ff"/>
                </a:solidFill>
                <a:latin typeface="Calibri"/>
              </a:rPr>
              <a:t>Ползал</a:t>
            </a: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 он на животе.</a:t>
            </a:r>
            <a:endParaRPr b="0" lang="en-US" sz="36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Всё </a:t>
            </a:r>
            <a:r>
              <a:rPr b="0" lang="ru-RU" sz="3600" spc="-1" strike="noStrike">
                <a:solidFill>
                  <a:srgbClr val="aa01ff"/>
                </a:solidFill>
                <a:latin typeface="Calibri"/>
              </a:rPr>
              <a:t>искал</a:t>
            </a: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, </a:t>
            </a:r>
            <a:r>
              <a:rPr b="0" lang="ru-RU" sz="3600" spc="-1" strike="noStrike">
                <a:solidFill>
                  <a:srgbClr val="aa01ff"/>
                </a:solidFill>
                <a:latin typeface="Calibri"/>
              </a:rPr>
              <a:t>искал</a:t>
            </a: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 он воду -</a:t>
            </a:r>
            <a:endParaRPr b="0" lang="en-US" sz="36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01ff"/>
                </a:solidFill>
                <a:latin typeface="Calibri"/>
              </a:rPr>
              <a:t>Не нашёл</a:t>
            </a: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 воды нигде.</a:t>
            </a:r>
            <a:endParaRPr b="0" lang="en-US" sz="36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01ff"/>
                </a:solidFill>
                <a:latin typeface="Calibri"/>
              </a:rPr>
              <a:t>Был</a:t>
            </a: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 он в каждой борозде –</a:t>
            </a:r>
            <a:endParaRPr b="0" lang="en-US" sz="36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01ff"/>
                </a:solidFill>
                <a:latin typeface="Calibri"/>
              </a:rPr>
              <a:t>Не нашёл</a:t>
            </a: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 воды нигде.</a:t>
            </a:r>
            <a:endParaRPr b="0" lang="en-US" sz="36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Лишь </a:t>
            </a:r>
            <a:r>
              <a:rPr b="0" lang="ru-RU" sz="3600" spc="-1" strike="noStrike">
                <a:solidFill>
                  <a:srgbClr val="aa01ff"/>
                </a:solidFill>
                <a:latin typeface="Calibri"/>
              </a:rPr>
              <a:t>испачкался</a:t>
            </a: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 бедняжка –</a:t>
            </a:r>
            <a:endParaRPr b="0" lang="en-US" sz="36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В пятнах вся его рубашка.</a:t>
            </a:r>
            <a:endParaRPr b="0" lang="en-US" sz="36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. Я. Бородицк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ётушка луна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640" y="1196640"/>
            <a:ext cx="460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Я возвращался из гостей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В потёмках шёл пешком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За мною </a:t>
            </a: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тётушка Луна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По небу </a:t>
            </a: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шла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бочком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Я сел в трамвай, </a:t>
            </a: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трамвай бежал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По улицам кружа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Над нами </a:t>
            </a: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тётушка Луна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Скакала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дребезжа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56000" y="1267920"/>
            <a:ext cx="4788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Тогда спустился я в метро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Где ходят поезда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Отстала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старая </a:t>
            </a: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Луна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Ей не попасть туда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… 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Усталый прибыл я домой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Вошёл и в кресло – плюх!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В окошке полная </a:t>
            </a: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Луна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Переводила дух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. М. Белозёро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рванная тропинка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Моет туча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синюю </a:t>
            </a: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тайгу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Сбросив с плеч  цветное  коромысло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От дождя промокла и раскисла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Порвалась тропинка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на лугу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В лужицах–разрывах  –  облака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Светит  солнце  и летают птицы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Золотые усики пшеницы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Тенькают о чашечку цветка…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Тёплый  </a:t>
            </a: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ветер 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дует–подувает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Не спеша </a:t>
            </a: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тропинку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Зашивает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Arial"/>
              </a:rPr>
              <a:t>  </a:t>
            </a:r>
            <a:r>
              <a:rPr b="1" lang="ru-RU" sz="4800" spc="-1" strike="noStrike" u="sng">
                <a:solidFill>
                  <a:srgbClr val="663300"/>
                </a:solidFill>
                <a:uFillTx/>
                <a:latin typeface="Calibri"/>
              </a:rPr>
              <a:t>Изобразительные средства</a:t>
            </a:r>
            <a:r>
              <a:rPr b="0" lang="ru-RU" sz="4800" spc="-1" strike="noStrike">
                <a:solidFill>
                  <a:srgbClr val="663300"/>
                </a:solidFill>
                <a:latin typeface="Calibri"/>
              </a:rPr>
              <a:t> – это </a:t>
            </a:r>
            <a:r>
              <a:rPr b="0" i="1" lang="ru-RU" sz="4800" spc="-1" strike="noStrike">
                <a:solidFill>
                  <a:srgbClr val="663300"/>
                </a:solidFill>
                <a:latin typeface="Calibri"/>
              </a:rPr>
              <a:t>особые приёмы употребления слов, которые помогают авторам создавать художественные образы в своих произведениях.</a:t>
            </a:r>
            <a:endParaRPr b="0" lang="en-US" sz="48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Arial"/>
              </a:rPr>
              <a:t>      </a:t>
            </a:r>
            <a:r>
              <a:rPr b="1" lang="ru-RU" sz="4000" spc="-1" strike="noStrike" u="sng">
                <a:solidFill>
                  <a:srgbClr val="039b6c"/>
                </a:solidFill>
                <a:uFillTx/>
                <a:latin typeface="Calibri"/>
              </a:rPr>
              <a:t>Сравнение</a:t>
            </a:r>
            <a:r>
              <a:rPr b="0" lang="ru-RU" sz="4000" spc="-1" strike="noStrike">
                <a:solidFill>
                  <a:srgbClr val="039b6c"/>
                </a:solidFill>
                <a:latin typeface="Calibri"/>
              </a:rPr>
              <a:t> – это сопоставление двух предметов или явлений, чаще всего при помощи слов:</a:t>
            </a:r>
            <a:endParaRPr b="0" lang="en-US" sz="4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9b6c"/>
                </a:solidFill>
                <a:latin typeface="Calibri"/>
              </a:rPr>
              <a:t>                                    </a:t>
            </a: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как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                                    </a:t>
            </a: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будто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                                    </a:t>
            </a: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словно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                                    </a:t>
            </a: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точно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                                    </a:t>
            </a: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что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9b6c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39b6c"/>
                </a:solidFill>
                <a:latin typeface="Calibri"/>
              </a:rPr>
              <a:t>или при помощи</a:t>
            </a:r>
            <a:r>
              <a:rPr b="0" lang="ru-RU" sz="2800" spc="-1" strike="noStrike">
                <a:solidFill>
                  <a:srgbClr val="039b6c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существительного в                     творительном падеже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Т.п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Например: </a:t>
            </a:r>
            <a:r>
              <a:rPr b="0" lang="ru-RU" sz="2800" spc="-1" strike="noStrike">
                <a:solidFill>
                  <a:srgbClr val="039b6c"/>
                </a:solidFill>
                <a:latin typeface="Calibri"/>
              </a:rPr>
              <a:t>дорога вьётся лентой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1280" y="1196640"/>
            <a:ext cx="6562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9b6c"/>
                </a:solidFill>
                <a:latin typeface="Calibri"/>
              </a:rPr>
              <a:t>Звёзды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то роятся, </a:t>
            </a:r>
            <a:r>
              <a:rPr b="0" lang="ru-RU" sz="2800" spc="-1" strike="noStrike">
                <a:solidFill>
                  <a:srgbClr val="039b6c"/>
                </a:solidFill>
                <a:latin typeface="Calibri"/>
              </a:rPr>
              <a:t>будто пчёлы</a:t>
            </a:r>
            <a:r>
              <a:rPr b="0" lang="ru-RU" sz="2800" spc="-1" strike="noStrike">
                <a:solidFill>
                  <a:srgbClr val="0b73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То горят, </a:t>
            </a:r>
            <a:r>
              <a:rPr b="0" lang="ru-RU" sz="2800" spc="-1" strike="noStrike">
                <a:solidFill>
                  <a:srgbClr val="039b6c"/>
                </a:solidFill>
                <a:latin typeface="Calibri"/>
              </a:rPr>
              <a:t>как светляки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Слышно, как слетают с ветки голой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Самые последние листки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Не листок ли вспыхнул, улетая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Золотом блеснул и вдруг исчез?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Звёздочка упала золотая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Закатилась в тёмный тихий лес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С золотыми листиками схожи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9b6c"/>
                </a:solidFill>
                <a:latin typeface="Calibri"/>
              </a:rPr>
              <a:t>Звёзды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с неба сыплются, летят…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9b6c"/>
                </a:solidFill>
                <a:latin typeface="Calibri"/>
              </a:rPr>
              <a:t>Будто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в звёздном небе тоже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Наступил осенний </a:t>
            </a:r>
            <a:r>
              <a:rPr b="0" lang="ru-RU" sz="2800" spc="-1" strike="noStrike">
                <a:solidFill>
                  <a:srgbClr val="039b6c"/>
                </a:solidFill>
                <a:latin typeface="Calibri"/>
              </a:rPr>
              <a:t>листопад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.Ф. Трутнев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вёзд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4038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9b6c"/>
                </a:solidFill>
                <a:latin typeface="Calibri"/>
              </a:rPr>
              <a:t>Словно</a:t>
            </a: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 белый </a:t>
            </a:r>
            <a:r>
              <a:rPr b="0" lang="ru-RU" sz="2400" spc="-1" strike="noStrike">
                <a:solidFill>
                  <a:srgbClr val="039b6c"/>
                </a:solidFill>
                <a:latin typeface="Calibri"/>
              </a:rPr>
              <a:t>самолёт</a:t>
            </a: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9b6c"/>
                </a:solidFill>
                <a:latin typeface="Calibri"/>
              </a:rPr>
              <a:t>Рыбка</a:t>
            </a: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 в синеве плывёт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9b6c"/>
                </a:solidFill>
                <a:latin typeface="Calibri"/>
              </a:rPr>
              <a:t>Красный шар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39b6c"/>
                </a:solidFill>
                <a:latin typeface="Calibri"/>
              </a:rPr>
              <a:t>поплавок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Рыбку подстеречь не мог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В полусонной тишине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Льдины тают на волне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Только это не река,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Это – небо, облака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Это – белый </a:t>
            </a:r>
            <a:r>
              <a:rPr b="0" lang="ru-RU" sz="2400" spc="-1" strike="noStrike">
                <a:solidFill>
                  <a:srgbClr val="039b6c"/>
                </a:solidFill>
                <a:latin typeface="Calibri"/>
              </a:rPr>
              <a:t>самолёт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9b6c"/>
                </a:solidFill>
                <a:latin typeface="Calibri"/>
              </a:rPr>
              <a:t>Рыбкой</a:t>
            </a: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 в синеве </a:t>
            </a:r>
            <a:r>
              <a:rPr b="0" lang="ru-RU" sz="2400" spc="-1" strike="noStrike">
                <a:solidFill>
                  <a:srgbClr val="039b6c"/>
                </a:solidFill>
                <a:latin typeface="Calibri"/>
              </a:rPr>
              <a:t>плывёт</a:t>
            </a: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316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Алый шарик взвился ввысь,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Красным поплавком повис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То не льдины – облака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Тают возле поплавка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…</a:t>
            </a: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Я в густой траве лежу,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В небо синее гляжу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Небо я перевернул,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В небе чуть не утонул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.Л. Аким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лдень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. Еськов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 такое солнц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- </a:t>
            </a:r>
            <a:r>
              <a:rPr b="0" lang="ru-RU" sz="3400" spc="-1" strike="noStrike">
                <a:solidFill>
                  <a:srgbClr val="039b6c"/>
                </a:solidFill>
                <a:latin typeface="Calibri"/>
              </a:rPr>
              <a:t>Солнце</a:t>
            </a:r>
            <a:r>
              <a:rPr b="0" lang="ru-RU" sz="3400" spc="-1" strike="noStrike">
                <a:solidFill>
                  <a:srgbClr val="0b7310"/>
                </a:solidFill>
                <a:latin typeface="Calibri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400" spc="-1" strike="noStrike">
                <a:solidFill>
                  <a:srgbClr val="0b7310"/>
                </a:solidFill>
                <a:latin typeface="Calibri"/>
              </a:rPr>
              <a:t> </a:t>
            </a:r>
            <a:r>
              <a:rPr b="0" lang="ru-RU" sz="3400" spc="-1" strike="noStrike">
                <a:solidFill>
                  <a:srgbClr val="039b6c"/>
                </a:solidFill>
                <a:latin typeface="Calibri"/>
              </a:rPr>
              <a:t>монетка</a:t>
            </a: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, - скупой проворчал.</a:t>
            </a:r>
            <a:endParaRPr b="0" lang="en-US" sz="3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- Нет, </a:t>
            </a:r>
            <a:r>
              <a:rPr b="0" lang="ru-RU" sz="3400" spc="-1" strike="noStrike">
                <a:solidFill>
                  <a:srgbClr val="039b6c"/>
                </a:solidFill>
                <a:latin typeface="Calibri"/>
              </a:rPr>
              <a:t>сковородка</a:t>
            </a: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! - обжора вскричал.</a:t>
            </a:r>
            <a:endParaRPr b="0" lang="en-US" sz="3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- Нет, </a:t>
            </a:r>
            <a:r>
              <a:rPr b="0" lang="ru-RU" sz="3400" spc="-1" strike="noStrike">
                <a:solidFill>
                  <a:srgbClr val="039b6c"/>
                </a:solidFill>
                <a:latin typeface="Calibri"/>
              </a:rPr>
              <a:t>каравай</a:t>
            </a: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, - хлебопёк произнёс.</a:t>
            </a:r>
            <a:endParaRPr b="0" lang="en-US" sz="3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- </a:t>
            </a:r>
            <a:r>
              <a:rPr b="0" lang="ru-RU" sz="3400" spc="-1" strike="noStrike">
                <a:solidFill>
                  <a:srgbClr val="039b6c"/>
                </a:solidFill>
                <a:latin typeface="Calibri"/>
              </a:rPr>
              <a:t>Компас</a:t>
            </a: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, - сказал убеждённо матрос.</a:t>
            </a:r>
            <a:endParaRPr b="0" lang="en-US" sz="3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-</a:t>
            </a:r>
            <a:r>
              <a:rPr b="0" lang="ru-RU" sz="3400" spc="-1" strike="noStrike">
                <a:solidFill>
                  <a:srgbClr val="0b7310"/>
                </a:solidFill>
                <a:latin typeface="Calibri"/>
              </a:rPr>
              <a:t> </a:t>
            </a:r>
            <a:r>
              <a:rPr b="0" lang="ru-RU" sz="3400" spc="-1" strike="noStrike">
                <a:solidFill>
                  <a:srgbClr val="039b6c"/>
                </a:solidFill>
                <a:latin typeface="Calibri"/>
              </a:rPr>
              <a:t>Солнце</a:t>
            </a: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 – </a:t>
            </a:r>
            <a:r>
              <a:rPr b="0" lang="ru-RU" sz="3400" spc="-1" strike="noStrike">
                <a:solidFill>
                  <a:srgbClr val="039b6c"/>
                </a:solidFill>
                <a:latin typeface="Calibri"/>
              </a:rPr>
              <a:t>звезда</a:t>
            </a: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, - астроном объявил.</a:t>
            </a:r>
            <a:endParaRPr b="0" lang="en-US" sz="3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- </a:t>
            </a:r>
            <a:r>
              <a:rPr b="0" lang="ru-RU" sz="3400" spc="-1" strike="noStrike">
                <a:solidFill>
                  <a:srgbClr val="039b6c"/>
                </a:solidFill>
                <a:latin typeface="Calibri"/>
              </a:rPr>
              <a:t>Доброе сердце</a:t>
            </a: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, - мечтатель решил.</a:t>
            </a:r>
            <a:endParaRPr b="0" lang="en-US" sz="34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7854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                </a:t>
            </a:r>
            <a:r>
              <a:rPr b="1" lang="ru-RU" sz="4400" spc="-1" strike="noStrike" u="sng">
                <a:solidFill>
                  <a:srgbClr val="350476"/>
                </a:solidFill>
                <a:uFillTx/>
                <a:latin typeface="Calibri"/>
              </a:rPr>
              <a:t>Эпитет</a:t>
            </a:r>
            <a:r>
              <a:rPr b="0" lang="ru-RU" sz="4400" spc="-1" strike="noStrike">
                <a:solidFill>
                  <a:srgbClr val="350476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350476"/>
                </a:solidFill>
                <a:latin typeface="Calibri"/>
              </a:rPr>
              <a:t>– это художественное определение (прилагательное употребляется в переносном значении).</a:t>
            </a:r>
            <a:endParaRPr b="0" lang="en-US" sz="4400" spc="-1" strike="noStrike">
              <a:solidFill>
                <a:srgbClr val="4c4545"/>
              </a:solidFill>
              <a:latin typeface="Calibri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50476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4c4545"/>
                </a:solidFill>
                <a:latin typeface="Calibri"/>
              </a:rPr>
              <a:t>Например:   </a:t>
            </a:r>
            <a:r>
              <a:rPr b="0" lang="ru-RU" sz="4400" spc="-1" strike="noStrike">
                <a:solidFill>
                  <a:srgbClr val="350476"/>
                </a:solidFill>
                <a:latin typeface="Calibri"/>
              </a:rPr>
              <a:t>золотые руки,                   </a:t>
            </a:r>
            <a:endParaRPr b="0" lang="en-US" sz="4400" spc="-1" strike="noStrike">
              <a:solidFill>
                <a:srgbClr val="4c4545"/>
              </a:solidFill>
              <a:latin typeface="Calibri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50476"/>
                </a:solidFill>
                <a:latin typeface="Calibri"/>
              </a:rPr>
              <a:t>                          </a:t>
            </a:r>
            <a:r>
              <a:rPr b="0" lang="ru-RU" sz="4400" spc="-1" strike="noStrike">
                <a:solidFill>
                  <a:srgbClr val="350476"/>
                </a:solidFill>
                <a:latin typeface="Calibri"/>
              </a:rPr>
              <a:t>холодное сердце, </a:t>
            </a:r>
            <a:endParaRPr b="0" lang="en-US" sz="4400" spc="-1" strike="noStrike">
              <a:solidFill>
                <a:srgbClr val="4c4545"/>
              </a:solidFill>
              <a:latin typeface="Calibri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50476"/>
                </a:solidFill>
                <a:latin typeface="Calibri"/>
              </a:rPr>
              <a:t>                          </a:t>
            </a:r>
            <a:r>
              <a:rPr b="0" lang="ru-RU" sz="4400" spc="-1" strike="noStrike">
                <a:solidFill>
                  <a:srgbClr val="350476"/>
                </a:solidFill>
                <a:latin typeface="Calibri"/>
              </a:rPr>
              <a:t>хмурая погода.</a:t>
            </a:r>
            <a:endParaRPr b="0" lang="en-US" sz="44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.А.Бунин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истопад  (отрывок)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47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Лес, точно </a:t>
            </a:r>
            <a:r>
              <a:rPr b="0" lang="ru-RU" sz="2000" spc="-1" strike="noStrike">
                <a:solidFill>
                  <a:srgbClr val="350476"/>
                </a:solidFill>
                <a:latin typeface="Calibri"/>
              </a:rPr>
              <a:t>терем расписной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0476"/>
                </a:solidFill>
                <a:latin typeface="Calibri"/>
              </a:rPr>
              <a:t>Лиловый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350476"/>
                </a:solidFill>
                <a:latin typeface="Calibri"/>
              </a:rPr>
              <a:t>золотой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350476"/>
                </a:solidFill>
                <a:latin typeface="Calibri"/>
              </a:rPr>
              <a:t>багряный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Весёлой, пёстрою стеной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Стоит над светлою поляной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Берёзы жёлтою резьбой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Блестят в лазури голубой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Как вышки</a:t>
            </a:r>
            <a:r>
              <a:rPr b="0" lang="ru-RU" sz="2000" spc="-1" strike="noStrike">
                <a:solidFill>
                  <a:srgbClr val="0b731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ёлочки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 темнеют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А между клёнами синеют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То там, то здесь в листве сквозной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Просветы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 в небо, </a:t>
            </a: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что оконца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Лес пахнет дубом и сосной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За лето высох он от солнца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И осень тихою вдовой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Вступает в </a:t>
            </a:r>
            <a:r>
              <a:rPr b="0" lang="ru-RU" sz="2000" spc="-1" strike="noStrike">
                <a:solidFill>
                  <a:srgbClr val="350476"/>
                </a:solidFill>
                <a:latin typeface="Calibri"/>
              </a:rPr>
              <a:t>пёстрый терем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 свой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Сегодня на пустой поляне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Среди широкого двора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Воздушной </a:t>
            </a: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паутины ткани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Блестят, </a:t>
            </a: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как сеть из серебра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Сегодня целый день играет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В дворе последний </a:t>
            </a: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мотылёк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И, </a:t>
            </a: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точно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 белый </a:t>
            </a: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лепесток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На паутине замирает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Пригретый солнечным теплом;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Сегодня так светло кругом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Такое </a:t>
            </a:r>
            <a:r>
              <a:rPr b="0" lang="ru-RU" sz="2000" spc="-1" strike="noStrike">
                <a:solidFill>
                  <a:srgbClr val="350476"/>
                </a:solidFill>
                <a:latin typeface="Calibri"/>
              </a:rPr>
              <a:t>мёртвое молчанье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В лесу и в синей вышине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Что можно в этой тишине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Расслышать листика шуршанье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Лес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, точно </a:t>
            </a: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терем</a:t>
            </a:r>
            <a:r>
              <a:rPr b="0" lang="ru-RU" sz="2000" spc="-1" strike="noStrike">
                <a:solidFill>
                  <a:srgbClr val="0b731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расписной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Лиловый, золотой, багряный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Стоит над солнечной поляной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Заворожённый тишиной…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        </a:t>
            </a:r>
            <a:r>
              <a:rPr b="0" lang="ru-RU" sz="4400" spc="-1" strike="noStrike" u="sng">
                <a:solidFill>
                  <a:srgbClr val="eb1d31"/>
                </a:solidFill>
                <a:uFillTx/>
                <a:latin typeface="Calibri"/>
              </a:rPr>
              <a:t>Метафора</a:t>
            </a:r>
            <a:r>
              <a:rPr b="0" lang="ru-RU" sz="4400" spc="-1" strike="noStrike">
                <a:solidFill>
                  <a:srgbClr val="eb1d31"/>
                </a:solidFill>
                <a:latin typeface="Calibri"/>
              </a:rPr>
              <a:t> – это слово или выражение, употреблённое в переносном значении, из-за сходства предметов или явлений  по какому-либо признаку (скрытое сравнение).</a:t>
            </a:r>
            <a:endParaRPr b="0" lang="en-US" sz="4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c4545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4c0c0e"/>
                </a:solidFill>
                <a:latin typeface="Calibri"/>
              </a:rPr>
              <a:t>Например:</a:t>
            </a:r>
            <a:r>
              <a:rPr b="0" lang="ru-RU" sz="4000" spc="-1" strike="noStrike">
                <a:solidFill>
                  <a:srgbClr val="4c4545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eb1d31"/>
                </a:solidFill>
                <a:latin typeface="Calibri"/>
              </a:rPr>
              <a:t>пожар заката,   </a:t>
            </a:r>
            <a:endParaRPr b="0" lang="en-US" sz="4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1d31"/>
                </a:solidFill>
                <a:latin typeface="Calibri"/>
              </a:rPr>
              <a:t>                         </a:t>
            </a:r>
            <a:r>
              <a:rPr b="0" lang="ru-RU" sz="4000" spc="-1" strike="noStrike">
                <a:solidFill>
                  <a:srgbClr val="eb1d31"/>
                </a:solidFill>
                <a:latin typeface="Calibri"/>
              </a:rPr>
              <a:t>говор волн.</a:t>
            </a:r>
            <a:endParaRPr b="0" lang="en-US" sz="40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21:46:56Z</dcterms:created>
  <dc:creator>Liza</dc:creator>
  <dc:description/>
  <dc:language>en-US</dc:language>
  <cp:lastModifiedBy>1</cp:lastModifiedBy>
  <dcterms:modified xsi:type="dcterms:W3CDTF">2017-09-13T12:19:36Z</dcterms:modified>
  <cp:revision>4</cp:revision>
  <dc:subject/>
  <dc:title>Изобразительные средства</dc:title>
</cp:coreProperties>
</file>