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127-C8EE-4739-8153-DDF5FAE6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EE4-DB01-48B2-AD0E-33041B06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D18-5903-421F-92EC-A32F010F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792-722B-45D2-9EAB-3CC4129E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9B6B-DF0F-47C6-9334-EC1E06C2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2FFE-F6AD-4E5B-B6FE-74F77624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5642-3990-49FF-9D90-4893763E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2866-2E7D-42C3-AEFC-4D390AF9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2FF5-2E2E-4F16-83D2-96E0574F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C422-4CE3-403A-A489-E4147473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C58A-1A62-44B2-9660-6274DF44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2EF-5056-40E8-B392-1A70D9BA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D2EB-3448-4887-9D3D-06493A18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A163-E3F3-488B-BD34-A412B9A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FC5A-09BC-4CF2-98ED-32840BEA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6845-A801-4B4F-B3EA-5CA9F072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3C86-CAD3-487B-9390-39821470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0AC-D2CD-415F-8810-7039AE5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725-BC5B-470A-8BD8-A560C39F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EA0-576B-4673-BDEB-807F782F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038-EE59-4A73-AADB-8C38FF13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1C4-2250-4B7D-B38A-681CEDA0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99A-D0C1-4348-9EAF-EC8579C1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159-6EB5-40FA-8381-4464973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46F-D44D-4279-8530-891CB3D97D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C23A-6310-458D-8067-7B4C7F82F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ТЕХНОЛОГ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КОГНИТИВН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ИЗУАЛИЗ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елова Елена Михайл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БОУ СШ №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.Вязь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ализация технологии К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ОР к классному часу, воспитательным мероприятия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идеорол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класс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класс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клас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50292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временные ИКТ  технолог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ся повсеместно, способствуя развитию когнитивных способ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 ключевой фигур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чебном процесс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таё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торый грамотно организу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у взаимодействия ребён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электронно-цифровым обеспечен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огнити́вность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(лат. cognitio, «познание, изучение, осознание»)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 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пособность к умственному восприятию и переработке внешней информ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акт познания или само зн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вокупность процессов, посредством которых мы приобретаем зн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изуализация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ставление информации в виде оптического изображения (например, в виде рисунков и фотографий, графиков, диаграмм, структурных схем, таблиц, карт и т. д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ставление изначально не зрительной информации (например, температуры, плотности населения, времени и т. д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огнитивная визуализаци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вокуп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етодов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ём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средст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разного представлен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ставленных перед детьм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зовательных зада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35049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но, что человек получае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60%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уальн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.А.Каменский, И.Г.Песталоцц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.Д. Ушински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читали обязательны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у де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глядного предста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324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и младших классов име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глядно-образное мышл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поэтому важно применя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бучении  качественный иллюстративный материал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кая в процесс восприя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рение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моци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обра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Цель и задач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ышение качества образ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ктивизация познавательной деятельности учащих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ышение мотивации обу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фференциация обу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витие мыш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Формирование навыков добывания и анализа информации для дальнейшего самообраз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ализация технологии КВ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ОР к уроку чтения, русского язы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m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интерактивная приставк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активные КИ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нажё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562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ализация технологии К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вающие иг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иртуальные экскурсии и путе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следовательские рабо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ворческие проек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10-02T00:39:0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