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27C5-B484-4588-8883-FC54F37A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F62E-751C-4337-BB56-D49F13B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A076-61A5-4AF6-862F-B55C58A3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7C65-6735-4835-A337-4A07FCEE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90180-BBE7-4290-AF97-E499C4E94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7720-963C-4262-B904-BDD7E67B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C52A-79A4-4189-8EB9-11D92A40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38C6-40AC-4E9D-94C1-E7503706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CABE-8E1E-498B-8B3B-65B0DFD1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CA98-ABB2-42EC-A14B-59A46D6D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D971-7BFB-4BB8-AD45-1B641DE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1F94-9B05-4E05-8D86-5DFEF7A6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7569-8A5E-431E-981F-FF55649F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199A-4D1F-4EAD-9A0D-9DCAC657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219C-4E93-497F-909E-647AA772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DE74-A6C3-48BB-95E6-6EADB8BD3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5EF3-DCB0-45CF-8A8B-8DA38872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889-9643-4D84-8AC2-4A397CEA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6626-D4E4-4CB6-90C1-055206C6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518-17EA-467B-8D8D-64384AA7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4882-7871-45D8-8A48-3EB9DE99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14A9-137D-4B92-BA74-31BF13BA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FD82-E6D1-4CA2-B561-95F6F368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461-8030-4233-A687-40B57699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641B-BAC0-4FA9-AC56-F75401692C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ECFA-E93E-4DC7-A72F-ABEE226AB9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ТЕХНОЛОГ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КОГНИТИВНОЙ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ВИЗУАЛИЗАЦИ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70106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елова Елена Михайлов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БОУ СШ №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.Вязь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ализация технологии К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ОР к классному часу, воспитательным мероприятия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идеороли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зентац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1класс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2класс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3класс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3733920" y="3124080"/>
            <a:ext cx="502920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временные ИКТ  технологи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ся повсеместно, способствуя развитию когнитивных способност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 ключевой фигур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учебном процесс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таё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торый грамотно организу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у взаимодействия ребёнк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электронно-цифровым обеспечением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2286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огнити́вность </a:t>
            </a: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(лат. cognitio, «познание, изучение, осознание»)</a:t>
            </a: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 -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20570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пособность к умственному восприятию и переработке внешней информ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акт познания или само знани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вокупность процессов, посредством которых мы приобретаем зн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изуализация </a:t>
            </a: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-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ставление информации в виде оптического изображения (например, в виде рисунков и фотографий, графиков, диаграмм, структурных схем, таблиц, карт и т. д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едставление изначально не зрительной информации (например, температуры, плотности населения, времени и т. д.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огнитивная визуализация</a:t>
            </a:r>
            <a:r>
              <a:rPr b="1" lang="ru-RU" sz="34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вокуп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етодов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иём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средст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образного представлени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поставленных перед детьм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зовательных зада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3504960"/>
            <a:ext cx="8001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но, что человек получае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60%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нформаци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изуальн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.А.Каменский, И.Г.Песталоцц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.Д. Ушински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читали обязательны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ирование у дет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глядного представления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447920" y="152280"/>
            <a:ext cx="6324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Актуальн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ченики младших классов име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глядно-образное мышл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поэтому важно применя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 обучении  качественный иллюстративный материал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кая в процесс восприя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рение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х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эмоции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ображени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Цель и задач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ышение качества образ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ктивизация познавательной деятельности учащихс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вышение мотивации обу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фференциация обу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звитие мыш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Формирование навыков добывания и анализа информации для дальнейшего самообразов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ализация технологии КВ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ОР к уроку чтения, русского язык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mio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интерактивная приставка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активные КИ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нажё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828800" y="2590920"/>
            <a:ext cx="55627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еализация технологии К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60020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вивающие иг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иртуальные экскурсии и путе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следовательские рабо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ворческие проек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7-10-02T00:39:09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