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83.png" ContentType="image/png"/>
  <Override PartName="/ppt/media/image58.jpeg" ContentType="image/jpeg"/>
  <Override PartName="/ppt/media/image7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1.png" ContentType="image/png"/>
  <Override PartName="/ppt/media/image4.jpeg" ContentType="image/jpeg"/>
  <Override PartName="/ppt/media/image49.jpeg" ContentType="image/jpeg"/>
  <Override PartName="/ppt/media/image88.png" ContentType="image/png"/>
  <Override PartName="/ppt/media/image48.jpeg" ContentType="image/jpe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13.jpeg" ContentType="image/jpeg"/>
  <Override PartName="/ppt/media/image12.jpeg" ContentType="image/jpeg"/>
  <Override PartName="/ppt/media/image29.jpeg" ContentType="image/jpeg"/>
  <Override PartName="/ppt/media/image9.jpeg" ContentType="image/jpeg"/>
  <Override PartName="/ppt/media/image34.jpeg" ContentType="image/jpeg"/>
  <Override PartName="/ppt/media/image7.png" ContentType="image/png"/>
  <Override PartName="/ppt/media/image79.jpeg" ContentType="image/jpeg"/>
  <Override PartName="/ppt/media/image39.png" ContentType="image/png"/>
  <Override PartName="/ppt/media/image64.jpeg" ContentType="image/jpeg"/>
  <Override PartName="/ppt/media/image20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17.jpeg" ContentType="image/jpeg"/>
  <Override PartName="/ppt/media/image77.png" ContentType="image/png"/>
  <Override PartName="/ppt/media/image40.png" ContentType="image/png"/>
  <Override PartName="/ppt/media/image61.jpeg" ContentType="image/jpeg"/>
  <Override PartName="/ppt/media/image78.jpeg" ContentType="image/jpeg"/>
  <Override PartName="/ppt/media/image62.png" ContentType="image/png"/>
  <Override PartName="/ppt/media/image19.jpeg" ContentType="image/jpeg"/>
  <Override PartName="/ppt/media/image63.jpeg" ContentType="image/jpeg"/>
  <Override PartName="/ppt/media/image90.jpeg" ContentType="image/jpeg"/>
  <Override PartName="/ppt/media/image6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76.jpeg" ContentType="image/jpeg"/>
  <Override PartName="/ppt/media/image91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89.png" ContentType="image/png"/>
  <Override PartName="/ppt/media/image50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85.jpeg" ContentType="image/jpeg"/>
  <Override PartName="/ppt/media/image26.jpeg" ContentType="image/jpeg"/>
  <Override PartName="/ppt/media/image70.jpeg" ContentType="image/jpeg"/>
  <Override PartName="/ppt/media/image5.png" ContentType="image/png"/>
  <Override PartName="/ppt/media/image43.jpeg" ContentType="image/jpeg"/>
  <Override PartName="/ppt/media/image15.jpeg" ContentType="image/jpeg"/>
  <Override PartName="/ppt/media/image24.png" ContentType="image/png"/>
  <Override PartName="/ppt/media/image28.jpeg" ContentType="image/jpeg"/>
  <Override PartName="/ppt/media/image11.jpeg" ContentType="image/jpeg"/>
  <Override PartName="/ppt/media/image87.jpeg" ContentType="image/jpeg"/>
  <Override PartName="/ppt/media/image2.jpeg" ContentType="image/jpeg"/>
  <Override PartName="/ppt/media/image57.png" ContentType="image/png"/>
  <Override PartName="/ppt/media/image84.jpeg" ContentType="image/jpeg"/>
  <Override PartName="/ppt/media/image25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86.jpeg" ContentType="image/jpeg"/>
  <Override PartName="/ppt/media/image36.jpeg" ContentType="image/jpeg"/>
  <Override PartName="/ppt/media/image10.png" ContentType="image/png"/>
  <Override PartName="/ppt/media/image35.jpeg" ContentType="image/jpeg"/>
  <Override PartName="/ppt/media/image14.jpeg" ContentType="image/jpeg"/>
  <Override PartName="/ppt/media/image41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8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dt" idx="2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45821-FA70-414D-A66E-E8B460DDE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Microsoft YaHei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D5AE6-9602-4C32-A8BB-35E49B3C55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39FB-D996-4570-A951-09AA4FC94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84FCC-C45F-49C6-9DFB-ED588061D1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29D7D-38BB-406A-A50F-F5BA1676A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4057200"/>
            <a:ext cx="264816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6B725-A5FE-4E2E-BFB1-5CDABAD2AC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164C-EDFC-414E-AC04-3AE10502A9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074A4-E085-465C-8818-246E781EA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D2124-43F2-43A6-8928-29C0C03E8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76C6-248E-49BA-B2BA-3D66E98F9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74600"/>
            <a:ext cx="822492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AFCF-0071-4E99-900C-35AFE762A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9CDF-A087-4E0E-8FCF-7DD0A8B5A8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4057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CA49-242B-4357-9803-104C4324D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7200"/>
            <a:ext cx="8224920" cy="22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4F0D-8CD0-4AA6-BD27-AF02FC6EB2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74600"/>
            <a:ext cx="82249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413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4134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924680" y="6409800"/>
            <a:ext cx="757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4A736-D6A8-45EC-99D7-796ED04AEF28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jpeg"/><Relationship Id="rId8" Type="http://schemas.openxmlformats.org/officeDocument/2006/relationships/image" Target="../media/image47.jpeg"/><Relationship Id="rId9" Type="http://schemas.openxmlformats.org/officeDocument/2006/relationships/image" Target="../media/image48.jpeg"/><Relationship Id="rId10" Type="http://schemas.openxmlformats.org/officeDocument/2006/relationships/image" Target="../media/image49.jpeg"/><Relationship Id="rId11" Type="http://schemas.openxmlformats.org/officeDocument/2006/relationships/image" Target="../media/image50.jpeg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image" Target="../media/image7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2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image" Target="../media/image82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image" Target="../media/image87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jpeg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676440" y="2232000"/>
            <a:ext cx="7780320" cy="1581120"/>
            <a:chOff x="676440" y="2232000"/>
            <a:chExt cx="7780320" cy="1581120"/>
          </a:xfrm>
        </p:grpSpPr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676440" y="2232000"/>
              <a:ext cx="7780320" cy="1581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3280" y="3933720"/>
            <a:ext cx="2340000" cy="2619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392720" y="4032360"/>
            <a:ext cx="3887640" cy="244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759280" y="216000"/>
            <a:ext cx="3095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450720" y="55440"/>
            <a:ext cx="8237520" cy="604800"/>
            <a:chOff x="450720" y="55440"/>
            <a:chExt cx="8237520" cy="60480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450720" y="5544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0720" y="5544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39640" y="692280"/>
            <a:ext cx="822960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б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л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ум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брик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832360" y="692280"/>
            <a:ext cx="1871640" cy="1035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2679840" y="719280"/>
            <a:ext cx="1784160" cy="936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095640" y="1801800"/>
            <a:ext cx="1150920" cy="93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975280" y="1800360"/>
            <a:ext cx="1440000" cy="936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5975280" y="2879640"/>
            <a:ext cx="136836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3095640" y="2879640"/>
            <a:ext cx="1150920" cy="936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3095640" y="4103640"/>
            <a:ext cx="1150920" cy="1081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5904000" y="4103640"/>
            <a:ext cx="1439640" cy="1081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2933640" y="5516640"/>
            <a:ext cx="1243080" cy="1008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5904000" y="5472000"/>
            <a:ext cx="143964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dur="indefinite" fill="hold">
                      <p:stCondLst>
                        <p:cond delay="indefinite"/>
                      </p:stCondLst>
                      <p:childTnLst>
                        <p:par>
                          <p:cTn id="3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dur="indefinite" fill="hold">
                      <p:stCondLst>
                        <p:cond delay="indefinite"/>
                      </p:stCondLst>
                      <p:childTnLst>
                        <p:par>
                          <p:cTn id="3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dur="indefinite" fill="hold">
                      <p:stCondLst>
                        <p:cond delay="indefinite"/>
                      </p:stCondLst>
                      <p:childTnLst>
                        <p:par>
                          <p:cTn id="3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dur="indefinite" fill="hold">
                      <p:stCondLst>
                        <p:cond delay="indefinite"/>
                      </p:stCondLst>
                      <p:childTnLst>
                        <p:par>
                          <p:cTn id="4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dur="indefinite" fill="hold">
                      <p:stCondLst>
                        <p:cond delay="indefinite"/>
                      </p:stCondLst>
                      <p:childTnLst>
                        <p:par>
                          <p:cTn id="4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dur="indefinite" fill="hold">
                      <p:stCondLst>
                        <p:cond delay="indefinite"/>
                      </p:stCondLst>
                      <p:childTnLst>
                        <p:par>
                          <p:cTn id="4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dur="indefinite" fill="hold">
                      <p:stCondLst>
                        <p:cond delay="indefinite"/>
                      </p:stCondLst>
                      <p:childTnLst>
                        <p:par>
                          <p:cTn id="4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dur="indefinite" fill="hold">
                      <p:stCondLst>
                        <p:cond delay="indefinite"/>
                      </p:stCondLst>
                      <p:childTnLst>
                        <p:par>
                          <p:cTn id="4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dur="indefinite" fill="hold">
                      <p:stCondLst>
                        <p:cond delay="indefinite"/>
                      </p:stCondLst>
                      <p:childTnLst>
                        <p:par>
                          <p:cTn id="4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450720" y="128520"/>
            <a:ext cx="8237520" cy="604800"/>
            <a:chOff x="450720" y="128520"/>
            <a:chExt cx="8237520" cy="60480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450720" y="12852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0720" y="12852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368360" y="2519280"/>
            <a:ext cx="1440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у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190520" y="109044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335640" y="1163520"/>
            <a:ext cx="1598760" cy="1428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743280" y="2448000"/>
            <a:ext cx="1905120" cy="18716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6480000" y="4608360"/>
            <a:ext cx="1727280" cy="1644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1295280" y="460836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408720" y="2592360"/>
            <a:ext cx="129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19640" y="4319640"/>
            <a:ext cx="1079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84360" y="6019920"/>
            <a:ext cx="10796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80000" y="6191280"/>
            <a:ext cx="2160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стрю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468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4680"/>
                <a:tab algn="l" pos="992160"/>
                <a:tab algn="l" pos="1441440"/>
                <a:tab algn="l" pos="1890720"/>
                <a:tab algn="l" pos="2340000"/>
                <a:tab algn="l" pos="2789280"/>
                <a:tab algn="l" pos="3238560"/>
                <a:tab algn="l" pos="3687840"/>
                <a:tab algn="l" pos="4137120"/>
                <a:tab algn="l" pos="4586400"/>
                <a:tab algn="l" pos="5035680"/>
                <a:tab algn="l" pos="5484960"/>
                <a:tab algn="l" pos="5934240"/>
                <a:tab algn="l" pos="6383160"/>
                <a:tab algn="l" pos="6832440"/>
                <a:tab algn="l" pos="7281720"/>
                <a:tab algn="l" pos="7731000"/>
                <a:tab algn="l" pos="8180280"/>
                <a:tab algn="l" pos="8629560"/>
                <a:tab algn="l" pos="9078840"/>
                <a:tab algn="l" pos="95281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dur="indefinite" fill="hold">
                      <p:stCondLst>
                        <p:cond delay="indefinite"/>
                      </p:stCondLst>
                      <p:childTnLst>
                        <p:par>
                          <p:cTn id="4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dur="indefinite" fill="hold">
                      <p:stCondLst>
                        <p:cond delay="indefinite"/>
                      </p:stCondLst>
                      <p:childTnLst>
                        <p:par>
                          <p:cTn id="4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dur="indefinite" fill="hold">
                      <p:stCondLst>
                        <p:cond delay="indefinite"/>
                      </p:stCondLst>
                      <p:childTnLst>
                        <p:par>
                          <p:cTn id="4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dur="indefinite" fill="hold">
                      <p:stCondLst>
                        <p:cond delay="indefinite"/>
                      </p:stCondLst>
                      <p:childTnLst>
                        <p:par>
                          <p:cTn id="4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dur="indefinite" fill="hold">
                      <p:stCondLst>
                        <p:cond delay="indefinite"/>
                      </p:stCondLst>
                      <p:childTnLst>
                        <p:par>
                          <p:cTn id="4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dur="indefinite" fill="hold">
                      <p:stCondLst>
                        <p:cond delay="indefinite"/>
                      </p:stCondLst>
                      <p:childTnLst>
                        <p:par>
                          <p:cTn id="4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dur="indefinite" fill="hold">
                      <p:stCondLst>
                        <p:cond delay="indefinite"/>
                      </p:stCondLst>
                      <p:childTnLst>
                        <p:par>
                          <p:cTn id="5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450720" y="109440"/>
            <a:ext cx="8237520" cy="800280"/>
            <a:chOff x="450720" y="109440"/>
            <a:chExt cx="8237520" cy="80028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2375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0720" y="109440"/>
              <a:ext cx="8237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463680" y="1224000"/>
            <a:ext cx="5008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маленького Сани сани едут 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Сани едут сами у маленького Са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56360" y="936720"/>
            <a:ext cx="2376360" cy="1511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58880" y="2592360"/>
            <a:ext cx="1905120" cy="1224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5256360" y="3743280"/>
            <a:ext cx="2447640" cy="1573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576360" y="5256360"/>
            <a:ext cx="2190600" cy="1428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879640" y="2952720"/>
            <a:ext cx="50086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а боса и без поя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1640" y="4176720"/>
            <a:ext cx="5008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 Сони и Сани в сетях сом с у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В сетях сом с усами у Сони и Сан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0040" y="5610240"/>
            <a:ext cx="50086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ъел Слава са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а сала было ма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dur="indefinite" fill="hold">
                      <p:stCondLst>
                        <p:cond delay="indefinite"/>
                      </p:stCondLst>
                      <p:childTnLst>
                        <p:par>
                          <p:cTn id="5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dur="indefinite" fill="hold">
                      <p:stCondLst>
                        <p:cond delay="indefinite"/>
                      </p:stCondLst>
                      <p:childTnLst>
                        <p:par>
                          <p:cTn id="5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dur="indefinite" fill="hold">
                      <p:stCondLst>
                        <p:cond delay="indefinite"/>
                      </p:stCondLst>
                      <p:childTnLst>
                        <p:par>
                          <p:cTn id="5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dur="indefinite" fill="hold">
                      <p:stCondLst>
                        <p:cond delay="indefinite"/>
                      </p:stCondLst>
                      <p:childTnLst>
                        <p:par>
                          <p:cTn id="5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 fill="hold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dur="indefinite" fill="hold">
                      <p:stCondLst>
                        <p:cond delay="indefinite"/>
                      </p:stCondLst>
                      <p:childTnLst>
                        <p:par>
                          <p:cTn id="5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dur="indefinite" fill="hold">
                      <p:stCondLst>
                        <p:cond delay="indefinite"/>
                      </p:stCondLst>
                      <p:childTnLst>
                        <p:par>
                          <p:cTn id="5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0" dur="10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dur="indefinite" fill="hold">
                      <p:stCondLst>
                        <p:cond delay="indefinite"/>
                      </p:stCondLst>
                      <p:childTnLst>
                        <p:par>
                          <p:cTn id="5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dur="indefinite" fill="hold">
                      <p:stCondLst>
                        <p:cond delay="indefinite"/>
                      </p:stCondLst>
                      <p:childTnLst>
                        <p:par>
                          <p:cTn id="5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 fill="hold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dur="indefinite" fill="hold">
                      <p:stCondLst>
                        <p:cond delay="indefinite"/>
                      </p:stCondLst>
                      <p:childTnLst>
                        <p:par>
                          <p:cTn id="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450720" y="-12600"/>
            <a:ext cx="8237520" cy="885600"/>
            <a:chOff x="450720" y="-12600"/>
            <a:chExt cx="8237520" cy="885600"/>
          </a:xfrm>
        </p:grpSpPr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450720" y="-12600"/>
              <a:ext cx="823752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50720" y="-12600"/>
              <a:ext cx="8237520" cy="88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-34920" y="2664000"/>
            <a:ext cx="341964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а связала сви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63640" y="874800"/>
            <a:ext cx="1800360" cy="1716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743280" y="2016000"/>
            <a:ext cx="1871640" cy="17892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959520" y="874800"/>
            <a:ext cx="1536840" cy="2004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832360" y="431964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936720" y="3456000"/>
            <a:ext cx="1439640" cy="2160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735280" y="3827520"/>
            <a:ext cx="37432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Сани новый само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9080" y="2963880"/>
            <a:ext cx="34192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лава и Сон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грали в сал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-34920" y="5648400"/>
            <a:ext cx="341964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У Сониной бабушки есть самов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84720" y="5810400"/>
            <a:ext cx="341964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ама свар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кусный су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 fill="hold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dur="indefinite" fill="hold">
                      <p:stCondLst>
                        <p:cond delay="indefinite"/>
                      </p:stCondLst>
                      <p:childTnLst>
                        <p:par>
                          <p:cTn id="5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 fill="hold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dur="indefinite" fill="hold">
                      <p:stCondLst>
                        <p:cond delay="indefinite"/>
                      </p:stCondLst>
                      <p:childTnLst>
                        <p:par>
                          <p:cTn id="6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 fill="hold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dur="indefinite" fill="hold">
                      <p:stCondLst>
                        <p:cond delay="indefinite"/>
                      </p:stCondLst>
                      <p:childTnLst>
                        <p:par>
                          <p:cTn id="6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dur="indefinite" fill="hold">
                      <p:stCondLst>
                        <p:cond delay="indefinite"/>
                      </p:stCondLst>
                      <p:childTnLst>
                        <p:par>
                          <p:cTn id="6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 fill="hold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dur="indefinite" fill="hold">
                      <p:stCondLst>
                        <p:cond delay="indefinite"/>
                      </p:stCondLst>
                      <p:childTnLst>
                        <p:par>
                          <p:cTn id="6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450720" y="139680"/>
            <a:ext cx="8237520" cy="885960"/>
            <a:chOff x="450720" y="139680"/>
            <a:chExt cx="8237520" cy="885960"/>
          </a:xfrm>
        </p:grpSpPr>
        <p:pic>
          <p:nvPicPr>
            <p:cNvPr id="182" name="" descr=""/>
            <p:cNvPicPr/>
            <p:nvPr/>
          </p:nvPicPr>
          <p:blipFill>
            <a:blip r:embed="rId1"/>
            <a:stretch/>
          </p:blipFill>
          <p:spPr>
            <a:xfrm>
              <a:off x="450720" y="139680"/>
              <a:ext cx="823752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50720" y="139680"/>
              <a:ext cx="82375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592360" y="1584360"/>
            <a:ext cx="4468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 Ларисы длинная к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792000" y="1054080"/>
            <a:ext cx="1692360" cy="1682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566040" y="4867200"/>
            <a:ext cx="2068200" cy="1500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1079640" y="3456000"/>
            <a:ext cx="1081080" cy="1800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5"/>
          <a:stretch/>
        </p:blipFill>
        <p:spPr>
          <a:xfrm>
            <a:off x="6912000" y="2330280"/>
            <a:ext cx="1655640" cy="1584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952720" y="2852640"/>
            <a:ext cx="44686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 Светы новые бу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16000" y="4103640"/>
            <a:ext cx="561996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стене висят старинные ча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28720" y="5372280"/>
            <a:ext cx="5116680" cy="6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У Самосвала новые колё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dur="indefinite" fill="hold">
                      <p:stCondLst>
                        <p:cond delay="indefinite"/>
                      </p:stCondLst>
                      <p:childTnLst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2" dur="1000" fill="hold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dur="indefinite" fill="hold">
                      <p:stCondLst>
                        <p:cond delay="indefinite"/>
                      </p:stCondLst>
                      <p:childTnLst>
                        <p:par>
                          <p:cTn id="6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dur="indefinite" fill="hold">
                      <p:stCondLst>
                        <p:cond delay="indefinite"/>
                      </p:stCondLst>
                      <p:childTnLst>
                        <p:par>
                          <p:cTn id="6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dur="indefinite" fill="hold">
                      <p:stCondLst>
                        <p:cond delay="indefinite"/>
                      </p:stCondLst>
                      <p:childTnLst>
                        <p:par>
                          <p:cTn id="6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dur="indefinite" fill="hold">
                      <p:stCondLst>
                        <p:cond delay="indefinite"/>
                      </p:stCondLst>
                      <p:childTnLst>
                        <p:par>
                          <p:cTn id="6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dur="indefinite" fill="hold">
                      <p:stCondLst>
                        <p:cond delay="indefinite"/>
                      </p:stCondLst>
                      <p:childTnLst>
                        <p:par>
                          <p:cTn id="6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dur="indefinite" fill="hold">
                      <p:stCondLst>
                        <p:cond delay="indefinite"/>
                      </p:stCondLst>
                      <p:childTnLst>
                        <p:par>
                          <p:cTn id="6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dur="indefinite" fill="hold">
                      <p:stCondLst>
                        <p:cond delay="indefinite"/>
                      </p:stCondLst>
                      <p:childTnLst>
                        <p:par>
                          <p:cTn id="6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450720" y="268200"/>
            <a:ext cx="8237520" cy="1001880"/>
            <a:chOff x="450720" y="268200"/>
            <a:chExt cx="8237520" cy="10018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37520" cy="100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50720" y="268200"/>
              <a:ext cx="823752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08000" y="3311640"/>
            <a:ext cx="4140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 мосту едет автобу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720720" y="1274760"/>
            <a:ext cx="2879640" cy="19447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1511280" y="3887640"/>
            <a:ext cx="1295280" cy="2087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832360" y="4243320"/>
            <a:ext cx="2376720" cy="15732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6119640" y="1236600"/>
            <a:ext cx="2087640" cy="21481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5400720" y="3384720"/>
            <a:ext cx="34192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будке сидит спокойный п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60" y="6004080"/>
            <a:ext cx="414036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У певицы звонкий голос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5788080"/>
            <a:ext cx="4140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вета купила красивый подно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dur="indefinite" fill="hold">
                      <p:stCondLst>
                        <p:cond delay="indefinite"/>
                      </p:stCondLst>
                      <p:childTnLst>
                        <p:par>
                          <p:cTn id="6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dur="indefinite" fill="hold">
                      <p:stCondLst>
                        <p:cond delay="indefinite"/>
                      </p:stCondLst>
                      <p:childTnLst>
                        <p:par>
                          <p:cTn id="6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dur="indefinite" fill="hold">
                      <p:stCondLst>
                        <p:cond delay="indefinite"/>
                      </p:stCondLst>
                      <p:childTnLst>
                        <p:par>
                          <p:cTn id="7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dur="indefinite" fill="hold">
                      <p:stCondLst>
                        <p:cond delay="indefinite"/>
                      </p:stCondLst>
                      <p:childTnLst>
                        <p:par>
                          <p:cTn id="7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dur="indefinite" fill="hold">
                      <p:stCondLst>
                        <p:cond delay="indefinite"/>
                      </p:stCondLst>
                      <p:childTnLst>
                        <p:par>
                          <p:cTn id="7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dur="indefinite" fill="hold">
                      <p:stCondLst>
                        <p:cond delay="indefinite"/>
                      </p:stCondLst>
                      <p:childTnLst>
                        <p:par>
                          <p:cTn id="7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dur="indefinite" fill="hold">
                      <p:stCondLst>
                        <p:cond delay="indefinite"/>
                      </p:stCondLst>
                      <p:childTnLst>
                        <p:par>
                          <p:cTn id="7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dur="indefinite" fill="hold">
                      <p:stCondLst>
                        <p:cond delay="indefinite"/>
                      </p:stCondLst>
                      <p:childTnLst>
                        <p:par>
                          <p:cTn id="7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dur="indefinite" fill="hold">
                      <p:stCondLst>
                        <p:cond delay="indefinite"/>
                      </p:stCondLst>
                      <p:childTnLst>
                        <p:par>
                          <p:cTn id="7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390600" y="66600"/>
            <a:ext cx="8235720" cy="916200"/>
            <a:chOff x="390600" y="66600"/>
            <a:chExt cx="8235720" cy="91620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90600" y="66600"/>
              <a:ext cx="823572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390600" y="66600"/>
              <a:ext cx="82357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720720" y="2709720"/>
            <a:ext cx="151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621480" y="114948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3600360" y="1512720"/>
            <a:ext cx="1944720" cy="1656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5111640" y="4103640"/>
            <a:ext cx="2376720" cy="15843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92000" y="1065240"/>
            <a:ext cx="1656000" cy="16444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960480" y="4103640"/>
            <a:ext cx="2424240" cy="16556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672000" y="3214800"/>
            <a:ext cx="15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80000" y="2925720"/>
            <a:ext cx="15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79640" y="5759280"/>
            <a:ext cx="1668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ха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56360" y="5688000"/>
            <a:ext cx="165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ла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dur="indefinite" fill="hold">
                      <p:stCondLst>
                        <p:cond delay="indefinite"/>
                      </p:stCondLst>
                      <p:childTnLst>
                        <p:par>
                          <p:cTn id="7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 fill="hold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 fill="hold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dur="indefinite" fill="hold">
                      <p:stCondLst>
                        <p:cond delay="indefinite"/>
                      </p:stCondLst>
                      <p:childTnLst>
                        <p:par>
                          <p:cTn id="7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dur="indefinite" fill="hold">
                      <p:stCondLst>
                        <p:cond delay="indefinite"/>
                      </p:stCondLst>
                      <p:childTnLst>
                        <p:par>
                          <p:cTn id="7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 fill="hold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dur="indefinite" fill="hold">
                      <p:stCondLst>
                        <p:cond delay="indefinite"/>
                      </p:stCondLst>
                      <p:childTnLst>
                        <p:par>
                          <p:cTn id="7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dur="indefinite" fill="hold">
                      <p:stCondLst>
                        <p:cond delay="indefinite"/>
                      </p:stCondLst>
                      <p:childTnLst>
                        <p:par>
                          <p:cTn id="7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5" dur="500" fill="hold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dur="indefinite" fill="hold">
                      <p:stCondLst>
                        <p:cond delay="indefinite"/>
                      </p:stCondLst>
                      <p:childTnLst>
                        <p:par>
                          <p:cTn id="7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dur="indefinite" fill="hold">
                      <p:stCondLst>
                        <p:cond delay="indefinite"/>
                      </p:stCondLst>
                      <p:childTnLst>
                        <p:par>
                          <p:cTn id="7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dur="indefinite" fill="hold">
                      <p:stCondLst>
                        <p:cond delay="indefinite"/>
                      </p:stCondLst>
                      <p:childTnLst>
                        <p:par>
                          <p:cTn id="7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dur="indefinite" fill="hold">
                      <p:stCondLst>
                        <p:cond delay="indefinite"/>
                      </p:stCondLst>
                      <p:childTnLst>
                        <p:par>
                          <p:cTn id="7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dur="indefinite" fill="hold">
                      <p:stCondLst>
                        <p:cond delay="indefinite"/>
                      </p:stCondLst>
                      <p:childTnLst>
                        <p:par>
                          <p:cTn id="7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31640" y="109440"/>
            <a:ext cx="8237520" cy="604800"/>
            <a:chOff x="431640" y="109440"/>
            <a:chExt cx="8237520" cy="60480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431640" y="10944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431640" y="10944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12840" y="1224000"/>
            <a:ext cx="4654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Ы- СТЫ- СТЫ – у нас новые …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688000" y="86364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688000" y="2376360"/>
            <a:ext cx="2521080" cy="1413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5688000" y="3959280"/>
            <a:ext cx="2519280" cy="13683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5"/>
          <a:stretch/>
        </p:blipFill>
        <p:spPr>
          <a:xfrm>
            <a:off x="5734080" y="5386320"/>
            <a:ext cx="2519280" cy="1428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16000" y="2843280"/>
            <a:ext cx="5591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У — СТУ — СТУ — автобус едет по …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6000" y="4427640"/>
            <a:ext cx="5472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О — СТО — СТО — стоят кони под ..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" y="5904000"/>
            <a:ext cx="5256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ТА — СТА — СТА — сидит киска у ... 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dur="indefinite" fill="hold">
                      <p:stCondLst>
                        <p:cond delay="indefinite"/>
                      </p:stCondLst>
                      <p:childTnLst>
                        <p:par>
                          <p:cTn id="8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dur="indefinite" fill="hold">
                      <p:stCondLst>
                        <p:cond delay="indefinite"/>
                      </p:stCondLst>
                      <p:childTnLst>
                        <p:par>
                          <p:cTn id="8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dur="indefinite" fill="hold">
                      <p:stCondLst>
                        <p:cond delay="indefinite"/>
                      </p:stCondLst>
                      <p:childTnLst>
                        <p:par>
                          <p:cTn id="8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 fill="hold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dur="indefinite" fill="hold">
                      <p:stCondLst>
                        <p:cond delay="indefinite"/>
                      </p:stCondLst>
                      <p:childTnLst>
                        <p:par>
                          <p:cTn id="8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dur="indefinite" fill="hold">
                      <p:stCondLst>
                        <p:cond delay="indefinite"/>
                      </p:stCondLst>
                      <p:childTnLst>
                        <p:par>
                          <p:cTn id="8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 fill="hold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dur="indefinite" fill="hold">
                      <p:stCondLst>
                        <p:cond delay="indefinite"/>
                      </p:stCondLst>
                      <p:childTnLst>
                        <p:par>
                          <p:cTn id="8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dur="indefinite" fill="hold">
                      <p:stCondLst>
                        <p:cond delay="indefinite"/>
                      </p:stCondLst>
                      <p:childTnLst>
                        <p:par>
                          <p:cTn id="8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 fill="hold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dur="indefinite" fill="hold">
                      <p:stCondLst>
                        <p:cond delay="indefinite"/>
                      </p:stCondLst>
                      <p:childTnLst>
                        <p:par>
                          <p:cTn id="8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dur="indefinite" fill="hold">
                      <p:stCondLst>
                        <p:cond delay="indefinite"/>
                      </p:stCondLst>
                      <p:childTnLst>
                        <p:par>
                          <p:cTn id="8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1368360" y="287280"/>
            <a:ext cx="6280200" cy="1154160"/>
            <a:chOff x="1368360" y="287280"/>
            <a:chExt cx="6280200" cy="1154160"/>
          </a:xfrm>
        </p:grpSpPr>
        <p:pic>
          <p:nvPicPr>
            <p:cNvPr id="228" name="" descr=""/>
            <p:cNvPicPr/>
            <p:nvPr/>
          </p:nvPicPr>
          <p:blipFill>
            <a:blip r:embed="rId1"/>
            <a:stretch/>
          </p:blipFill>
          <p:spPr>
            <a:xfrm>
              <a:off x="1368360" y="287280"/>
              <a:ext cx="628020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368360" y="287280"/>
              <a:ext cx="628020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11120" y="1846440"/>
            <a:ext cx="82296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Лопух, пароход, салют, калоши, машина, насос,космос, варежки, заяц, самокат, танкист, лампа, карта, август, ястреб, курица, рукавица, фартук, шишка, ласка, праздник, дорога, страна, статуя, порт, костёр, навес, гонец, стра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264360" y="4403880"/>
            <a:ext cx="193356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dur="indefinite" fill="hold">
                      <p:stCondLst>
                        <p:cond delay="indefinite"/>
                      </p:stCondLst>
                      <p:childTnLst>
                        <p:par>
                          <p:cTn id="8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5" dur="1000" fill="hold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dur="indefinite" fill="hold">
                      <p:stCondLst>
                        <p:cond delay="indefinite"/>
                      </p:stCondLst>
                      <p:childTnLst>
                        <p:par>
                          <p:cTn id="8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 fill="hold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dur="indefinite" fill="hold">
                      <p:stCondLst>
                        <p:cond delay="indefinite"/>
                      </p:stCondLst>
                      <p:childTnLst>
                        <p:par>
                          <p:cTn id="8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138320" y="244440"/>
            <a:ext cx="6200640" cy="830160"/>
            <a:chOff x="1138320" y="244440"/>
            <a:chExt cx="6200640" cy="83016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1138320" y="244440"/>
              <a:ext cx="6200640" cy="83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138320" y="244440"/>
              <a:ext cx="620064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66760" y="2952720"/>
            <a:ext cx="82296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амолёт построим 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есёмся над ле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несёмся над лес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 потом вернёмся к ма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110200" y="1079640"/>
            <a:ext cx="2952720" cy="18716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079640" y="1079640"/>
            <a:ext cx="2268360" cy="1539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5435640" y="3743280"/>
            <a:ext cx="3203640" cy="26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dur="indefinite" fill="hold">
                      <p:stCondLst>
                        <p:cond delay="indefinite"/>
                      </p:stCondLst>
                      <p:childTnLst>
                        <p:par>
                          <p:cTn id="8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dur="indefinite" fill="hold">
                      <p:stCondLst>
                        <p:cond delay="indefinite"/>
                      </p:stCondLst>
                      <p:childTnLst>
                        <p:par>
                          <p:cTn id="8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dur="indefinite" fill="hold">
                      <p:stCondLst>
                        <p:cond delay="indefinite"/>
                      </p:stCondLst>
                      <p:childTnLst>
                        <p:par>
                          <p:cTn id="8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dur="indefinite" fill="hold">
                      <p:stCondLst>
                        <p:cond delay="indefinite"/>
                      </p:stCondLst>
                      <p:childTnLst>
                        <p:par>
                          <p:cTn id="9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dur="indefinite" fill="hold">
                      <p:stCondLst>
                        <p:cond delay="indefinite"/>
                      </p:stCondLst>
                      <p:childTnLst>
                        <p:par>
                          <p:cTn id="9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440000" y="237960"/>
            <a:ext cx="6261120" cy="1270080"/>
            <a:chOff x="1440000" y="237960"/>
            <a:chExt cx="6261120" cy="127008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440000" y="249120"/>
              <a:ext cx="594504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755720" y="237960"/>
              <a:ext cx="5945400" cy="12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93680" y="1447920"/>
            <a:ext cx="822960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 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При произнесении звука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[c]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губы растянуты в улыбке, зубы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заборчиком с небольшой щелью (1 мм), язык широкий, расслабленный, кончик языка за нижними зубами, воздушная струя холодная, длительная, напряжённая, направленная вниз по 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середине языка (по желобку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91280" y="4392720"/>
            <a:ext cx="2016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indefinite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dur="indefinite" fill="hold">
                      <p:stCondLst>
                        <p:cond delay="indefinite"/>
                      </p:stCondLst>
                      <p:childTnLst>
                        <p:par>
                          <p:cTn id="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1855800" y="182520"/>
            <a:ext cx="5556240" cy="879480"/>
            <a:chOff x="1855800" y="182520"/>
            <a:chExt cx="5556240" cy="879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1855800" y="182520"/>
              <a:ext cx="5556240" cy="8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855800" y="182520"/>
              <a:ext cx="5556240" cy="8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03280" y="1077840"/>
            <a:ext cx="811044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Построим заборчик» - Улыбнуться, показать сомкнутые зубки. Удерживать губы в таком положении под счёт до десяти, затем вернуться в исходное полож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 Киска сердится» - Улыбнуться, открыть рот, кончик языка упереть за нижние зубки, «спинку» выгнуть, а боковые языка прижать к верхним коренным зубам. Удерживать язык в таком положении под счёт до дес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Чистим зубки» - Улыбнуться, открыть рот, кончиком языка сильно «почистить» за нижними зубами(влево - вправо) под счёт до десяти. Затем поднять язычок вверх и почистить за верхними зубами(рот при этом широко открыт) под счёт до дес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Месим тесто» - Улыбнуться, открыть рот, покусать язык зубами  та-та-та; пошлёпать язык губами – пя– пя- пя ; закусить язык зубами и протаскивать его сквозь зубы с усил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2880" indent="-40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42880"/>
                <a:tab algn="l" pos="990720"/>
                <a:tab algn="l" pos="1440000"/>
                <a:tab algn="l" pos="1889280"/>
                <a:tab algn="l" pos="2338560"/>
                <a:tab algn="l" pos="2787480"/>
                <a:tab algn="l" pos="3236760"/>
                <a:tab algn="l" pos="3686040"/>
                <a:tab algn="l" pos="4135320"/>
                <a:tab algn="l" pos="4584600"/>
                <a:tab algn="l" pos="5033880"/>
                <a:tab algn="l" pos="5483160"/>
                <a:tab algn="l" pos="5932440"/>
                <a:tab algn="l" pos="6381720"/>
                <a:tab algn="l" pos="6831000"/>
                <a:tab algn="l" pos="7280280"/>
                <a:tab algn="l" pos="7729560"/>
                <a:tab algn="l" pos="8178840"/>
                <a:tab algn="l" pos="8628120"/>
                <a:tab algn="l" pos="9077400"/>
                <a:tab algn="l" pos="95266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1000" fill="hold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1216080" y="182520"/>
            <a:ext cx="5762520" cy="1013040"/>
            <a:chOff x="1216080" y="182520"/>
            <a:chExt cx="5762520" cy="1013040"/>
          </a:xfrm>
        </p:grpSpPr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1216080" y="182520"/>
              <a:ext cx="576252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216080" y="182520"/>
              <a:ext cx="5762520" cy="10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82760" y="1368360"/>
            <a:ext cx="822960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ратко – С-С-С-С-С-С-С-С-С-С-С-С-С-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лительно - ССССССССССССССС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оизнести длительно и кратк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А        -      СА         АС         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О        -     СО          ОС         О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У        -     СУ          УС         У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ССССЫ       -      СЫ         ЫС         Ы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983280" y="4896000"/>
            <a:ext cx="191304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dur="indefinite" fill="hold">
                      <p:stCondLst>
                        <p:cond delay="indefinite"/>
                      </p:stCondLst>
                      <p:childTnLst>
                        <p:par>
                          <p:cTn id="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450720" y="85680"/>
            <a:ext cx="8237520" cy="677880"/>
            <a:chOff x="450720" y="85680"/>
            <a:chExt cx="8237520" cy="6778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450720" y="85680"/>
              <a:ext cx="82375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50720" y="85680"/>
              <a:ext cx="82375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360360" y="2160720"/>
            <a:ext cx="241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л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7640" y="863640"/>
            <a:ext cx="2160720" cy="1295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87640" y="863640"/>
            <a:ext cx="129564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384720" y="3311640"/>
            <a:ext cx="2016000" cy="144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551640" y="863640"/>
            <a:ext cx="1368360" cy="1800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647640" y="331164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576360" y="5256360"/>
            <a:ext cx="1728720" cy="11523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tretch/>
        </p:blipFill>
        <p:spPr>
          <a:xfrm>
            <a:off x="6551640" y="3311640"/>
            <a:ext cx="1440000" cy="1800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059280" y="2774880"/>
            <a:ext cx="2412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1640" y="4680000"/>
            <a:ext cx="2197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67000" y="4734000"/>
            <a:ext cx="241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4560" y="2664000"/>
            <a:ext cx="241308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91280" y="5111640"/>
            <a:ext cx="24130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ы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20520" y="6419880"/>
            <a:ext cx="2412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ха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dur="indefinite" fill="hold">
                      <p:stCondLst>
                        <p:cond delay="indefinite"/>
                      </p:stCondLst>
                      <p:childTnLst>
                        <p:par>
                          <p:cTn id="1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dur="indefinite" fill="hold">
                      <p:stCondLst>
                        <p:cond delay="indefinite"/>
                      </p:stCondLst>
                      <p:childTnLst>
                        <p:par>
                          <p:cTn id="1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dur="indefinite" fill="hold">
                      <p:stCondLst>
                        <p:cond delay="indefinite"/>
                      </p:stCondLst>
                      <p:childTnLst>
                        <p:par>
                          <p:cTn id="1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 fill="hold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dur="indefinite" fill="hold">
                      <p:stCondLst>
                        <p:cond delay="indefinite"/>
                      </p:stCondLst>
                      <p:childTnLst>
                        <p:par>
                          <p:cTn id="1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450720" y="128520"/>
            <a:ext cx="8237520" cy="604800"/>
            <a:chOff x="450720" y="128520"/>
            <a:chExt cx="8237520" cy="60480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450720" y="128520"/>
              <a:ext cx="823752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50720" y="128520"/>
              <a:ext cx="8237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60360" y="266400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на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92000" y="947880"/>
            <a:ext cx="1729080" cy="1716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80000" y="1008000"/>
            <a:ext cx="2232360" cy="1584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6360" y="4392720"/>
            <a:ext cx="2087640" cy="164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408720" y="439272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3362400" y="2519280"/>
            <a:ext cx="2469960" cy="180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76720" y="4248000"/>
            <a:ext cx="234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Авто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372360" y="251928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к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60360" y="597528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дн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5975280"/>
            <a:ext cx="2340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мп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dur="indefinite" fill="hold">
                      <p:stCondLst>
                        <p:cond delay="indefinite"/>
                      </p:stCondLst>
                      <p:childTnLst>
                        <p:par>
                          <p:cTn id="2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dur="indefinite" fill="hold">
                      <p:stCondLst>
                        <p:cond delay="indefinite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0720" y="109440"/>
            <a:ext cx="8237520" cy="800280"/>
            <a:chOff x="450720" y="109440"/>
            <a:chExt cx="8237520" cy="8002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23752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50720" y="109440"/>
              <a:ext cx="823752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549440" y="2448000"/>
            <a:ext cx="154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е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366920" y="1152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3557520" y="2879640"/>
            <a:ext cx="1914480" cy="14288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368360" y="4476600"/>
            <a:ext cx="1368360" cy="1355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6335640" y="44751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5986440" y="100800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48360" y="2519280"/>
            <a:ext cx="154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5832360"/>
            <a:ext cx="15462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о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2720" y="4308480"/>
            <a:ext cx="15462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ле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64360" y="597528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с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6120" indent="-406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46120"/>
                <a:tab algn="l" pos="993600"/>
                <a:tab algn="l" pos="1442880"/>
                <a:tab algn="l" pos="1892160"/>
                <a:tab algn="l" pos="2341440"/>
                <a:tab algn="l" pos="2790720"/>
                <a:tab algn="l" pos="3240000"/>
                <a:tab algn="l" pos="3689280"/>
                <a:tab algn="l" pos="4138560"/>
                <a:tab algn="l" pos="4587840"/>
                <a:tab algn="l" pos="5037120"/>
                <a:tab algn="l" pos="5486400"/>
                <a:tab algn="l" pos="5935680"/>
                <a:tab algn="l" pos="6384960"/>
                <a:tab algn="l" pos="6834240"/>
                <a:tab algn="l" pos="7283520"/>
                <a:tab algn="l" pos="7732800"/>
                <a:tab algn="l" pos="8182080"/>
                <a:tab algn="l" pos="8631360"/>
                <a:tab algn="l" pos="9080640"/>
                <a:tab algn="l" pos="95299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dur="indefinite" fill="hold">
                      <p:stCondLst>
                        <p:cond delay="indefinite"/>
                      </p:stCondLst>
                      <p:childTnLst>
                        <p:par>
                          <p:cTn id="2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 fill="hold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dur="indefinite" fill="hold">
                      <p:stCondLst>
                        <p:cond delay="indefinite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dur="indefinite" fill="hold">
                      <p:stCondLst>
                        <p:cond delay="indefinite"/>
                      </p:stCondLst>
                      <p:childTnLst>
                        <p:par>
                          <p:cTn id="2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dur="indefinite" fill="hold">
                      <p:stCondLst>
                        <p:cond delay="indefinite"/>
                      </p:stCondLst>
                      <p:childTnLst>
                        <p:par>
                          <p:cTn id="2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dur="indefinite" fill="hold">
                      <p:stCondLst>
                        <p:cond delay="indefinite"/>
                      </p:stCondLst>
                      <p:childTnLst>
                        <p:par>
                          <p:cTn id="2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dur="indefinite" fill="hold">
                      <p:stCondLst>
                        <p:cond delay="indefinite"/>
                      </p:stCondLst>
                      <p:childTnLst>
                        <p:par>
                          <p:cTn id="3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dur="indefinite" fill="hold">
                      <p:stCondLst>
                        <p:cond delay="indefinite"/>
                      </p:stCondLst>
                      <p:childTnLst>
                        <p:par>
                          <p:cTn id="3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450720" y="122400"/>
            <a:ext cx="8237520" cy="677880"/>
            <a:chOff x="450720" y="122400"/>
            <a:chExt cx="8237520" cy="67788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450720" y="122400"/>
              <a:ext cx="823752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50720" y="122400"/>
              <a:ext cx="823752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95280" y="907920"/>
            <a:ext cx="8229600" cy="52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376360" y="3816360"/>
            <a:ext cx="1548000" cy="2114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343640" y="936720"/>
            <a:ext cx="1656000" cy="2303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551640" y="4680000"/>
            <a:ext cx="2376360" cy="165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311640" y="1224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287280" y="936720"/>
            <a:ext cx="2737080" cy="194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5256360" y="2232000"/>
            <a:ext cx="1871640" cy="172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176720" y="4751280"/>
            <a:ext cx="1973160" cy="1800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>
            <a:off x="360360" y="3970440"/>
            <a:ext cx="1871640" cy="258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dur="indefinite" fill="hold">
                      <p:stCondLst>
                        <p:cond delay="indefinite"/>
                      </p:stCondLst>
                      <p:childTnLst>
                        <p:par>
                          <p:cTn id="3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dur="indefinite" fill="hold">
                      <p:stCondLst>
                        <p:cond delay="indefinite"/>
                      </p:stCondLst>
                      <p:childTnLst>
                        <p:par>
                          <p:cTn id="3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dur="indefinite" fill="hold">
                      <p:stCondLst>
                        <p:cond delay="indefinite"/>
                      </p:stCondLst>
                      <p:childTnLst>
                        <p:par>
                          <p:cTn id="3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dur="indefinite" fill="hold">
                      <p:stCondLst>
                        <p:cond delay="indefinite"/>
                      </p:stCondLst>
                      <p:childTnLst>
                        <p:par>
                          <p:cTn id="3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dur="indefinite" fill="hold">
                      <p:stCondLst>
                        <p:cond delay="indefinite"/>
                      </p:stCondLst>
                      <p:childTnLst>
                        <p:par>
                          <p:cTn id="3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dur="indefinite" fill="hold">
                      <p:stCondLst>
                        <p:cond delay="indefinite"/>
                      </p:stCondLst>
                      <p:childTnLst>
                        <p:par>
                          <p:cTn id="3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 fill="hold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dur="indefinite" fill="hold">
                      <p:stCondLst>
                        <p:cond delay="indefinite"/>
                      </p:stCondLst>
                      <p:childTnLst>
                        <p:par>
                          <p:cTn id="3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450720" y="268200"/>
            <a:ext cx="8237520" cy="1154160"/>
            <a:chOff x="450720" y="268200"/>
            <a:chExt cx="8237520" cy="115416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37520" cy="11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50720" y="268200"/>
              <a:ext cx="8237520" cy="11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57200" y="1413000"/>
            <a:ext cx="8229600" cy="50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йк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наряд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а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х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оп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мешок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0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47560"/>
                <a:tab algn="l" pos="995400"/>
                <a:tab algn="l" pos="1444680"/>
                <a:tab algn="l" pos="1893960"/>
                <a:tab algn="l" pos="2343240"/>
                <a:tab algn="l" pos="2792520"/>
                <a:tab algn="l" pos="3241800"/>
                <a:tab algn="l" pos="3691080"/>
                <a:tab algn="l" pos="4140360"/>
                <a:tab algn="l" pos="4589640"/>
                <a:tab algn="l" pos="5038560"/>
                <a:tab algn="l" pos="5487840"/>
                <a:tab algn="l" pos="5937120"/>
                <a:tab algn="l" pos="6386400"/>
                <a:tab algn="l" pos="6835680"/>
                <a:tab algn="l" pos="7284960"/>
                <a:tab algn="l" pos="7734240"/>
                <a:tab algn="l" pos="8183520"/>
                <a:tab algn="l" pos="8632800"/>
                <a:tab algn="l" pos="9082080"/>
                <a:tab algn="l" pos="95313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145200" y="3527280"/>
            <a:ext cx="2422440" cy="27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dur="indefinite" fill="hold">
                      <p:stCondLst>
                        <p:cond delay="indefinite"/>
                      </p:stCondLst>
                      <p:childTnLst>
                        <p:par>
                          <p:cTn id="3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dur="indefinite" fill="hold">
                      <p:stCondLst>
                        <p:cond delay="indefinite"/>
                      </p:stCondLst>
                      <p:childTnLst>
                        <p:par>
                          <p:cTn id="3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dur="indefinite" fill="hold">
                      <p:stCondLst>
                        <p:cond delay="indefinite"/>
                      </p:stCondLst>
                      <p:childTnLst>
                        <p:par>
                          <p:cTn id="3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08:17Z</dcterms:created>
  <dc:creator>Буданова</dc:creator>
  <dc:description/>
  <dc:language>en-US</dc:language>
  <cp:lastModifiedBy/>
  <dcterms:modified xsi:type="dcterms:W3CDTF">2017-10-01T07:35:15Z</dcterms:modified>
  <cp:revision>61</cp:revision>
  <dc:subject/>
  <dc:title>ЛОГОПЕДИЧЕСКОЕ ЗАНЯТИЕПО ТЕМЕ: «АВТОМАТИЗАЦИЯ ЗВУКА [С]  В СЛОВАХ, ПРЕДЛОЖЕНИЯХ»</dc:title>
</cp:coreProperties>
</file>