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83.png" ContentType="image/png"/>
  <Override PartName="/ppt/media/image58.jpeg" ContentType="image/jpeg"/>
  <Override PartName="/ppt/media/image73.png" ContentType="image/pn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png" ContentType="image/png"/>
  <Override PartName="/ppt/media/image4.jpeg" ContentType="image/jpeg"/>
  <Override PartName="/ppt/media/image49.jpeg" ContentType="image/jpeg"/>
  <Override PartName="/ppt/media/image88.png" ContentType="image/pn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29.jpeg" ContentType="image/jpeg"/>
  <Override PartName="/ppt/media/image9.jpeg" ContentType="image/jpeg"/>
  <Override PartName="/ppt/media/image34.jpeg" ContentType="image/jpeg"/>
  <Override PartName="/ppt/media/image7.png" ContentType="image/png"/>
  <Override PartName="/ppt/media/image79.jpeg" ContentType="image/jpeg"/>
  <Override PartName="/ppt/media/image39.png" ContentType="image/png"/>
  <Override PartName="/ppt/media/image64.jpeg" ContentType="image/jpeg"/>
  <Override PartName="/ppt/media/image20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17.jpeg" ContentType="image/jpeg"/>
  <Override PartName="/ppt/media/image77.png" ContentType="image/png"/>
  <Override PartName="/ppt/media/image40.png" ContentType="image/png"/>
  <Override PartName="/ppt/media/image61.jpeg" ContentType="image/jpeg"/>
  <Override PartName="/ppt/media/image78.jpeg" ContentType="image/jpeg"/>
  <Override PartName="/ppt/media/image62.png" ContentType="image/pn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76.jpeg" ContentType="image/jpeg"/>
  <Override PartName="/ppt/media/image9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89.png" ContentType="image/png"/>
  <Override PartName="/ppt/media/image50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5.png" ContentType="image/png"/>
  <Override PartName="/ppt/media/image43.jpeg" ContentType="image/jpeg"/>
  <Override PartName="/ppt/media/image15.jpeg" ContentType="image/jpeg"/>
  <Override PartName="/ppt/media/image24.png" ContentType="image/png"/>
  <Override PartName="/ppt/media/image28.jpeg" ContentType="image/jpeg"/>
  <Override PartName="/ppt/media/image11.jpeg" ContentType="image/jpeg"/>
  <Override PartName="/ppt/media/image87.jpeg" ContentType="image/jpeg"/>
  <Override PartName="/ppt/media/image2.jpeg" ContentType="image/jpeg"/>
  <Override PartName="/ppt/media/image57.png" ContentType="image/png"/>
  <Override PartName="/ppt/media/image84.jpeg" ContentType="image/jpeg"/>
  <Override PartName="/ppt/media/image25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86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82.jpeg" ContentType="image/jpeg"/>
  <Override PartName="/ppt/media/image23.jpeg" ContentType="image/jpeg"/>
  <Override PartName="/ppt/media/image8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A831B-2D79-42D7-B09A-2760937567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33D07-7759-40CD-85F6-A52895043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D600-26AD-4B69-B199-DAEEEAA23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4C43-6C02-4662-88F7-E385B10AE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CF92-A17F-44B6-9F9D-E36D0DC22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0F59-6DA7-4BDC-A161-808201355B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0231-94C6-4102-8496-DAC0FEE38A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351D-09C0-4AE1-8FD2-41B545401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CF0F-DF78-4FC5-B442-82BA7096B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6C58-A603-45C4-80F8-685ACBDEB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C136-EB09-4822-865B-4C70A2607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A341-2B4F-43BD-B626-E98EEEA98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1034-D87B-42E0-8FBE-312FBA60B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A762-B94B-493F-8DC4-F07D952F2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413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4134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924680" y="6409800"/>
            <a:ext cx="757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A1599-5C05-4B2F-B2C6-56472690A2E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2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676440" y="2232000"/>
            <a:ext cx="7780320" cy="1581120"/>
            <a:chOff x="676440" y="2232000"/>
            <a:chExt cx="7780320" cy="1581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676440" y="2232000"/>
              <a:ext cx="7780320" cy="15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3280" y="3933720"/>
            <a:ext cx="2340000" cy="2619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392720" y="4032360"/>
            <a:ext cx="3887640" cy="244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759280" y="216000"/>
            <a:ext cx="309564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0720" y="55440"/>
            <a:ext cx="8237520" cy="604800"/>
            <a:chOff x="450720" y="55440"/>
            <a:chExt cx="8237520" cy="60480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450720" y="55440"/>
              <a:ext cx="82375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50720" y="55440"/>
              <a:ext cx="8237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39640" y="692280"/>
            <a:ext cx="822960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б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брик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832360" y="692280"/>
            <a:ext cx="1871640" cy="1035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679840" y="719280"/>
            <a:ext cx="1784160" cy="936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095640" y="1801800"/>
            <a:ext cx="1150920" cy="934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975280" y="1800360"/>
            <a:ext cx="1440000" cy="936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5975280" y="2879640"/>
            <a:ext cx="136836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3095640" y="2879640"/>
            <a:ext cx="1150920" cy="93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3095640" y="4103640"/>
            <a:ext cx="1150920" cy="1081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5904000" y="4103640"/>
            <a:ext cx="143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2933640" y="5516640"/>
            <a:ext cx="1243080" cy="100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5904000" y="547200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dur="indefinite" fill="hold">
                      <p:stCondLst>
                        <p:cond delay="indefinite"/>
                      </p:stCondLst>
                      <p:childTnLst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dur="indefinite" fill="hold">
                      <p:stCondLst>
                        <p:cond delay="indefinite"/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dur="indefinite" fill="hold">
                      <p:stCondLst>
                        <p:cond delay="indefinite"/>
                      </p:stCondLst>
                      <p:childTnLst>
                        <p:par>
                          <p:cTn id="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dur="indefinite" fill="hold">
                      <p:stCondLst>
                        <p:cond delay="indefinite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dur="indefinite" fill="hold">
                      <p:stCondLst>
                        <p:cond delay="indefinite"/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dur="indefinite" fill="hold">
                      <p:stCondLst>
                        <p:cond delay="indefinite"/>
                      </p:stCondLst>
                      <p:childTnLst>
                        <p:par>
                          <p:cTn id="4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dur="indefinite" fill="hold">
                      <p:stCondLst>
                        <p:cond delay="indefinite"/>
                      </p:stCondLst>
                      <p:childTnLst>
                        <p:par>
                          <p:cTn id="4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dur="indefinite" fill="hold">
                      <p:stCondLst>
                        <p:cond delay="indefinite"/>
                      </p:stCondLst>
                      <p:childTnLst>
                        <p:par>
                          <p:cTn id="4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dur="indefinite" fill="hold">
                      <p:stCondLst>
                        <p:cond delay="indefinite"/>
                      </p:stCondLst>
                      <p:childTnLst>
                        <p:par>
                          <p:cTn id="4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50720" y="128520"/>
            <a:ext cx="8237520" cy="604800"/>
            <a:chOff x="450720" y="128520"/>
            <a:chExt cx="8237520" cy="60480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50720" y="128520"/>
              <a:ext cx="82375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0720" y="128520"/>
              <a:ext cx="8237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368360" y="2519280"/>
            <a:ext cx="144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у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90520" y="1090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335640" y="1163520"/>
            <a:ext cx="1598760" cy="1428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743280" y="2448000"/>
            <a:ext cx="1905120" cy="1871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6480000" y="4608360"/>
            <a:ext cx="1727280" cy="1644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1295280" y="46083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408720" y="2592360"/>
            <a:ext cx="129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19640" y="4319640"/>
            <a:ext cx="1079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84360" y="6019920"/>
            <a:ext cx="10796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80000" y="6191280"/>
            <a:ext cx="216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стрю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dur="indefinite" fill="hold">
                      <p:stCondLst>
                        <p:cond delay="indefinite"/>
                      </p:stCondLst>
                      <p:childTnLst>
                        <p:par>
                          <p:cTn id="4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dur="indefinite" fill="hold">
                      <p:stCondLst>
                        <p:cond delay="indefinite"/>
                      </p:stCondLst>
                      <p:childTnLst>
                        <p:par>
                          <p:cTn id="4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dur="indefinite" fill="hold">
                      <p:stCondLst>
                        <p:cond delay="indefinite"/>
                      </p:stCondLst>
                      <p:childTnLst>
                        <p:par>
                          <p:cTn id="4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dur="indefinite" fill="hold">
                      <p:stCondLst>
                        <p:cond delay="indefinite"/>
                      </p:stCondLst>
                      <p:childTnLst>
                        <p:par>
                          <p:cTn id="4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dur="indefinite" fill="hold">
                      <p:stCondLst>
                        <p:cond delay="indefinite"/>
                      </p:stCondLst>
                      <p:childTnLst>
                        <p:par>
                          <p:cTn id="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dur="indefinite" fill="hold">
                      <p:stCondLst>
                        <p:cond delay="indefinite"/>
                      </p:stCondLst>
                      <p:childTnLst>
                        <p:par>
                          <p:cTn id="4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dur="indefinite" fill="hold">
                      <p:stCondLst>
                        <p:cond delay="indefinite"/>
                      </p:stCondLst>
                      <p:childTnLst>
                        <p:par>
                          <p:cTn id="4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dur="indefinite" fill="hold">
                      <p:stCondLst>
                        <p:cond delay="indefinite"/>
                      </p:stCondLst>
                      <p:childTnLst>
                        <p:par>
                          <p:cTn id="4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dur="indefinite" fill="hold">
                      <p:stCondLst>
                        <p:cond delay="indefinite"/>
                      </p:stCondLst>
                      <p:childTnLst>
                        <p:par>
                          <p:cTn id="4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dur="indefinite" fill="hold">
                      <p:stCondLst>
                        <p:cond delay="indefinite"/>
                      </p:stCondLst>
                      <p:childTnLst>
                        <p:par>
                          <p:cTn id="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dur="indefinite" fill="hold">
                      <p:stCondLst>
                        <p:cond delay="indefinite"/>
                      </p:stCondLst>
                      <p:childTnLst>
                        <p:par>
                          <p:cTn id="5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50720" y="109440"/>
            <a:ext cx="8237520" cy="800280"/>
            <a:chOff x="450720" y="109440"/>
            <a:chExt cx="8237520" cy="80028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23752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50720" y="109440"/>
              <a:ext cx="8237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63680" y="1224000"/>
            <a:ext cx="500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 маленького Сани сани едут 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Сани едут сами у маленького Сан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256360" y="936720"/>
            <a:ext cx="2376360" cy="1511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58880" y="2592360"/>
            <a:ext cx="1905120" cy="1224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256360" y="3743280"/>
            <a:ext cx="2447640" cy="1573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576360" y="5256360"/>
            <a:ext cx="2190600" cy="1428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879640" y="2952720"/>
            <a:ext cx="5008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а боса и без поя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1640" y="4176720"/>
            <a:ext cx="50086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 Сони и Сани в сетях сом с у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В сетях сом с усами у Сони и Сан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0040" y="5610240"/>
            <a:ext cx="50086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ъел Слава са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а сала было м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dur="indefinite" fill="hold">
                      <p:stCondLst>
                        <p:cond delay="indefinite"/>
                      </p:stCondLst>
                      <p:childTnLst>
                        <p:par>
                          <p:cTn id="5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dur="indefinite" fill="hold">
                      <p:stCondLst>
                        <p:cond delay="indefinite"/>
                      </p:stCondLst>
                      <p:childTnLst>
                        <p:par>
                          <p:cTn id="5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dur="indefinite" fill="hold">
                      <p:stCondLst>
                        <p:cond delay="indefinite"/>
                      </p:stCondLst>
                      <p:childTnLst>
                        <p:par>
                          <p:cTn id="5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dur="indefinite" fill="hold">
                      <p:stCondLst>
                        <p:cond delay="indefinite"/>
                      </p:stCondLst>
                      <p:childTnLst>
                        <p:par>
                          <p:cTn id="5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dur="indefinite" fill="hold">
                      <p:stCondLst>
                        <p:cond delay="indefinite"/>
                      </p:stCondLst>
                      <p:childTnLst>
                        <p:par>
                          <p:cTn id="5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dur="indefinite" fill="hold">
                      <p:stCondLst>
                        <p:cond delay="indefinite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dur="indefinite" fill="hold">
                      <p:stCondLst>
                        <p:cond delay="indefinite"/>
                      </p:stCondLst>
                      <p:childTnLst>
                        <p:par>
                          <p:cTn id="5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dur="indefinite" fill="hold">
                      <p:stCondLst>
                        <p:cond delay="indefinite"/>
                      </p:stCondLst>
                      <p:childTnLst>
                        <p:par>
                          <p:cTn id="5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dur="indefinite" fill="hold">
                      <p:stCondLst>
                        <p:cond delay="indefinite"/>
                      </p:stCondLst>
                      <p:childTnLst>
                        <p:par>
                          <p:cTn id="5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50720" y="-12600"/>
            <a:ext cx="8237520" cy="885600"/>
            <a:chOff x="450720" y="-12600"/>
            <a:chExt cx="8237520" cy="88560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450720" y="-12600"/>
              <a:ext cx="823752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50720" y="-12600"/>
              <a:ext cx="823752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-34920" y="2664000"/>
            <a:ext cx="34196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а связала сви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63640" y="874800"/>
            <a:ext cx="1800360" cy="1716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743280" y="2016000"/>
            <a:ext cx="1871640" cy="1789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959520" y="874800"/>
            <a:ext cx="1536840" cy="2004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5832360" y="4319640"/>
            <a:ext cx="2303640" cy="1511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936720" y="3456000"/>
            <a:ext cx="1439640" cy="2160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735280" y="3827520"/>
            <a:ext cx="37432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Сани новый само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9080" y="2963880"/>
            <a:ext cx="34192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ава и Со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грали в са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34920" y="5648400"/>
            <a:ext cx="3419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Сониной бабушки есть самов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4720" y="5810400"/>
            <a:ext cx="34196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ма свар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кусный су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dur="indefinite" fill="hold">
                      <p:stCondLst>
                        <p:cond delay="indefinite"/>
                      </p:stCondLst>
                      <p:childTnLst>
                        <p:par>
                          <p:cTn id="5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dur="indefinite" fill="hold">
                      <p:stCondLst>
                        <p:cond delay="indefinite"/>
                      </p:stCondLst>
                      <p:childTnLst>
                        <p:par>
                          <p:cTn id="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dur="indefinite" fill="hold">
                      <p:stCondLst>
                        <p:cond delay="indefinite"/>
                      </p:stCondLst>
                      <p:childTnLst>
                        <p:par>
                          <p:cTn id="5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dur="indefinite" fill="hold">
                      <p:stCondLst>
                        <p:cond delay="indefinite"/>
                      </p:stCondLst>
                      <p:childTnLst>
                        <p:par>
                          <p:cTn id="5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dur="indefinite" fill="hold">
                      <p:stCondLst>
                        <p:cond delay="indefinite"/>
                      </p:stCondLst>
                      <p:childTnLst>
                        <p:par>
                          <p:cTn id="5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dur="indefinite" fill="hold">
                      <p:stCondLst>
                        <p:cond delay="indefinite"/>
                      </p:stCondLst>
                      <p:childTnLst>
                        <p:par>
                          <p:cTn id="6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dur="indefinite" fill="hold">
                      <p:stCondLst>
                        <p:cond delay="indefinite"/>
                      </p:stCondLst>
                      <p:childTnLst>
                        <p:par>
                          <p:cTn id="6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dur="indefinite" fill="hold">
                      <p:stCondLst>
                        <p:cond delay="indefinite"/>
                      </p:stCondLst>
                      <p:childTnLst>
                        <p:par>
                          <p:cTn id="6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dur="indefinite" fill="hold">
                      <p:stCondLst>
                        <p:cond delay="indefinite"/>
                      </p:stCondLst>
                      <p:childTnLst>
                        <p:par>
                          <p:cTn id="6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dur="indefinite" fill="hold">
                      <p:stCondLst>
                        <p:cond delay="indefinite"/>
                      </p:stCondLst>
                      <p:childTnLst>
                        <p:par>
                          <p:cTn id="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dur="indefinite" fill="hold">
                      <p:stCondLst>
                        <p:cond delay="indefinite"/>
                      </p:stCondLst>
                      <p:childTnLst>
                        <p:par>
                          <p:cTn id="6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450720" y="139680"/>
            <a:ext cx="8237520" cy="885960"/>
            <a:chOff x="450720" y="139680"/>
            <a:chExt cx="8237520" cy="88596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450720" y="139680"/>
              <a:ext cx="823752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0720" y="139680"/>
              <a:ext cx="82375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592360" y="1584360"/>
            <a:ext cx="44686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 Ларисы длинная к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92000" y="1054080"/>
            <a:ext cx="1692360" cy="1682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566040" y="4867200"/>
            <a:ext cx="2068200" cy="1500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1081080" cy="1800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912000" y="2330280"/>
            <a:ext cx="1655640" cy="1584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952720" y="2852640"/>
            <a:ext cx="44686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 Светы новые бу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16000" y="4103640"/>
            <a:ext cx="56199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стене висят старинные ча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28720" y="5372280"/>
            <a:ext cx="51166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 Самосвала новые колё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dur="indefinite" fill="hold">
                      <p:stCondLst>
                        <p:cond delay="indefinite"/>
                      </p:stCondLst>
                      <p:childTnLst>
                        <p:par>
                          <p:cTn id="6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dur="indefinite" fill="hold">
                      <p:stCondLst>
                        <p:cond delay="indefinite"/>
                      </p:stCondLst>
                      <p:childTnLst>
                        <p:par>
                          <p:cTn id="6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dur="indefinite" fill="hold">
                      <p:stCondLst>
                        <p:cond delay="indefinite"/>
                      </p:stCondLst>
                      <p:childTnLst>
                        <p:par>
                          <p:cTn id="6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 fill="hold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dur="indefinite" fill="hold">
                      <p:stCondLst>
                        <p:cond delay="indefinite"/>
                      </p:stCondLst>
                      <p:childTnLst>
                        <p:par>
                          <p:cTn id="6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dur="indefinite" fill="hold">
                      <p:stCondLst>
                        <p:cond delay="indefinite"/>
                      </p:stCondLst>
                      <p:childTnLst>
                        <p:par>
                          <p:cTn id="6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dur="indefinite" fill="hold">
                      <p:stCondLst>
                        <p:cond delay="indefinite"/>
                      </p:stCondLst>
                      <p:childTnLst>
                        <p:par>
                          <p:cTn id="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dur="indefinite" fill="hold">
                      <p:stCondLst>
                        <p:cond delay="indefinite"/>
                      </p:stCondLst>
                      <p:childTnLst>
                        <p:par>
                          <p:cTn id="6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dur="indefinite" fill="hold">
                      <p:stCondLst>
                        <p:cond delay="indefinite"/>
                      </p:stCondLst>
                      <p:childTnLst>
                        <p:par>
                          <p:cTn id="6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dur="indefinite" fill="hold">
                      <p:stCondLst>
                        <p:cond delay="indefinite"/>
                      </p:stCondLst>
                      <p:childTnLst>
                        <p:par>
                          <p:cTn id="6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450720" y="268200"/>
            <a:ext cx="8237520" cy="1001880"/>
            <a:chOff x="450720" y="268200"/>
            <a:chExt cx="8237520" cy="10018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37520" cy="10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50720" y="268200"/>
              <a:ext cx="823752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08000" y="3311640"/>
            <a:ext cx="41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 мосту едет автоб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20720" y="1274760"/>
            <a:ext cx="2879640" cy="1944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511280" y="3887640"/>
            <a:ext cx="1295280" cy="2087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832360" y="4243320"/>
            <a:ext cx="2376720" cy="1573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119640" y="1236600"/>
            <a:ext cx="2087640" cy="21481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400720" y="3384720"/>
            <a:ext cx="34192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будке сидит спокойный пё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360" y="6004080"/>
            <a:ext cx="4140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У певицы звонкий голо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88000" y="5788080"/>
            <a:ext cx="4140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вета купила красивый подн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dur="indefinite" fill="hold">
                      <p:stCondLst>
                        <p:cond delay="indefinite"/>
                      </p:stCondLst>
                      <p:childTnLst>
                        <p:par>
                          <p:cTn id="6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dur="indefinite" fill="hold">
                      <p:stCondLst>
                        <p:cond delay="indefinite"/>
                      </p:stCondLst>
                      <p:childTnLst>
                        <p:par>
                          <p:cTn id="6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dur="indefinite" fill="hold">
                      <p:stCondLst>
                        <p:cond delay="indefinite"/>
                      </p:stCondLst>
                      <p:childTnLst>
                        <p:par>
                          <p:cTn id="7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dur="indefinite" fill="hold">
                      <p:stCondLst>
                        <p:cond delay="indefinite"/>
                      </p:stCondLst>
                      <p:childTnLst>
                        <p:par>
                          <p:cTn id="7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dur="indefinite" fill="hold">
                      <p:stCondLst>
                        <p:cond delay="indefinite"/>
                      </p:stCondLst>
                      <p:childTnLst>
                        <p:par>
                          <p:cTn id="7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dur="indefinite" fill="hold">
                      <p:stCondLst>
                        <p:cond delay="indefinite"/>
                      </p:stCondLst>
                      <p:childTnLst>
                        <p:par>
                          <p:cTn id="7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dur="indefinite" fill="hold">
                      <p:stCondLst>
                        <p:cond delay="indefinite"/>
                      </p:stCondLst>
                      <p:childTnLst>
                        <p:par>
                          <p:cTn id="7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dur="indefinite" fill="hold">
                      <p:stCondLst>
                        <p:cond delay="indefinite"/>
                      </p:stCondLst>
                      <p:childTnLst>
                        <p:par>
                          <p:cTn id="7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dur="indefinite" fill="hold">
                      <p:stCondLst>
                        <p:cond delay="indefinite"/>
                      </p:stCondLst>
                      <p:childTnLst>
                        <p:par>
                          <p:cTn id="7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390600" y="66600"/>
            <a:ext cx="8235720" cy="916200"/>
            <a:chOff x="390600" y="66600"/>
            <a:chExt cx="8235720" cy="91620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390600" y="66600"/>
              <a:ext cx="823572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90600" y="66600"/>
              <a:ext cx="823572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720720" y="2709720"/>
            <a:ext cx="15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621480" y="11494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600360" y="1512720"/>
            <a:ext cx="1944720" cy="1656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111640" y="4103640"/>
            <a:ext cx="2376720" cy="1584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792000" y="1065240"/>
            <a:ext cx="1656000" cy="1644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960480" y="4103640"/>
            <a:ext cx="2424240" cy="1655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672000" y="32148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80000" y="2925720"/>
            <a:ext cx="15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у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79640" y="5759280"/>
            <a:ext cx="166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х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56360" y="568800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л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dur="indefinite" fill="hold">
                      <p:stCondLst>
                        <p:cond delay="indefinite"/>
                      </p:stCondLst>
                      <p:childTnLst>
                        <p:par>
                          <p:cTn id="7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dur="indefinite" fill="hold">
                      <p:stCondLst>
                        <p:cond delay="indefinite"/>
                      </p:stCondLst>
                      <p:childTnLst>
                        <p:par>
                          <p:cTn id="7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dur="indefinite" fill="hold">
                      <p:stCondLst>
                        <p:cond delay="indefinite"/>
                      </p:stCondLst>
                      <p:childTnLst>
                        <p:par>
                          <p:cTn id="7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dur="indefinite" fill="hold">
                      <p:stCondLst>
                        <p:cond delay="indefinite"/>
                      </p:stCondLst>
                      <p:childTnLst>
                        <p:par>
                          <p:cTn id="7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dur="indefinite" fill="hold">
                      <p:stCondLst>
                        <p:cond delay="indefinite"/>
                      </p:stCondLst>
                      <p:childTnLst>
                        <p:par>
                          <p:cTn id="7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dur="indefinite" fill="hold">
                      <p:stCondLst>
                        <p:cond delay="indefinite"/>
                      </p:stCondLst>
                      <p:childTnLst>
                        <p:par>
                          <p:cTn id="7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dur="indefinite" fill="hold">
                      <p:stCondLst>
                        <p:cond delay="indefinite"/>
                      </p:stCondLst>
                      <p:childTnLst>
                        <p:par>
                          <p:cTn id="7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dur="indefinite" fill="hold">
                      <p:stCondLst>
                        <p:cond delay="indefinite"/>
                      </p:stCondLst>
                      <p:childTnLst>
                        <p:par>
                          <p:cTn id="7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dur="indefinite" fill="hold">
                      <p:stCondLst>
                        <p:cond delay="indefinite"/>
                      </p:stCondLst>
                      <p:childTnLst>
                        <p:par>
                          <p:cTn id="7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dur="indefinite" fill="hold">
                      <p:stCondLst>
                        <p:cond delay="indefinite"/>
                      </p:stCondLst>
                      <p:childTnLst>
                        <p:par>
                          <p:cTn id="7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dur="indefinite" fill="hold">
                      <p:stCondLst>
                        <p:cond delay="indefinite"/>
                      </p:stCondLst>
                      <p:childTnLst>
                        <p:par>
                          <p:cTn id="7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431640" y="109440"/>
            <a:ext cx="8237520" cy="604800"/>
            <a:chOff x="431640" y="109440"/>
            <a:chExt cx="8237520" cy="60480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431640" y="109440"/>
              <a:ext cx="82375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431640" y="109440"/>
              <a:ext cx="8237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12840" y="1224000"/>
            <a:ext cx="4654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Ы- СТЫ- СТЫ – у нас новые …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688000" y="863640"/>
            <a:ext cx="2519280" cy="1368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688000" y="2376360"/>
            <a:ext cx="2521080" cy="1413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688000" y="3959280"/>
            <a:ext cx="2519280" cy="1368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734080" y="5386320"/>
            <a:ext cx="2519280" cy="1428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16000" y="2843280"/>
            <a:ext cx="5591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У — СТУ — СТУ — автобус едет по …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6000" y="4427640"/>
            <a:ext cx="54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 — СТО — СТО — стоят кони под ...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" y="5904000"/>
            <a:ext cx="525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А — СТА — СТА — сидит киска у ...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dur="indefinite" fill="hold">
                      <p:stCondLst>
                        <p:cond delay="indefinite"/>
                      </p:stCondLst>
                      <p:childTnLst>
                        <p:par>
                          <p:cTn id="8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dur="indefinite" fill="hold">
                      <p:stCondLst>
                        <p:cond delay="indefinite"/>
                      </p:stCondLst>
                      <p:childTnLst>
                        <p:par>
                          <p:cTn id="8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dur="indefinite" fill="hold">
                      <p:stCondLst>
                        <p:cond delay="indefinite"/>
                      </p:stCondLst>
                      <p:childTnLst>
                        <p:par>
                          <p:cTn id="8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dur="indefinite" fill="hold">
                      <p:stCondLst>
                        <p:cond delay="indefinite"/>
                      </p:stCondLst>
                      <p:childTnLst>
                        <p:par>
                          <p:cTn id="8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dur="indefinite" fill="hold">
                      <p:stCondLst>
                        <p:cond delay="indefinite"/>
                      </p:stCondLst>
                      <p:childTnLst>
                        <p:par>
                          <p:cTn id="8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dur="indefinite" fill="hold">
                      <p:stCondLst>
                        <p:cond delay="indefinite"/>
                      </p:stCondLst>
                      <p:childTnLst>
                        <p:par>
                          <p:cTn id="8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dur="indefinite" fill="hold">
                      <p:stCondLst>
                        <p:cond delay="indefinite"/>
                      </p:stCondLst>
                      <p:childTnLst>
                        <p:par>
                          <p:cTn id="8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dur="indefinite" fill="hold">
                      <p:stCondLst>
                        <p:cond delay="indefinite"/>
                      </p:stCondLst>
                      <p:childTnLst>
                        <p:par>
                          <p:cTn id="8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dur="indefinite" fill="hold">
                      <p:stCondLst>
                        <p:cond delay="indefinite"/>
                      </p:stCondLst>
                      <p:childTnLst>
                        <p:par>
                          <p:cTn id="8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368360" y="287280"/>
            <a:ext cx="6280200" cy="1154160"/>
            <a:chOff x="1368360" y="287280"/>
            <a:chExt cx="6280200" cy="115416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1368360" y="287280"/>
              <a:ext cx="628020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368360" y="287280"/>
              <a:ext cx="628020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11120" y="1846440"/>
            <a:ext cx="82296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опух, пароход, салют, калоши, машина, насос,космос, варежки, заяц, самокат, танкист, лампа, карта, август, ястреб, курица, рукавица, фартук, шишка, ласка, праздник, дорога, страна, статуя, порт, костёр, навес, гонец, стра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264360" y="4403880"/>
            <a:ext cx="1933560" cy="20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dur="indefinite" fill="hold">
                      <p:stCondLst>
                        <p:cond delay="indefinite"/>
                      </p:stCondLst>
                      <p:childTnLst>
                        <p:par>
                          <p:cTn id="8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dur="indefinite" fill="hold">
                      <p:stCondLst>
                        <p:cond delay="indefinite"/>
                      </p:stCondLst>
                      <p:childTnLst>
                        <p:par>
                          <p:cTn id="8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dur="indefinite" fill="hold">
                      <p:stCondLst>
                        <p:cond delay="indefinite"/>
                      </p:stCondLst>
                      <p:childTnLst>
                        <p:par>
                          <p:cTn id="8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1138320" y="244440"/>
            <a:ext cx="6200640" cy="830160"/>
            <a:chOff x="1138320" y="244440"/>
            <a:chExt cx="6200640" cy="83016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1138320" y="244440"/>
              <a:ext cx="620064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138320" y="244440"/>
              <a:ext cx="620064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66760" y="2952720"/>
            <a:ext cx="82296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олёт построим с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несёмся над лес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несёмся над лес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 потом вернёмся к ма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110200" y="1079640"/>
            <a:ext cx="2952720" cy="1871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079640" y="1079640"/>
            <a:ext cx="2268360" cy="1539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5435640" y="3743280"/>
            <a:ext cx="3203640" cy="26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dur="indefinite" fill="hold">
                      <p:stCondLst>
                        <p:cond delay="indefinite"/>
                      </p:stCondLst>
                      <p:childTnLst>
                        <p:par>
                          <p:cTn id="8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dur="indefinite" fill="hold">
                      <p:stCondLst>
                        <p:cond delay="indefinite"/>
                      </p:stCondLst>
                      <p:childTnLst>
                        <p:par>
                          <p:cTn id="8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dur="indefinite" fill="hold">
                      <p:stCondLst>
                        <p:cond delay="indefinite"/>
                      </p:stCondLst>
                      <p:childTnLst>
                        <p:par>
                          <p:cTn id="8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dur="indefinite" fill="hold">
                      <p:stCondLst>
                        <p:cond delay="indefinite"/>
                      </p:stCondLst>
                      <p:childTnLst>
                        <p:par>
                          <p:cTn id="9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dur="indefinite" fill="hold">
                      <p:stCondLst>
                        <p:cond delay="indefinite"/>
                      </p:stCondLst>
                      <p:childTnLst>
                        <p:par>
                          <p:cTn id="9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440000" y="237960"/>
            <a:ext cx="6261120" cy="1270080"/>
            <a:chOff x="1440000" y="237960"/>
            <a:chExt cx="6261120" cy="12700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440000" y="249120"/>
              <a:ext cx="5945040" cy="12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755720" y="237960"/>
              <a:ext cx="5945400" cy="12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93680" y="1447920"/>
            <a:ext cx="822960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и произнесении звука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[c]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губы растянуты в улыбке, зубы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заборчиком с небольшой щелью (1 мм), язык широкий, расслабленный, кончик языка за нижними зубами, воздушная струя холодная, длительная, напряжённая, направленная вниз по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ередине языка (по желобку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91280" y="4392720"/>
            <a:ext cx="20160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855800" y="182520"/>
            <a:ext cx="5556240" cy="879480"/>
            <a:chOff x="1855800" y="182520"/>
            <a:chExt cx="5556240" cy="8794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1855800" y="182520"/>
              <a:ext cx="555624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855800" y="182520"/>
              <a:ext cx="555624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03280" y="1077840"/>
            <a:ext cx="811044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2880" indent="-406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54288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5266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Построим заборчик» - Улыбнуться, показать сомкнутые зубки. Удерживать губы в таком положении под счёт до десяти, затем вернуться в исходное по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406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54288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5266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 Киска сердится» - Улыбнуться, открыть рот, кончик языка упереть за нижние зубки, «спинку» выгнуть, а боковые языка прижать к верхним коренным зубам. Удерживать язык в таком положении под счёт до дес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406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54288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5266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Чистим зубки» - Улыбнуться, открыть рот, кончиком языка сильно «почистить» за нижними зубами(влево - вправо) под счёт до десяти. Затем поднять язычок вверх и почистить за верхними зубами(рот при этом широко открыт) под счёт до дес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406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54288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5266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Месим тесто» - Улыбнуться, открыть рот, покусать язык зубами  та-та-та; пошлёпать язык губами – пя– пя- пя ; закусить язык зубами и протаскивать его сквозь зубы с усил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288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5266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288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5266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288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5266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216080" y="182520"/>
            <a:ext cx="5762520" cy="1013040"/>
            <a:chOff x="1216080" y="182520"/>
            <a:chExt cx="5762520" cy="101304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216080" y="182520"/>
              <a:ext cx="576252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216080" y="182520"/>
              <a:ext cx="5762520" cy="10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82760" y="1368360"/>
            <a:ext cx="822960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ратко – С-С-С-С-С-С-С-С-С-С-С-С-С-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лительно - ССССССССССССССС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изнести длительно и кратк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СССА        -      СА         АС         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СССО        -     СО          ОС         О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СССУ        -     СУ          УС         У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СССЫ       -      СЫ         ЫС         Ы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983280" y="4896000"/>
            <a:ext cx="191304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450720" y="85680"/>
            <a:ext cx="8237520" cy="677880"/>
            <a:chOff x="450720" y="85680"/>
            <a:chExt cx="8237520" cy="6778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450720" y="85680"/>
              <a:ext cx="823752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50720" y="85680"/>
              <a:ext cx="82375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60360" y="2160720"/>
            <a:ext cx="24130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ол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47640" y="863640"/>
            <a:ext cx="2160720" cy="1295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887640" y="863640"/>
            <a:ext cx="1295640" cy="1871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384720" y="3311640"/>
            <a:ext cx="2016000" cy="144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6551640" y="863640"/>
            <a:ext cx="1368360" cy="180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47640" y="331164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576360" y="5256360"/>
            <a:ext cx="1728720" cy="1152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6551640" y="3311640"/>
            <a:ext cx="1440000" cy="1800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59280" y="2774880"/>
            <a:ext cx="2412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1640" y="4680000"/>
            <a:ext cx="21974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67000" y="4734000"/>
            <a:ext cx="24130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4560" y="2664000"/>
            <a:ext cx="24130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91280" y="5111640"/>
            <a:ext cx="241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0520" y="6419880"/>
            <a:ext cx="2412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ха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50720" y="128520"/>
            <a:ext cx="8237520" cy="604800"/>
            <a:chOff x="450720" y="128520"/>
            <a:chExt cx="8237520" cy="60480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450720" y="128520"/>
              <a:ext cx="82375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50720" y="128520"/>
              <a:ext cx="8237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60360" y="2664000"/>
            <a:ext cx="23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а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92000" y="947880"/>
            <a:ext cx="1729080" cy="1716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480000" y="1008000"/>
            <a:ext cx="2232360" cy="158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76360" y="4392720"/>
            <a:ext cx="2087640" cy="164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408720" y="4392720"/>
            <a:ext cx="2232000" cy="1644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362400" y="2519280"/>
            <a:ext cx="2469960" cy="1800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76720" y="4248000"/>
            <a:ext cx="234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вто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72360" y="2519280"/>
            <a:ext cx="23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к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0360" y="5975280"/>
            <a:ext cx="23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н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27640" y="5975280"/>
            <a:ext cx="23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мп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50720" y="109440"/>
            <a:ext cx="8237520" cy="800280"/>
            <a:chOff x="450720" y="109440"/>
            <a:chExt cx="8237520" cy="800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23752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50720" y="109440"/>
              <a:ext cx="8237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549440" y="2448000"/>
            <a:ext cx="154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366920" y="115236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57520" y="2879640"/>
            <a:ext cx="191448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68360" y="4476600"/>
            <a:ext cx="1368360" cy="1355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335640" y="4475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5986440" y="10080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48360" y="2519280"/>
            <a:ext cx="1546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5832360"/>
            <a:ext cx="1546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2720" y="4308480"/>
            <a:ext cx="154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ле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64360" y="597528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с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dur="indefinite" fill="hold">
                      <p:stCondLst>
                        <p:cond delay="indefinite"/>
                      </p:stCondLst>
                      <p:childTnLst>
                        <p:par>
                          <p:cTn id="2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dur="indefinite" fill="hold">
                      <p:stCondLst>
                        <p:cond delay="indefinite"/>
                      </p:stCondLst>
                      <p:childTnLst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450720" y="122400"/>
            <a:ext cx="8237520" cy="677880"/>
            <a:chOff x="450720" y="122400"/>
            <a:chExt cx="8237520" cy="67788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450720" y="122400"/>
              <a:ext cx="823752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0720" y="122400"/>
              <a:ext cx="82375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9528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376360" y="3816360"/>
            <a:ext cx="1548000" cy="2114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343640" y="936720"/>
            <a:ext cx="1656000" cy="2303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551640" y="4680000"/>
            <a:ext cx="2376360" cy="165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3311640" y="1224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287280" y="93672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5256360" y="2232000"/>
            <a:ext cx="1871640" cy="172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4176720" y="4751280"/>
            <a:ext cx="1973160" cy="1800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360360" y="3970440"/>
            <a:ext cx="1871640" cy="25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dur="indefinite" fill="hold">
                      <p:stCondLst>
                        <p:cond delay="indefinite"/>
                      </p:stCondLst>
                      <p:childTnLst>
                        <p:par>
                          <p:cTn id="3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dur="indefinite" fill="hold">
                      <p:stCondLst>
                        <p:cond delay="indefinite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450720" y="268200"/>
            <a:ext cx="8237520" cy="1154160"/>
            <a:chOff x="450720" y="268200"/>
            <a:chExt cx="8237520" cy="115416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3752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50720" y="268200"/>
              <a:ext cx="823752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57200" y="1413000"/>
            <a:ext cx="82296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ой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ряд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к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х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оп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шок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45200" y="3527280"/>
            <a:ext cx="2422440" cy="27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dur="indefinite" fill="hold">
                      <p:stCondLst>
                        <p:cond delay="indefinite"/>
                      </p:stCondLst>
                      <p:childTnLst>
                        <p:par>
                          <p:cTn id="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08:17Z</dcterms:created>
  <dc:creator>Буданова</dc:creator>
  <dc:description/>
  <dc:language>en-US</dc:language>
  <cp:lastModifiedBy/>
  <dcterms:modified xsi:type="dcterms:W3CDTF">2017-10-01T07:35:15Z</dcterms:modified>
  <cp:revision>61</cp:revision>
  <dc:subject/>
  <dc:title>ЛОГОПЕДИЧЕСКОЕ ЗАНЯТИЕПО ТЕМЕ: «АВТОМАТИЗАЦИЯ ЗВУКА [С]  В СЛОВАХ, ПРЕДЛОЖЕНИЯХ»</dc:title>
</cp:coreProperties>
</file>