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5105E-20F4-4B4C-A673-F9364F3C71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62B2D9-4EDE-4D75-B379-8CA37A65733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3C5BAA-0044-4898-B4A8-46DD919F76C8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70CC0E-F8D8-4417-AEAA-96A82CD6682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DC162E-5099-418A-8469-F591810729C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A2E4F2-0D08-48EA-9AEF-20CEA7282E2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B3DA5A-0718-4368-817C-9B042BC2C3B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EF4929-21B2-48F0-8458-09FE52A2F26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96B2B2D-52D7-4516-BD8D-2859648578F4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AAD966-D9AC-40F2-B629-928821A7436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D619973-7A43-4387-8393-D98E8D7702E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74D9D80-E9F2-46E8-AC98-D69808E85E4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4E7750-5FED-46C9-B7C0-17B351C1EB7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38F34F-08BB-4A13-BEB3-761CA876F0F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6A9554B-D9C4-4F9D-876B-D349C53383C0}" type="slidenum">
              <a:rPr b="0" lang="ru-RU" sz="14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65953-C195-425F-ABA8-2D45BECDB9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AA52-3F8A-4CEF-9F7E-056F0730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A30F2-F31A-40DF-894A-19E6BA89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26774-BC10-4324-B22A-467151A385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D5823-60B7-4B99-A8AB-0BCDE3F617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02961E-C49A-417A-97DB-09018E92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F1D0E-14CF-4E28-9E6B-1F89B6EF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E7261-7C61-4430-8EE9-285A6945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FD6A5-0A03-469A-9236-8D2B755E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67C5A-F711-4BCB-8E80-51CD24D6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6FD95-34BE-41F8-ABC6-B75563F2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4A83A-B398-4F80-A3D1-3E1FE1D8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3C2A7-CEF0-4BFC-A771-554BCB2A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E7E73-2DCC-4BF9-BD22-8EFD906A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54E73-916B-4DC5-9596-470F1F9B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CE553D-5A27-443C-99E2-96AEA44E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FA802-2DAE-4D5F-88E5-89007D78D51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1D9B-A39D-46AB-9E6E-97859A207F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FE85-3D82-4816-AA8D-FEE1F9A0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288F-FCF8-41F8-9CC5-716557AA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9D8E-4506-41F2-A0F7-AB16645A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307F-91F1-4B26-8EAE-8B512F4D0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16297-8237-4E6D-A013-CE1BAEEE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0FCA-C624-4C39-9B42-BB6F5BF0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05AF-F2A5-4621-B25C-6C728B90B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8E50-D5DE-4B16-B953-7B932D5D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3EA6-17B0-4817-82D2-40D1F766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604A-1788-40C6-881F-5DA86894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379F-FB9C-4EC8-9DA0-0B9B0990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4BED-115D-426E-9C6C-D531842B3F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4E8D7-8FDE-494C-A3BC-42D8568A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14E4B-E088-4447-88E9-B150F2B7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99B10-8DB8-473B-A232-9E28048F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DC669-9716-4109-962E-FE7AD772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2BDB4-148B-4775-81D5-58AEF546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CC715-DFA3-492C-A6D6-9B3A262A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514440" y="534996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4852800"/>
            <a:ext cx="845676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rPr>
              <a:t>4.1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CB0AEF4-29FC-4EEB-97B7-804F5ECD5714}" type="slidenum">
              <a: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rPr>
              <a:t>4.1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ldNum" idx="4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E006156-09CB-446A-8B75-51CC8B81EE3C}" type="slidenum">
              <a: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4440" y="1050840"/>
            <a:ext cx="8629560" cy="180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4440" y="1057320"/>
            <a:ext cx="8629560" cy="3240"/>
          </a:xfrm>
          <a:prstGeom prst="line">
            <a:avLst/>
          </a:prstGeom>
          <a:ln w="9360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320" y="456840"/>
            <a:ext cx="86850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rPr>
              <a:t>4.1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6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3EA8427-7623-4453-B6F1-B1C1852ED8AF}" type="slidenum">
              <a:rPr b="0" lang="ru-RU" sz="1800" spc="-1" strike="noStrike">
                <a:solidFill>
                  <a:srgbClr val="000000"/>
                </a:solidFill>
                <a:latin typeface="Franklin Gothic Book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9680" y="5635440"/>
            <a:ext cx="84582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4e3b30"/>
                </a:solidFill>
                <a:latin typeface="Franklin Gothic Medium"/>
              </a:rPr>
              <a:t>              </a:t>
            </a:r>
            <a:r>
              <a:rPr b="0" lang="ru-RU" sz="3600" spc="-1" strike="noStrike">
                <a:solidFill>
                  <a:srgbClr val="ffffff"/>
                </a:solidFill>
                <a:latin typeface="Franklin Gothic Medium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Franklin Gothic Medium"/>
              </a:rPr>
              <a:t>«Загадки вокруг нас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303640" y="22320"/>
            <a:ext cx="5333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Franklin Gothic Medium"/>
              </a:rPr>
              <a:t>Овощ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27120" y="1584360"/>
            <a:ext cx="3835440" cy="38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3105360" cy="41436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072040" y="642960"/>
            <a:ext cx="3009960" cy="30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Не шит, не кроен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А весь в рубцах;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Без счету одежек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А все без застежек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87960" y="1643040"/>
            <a:ext cx="4784760" cy="35416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44360" y="874800"/>
            <a:ext cx="3990960" cy="531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 fill="hold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Раскололся тесный домик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На две половинки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И посыпались оттуда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Бусинки-дробин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0000" y="1440000"/>
            <a:ext cx="3352680" cy="3252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92000" y="1079640"/>
            <a:ext cx="3100680" cy="40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428840" y="285840"/>
            <a:ext cx="6143400" cy="61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Сидит дед, в сто шуб одет.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Кто его раздевает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Тот слёзы пролива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2968560" cy="43196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214880" y="857160"/>
            <a:ext cx="428616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Под землёй огонь горит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а снаружи дым видн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28760" y="2428920"/>
            <a:ext cx="3809880" cy="3552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072040" y="1143000"/>
            <a:ext cx="254016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Вверху зелено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Внизу красно,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В землю вросло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28800" y="209520"/>
            <a:ext cx="335736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071720" y="4098960"/>
            <a:ext cx="2928960" cy="27590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714920" y="1214280"/>
            <a:ext cx="4071960" cy="424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dur="indefinite" fill="hold">
                      <p:stCondLst>
                        <p:cond delay="indefinite"/>
                      </p:stCondLst>
                      <p:childTnLst>
                        <p:par>
                          <p:cTn id="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Лежит между грядок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Franklin Gothic Medium"/>
              </a:rPr>
              <a:t>Зелен и слад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