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C5A32-005B-4624-A279-BBD06B391C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9E50DD-06EA-4F55-BBC7-7084259A2FC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5F98D0-BEF6-4D57-B5AE-1D54A2D68DC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4B94C6-D39E-429F-B973-BF342D30A5D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01587F-C504-4221-B196-400ED5CF230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272B50-332C-44E1-B825-AB3ADFD6A30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712C1B-13A7-4D50-A627-624FD503F09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4690BB-8903-46AE-A9CB-E7110C2D018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862B9A-3874-43E8-B480-330F55791EB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BBF523-B460-4905-8C0C-C5EED7A6135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8A595C-191C-4FA2-A8FA-380F3E728B6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A9BCA3-29FF-4E91-ABF7-CA2D42C11F6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F43610-2BA4-4CD1-9E9E-E9AC0C871CE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F483D7-6AF7-4CEB-8BD3-31ADC966DB5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428DC2-A25B-487D-B27C-CAB05483570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4054-C91B-44CE-A488-28C31C3999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77CF-FA36-4EF6-9C55-8C2F93E4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0F64-DACA-4A56-B60D-F6561CA5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5C7E-5516-45F8-801F-D5180D96C6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D7EF5-1BBA-4662-A300-D3B53E3448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716C9-C7A0-42A7-A2D7-2CC1B9C7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3E82C-3A4C-47FB-AF15-50A4FDDA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8250E-BE60-495A-94B1-85770D84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DAF0D-F742-4AC5-A4B3-B5D92C53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5BF87-A2DC-4FD9-B08F-D6E91C4B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777E2-28CE-4CE5-B167-354A194D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33CC-200A-4A8D-AEBC-3FF7443A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01F7B-7638-40C6-AB42-7B36EC5B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F59BA-2216-4C9E-9F4F-E9C1CE6A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25DA1-CD3A-4381-BD88-B6575C4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60269-7C33-4579-8786-4CC21846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5EF1F-566E-4221-AC8F-115770441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64CD-45E7-47D1-9C15-01AEFA6D4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7F8F-06EA-43A8-94C2-D6527C92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A1ED-48F8-463D-80C1-A14C4142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8953-65A3-4716-96BE-F77ED1E4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14A6-4640-41EF-8A20-99523FAD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942B-9896-478F-9C85-6D7864DD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2246-3C7B-464B-B272-D726CAD3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4B5C-7BF6-4B8C-831D-4CC01A94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A62F-1052-4518-9278-64F86B4F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3FAC-E2EE-4E05-A616-E7223A79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5342-8875-4757-80D3-E3D98B21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B7E0-9286-4ACC-84F0-22C6EC78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3C93-2316-42CD-9928-A4D98EA66B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E615-B096-4DE2-9D27-05AD5548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1687-8967-4D8D-AF69-5E38E5B1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EF62-DBE7-4061-A88B-D2CA48D9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24E8-15DA-46E9-9C03-C959F443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1002-BAE2-40BB-AD29-C0241C5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9A9F-576D-4CC4-B42F-7F175D54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14440" y="534996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676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4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2684FF8-DA63-46DE-A155-8EEC4558024C}" type="slidenum"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4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4894C4B-26F3-40ED-8A59-109D86059288}" type="slidenum"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456840"/>
            <a:ext cx="86850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4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984BB43-5F99-4689-A226-B4BF50A4290F}" type="slidenum"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563544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Franklin Gothic Medium"/>
              </a:rPr>
              <a:t>«Загадки вокруг на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303640" y="2232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Franklin Gothic Medium"/>
              </a:rPr>
              <a:t>Ово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27120" y="1584360"/>
            <a:ext cx="383544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3105360" cy="4143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72040" y="642960"/>
            <a:ext cx="3009960" cy="30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Не шит, не кроен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А весь в рубцах;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Без счету одежек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А все без застежек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960" y="1643040"/>
            <a:ext cx="4784760" cy="3541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360" y="874800"/>
            <a:ext cx="3990960" cy="53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Раскололся тесный домик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На две половинки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И посыпались оттуда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Бусинки-дроби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0000" y="1440000"/>
            <a:ext cx="3352680" cy="3252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92000" y="1079640"/>
            <a:ext cx="3100680" cy="40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28840" y="285840"/>
            <a:ext cx="6143400" cy="61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Сидит дед, в сто шуб одет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Кто его раздевает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Тот слёзы пролива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968560" cy="4319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428616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Под землёй огонь горит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а снаружи дым вид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28760" y="2428920"/>
            <a:ext cx="3809880" cy="3552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072040" y="1143000"/>
            <a:ext cx="254016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Вверху зелено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Внизу красно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В землю вросл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28800" y="209520"/>
            <a:ext cx="335736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71720" y="4098960"/>
            <a:ext cx="2928960" cy="2759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714920" y="1214280"/>
            <a:ext cx="407196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Лежит между грядок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Зелен и слад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