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F3B6-8F18-4579-AA7D-570E4F95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E6E7-D4D8-495F-A5C0-6E4D6ED3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2D8A-E4C3-4EFF-A3D0-85881C664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C2BA-2C8D-4AA5-9098-38E01CDC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168A-B3B2-4783-A03D-3A04312CF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197F-E3DB-4715-B09D-35BE0B2A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2EF7-6528-4B8A-AE82-32511357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C7D-3A6D-4EE4-A33D-7AC9837B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381-5C17-4A1D-BEA0-6141A7B03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B8B-5FD7-414E-871B-BE0336C0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D63-79FE-4F34-A824-93087C17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D0A-424F-4448-A689-C13FF2AE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794A-4A01-4204-BA7C-598C85D1A6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182240" y="1560600"/>
            <a:ext cx="101764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ЮДЖЕТ СЕМЬ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ФЦКМ)</a:t>
            </a:r>
            <a:br>
              <a:rPr sz="3200"/>
            </a:b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етодическое обеспечение НОД с использование И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подготовительная групп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013640" y="5105520"/>
            <a:ext cx="761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готовила: воспитатель подготовительной групп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ДОУ «ЦРР – детский сад №58» г. Вороне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ьцева М.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2112840" y="704880"/>
            <a:ext cx="7435800" cy="5124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2"/>
          <p:cNvSpPr/>
          <p:nvPr/>
        </p:nvSpPr>
        <p:spPr>
          <a:xfrm>
            <a:off x="3836880" y="1424160"/>
            <a:ext cx="4321440" cy="43192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Равнобедренный треугольник 2"/>
          <p:cNvSpPr/>
          <p:nvPr/>
        </p:nvSpPr>
        <p:spPr>
          <a:xfrm>
            <a:off x="1049400" y="1889280"/>
            <a:ext cx="4841640" cy="439092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Равнобедренный треугольник 3"/>
          <p:cNvSpPr/>
          <p:nvPr/>
        </p:nvSpPr>
        <p:spPr>
          <a:xfrm>
            <a:off x="8273880" y="4302000"/>
            <a:ext cx="2399040" cy="19782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Равнобедренный треугольник 1"/>
          <p:cNvSpPr/>
          <p:nvPr/>
        </p:nvSpPr>
        <p:spPr>
          <a:xfrm>
            <a:off x="9667800" y="239760"/>
            <a:ext cx="1979640" cy="179856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"/>
          <p:cNvSpPr/>
          <p:nvPr/>
        </p:nvSpPr>
        <p:spPr>
          <a:xfrm>
            <a:off x="9847440" y="2233440"/>
            <a:ext cx="1620720" cy="161928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9667800" y="4048200"/>
            <a:ext cx="2009880" cy="914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10064880" y="5160960"/>
            <a:ext cx="1403280" cy="14050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Равнобедренный треугольник 5"/>
          <p:cNvSpPr/>
          <p:nvPr/>
        </p:nvSpPr>
        <p:spPr>
          <a:xfrm>
            <a:off x="600120" y="2938320"/>
            <a:ext cx="1349280" cy="110988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Равнобедренный треугольник 1"/>
          <p:cNvSpPr/>
          <p:nvPr/>
        </p:nvSpPr>
        <p:spPr>
          <a:xfrm>
            <a:off x="987480" y="8222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Равнобедренный треугольник 3"/>
          <p:cNvSpPr/>
          <p:nvPr/>
        </p:nvSpPr>
        <p:spPr>
          <a:xfrm>
            <a:off x="2411280" y="84132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Равнобедренный треугольник 4"/>
          <p:cNvSpPr/>
          <p:nvPr/>
        </p:nvSpPr>
        <p:spPr>
          <a:xfrm>
            <a:off x="3855960" y="8222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Равнобедренный треугольник 5"/>
          <p:cNvSpPr/>
          <p:nvPr/>
        </p:nvSpPr>
        <p:spPr>
          <a:xfrm>
            <a:off x="5313240" y="82224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6"/>
          <p:cNvSpPr/>
          <p:nvPr/>
        </p:nvSpPr>
        <p:spPr>
          <a:xfrm>
            <a:off x="1089000" y="2289240"/>
            <a:ext cx="914400" cy="9144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2519280" y="2289240"/>
            <a:ext cx="914400" cy="9144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8"/>
          <p:cNvSpPr/>
          <p:nvPr/>
        </p:nvSpPr>
        <p:spPr>
          <a:xfrm>
            <a:off x="3983040" y="2289240"/>
            <a:ext cx="914400" cy="91440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9"/>
          <p:cNvSpPr/>
          <p:nvPr/>
        </p:nvSpPr>
        <p:spPr>
          <a:xfrm>
            <a:off x="723960" y="3913200"/>
            <a:ext cx="1647720" cy="914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2901960" y="3917880"/>
            <a:ext cx="1649520" cy="914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11"/>
          <p:cNvSpPr/>
          <p:nvPr/>
        </p:nvSpPr>
        <p:spPr>
          <a:xfrm>
            <a:off x="987480" y="5330880"/>
            <a:ext cx="914400" cy="914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8799480" y="3619440"/>
            <a:ext cx="30272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002060"/>
                </a:solidFill>
                <a:latin typeface="Calibri"/>
              </a:rPr>
              <a:t>10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239760" y="0"/>
            <a:ext cx="11647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266688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5" descr=""/>
          <p:cNvPicPr/>
          <p:nvPr/>
        </p:nvPicPr>
        <p:blipFill>
          <a:blip r:embed="rId1"/>
          <a:stretch/>
        </p:blipFill>
        <p:spPr>
          <a:xfrm>
            <a:off x="3003480" y="22320"/>
            <a:ext cx="5943600" cy="6835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1587600" y="-28440"/>
            <a:ext cx="9115200" cy="6886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3747960" y="0"/>
            <a:ext cx="4737240" cy="6805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 rot="20784000">
            <a:off x="722880" y="1004760"/>
            <a:ext cx="85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 rot="1973400">
            <a:off x="1841760" y="3256920"/>
            <a:ext cx="85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 rot="1215600">
            <a:off x="10695600" y="1189080"/>
            <a:ext cx="85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 rot="19961400">
            <a:off x="10005480" y="4033080"/>
            <a:ext cx="8575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554040" y="0"/>
            <a:ext cx="1123308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2" descr=""/>
          <p:cNvPicPr/>
          <p:nvPr/>
        </p:nvPicPr>
        <p:blipFill>
          <a:blip r:embed="rId2"/>
          <a:stretch/>
        </p:blipFill>
        <p:spPr>
          <a:xfrm>
            <a:off x="1981080" y="-133200"/>
            <a:ext cx="865044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"/>
          <p:cNvPicPr/>
          <p:nvPr/>
        </p:nvPicPr>
        <p:blipFill>
          <a:blip r:embed="rId1"/>
          <a:stretch/>
        </p:blipFill>
        <p:spPr>
          <a:xfrm>
            <a:off x="2220840" y="0"/>
            <a:ext cx="8007480" cy="45054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"/>
          <p:cNvPicPr/>
          <p:nvPr/>
        </p:nvPicPr>
        <p:blipFill>
          <a:blip r:embed="rId2"/>
          <a:stretch/>
        </p:blipFill>
        <p:spPr>
          <a:xfrm>
            <a:off x="0" y="3687840"/>
            <a:ext cx="3957480" cy="31701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"/>
          <p:cNvPicPr/>
          <p:nvPr/>
        </p:nvPicPr>
        <p:blipFill>
          <a:blip r:embed="rId3"/>
          <a:stretch/>
        </p:blipFill>
        <p:spPr>
          <a:xfrm>
            <a:off x="8759880" y="3417840"/>
            <a:ext cx="3432240" cy="3440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735120" y="-19080"/>
            <a:ext cx="10733040" cy="6877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Равнобедренный треугольник 1"/>
          <p:cNvSpPr/>
          <p:nvPr/>
        </p:nvSpPr>
        <p:spPr>
          <a:xfrm>
            <a:off x="3087720" y="779400"/>
            <a:ext cx="5786280" cy="5097600"/>
          </a:xfrm>
          <a:prstGeom prst="triangle">
            <a:avLst>
              <a:gd name="adj" fmla="val 50000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3387600" y="287280"/>
            <a:ext cx="4451400" cy="5918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Овал 1"/>
          <p:cNvSpPr/>
          <p:nvPr/>
        </p:nvSpPr>
        <p:spPr>
          <a:xfrm>
            <a:off x="3282840" y="839880"/>
            <a:ext cx="5561280" cy="53355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9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3803760" y="358920"/>
            <a:ext cx="4335480" cy="621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2112840" y="1619280"/>
            <a:ext cx="7585200" cy="3627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9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5T14:40:09Z</dcterms:created>
  <dc:creator>Мария Мальцева</dc:creator>
  <dc:description/>
  <dc:language>en-US</dc:language>
  <cp:lastModifiedBy>Мария Мальцева</cp:lastModifiedBy>
  <dcterms:modified xsi:type="dcterms:W3CDTF">2017-10-07T14:45:23Z</dcterms:modified>
  <cp:revision>8</cp:revision>
  <dc:subject/>
  <dc:title>Презентация PowerPoint</dc:title>
</cp:coreProperties>
</file>