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3A3-BEFD-436A-A340-F55D3855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DEF-6B0B-4FF1-8C7B-60FF5D51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B8D-14EF-4748-A67D-6C5FBBC2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C0A-D3B0-4D9A-A5C9-6F2E2811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A31-980E-47A3-9612-526EC3D2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CC7-7B28-4BDA-8C0E-0761DD1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373-7D9F-428D-8600-6224429D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C46-8659-4793-A62C-4219910B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0A8-45F0-4214-B792-D9961404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CC1-22A8-40CB-B4C7-A5BD5FBF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562-585E-4BC5-A127-F9F30410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42B-12D4-4530-B5F7-C67D3E4D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DA8D-FBD7-4863-9AA4-C5A9C7D761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182240" y="1560600"/>
            <a:ext cx="101764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 СЕМЬ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ФЦКМ)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ческое обеспечение НОД с использование И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подготовительная групп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013640" y="5105520"/>
            <a:ext cx="76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: воспитатель подготовительно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ДОУ «ЦРР – детский сад №58» г. Вороне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цева М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2112840" y="704880"/>
            <a:ext cx="7435800" cy="512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3836880" y="1424160"/>
            <a:ext cx="4321440" cy="4319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Равнобедренный треугольник 2"/>
          <p:cNvSpPr/>
          <p:nvPr/>
        </p:nvSpPr>
        <p:spPr>
          <a:xfrm>
            <a:off x="1049400" y="1889280"/>
            <a:ext cx="4841640" cy="439092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Равнобедренный треугольник 3"/>
          <p:cNvSpPr/>
          <p:nvPr/>
        </p:nvSpPr>
        <p:spPr>
          <a:xfrm>
            <a:off x="8273880" y="4302000"/>
            <a:ext cx="2399040" cy="19782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Равнобедренный треугольник 1"/>
          <p:cNvSpPr/>
          <p:nvPr/>
        </p:nvSpPr>
        <p:spPr>
          <a:xfrm>
            <a:off x="9667800" y="239760"/>
            <a:ext cx="1979640" cy="179856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"/>
          <p:cNvSpPr/>
          <p:nvPr/>
        </p:nvSpPr>
        <p:spPr>
          <a:xfrm>
            <a:off x="9847440" y="2233440"/>
            <a:ext cx="1620720" cy="161928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9667800" y="4048200"/>
            <a:ext cx="200988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0064880" y="5160960"/>
            <a:ext cx="1403280" cy="14050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Равнобедренный треугольник 5"/>
          <p:cNvSpPr/>
          <p:nvPr/>
        </p:nvSpPr>
        <p:spPr>
          <a:xfrm>
            <a:off x="600120" y="2938320"/>
            <a:ext cx="1349280" cy="110988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Равнобедренный треугольник 1"/>
          <p:cNvSpPr/>
          <p:nvPr/>
        </p:nvSpPr>
        <p:spPr>
          <a:xfrm>
            <a:off x="987480" y="822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Равнобедренный треугольник 3"/>
          <p:cNvSpPr/>
          <p:nvPr/>
        </p:nvSpPr>
        <p:spPr>
          <a:xfrm>
            <a:off x="2411280" y="8413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Равнобедренный треугольник 4"/>
          <p:cNvSpPr/>
          <p:nvPr/>
        </p:nvSpPr>
        <p:spPr>
          <a:xfrm>
            <a:off x="3855960" y="822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Равнобедренный треугольник 5"/>
          <p:cNvSpPr/>
          <p:nvPr/>
        </p:nvSpPr>
        <p:spPr>
          <a:xfrm>
            <a:off x="5313240" y="822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6"/>
          <p:cNvSpPr/>
          <p:nvPr/>
        </p:nvSpPr>
        <p:spPr>
          <a:xfrm>
            <a:off x="1089000" y="2289240"/>
            <a:ext cx="914400" cy="9144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2519280" y="2289240"/>
            <a:ext cx="914400" cy="9144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3983040" y="2289240"/>
            <a:ext cx="914400" cy="9144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723960" y="3913200"/>
            <a:ext cx="164772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2901960" y="3917880"/>
            <a:ext cx="164952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987480" y="5330880"/>
            <a:ext cx="91440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8799480" y="3619440"/>
            <a:ext cx="30272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239760" y="0"/>
            <a:ext cx="11647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26668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" descr=""/>
          <p:cNvPicPr/>
          <p:nvPr/>
        </p:nvPicPr>
        <p:blipFill>
          <a:blip r:embed="rId1"/>
          <a:stretch/>
        </p:blipFill>
        <p:spPr>
          <a:xfrm>
            <a:off x="3003480" y="22320"/>
            <a:ext cx="59436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1587600" y="-28440"/>
            <a:ext cx="9115200" cy="688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3747960" y="0"/>
            <a:ext cx="4737240" cy="680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 rot="20784000">
            <a:off x="722880" y="1004760"/>
            <a:ext cx="85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 rot="1973400">
            <a:off x="1841760" y="3256920"/>
            <a:ext cx="85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 rot="1215600">
            <a:off x="10695600" y="1189080"/>
            <a:ext cx="85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 rot="19961400">
            <a:off x="10005480" y="4033080"/>
            <a:ext cx="85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554040" y="0"/>
            <a:ext cx="112330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1981080" y="-133200"/>
            <a:ext cx="865044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2220840" y="0"/>
            <a:ext cx="8007480" cy="4505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"/>
          <p:cNvPicPr/>
          <p:nvPr/>
        </p:nvPicPr>
        <p:blipFill>
          <a:blip r:embed="rId2"/>
          <a:stretch/>
        </p:blipFill>
        <p:spPr>
          <a:xfrm>
            <a:off x="0" y="3687840"/>
            <a:ext cx="3957480" cy="31701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"/>
          <p:cNvPicPr/>
          <p:nvPr/>
        </p:nvPicPr>
        <p:blipFill>
          <a:blip r:embed="rId3"/>
          <a:stretch/>
        </p:blipFill>
        <p:spPr>
          <a:xfrm>
            <a:off x="8759880" y="3417840"/>
            <a:ext cx="3432240" cy="3440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735120" y="-19080"/>
            <a:ext cx="1073304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Равнобедренный треугольник 1"/>
          <p:cNvSpPr/>
          <p:nvPr/>
        </p:nvSpPr>
        <p:spPr>
          <a:xfrm>
            <a:off x="3087720" y="779400"/>
            <a:ext cx="5786280" cy="50976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3387600" y="287280"/>
            <a:ext cx="4451400" cy="591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вал 1"/>
          <p:cNvSpPr/>
          <p:nvPr/>
        </p:nvSpPr>
        <p:spPr>
          <a:xfrm>
            <a:off x="3282840" y="839880"/>
            <a:ext cx="5561280" cy="53355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3803760" y="358920"/>
            <a:ext cx="4335480" cy="62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112840" y="1619280"/>
            <a:ext cx="7585200" cy="3627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5T14:40:09Z</dcterms:created>
  <dc:creator>Мария Мальцева</dc:creator>
  <dc:description/>
  <dc:language>en-US</dc:language>
  <cp:lastModifiedBy>Мария Мальцева</cp:lastModifiedBy>
  <dcterms:modified xsi:type="dcterms:W3CDTF">2017-10-07T14:45:23Z</dcterms:modified>
  <cp:revision>8</cp:revision>
  <dc:subject/>
  <dc:title>Презентация PowerPoint</dc:title>
</cp:coreProperties>
</file>