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5A33-737A-48F0-A4F2-6BCA3A30CB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58A9-55B7-4486-A115-AB1EFB6DA7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C32-2966-4551-8C84-5E9775D6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8BC4-7FDE-46C3-AB78-098FDE67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BE5-BB48-4674-B601-9E0DE3C7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194A-DDCB-4417-820C-16DE8946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12F9-01F2-4BD8-B3C4-58297228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1F4-E1E5-4D4B-8E2F-6F7C4880E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D173-7844-4334-935B-7EFE07C2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F5F-0879-4EDE-8EA4-1AAD7A70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7D5-A30F-4557-AD8F-112D8B74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44A-9197-4E22-9138-9199EB09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CE1-8BCF-4852-A44A-995D77E9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9400-BD64-4FEE-ABB9-2C51E885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861F-5DA9-4B52-86CB-6EB50BC6A2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3357360"/>
            <a:ext cx="7929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32523"/>
                </a:solidFill>
                <a:latin typeface="Comic Sans MS"/>
              </a:rPr>
              <a:t>Что за прелесть эти сказки!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43680" y="4214520"/>
            <a:ext cx="3286080" cy="14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84807"/>
                </a:solidFill>
                <a:latin typeface="Comic Sans MS"/>
              </a:rPr>
              <a:t>Выполнил: Османов Павел,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84807"/>
                </a:solidFill>
                <a:latin typeface="Comic Sans MS"/>
              </a:rPr>
              <a:t>ученик 4 «Б» класса гимназии № 4 им. А.С. Пушки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984807"/>
                </a:solidFill>
                <a:latin typeface="Comic Sans MS"/>
              </a:rPr>
              <a:t>Руководитель: Михайлова В.В. учитель 4 «Б» класса гимназии № 4 им. А.С. Пушкин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4" descr="Пушкин сказки.jpg"/>
          <p:cNvPicPr/>
          <p:nvPr/>
        </p:nvPicPr>
        <p:blipFill>
          <a:blip r:embed="rId1"/>
          <a:stretch/>
        </p:blipFill>
        <p:spPr>
          <a:xfrm>
            <a:off x="1000080" y="642960"/>
            <a:ext cx="3948120" cy="271476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5000760" y="896760"/>
            <a:ext cx="3429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omic Sans MS"/>
              </a:rPr>
              <a:t>«А.С.Пушкин украсил народную песню, сказку блеском своего таланта, но оставил неизменными их смысл и силу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omic Sans MS"/>
              </a:rPr>
              <a:t>А.М. Горьк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музыка.mp3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68580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632523"/>
                </a:solidFill>
                <a:latin typeface="Comic Sans MS"/>
              </a:rPr>
              <a:t>В сказке </a:t>
            </a: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"Чудесные сыновья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9720" y="857160"/>
            <a:ext cx="37861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мы обнаружим еще несколько общих сюжетных поворотов: троекратное посещение острова, а затем царя купцами; чудесное превращение царевича в насекомых; попытки сестры-завистниц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очернить чудеса, </a:t>
            </a:r>
            <a:r>
              <a:rPr b="1" lang="en-US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увиденные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omic Sans MS"/>
              </a:rPr>
              <a:t>      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остров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Приезд купцов.jpg"/>
          <p:cNvPicPr/>
          <p:nvPr/>
        </p:nvPicPr>
        <p:blipFill>
          <a:blip r:embed="rId1"/>
          <a:stretch/>
        </p:blipFill>
        <p:spPr>
          <a:xfrm>
            <a:off x="4857840" y="857160"/>
            <a:ext cx="3327480" cy="4429080"/>
          </a:xfrm>
          <a:prstGeom prst="rect">
            <a:avLst/>
          </a:prstGeom>
          <a:ln w="0">
            <a:noFill/>
          </a:ln>
        </p:spPr>
      </p:pic>
      <p:pic>
        <p:nvPicPr>
          <p:cNvPr id="86" name="музыка.mp3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858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"Сказка о попе и работнике его Балде"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56800" y="785520"/>
            <a:ext cx="4357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Эта сказка перекликается со сказк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  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«Батрак Шабарш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Но в своей сказке Пушкин вводит персонаж попа и показывает насмешливое, отрицательное отношение к нему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5" descr="Сказка о попе 1.jpg"/>
          <p:cNvPicPr/>
          <p:nvPr/>
        </p:nvPicPr>
        <p:blipFill>
          <a:blip r:embed="rId1"/>
          <a:stretch/>
        </p:blipFill>
        <p:spPr>
          <a:xfrm>
            <a:off x="5286240" y="642960"/>
            <a:ext cx="3124440" cy="385776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1857240" y="4572000"/>
            <a:ext cx="64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Посмотрим, а что же в этих сказках похожег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85560" y="70920"/>
            <a:ext cx="678636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Встреча с чертя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56800" y="713880"/>
            <a:ext cx="400068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В «Сказке о попе и работнике его Балде»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57160" y="1571400"/>
            <a:ext cx="364032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84807"/>
                </a:solidFill>
                <a:latin typeface="Comic Sans MS"/>
              </a:rPr>
              <a:t>«Да вот верёвкой хочу море морщить </a:t>
            </a:r>
            <a:br>
              <a:rPr sz="2000"/>
            </a:br>
            <a:r>
              <a:rPr b="1" i="1" lang="ru-RU" sz="2000" spc="-1" strike="noStrike">
                <a:solidFill>
                  <a:srgbClr val="984807"/>
                </a:solidFill>
                <a:latin typeface="Comic Sans MS"/>
              </a:rPr>
              <a:t>Да вас, проклятое племя, корчить.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00400" y="642960"/>
            <a:ext cx="35002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В сказк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«Батрак Шабарша»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857480" y="1643040"/>
            <a:ext cx="38574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« - Да хочу пруд вычищать да вас, чертей, из воды таскать.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7" descr="Встреча с чертями.jpg"/>
          <p:cNvPicPr/>
          <p:nvPr/>
        </p:nvPicPr>
        <p:blipFill>
          <a:blip r:embed="rId1"/>
          <a:stretch/>
        </p:blipFill>
        <p:spPr>
          <a:xfrm>
            <a:off x="2714760" y="2813040"/>
            <a:ext cx="4071960" cy="26877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14320" y="0"/>
            <a:ext cx="57150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Спор «Кто кого обгонит?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85520" y="714240"/>
            <a:ext cx="4714920" cy="21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«Ты бесёнок, ещё молодёнок, </a:t>
            </a:r>
            <a:br>
              <a:rPr sz="2200"/>
            </a:b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Со мною тягаться слабёнок;</a:t>
            </a:r>
            <a:br>
              <a:rPr sz="2200"/>
            </a:b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Это было б лишь времени трата.</a:t>
            </a:r>
            <a:br>
              <a:rPr sz="2200"/>
            </a:b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Обгони-ка сперва моего брата...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28800" y="3142800"/>
            <a:ext cx="428616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« - Да куда тебе со мной взапуски бегать! Мой маленький брат Заинька –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        </a:t>
            </a: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и тот тебя далеко з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        </a:t>
            </a: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собой оставит!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4" descr="Спор заяц.jpg"/>
          <p:cNvPicPr/>
          <p:nvPr/>
        </p:nvPicPr>
        <p:blipFill>
          <a:blip r:embed="rId1"/>
          <a:stretch/>
        </p:blipFill>
        <p:spPr>
          <a:xfrm>
            <a:off x="5357880" y="1000080"/>
            <a:ext cx="3070080" cy="39528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2960" y="71280"/>
            <a:ext cx="785808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Спор «Кто дальше дубинку забросит?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56800" y="928440"/>
            <a:ext cx="235764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84807"/>
                </a:solidFill>
                <a:latin typeface="Comic Sans MS"/>
              </a:rPr>
              <a:t>«Чего ты ждёшь?» – «Да жду вон той тучки; </a:t>
            </a:r>
            <a:br>
              <a:rPr sz="2600"/>
            </a:br>
            <a:r>
              <a:rPr b="1" i="1" lang="ru-RU" sz="2600" spc="-1" strike="noStrike">
                <a:solidFill>
                  <a:srgbClr val="984807"/>
                </a:solidFill>
                <a:latin typeface="Comic Sans MS"/>
              </a:rPr>
              <a:t>Зашвырну туда твою палку,</a:t>
            </a:r>
            <a:br>
              <a:rPr sz="2600"/>
            </a:br>
            <a:r>
              <a:rPr b="1" i="1" lang="ru-RU" sz="2600" spc="-1" strike="noStrike">
                <a:solidFill>
                  <a:srgbClr val="984807"/>
                </a:solidFill>
                <a:latin typeface="Comic Sans MS"/>
              </a:rPr>
              <a:t>Да  начну с вами, чертями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984807"/>
                </a:solidFill>
                <a:latin typeface="Comic Sans MS"/>
              </a:rPr>
              <a:t>    </a:t>
            </a:r>
            <a:r>
              <a:rPr b="1" i="1" lang="ru-RU" sz="2600" spc="-1" strike="noStrike">
                <a:solidFill>
                  <a:srgbClr val="984807"/>
                </a:solidFill>
                <a:latin typeface="Comic Sans MS"/>
              </a:rPr>
              <a:t>свалку.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357960" y="856800"/>
            <a:ext cx="22860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« - Жду, когда вон энта тучка подойдет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я на неё дубинку вскину, там сидит мой брат кузнец, ему железо на дело пригодится.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4" descr="Дубинка.jpg"/>
          <p:cNvPicPr/>
          <p:nvPr/>
        </p:nvPicPr>
        <p:blipFill>
          <a:blip r:embed="rId1"/>
          <a:stretch/>
        </p:blipFill>
        <p:spPr>
          <a:xfrm>
            <a:off x="3071880" y="1000080"/>
            <a:ext cx="3201840" cy="3905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3880" y="-360"/>
            <a:ext cx="76438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omic Sans MS"/>
              </a:rPr>
              <a:t>«Сказка о рыбаке и рыбке»</a:t>
            </a:r>
            <a:r>
              <a:rPr b="0" lang="ru-RU" sz="4000" spc="-1" strike="noStrike">
                <a:solidFill>
                  <a:srgbClr val="632523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786200" y="856800"/>
            <a:ext cx="35719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84807"/>
                </a:solidFill>
                <a:latin typeface="Comic Sans MS"/>
              </a:rPr>
              <a:t>По сюжету эта сказка похожа 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84807"/>
                </a:solidFill>
                <a:latin typeface="Comic Sans MS"/>
              </a:rPr>
              <a:t>русской народной сказкой «Золотая рыбка» и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84807"/>
                </a:solidFill>
                <a:latin typeface="Comic Sans MS"/>
              </a:rPr>
              <a:t>со сказкой братьев Гримм «Рыбак и его жена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3" descr="Рыбак и рыбка.jpg"/>
          <p:cNvPicPr/>
          <p:nvPr/>
        </p:nvPicPr>
        <p:blipFill>
          <a:blip r:embed="rId1"/>
          <a:stretch/>
        </p:blipFill>
        <p:spPr>
          <a:xfrm>
            <a:off x="857160" y="107172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71360" y="71280"/>
            <a:ext cx="70722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Желания старух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7160" y="713880"/>
            <a:ext cx="3640320" cy="50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У А.С. Пушкин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71360" y="1357200"/>
            <a:ext cx="357156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9320" indent="-319320">
              <a:lnSpc>
                <a:spcPct val="9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коры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9320" indent="-319320">
              <a:lnSpc>
                <a:spcPct val="9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из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9320" indent="-319320">
              <a:lnSpc>
                <a:spcPct val="9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стать столбовою дворянк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9320" indent="-319320">
              <a:lnSpc>
                <a:spcPct val="9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стать вольною цариц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9320" indent="-319320">
              <a:lnSpc>
                <a:spcPct val="9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стать владычицей морскою и чтобы рыбка золотая был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9320" indent="-3193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    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б у не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9320" indent="-31932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    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на посыл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57800" y="642600"/>
            <a:ext cx="428616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В русской народной сказке «Золотая рыбка»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14560" y="1428480"/>
            <a:ext cx="3786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хле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коры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изб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стать воеводих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стать цариц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стать морскою владычицей и чтобы все моря и рыбы её слушалис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7" descr="Корыто.jpg"/>
          <p:cNvPicPr/>
          <p:nvPr/>
        </p:nvPicPr>
        <p:blipFill>
          <a:blip r:embed="rId1"/>
          <a:stretch/>
        </p:blipFill>
        <p:spPr>
          <a:xfrm>
            <a:off x="5143680" y="4143240"/>
            <a:ext cx="1785600" cy="1339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0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0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142920"/>
            <a:ext cx="768672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Сказка «Рыбак и его жен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6800" y="714240"/>
            <a:ext cx="735804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В сказке братьев Гримм «золотой рыбкой» является принц, заколдованный в камбалу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А жена рыбака проси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изб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каменный замо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стать королево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стать кайзер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стать папой Римски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и повелева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солнцем и месяц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Рисунок 4" descr="Рыбка.jpg"/>
          <p:cNvPicPr/>
          <p:nvPr/>
        </p:nvPicPr>
        <p:blipFill>
          <a:blip r:embed="rId1"/>
          <a:stretch/>
        </p:blipFill>
        <p:spPr>
          <a:xfrm>
            <a:off x="4429080" y="2071800"/>
            <a:ext cx="4048200" cy="3036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320" y="71280"/>
            <a:ext cx="80010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«Сказка о мертвой царевне и</a:t>
            </a:r>
            <a:br>
              <a:rPr sz="3600"/>
            </a:b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 о семи богатырях»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3880" y="999720"/>
            <a:ext cx="80010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Из русских сказок ей близка сказка «Волшебное зеркальце». Но более всего по сюжету она похожа на немецкую сказку «Белоснежка</a:t>
            </a:r>
            <a:r>
              <a:rPr b="1" lang="en-US" sz="24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и семь гномов». Но, как всегда, у Пушкина свои интересные персонаж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5" descr="сказка о мертвой царевне 1.jpg"/>
          <p:cNvPicPr/>
          <p:nvPr/>
        </p:nvPicPr>
        <p:blipFill>
          <a:blip r:embed="rId1"/>
          <a:stretch/>
        </p:blipFill>
        <p:spPr>
          <a:xfrm>
            <a:off x="2643120" y="2857680"/>
            <a:ext cx="3976920" cy="263808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792972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omic Sans MS"/>
              </a:rPr>
              <a:t>«Сказка о золотом петушк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56800" y="714240"/>
            <a:ext cx="4071960" cy="44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84807"/>
                </a:solidFill>
                <a:latin typeface="Comic Sans MS"/>
              </a:rPr>
              <a:t>Источником  «Сказки о золотом петушке»  могла стать «Легенда об арабском звездочете», изданная в 1832 году в Париже.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984807"/>
                </a:solidFill>
                <a:latin typeface="Comic Sans MS"/>
              </a:rPr>
              <a:t>Пушкин чудесным образом превратил мотивы, детали сюжета из иноязычного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84807"/>
                </a:solidFill>
                <a:latin typeface="Comic Sans MS"/>
              </a:rPr>
              <a:t>    </a:t>
            </a:r>
            <a:r>
              <a:rPr b="0" lang="ru-RU" sz="2600" spc="-1" strike="noStrike">
                <a:solidFill>
                  <a:srgbClr val="984807"/>
                </a:solidFill>
                <a:latin typeface="Comic Sans MS"/>
              </a:rPr>
              <a:t>фольклора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984807"/>
                </a:solidFill>
                <a:latin typeface="Comic Sans MS"/>
              </a:rPr>
              <a:t>        </a:t>
            </a:r>
            <a:r>
              <a:rPr b="0" lang="ru-RU" sz="2600" spc="-1" strike="noStrike">
                <a:solidFill>
                  <a:srgbClr val="984807"/>
                </a:solidFill>
                <a:latin typeface="Comic Sans MS"/>
              </a:rPr>
              <a:t>подлинно русски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Шамаханская царица.jpg"/>
          <p:cNvPicPr/>
          <p:nvPr/>
        </p:nvPicPr>
        <p:blipFill>
          <a:blip r:embed="rId1"/>
          <a:stretch/>
        </p:blipFill>
        <p:spPr>
          <a:xfrm>
            <a:off x="5143680" y="857160"/>
            <a:ext cx="3074760" cy="45007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57280" y="0"/>
            <a:ext cx="450072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omic Sans MS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642600"/>
            <a:ext cx="8429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984807"/>
                </a:solidFill>
                <a:latin typeface="Calibri"/>
              </a:rPr>
              <a:t>    </a:t>
            </a:r>
            <a:r>
              <a:rPr b="1" lang="ru-RU" sz="3000" spc="-1" strike="noStrike">
                <a:solidFill>
                  <a:srgbClr val="984807"/>
                </a:solidFill>
                <a:latin typeface="Comic Sans MS"/>
              </a:rPr>
              <a:t>Узнать на какие народные сказки похожи сказки Пушкина и сравнить и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4" descr="Пушкин.jpg"/>
          <p:cNvPicPr/>
          <p:nvPr/>
        </p:nvPicPr>
        <p:blipFill>
          <a:blip r:embed="rId1"/>
          <a:stretch/>
        </p:blipFill>
        <p:spPr>
          <a:xfrm>
            <a:off x="5786280" y="4286160"/>
            <a:ext cx="2500560" cy="1227240"/>
          </a:xfrm>
          <a:prstGeom prst="rect">
            <a:avLst/>
          </a:prstGeom>
          <a:ln w="0">
            <a:noFill/>
          </a:ln>
        </p:spPr>
      </p:pic>
      <p:sp>
        <p:nvSpPr>
          <p:cNvPr id="56" name="TextBox 5"/>
          <p:cNvSpPr/>
          <p:nvPr/>
        </p:nvSpPr>
        <p:spPr>
          <a:xfrm>
            <a:off x="3643200" y="1714680"/>
            <a:ext cx="22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omic Sans MS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1571760" y="2357280"/>
            <a:ext cx="642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Перечитать сказки А.С.Пушки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Изучить русские народные сказ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Изучить сказки других народ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Найти похожие сказ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98480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Сравнить сказки А.С. Пушкина с народными сказ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38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385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43040" y="70920"/>
            <a:ext cx="585792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omic Sans MS"/>
              </a:rPr>
              <a:t>Выво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57160" y="571320"/>
            <a:ext cx="75009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Сказки Александра Сергеевича Пушкина с народными сказками роднит многое: сюжет, герои, использование многократных повторов, магических чисел, заговоров, причитаний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Сказки Пушкина написаны стихами, но  язык его сказок близок народно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Сказки Пушкина и народные сказки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объединяет вера в торжество добра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и справедливости, прославление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душевной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красоты и любви, 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	</a:t>
            </a: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неприятие злобы и зави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-360"/>
            <a:ext cx="69292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omic Sans MS"/>
              </a:rPr>
              <a:t>Список литерату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42640" y="642960"/>
            <a:ext cx="7358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Пушкин А.С. Сказки.- М.:Изд-во Эксмо, 200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Русские народные сказки. – М.: Изд-во «Славянский дом книги», 200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Народные русские сказки. Из сб.А.Н.Афанасьева.- Мн.: БелЭн, 199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Гримм Я. и В. Сказки.: Пер. с немецкого.- М.: Панорама, 199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omic Sans MS"/>
              </a:rPr>
              <a:t>httr://teramult.org.u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4807"/>
                </a:solidFill>
                <a:latin typeface="Comic Sans MS"/>
              </a:rPr>
              <a:t>httr://www.lib.r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2071800" y="1571760"/>
            <a:ext cx="5572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omic Sans MS"/>
              </a:rPr>
              <a:t>СПАСИБО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omic Sans MS"/>
              </a:rPr>
              <a:t> </a:t>
            </a:r>
            <a:r>
              <a:rPr b="1" lang="ru-RU" sz="5400" spc="-1" strike="noStrike">
                <a:solidFill>
                  <a:srgbClr val="632523"/>
                </a:solidFill>
                <a:latin typeface="Comic Sans MS"/>
              </a:rPr>
              <a:t>ЗА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32523"/>
                </a:solidFill>
                <a:latin typeface="Comic Sans MS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Гипоте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571760" y="785520"/>
            <a:ext cx="5929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84807"/>
                </a:solidFill>
                <a:latin typeface="Comic Sans MS"/>
              </a:rPr>
              <a:t>  </a:t>
            </a:r>
            <a:r>
              <a:rPr b="1" lang="ru-RU" sz="3000" spc="-1" strike="noStrike">
                <a:solidFill>
                  <a:srgbClr val="984807"/>
                </a:solidFill>
                <a:latin typeface="Comic Sans MS"/>
              </a:rPr>
              <a:t>Известно, что в детстве Александр Сергеевич Пушкин слушал сказки, которые ему рассказывала его няня Арина Родионов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84807"/>
                </a:solidFill>
                <a:latin typeface="Comic Sans MS"/>
              </a:rPr>
              <a:t>Из её сказок Пушкин взял некоторые сюжеты, придумал свои и создал волшебные сказ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omic Sans MS"/>
              </a:rPr>
              <a:t>Результаты опро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429400" cy="6000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3880" y="0"/>
            <a:ext cx="76438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Comic Sans MS"/>
              </a:rPr>
              <a:t>«Сказка о царе Салтане...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71720" y="714240"/>
            <a:ext cx="7286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984807"/>
                </a:solidFill>
                <a:latin typeface="Comic Sans MS"/>
              </a:rPr>
              <a:t>близка с русскими народными сказками </a:t>
            </a:r>
            <a:r>
              <a:rPr b="1" lang="ru-RU" sz="2800" spc="-1" strike="noStrike">
                <a:solidFill>
                  <a:srgbClr val="984807"/>
                </a:solidFill>
                <a:latin typeface="Comic Sans MS"/>
              </a:rPr>
              <a:t>«По колена ноги в золоте, по локоть руки в серебре» </a:t>
            </a:r>
            <a:r>
              <a:rPr b="0" lang="ru-RU" sz="2800" spc="-1" strike="noStrike">
                <a:solidFill>
                  <a:srgbClr val="984807"/>
                </a:solidFill>
                <a:latin typeface="Comic Sans MS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omic Sans MS"/>
              </a:rPr>
              <a:t>«Чудесные сыновья»</a:t>
            </a:r>
            <a:r>
              <a:rPr b="0" lang="ru-RU" sz="2800" spc="-1" strike="noStrike">
                <a:solidFill>
                  <a:srgbClr val="984807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omic Sans MS"/>
              </a:rPr>
              <a:t>Попробуем най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omic Sans MS"/>
              </a:rPr>
              <a:t>сход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4807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984807"/>
                </a:solidFill>
                <a:latin typeface="Comic Sans MS"/>
              </a:rPr>
              <a:t>и различия в сюжете</a:t>
            </a:r>
            <a:r>
              <a:rPr b="0" lang="ru-RU" sz="24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6" descr="Царевна_лебедь.jpg"/>
          <p:cNvPicPr/>
          <p:nvPr/>
        </p:nvPicPr>
        <p:blipFill>
          <a:blip r:embed="rId1"/>
          <a:stretch/>
        </p:blipFill>
        <p:spPr>
          <a:xfrm>
            <a:off x="5234040" y="1643040"/>
            <a:ext cx="284328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85520" y="0"/>
            <a:ext cx="76438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Разговор сестер, подслушанный царе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85880" y="571680"/>
            <a:ext cx="37116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omic Sans MS"/>
              </a:rPr>
              <a:t>В «Сказке о царе Салтане…»  звучит так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28400" y="1356840"/>
            <a:ext cx="38574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Три девицы под окном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Пряли поздно вечерком.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"Кабы я была царица, –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Говорит одна девица, –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То на весь крещеный мир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Приготовила б я пир".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"Кабы я была царица, –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Говорит ее сестрица, –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То на весь бы мир одна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Наткала я полотна".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"Кабы я была царица, –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Третья молвила сестрица,  - Я б для батюшки-царя</a:t>
            </a:r>
            <a:br>
              <a:rPr sz="2000"/>
            </a:br>
            <a:r>
              <a:rPr b="0" i="1" lang="ru-RU" sz="2000" spc="-1" strike="noStrike">
                <a:solidFill>
                  <a:srgbClr val="984807"/>
                </a:solidFill>
                <a:latin typeface="Comic Sans MS"/>
              </a:rPr>
              <a:t>             родила богатыря"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499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00720" y="571680"/>
            <a:ext cx="400032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omic Sans MS"/>
              </a:rPr>
              <a:t>В сказке "По колена ноги в золоте …"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00720" y="1285560"/>
            <a:ext cx="4000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984807"/>
                </a:solidFill>
                <a:latin typeface="Comic Sans MS"/>
              </a:rPr>
              <a:t>...на крылечке сидят три сестрицы-красавицы и между собой разговаривают.</a:t>
            </a:r>
            <a:br>
              <a:rPr sz="1900"/>
            </a:br>
            <a:r>
              <a:rPr b="0" i="1" lang="ru-RU" sz="1900" spc="-1" strike="noStrike">
                <a:solidFill>
                  <a:srgbClr val="984807"/>
                </a:solidFill>
                <a:latin typeface="Comic Sans MS"/>
              </a:rPr>
              <a:t>Старшая говорит:</a:t>
            </a:r>
            <a:br>
              <a:rPr sz="1900"/>
            </a:br>
            <a:r>
              <a:rPr b="0" i="1" lang="ru-RU" sz="1900" spc="-1" strike="noStrike">
                <a:solidFill>
                  <a:srgbClr val="984807"/>
                </a:solidFill>
                <a:latin typeface="Comic Sans MS"/>
              </a:rPr>
              <a:t>– Если б на мне женился Иван-царевич, я бы ему напряла рубашку тонкую, гладкую, какой во всем свете не спрядут.</a:t>
            </a:r>
            <a:br>
              <a:rPr sz="1900"/>
            </a:br>
            <a:r>
              <a:rPr b="0" i="1" lang="ru-RU" sz="1900" spc="-1" strike="noStrike">
                <a:solidFill>
                  <a:srgbClr val="984807"/>
                </a:solidFill>
                <a:latin typeface="Comic Sans MS"/>
              </a:rPr>
              <a:t>– А если б меня взял, – сказала средняя, – я б выткала ему кафтан из серебра, из золота, и сиял бы он, как жар-птица.</a:t>
            </a:r>
            <a:r>
              <a:rPr b="0" i="1" lang="ru-RU" sz="19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984807"/>
                </a:solidFill>
                <a:latin typeface="Comic Sans MS"/>
              </a:rPr>
              <a:t>– </a:t>
            </a:r>
            <a:r>
              <a:rPr b="0" i="1" lang="ru-RU" sz="1900" spc="-1" strike="noStrike">
                <a:solidFill>
                  <a:srgbClr val="984807"/>
                </a:solidFill>
                <a:latin typeface="Comic Sans MS"/>
              </a:rPr>
              <a:t>А я ни прясть, ни ткать не умею, – говорит меньшая, – а если бы он меня полюбил, я бы родила ему сынов, что ни ясных соколов: во лбу солнце, а на затылке месяц, по бокам звезды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беседа.00.avi" descr=""/>
          <p:cNvPicPr/>
          <p:nvPr/>
        </p:nvPicPr>
        <p:blipFill>
          <a:blip r:embed="rId1"/>
          <a:stretch/>
        </p:blipFill>
        <p:spPr>
          <a:xfrm>
            <a:off x="7429680" y="5572080"/>
            <a:ext cx="1714320" cy="1285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15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Сестры-завистницы обманывают цар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57160" y="714240"/>
            <a:ext cx="35719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Родила царица в ночь 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Не то сына, не то дочь;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Не мышонка, не лягушку,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А неведому зверуш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286240" y="785520"/>
            <a:ext cx="3214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...вместо того подали ему просто-напросто котенка и заверили, что жена его обманула.</a:t>
            </a:r>
            <a:br>
              <a:rPr sz="2400"/>
            </a:br>
            <a:r>
              <a:rPr b="1" lang="ru-RU" sz="2400" spc="-1" strike="noStrike">
                <a:solidFill>
                  <a:srgbClr val="984807"/>
                </a:solidFill>
                <a:latin typeface="Comic Sans MS"/>
              </a:rPr>
              <a:t>...опять украли ее настоящего ребенка с солнцем во лбу и подложили ще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ман.00.avi" descr=""/>
          <p:cNvPicPr/>
          <p:nvPr/>
        </p:nvPicPr>
        <p:blipFill>
          <a:blip r:embed="rId1"/>
          <a:stretch/>
        </p:blipFill>
        <p:spPr>
          <a:xfrm>
            <a:off x="1905120" y="300024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7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9680" y="142560"/>
            <a:ext cx="828684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32523"/>
                </a:solidFill>
                <a:latin typeface="Comic Sans MS"/>
              </a:rPr>
              <a:t>Жестокая расправа над царицей и ее сын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56800" y="999720"/>
            <a:ext cx="30718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И царицу в тот же час </a:t>
            </a:r>
            <a:br>
              <a:rPr sz="2400"/>
            </a:b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В бочку с сыном посадили,</a:t>
            </a:r>
            <a:br>
              <a:rPr sz="2400"/>
            </a:b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Засмолили, покатили</a:t>
            </a:r>
            <a:br>
              <a:rPr sz="2400"/>
            </a:b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И пустили в окиян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356920" y="4142880"/>
            <a:ext cx="43578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… </a:t>
            </a:r>
            <a:r>
              <a:rPr b="1" i="1" lang="ru-RU" sz="2400" spc="-1" strike="noStrike">
                <a:solidFill>
                  <a:srgbClr val="984807"/>
                </a:solidFill>
                <a:latin typeface="Comic Sans MS"/>
              </a:rPr>
              <a:t>царевну засмолили вместе с ребенком в бочку и бросили в мо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асправа.00.avi" descr=""/>
          <p:cNvPicPr/>
          <p:nvPr/>
        </p:nvPicPr>
        <p:blipFill>
          <a:blip r:embed="rId1"/>
          <a:stretch/>
        </p:blipFill>
        <p:spPr>
          <a:xfrm>
            <a:off x="3929040" y="785880"/>
            <a:ext cx="4476600" cy="3357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8520" y="71280"/>
            <a:ext cx="5715000" cy="5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omic Sans MS"/>
              </a:rPr>
              <a:t>Возвращение царя к семь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57160" y="785520"/>
            <a:ext cx="38577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Царь глядит – и узнает... </a:t>
            </a:r>
            <a:br>
              <a:rPr sz="2200"/>
            </a:b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В нем взыграло ретивое!</a:t>
            </a:r>
            <a:br>
              <a:rPr sz="2200"/>
            </a:b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"Что я вижу? Что такое?</a:t>
            </a:r>
            <a:br>
              <a:rPr sz="2200"/>
            </a:b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Как!" – и дух в нем занялся...</a:t>
            </a:r>
            <a:br>
              <a:rPr sz="2200"/>
            </a:b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Царь слезами залился.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28440" y="2928960"/>
            <a:ext cx="3786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Очутился там, глянул на детей, глянул на жену – узнал и не вспомнился от радости – душ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984807"/>
                </a:solidFill>
                <a:latin typeface="Comic Sans MS"/>
              </a:rPr>
              <a:t>        </a:t>
            </a:r>
            <a:r>
              <a:rPr b="1" i="1" lang="ru-RU" sz="2200" spc="-1" strike="noStrike">
                <a:solidFill>
                  <a:srgbClr val="984807"/>
                </a:solidFill>
                <a:latin typeface="Comic Sans MS"/>
              </a:rPr>
              <a:t>просветлела</a:t>
            </a:r>
            <a:r>
              <a:rPr b="1" lang="ru-RU" sz="2200" spc="-1" strike="noStrike">
                <a:solidFill>
                  <a:srgbClr val="984807"/>
                </a:solidFill>
                <a:latin typeface="Comic Sans MS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возвращение.00.avi" descr=""/>
          <p:cNvPicPr/>
          <p:nvPr/>
        </p:nvPicPr>
        <p:blipFill>
          <a:blip r:embed="rId1"/>
          <a:stretch/>
        </p:blipFill>
        <p:spPr>
          <a:xfrm>
            <a:off x="4572000" y="857160"/>
            <a:ext cx="390528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5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7:54:42Z</dcterms:created>
  <dc:creator>Osmanov</dc:creator>
  <dc:description/>
  <dc:language>en-US</dc:language>
  <cp:lastModifiedBy>Ольга</cp:lastModifiedBy>
  <dcterms:modified xsi:type="dcterms:W3CDTF">2017-10-07T12:16:19Z</dcterms:modified>
  <cp:revision>172</cp:revision>
  <dc:subject/>
  <dc:title>Что за прелесть эти сказки! </dc:title>
</cp:coreProperties>
</file>