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0%A0%D0%B5%D0%BA%D0%B0.wav" ContentType="audio/x-wav"/>
  <Override PartName="/ppt/media/image7.jpeg" ContentType="image/jpeg"/>
  <Override PartName="/ppt/media/%D0%9A%D1%80%D0%B0%D1%81%D0%BD_%D1%86%D0%B2.wav" ContentType="audio/x-wav"/>
  <Override PartName="/ppt/media/image14.jpeg" ContentType="image/jpeg"/>
  <Override PartName="/ppt/media/image15.wmf" ContentType="image/x-wmf"/>
  <Override PartName="/ppt/media/%D0%90%D0%BF%D0%B5%D0%BB%D1%8C%D1%81.wav" ContentType="audio/x-wav"/>
  <Override PartName="/ppt/media/%D0%A1%D0%BB%D0%B8%D0%B2%D1%8B.wav" ContentType="audio/x-wav"/>
  <Override PartName="/ppt/media/image2.jpeg" ContentType="image/jpeg"/>
  <Override PartName="/ppt/media/%D0%97%D0%B5%D0%BB%D0%B5%D0%BD_%D1%86%D0%B2.wav" ContentType="audio/x-wav"/>
  <Override PartName="/ppt/media/%D0%A4%D0%B8%D0%BE%D0%BB%D0%B5%D1%82%D0%BE%D0%B2%D1%8B%D0%B9%20%D1%86%D0%B2%D0%B5%D1%82.wav" ContentType="audio/x-wav"/>
  <Override PartName="/ppt/media/image8.jpeg" ContentType="image/jpeg"/>
  <Override PartName="/ppt/media/%D0%A1%D0%B8%D0%BD%D0%B8%D0%B9_%D1%86%D0%B2.wav" ContentType="audio/x-wav"/>
  <Override PartName="/ppt/media/image10.jpeg" ContentType="image/jpeg"/>
  <Override PartName="/ppt/media/image6.jpeg" ContentType="image/jpeg"/>
  <Override PartName="/ppt/media/image3.wmf" ContentType="image/x-wmf"/>
  <Override PartName="/ppt/media/%D0%9E%D1%80%D0%B0%D0%BD%D0%B6_%D0%A6%D0%92.WAV" ContentType="audio/x-wav"/>
  <Override PartName="/ppt/media/%D0%A6%D0%B2%D0%B5%D1%82%D0%B0.wav" ContentType="audio/x-wav"/>
  <Override PartName="/ppt/media/image4.wmf" ContentType="image/x-wmf"/>
  <Override PartName="/ppt/media/image5.jpeg" ContentType="image/jpeg"/>
  <Override PartName="/ppt/media/%D0%9F%D0%BE%D0%BC%D0%B8%D0%B4%D0%BE%D1%80.wav" ContentType="audio/x-wav"/>
  <Override PartName="/ppt/media/%D0%96%D0%B5%D0%BB%D1%82_%D1%86%D0%B2.wav" ContentType="audio/x-wav"/>
  <Override PartName="/ppt/media/%D0%9B%D0%B8%D0%BC%D0%BE%D0%BD.wav" ContentType="audio/x-wav"/>
  <Override PartName="/ppt/media/image1.jpeg" ContentType="image/jpeg"/>
  <Override PartName="/ppt/media/%D0%A1%D0%BE%D0%BB%D0%BD%D1%86%D0%B5.wav" ContentType="audio/x-wav"/>
  <Override PartName="/ppt/media/image9.jpeg" ContentType="image/jpeg"/>
  <Override PartName="/ppt/media/image11.jpeg" ContentType="image/jpeg"/>
  <Override PartName="/ppt/media/%D0%9B%D0%B8%D1%81%D1%82%D0%B8%D0%BA.wav" ContentType="audio/x-wav"/>
  <Override PartName="/ppt/media/image13.jpeg" ContentType="image/jpeg"/>
  <Override PartName="/ppt/media/image12.jpeg" ContentType="image/jpeg"/>
  <Override PartName="/ppt/media/%D0%93%D0%BE%D0%BB%D1%83%D0%B1_%D1%86%D0%B2.wav" ContentType="audio/x-wav"/>
  <Override PartName="/ppt/media/image16.wmf" ContentType="image/x-wmf"/>
  <Override PartName="/ppt/media/%D0%9E%D0%B1%D0%BB%D0%B0%D0%BA%D0%B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6A5-8588-4DA3-B233-9791A4E1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98E-2690-4158-949F-B89496F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761-1922-470F-9BC0-3277F18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435-254C-40B6-90E1-2D8CC173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BC0-59F6-41C6-9356-EB6AA0C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CFF-0C32-47A9-9164-8408631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4CC-CE13-4A47-B285-FF510AD9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0C7-AE1D-47A8-8162-CEA8084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725-2266-4729-B9CD-442B05FC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FF0-2528-4334-A546-05401E5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A65-E79A-4950-883F-6470CAE2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BCC-CB4C-443D-B83E-AE01475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BD69D-E54A-418B-9456-24521F2B0E3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062;&#1074;&#1077;&#1090;&#1072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&#1050;&#1088;&#1072;&#1089;&#1085;_&#1094;&#1074;.wav"/><Relationship Id="rId5" Type="http://schemas.openxmlformats.org/officeDocument/2006/relationships/audio" Target="../media/&#1055;&#1086;&#1084;&#1080;&#1076;&#1086;&#1088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&#1054;&#1088;&#1072;&#1085;&#1078;_&#1062;&#1042;.WAV"/><Relationship Id="rId5" Type="http://schemas.openxmlformats.org/officeDocument/2006/relationships/audio" Target="../media/&#1040;&#1087;&#1077;&#1083;&#1100;&#1089;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&#1046;&#1077;&#1083;&#1090;_&#1094;&#1074;.wav"/><Relationship Id="rId5" Type="http://schemas.openxmlformats.org/officeDocument/2006/relationships/audio" Target="../media/&#1051;&#1080;&#1084;&#1086;&#1085;.wav"/><Relationship Id="rId6" Type="http://schemas.openxmlformats.org/officeDocument/2006/relationships/audio" Target="../media/&#1057;&#1086;&#1083;&#1085;&#1094;&#1077;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&#1047;&#1077;&#1083;&#1077;&#1085;_&#1094;&#1074;.wav"/><Relationship Id="rId4" Type="http://schemas.openxmlformats.org/officeDocument/2006/relationships/audio" Target="../media/&#1051;&#1080;&#1089;&#1090;&#1080;&#1082;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&#1043;&#1086;&#1083;&#1091;&#1073;_&#1094;&#1074;.wav"/><Relationship Id="rId4" Type="http://schemas.openxmlformats.org/officeDocument/2006/relationships/audio" Target="../media/&#1054;&#1073;&#1083;&#1072;&#1082;&#1086;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&#1057;&#1080;&#1085;&#1080;&#1081;_&#1094;&#1074;.wav"/><Relationship Id="rId4" Type="http://schemas.openxmlformats.org/officeDocument/2006/relationships/audio" Target="../media/&#1056;&#1077;&#1082;&#1072;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audio" Target="../media/&#1060;&#1080;&#1086;&#1083;&#1077;&#1090;&#1086;&#1074;&#1099;&#1081;%20&#1094;&#1074;&#1077;&#1090;.wav"/><Relationship Id="rId6" Type="http://schemas.openxmlformats.org/officeDocument/2006/relationships/audio" Target="../media/&#1057;&#1083;&#1080;&#1074;&#1099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2663640" cy="247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77320" y="6553080"/>
            <a:ext cx="3808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7999560" y="6324480"/>
            <a:ext cx="460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58920" y="1341360"/>
            <a:ext cx="684036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А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01080" y="6308640"/>
            <a:ext cx="287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%D0%A6%D0%B2%D0%B5%D1%82%D0%B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304720" cy="189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12920" y="609480"/>
          <a:ext cx="471816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2920" y="609480"/>
                    <a:ext cx="47181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A%D1%80%D0%B0%D1%81%D0%BD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F%D0%BE%D0%BC%D0%B8%D0%B4%D0%BE%D1%8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11480" y="533520"/>
          <a:ext cx="4719600" cy="31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533520"/>
                    <a:ext cx="471960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29000" y="4114800"/>
            <a:ext cx="223056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E%D1%80%D0%B0%D0%BD%D0%B6_%D0%A6%D0%9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0%D0%BF%D0%B5%D0%BB%D1%8C%D1%81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4076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1807920" cy="23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68360" y="765000"/>
            <a:ext cx="4672080" cy="30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6%D0%B5%D0%BB%D1%82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B%D0%B8%D0%BC%D0%BE%D0%BD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%D0%A1%D0%BE%D0%BB%D0%BD%D1%86%D0%B5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71720" cy="308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35280" y="3716280"/>
            <a:ext cx="1663920" cy="29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97%D0%B5%D0%BB%D0%B5%D0%BD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B%D0%B8%D1%81%D1%82%D0%B8%D0%BA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685800"/>
            <a:ext cx="4672080" cy="308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2643120" cy="126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93%D0%BE%D0%BB%D1%83%D0%B1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E%D0%B1%D0%BB%D0%B0%D0%BA%D0%BE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72080" cy="30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612720" y="5084640"/>
            <a:ext cx="10656720" cy="192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A1%D0%B8%D0%BD%D0%B8%D0%B9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A0%D0%B5%D0%BA%D0%B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762120"/>
            <a:ext cx="4647960" cy="3047760"/>
          </a:xfrm>
          <a:prstGeom prst="rect">
            <a:avLst/>
          </a:prstGeom>
          <a:solidFill>
            <a:srgbClr val="860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429000" y="4267080"/>
            <a:ext cx="2322360" cy="1944720"/>
            <a:chOff x="3429000" y="4267080"/>
            <a:chExt cx="2322360" cy="1944720"/>
          </a:xfrm>
        </p:grpSpPr>
        <p:graphicFrame>
          <p:nvGraphicFramePr>
            <p:cNvPr id="70" name=""/>
            <p:cNvGraphicFramePr/>
            <p:nvPr/>
          </p:nvGraphicFramePr>
          <p:xfrm>
            <a:off x="3429000" y="4267080"/>
            <a:ext cx="1494000" cy="175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267080"/>
                      <a:ext cx="1494000" cy="17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4191120" y="4343400"/>
            <a:ext cx="1560240" cy="18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4343400"/>
                      <a:ext cx="1560240" cy="18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A4%D0%B8%D0%BE%D0%BB%D0%B5%D1%82%D0%BE%D0%B2%D1%8B%D0%B9%20%D1%86%D0%B2%D0%B5%D1%8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%D0%A1%D0%BB%D0%B8%D0%B2%D1%8B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08:58Z</dcterms:created>
  <dc:creator>Алекс</dc:creator>
  <dc:description/>
  <dc:language>en-US</dc:language>
  <cp:lastModifiedBy>ALEX</cp:lastModifiedBy>
  <dcterms:modified xsi:type="dcterms:W3CDTF">2008-02-25T13:22:22Z</dcterms:modified>
  <cp:revision>22</cp:revision>
  <dc:subject/>
  <dc:title>Слайд 1</dc:title>
</cp:coreProperties>
</file>