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%D0%A0%D0%B5%D0%BA%D0%B0.wav" ContentType="audio/x-wav"/>
  <Override PartName="/ppt/media/image7.jpeg" ContentType="image/jpeg"/>
  <Override PartName="/ppt/media/%D0%9A%D1%80%D0%B0%D1%81%D0%BD_%D1%86%D0%B2.wav" ContentType="audio/x-wav"/>
  <Override PartName="/ppt/media/image14.jpeg" ContentType="image/jpeg"/>
  <Override PartName="/ppt/media/image15.wmf" ContentType="image/x-wmf"/>
  <Override PartName="/ppt/media/%D0%90%D0%BF%D0%B5%D0%BB%D1%8C%D1%81.wav" ContentType="audio/x-wav"/>
  <Override PartName="/ppt/media/%D0%A1%D0%BB%D0%B8%D0%B2%D1%8B.wav" ContentType="audio/x-wav"/>
  <Override PartName="/ppt/media/image2.jpeg" ContentType="image/jpeg"/>
  <Override PartName="/ppt/media/%D0%97%D0%B5%D0%BB%D0%B5%D0%BD_%D1%86%D0%B2.wav" ContentType="audio/x-wav"/>
  <Override PartName="/ppt/media/%D0%A4%D0%B8%D0%BE%D0%BB%D0%B5%D1%82%D0%BE%D0%B2%D1%8B%D0%B9%20%D1%86%D0%B2%D0%B5%D1%82.wav" ContentType="audio/x-wav"/>
  <Override PartName="/ppt/media/image8.jpeg" ContentType="image/jpeg"/>
  <Override PartName="/ppt/media/%D0%A1%D0%B8%D0%BD%D0%B8%D0%B9_%D1%86%D0%B2.wav" ContentType="audio/x-wav"/>
  <Override PartName="/ppt/media/image10.jpeg" ContentType="image/jpeg"/>
  <Override PartName="/ppt/media/image6.jpeg" ContentType="image/jpeg"/>
  <Override PartName="/ppt/media/image3.wmf" ContentType="image/x-wmf"/>
  <Override PartName="/ppt/media/%D0%9E%D1%80%D0%B0%D0%BD%D0%B6_%D0%A6%D0%92.WAV" ContentType="audio/x-wav"/>
  <Override PartName="/ppt/media/%D0%A6%D0%B2%D0%B5%D1%82%D0%B0.wav" ContentType="audio/x-wav"/>
  <Override PartName="/ppt/media/image4.wmf" ContentType="image/x-wmf"/>
  <Override PartName="/ppt/media/image5.jpeg" ContentType="image/jpeg"/>
  <Override PartName="/ppt/media/%D0%9F%D0%BE%D0%BC%D0%B8%D0%B4%D0%BE%D1%80.wav" ContentType="audio/x-wav"/>
  <Override PartName="/ppt/media/%D0%96%D0%B5%D0%BB%D1%82_%D1%86%D0%B2.wav" ContentType="audio/x-wav"/>
  <Override PartName="/ppt/media/%D0%9B%D0%B8%D0%BC%D0%BE%D0%BD.wav" ContentType="audio/x-wav"/>
  <Override PartName="/ppt/media/image1.jpeg" ContentType="image/jpeg"/>
  <Override PartName="/ppt/media/%D0%A1%D0%BE%D0%BB%D0%BD%D1%86%D0%B5.wav" ContentType="audio/x-wav"/>
  <Override PartName="/ppt/media/image9.jpeg" ContentType="image/jpeg"/>
  <Override PartName="/ppt/media/image11.jpeg" ContentType="image/jpeg"/>
  <Override PartName="/ppt/media/%D0%9B%D0%B8%D1%81%D1%82%D0%B8%D0%BA.wav" ContentType="audio/x-wav"/>
  <Override PartName="/ppt/media/image13.jpeg" ContentType="image/jpeg"/>
  <Override PartName="/ppt/media/image12.jpeg" ContentType="image/jpeg"/>
  <Override PartName="/ppt/media/%D0%93%D0%BE%D0%BB%D1%83%D0%B1_%D1%86%D0%B2.wav" ContentType="audio/x-wav"/>
  <Override PartName="/ppt/media/image16.wmf" ContentType="image/x-wmf"/>
  <Override PartName="/ppt/media/%D0%9E%D0%B1%D0%BB%D0%B0%D0%BA%D0%BE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FA76-3E8E-475F-AADC-9493EDF81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519-39BD-4D07-AD2F-102BB35E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962-9D11-4282-AD9C-A4E692323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048-DAEC-4376-84A1-933A7496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6233-7F00-4C94-AC1C-E7FE9CFF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67E-FC50-493F-8287-A6BC9848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44C3-4DFA-4068-A117-44502580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49F1-EF0A-4339-B5F1-F5C4C53E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9BF1-84A9-4AE1-A5AA-982A1A88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ED7C-D5E4-4233-8655-74AF3EFC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5B9-EA63-4DB7-B471-601DA17F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83C-C38E-40D4-A3B6-47D17DE10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A7CFF76-C083-4A02-9463-E3F19D1FE365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1062;&#1074;&#1077;&#1090;&#1072;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audio" Target="../media/&#1050;&#1088;&#1072;&#1089;&#1085;_&#1094;&#1074;.wav"/><Relationship Id="rId5" Type="http://schemas.openxmlformats.org/officeDocument/2006/relationships/audio" Target="../media/&#1055;&#1086;&#1084;&#1080;&#1076;&#1086;&#1088;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audio" Target="../media/&#1054;&#1088;&#1072;&#1085;&#1078;_&#1062;&#1042;.WAV"/><Relationship Id="rId5" Type="http://schemas.openxmlformats.org/officeDocument/2006/relationships/audio" Target="../media/&#1040;&#1087;&#1077;&#1083;&#1100;&#1089;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&#1046;&#1077;&#1083;&#1090;_&#1094;&#1074;.wav"/><Relationship Id="rId5" Type="http://schemas.openxmlformats.org/officeDocument/2006/relationships/audio" Target="../media/&#1051;&#1080;&#1084;&#1086;&#1085;.wav"/><Relationship Id="rId6" Type="http://schemas.openxmlformats.org/officeDocument/2006/relationships/audio" Target="../media/&#1057;&#1086;&#1083;&#1085;&#1094;&#1077;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&#1047;&#1077;&#1083;&#1077;&#1085;_&#1094;&#1074;.wav"/><Relationship Id="rId4" Type="http://schemas.openxmlformats.org/officeDocument/2006/relationships/audio" Target="../media/&#1051;&#1080;&#1089;&#1090;&#1080;&#1082;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&#1043;&#1086;&#1083;&#1091;&#1073;_&#1094;&#1074;.wav"/><Relationship Id="rId4" Type="http://schemas.openxmlformats.org/officeDocument/2006/relationships/audio" Target="../media/&#1054;&#1073;&#1083;&#1072;&#1082;&#1086;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&#1057;&#1080;&#1085;&#1080;&#1081;_&#1094;&#1074;.wav"/><Relationship Id="rId4" Type="http://schemas.openxmlformats.org/officeDocument/2006/relationships/audio" Target="../media/&#1056;&#1077;&#1082;&#1072;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audio" Target="../media/&#1060;&#1080;&#1086;&#1083;&#1077;&#1090;&#1086;&#1074;&#1099;&#1081;%20&#1094;&#1074;&#1077;&#1090;.wav"/><Relationship Id="rId6" Type="http://schemas.openxmlformats.org/officeDocument/2006/relationships/audio" Target="../media/&#1057;&#1083;&#1080;&#1074;&#1099;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76720" y="3716280"/>
            <a:ext cx="2663640" cy="2476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077320" y="6553080"/>
            <a:ext cx="3808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7999560" y="6324480"/>
            <a:ext cx="460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58920" y="1341360"/>
            <a:ext cx="6840360" cy="216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ВЕТА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01080" y="6308640"/>
            <a:ext cx="2872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2" name="%D0%A6%D0%B2%D0%B5%D1%82%D0%B0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9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419640" y="4437000"/>
            <a:ext cx="2304720" cy="189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675640" y="6669000"/>
            <a:ext cx="289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212920" y="609480"/>
          <a:ext cx="4718160" cy="31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2920" y="609480"/>
                    <a:ext cx="471816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0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%D0%9A%D1%80%D0%B0%D1%81%D0%BD_%D1%86%D0%B2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23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%D0%9F%D0%BE%D0%BC%D0%B8%D0%B4%D0%BE%D1%80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27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675640" y="6669000"/>
            <a:ext cx="289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211480" y="533520"/>
          <a:ext cx="4719600" cy="31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1480" y="533520"/>
                    <a:ext cx="4719600" cy="31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429000" y="4114800"/>
            <a:ext cx="2230560" cy="214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fill="hold">
                      <p:stCondLst>
                        <p:cond delay="0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%D0%9E%D1%80%D0%B0%D0%BD%D0%B6_%D0%A6%D0%92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37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%D0%90%D0%BF%D0%B5%D0%BB%D1%8C%D1%81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42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0" y="407664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195640" y="4076640"/>
            <a:ext cx="1807920" cy="2365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68360" y="765000"/>
            <a:ext cx="4672080" cy="308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675640" y="6669000"/>
            <a:ext cx="289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dur="indefinite" fill="hold">
                      <p:stCondLst>
                        <p:cond delay="0"/>
                      </p:stCondLst>
                      <p:childTnLst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%D0%96%D0%B5%D0%BB%D1%82_%D1%86%D0%B2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52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dur="indefinite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%D0%9B%D0%B8%D0%BC%D0%BE%D0%BD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55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56" dur="indefinite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6" name="%D0%A1%D0%BE%D0%BB%D0%BD%D1%86%D0%B5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59" dur="indefinite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671720" cy="3081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635280" y="3716280"/>
            <a:ext cx="1663920" cy="2916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675640" y="6669000"/>
            <a:ext cx="289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0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%D0%97%D0%B5%D0%BB%D0%B5%D0%BD_%D1%86%D0%B2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69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%D0%9B%D0%B8%D1%81%D1%82%D0%B8%D0%BA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74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7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68360" y="685800"/>
            <a:ext cx="4672080" cy="3081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03640" y="4581360"/>
            <a:ext cx="2643120" cy="1262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675640" y="6669000"/>
            <a:ext cx="289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dur="indefinite" fill="hold">
                      <p:stCondLst>
                        <p:cond delay="0"/>
                      </p:stCondLst>
                      <p:childTnLst>
                        <p:par>
                          <p:cTn id="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%D0%93%D0%BE%D0%BB%D1%83%D0%B1_%D1%86%D0%B2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84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%D0%9E%D0%B1%D0%BB%D0%B0%D0%BA%D0%BE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88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68360" y="549360"/>
            <a:ext cx="4672080" cy="3081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612720" y="5084640"/>
            <a:ext cx="10656720" cy="1925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675640" y="6669000"/>
            <a:ext cx="289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dur="indefinite" fill="hold">
                      <p:stCondLst>
                        <p:cond delay="0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3" name="%D0%A1%D0%B8%D0%BD%D0%B8%D0%B9_%D1%86%D0%B2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98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4" name="%D0%A0%D0%B5%D0%BA%D0%B0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102" dur="indefinite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675640" y="6669000"/>
            <a:ext cx="289080" cy="1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762120"/>
            <a:ext cx="4647960" cy="3047760"/>
          </a:xfrm>
          <a:prstGeom prst="rect">
            <a:avLst/>
          </a:prstGeom>
          <a:solidFill>
            <a:srgbClr val="860f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3429000" y="4267080"/>
            <a:ext cx="2322360" cy="1944720"/>
            <a:chOff x="3429000" y="4267080"/>
            <a:chExt cx="2322360" cy="1944720"/>
          </a:xfrm>
        </p:grpSpPr>
        <p:graphicFrame>
          <p:nvGraphicFramePr>
            <p:cNvPr id="70" name=""/>
            <p:cNvGraphicFramePr/>
            <p:nvPr/>
          </p:nvGraphicFramePr>
          <p:xfrm>
            <a:off x="3429000" y="4267080"/>
            <a:ext cx="1494000" cy="1754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29000" y="4267080"/>
                      <a:ext cx="1494000" cy="175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4191120" y="4343400"/>
            <a:ext cx="1560240" cy="1868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191120" y="4343400"/>
                      <a:ext cx="1560240" cy="186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dur="indefinite" fill="hold">
                      <p:stCondLst>
                        <p:cond delay="0"/>
                      </p:stCondLst>
                      <p:childTnLst>
                        <p:par>
                          <p:cTn id="10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5" name="%D0%A4%D0%B8%D0%BE%D0%BB%D0%B5%D1%82%D0%BE%D0%B2%D1%8B%D0%B9%20%D1%86%D0%B2%D0%B5%D1%82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112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dur="indefinite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udio isNarration="0">
                                <p:cMediaNode showWhenStopped="1">
                                  <p:cTn/>
                                  <p:tgtEl>
                                    <p:sndTgt r:embed="rId6" name="%D0%A1%D0%BB%D0%B8%D0%B2%D1%8B.wav"/>
                                  </p:tgtEl>
                                </p:cMediaNode>
                              </p:audio>
                            </p:childTnLst>
                          </p:cTn>
                        </p:par>
                        <p:par>
                          <p:cTn id="115" dur="indefinite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1:08:58Z</dcterms:created>
  <dc:creator>Алекс</dc:creator>
  <dc:description/>
  <dc:language>en-US</dc:language>
  <cp:lastModifiedBy>ALEX</cp:lastModifiedBy>
  <dcterms:modified xsi:type="dcterms:W3CDTF">2008-02-25T13:22:22Z</dcterms:modified>
  <cp:revision>22</cp:revision>
  <dc:subject/>
  <dc:title>Слайд 1</dc:title>
</cp:coreProperties>
</file>