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34C-388E-43E5-9EB5-6FA3A95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0C3-74A4-414F-B76A-8DE14F2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C6F-A80C-4B4D-8996-B77FD317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22A-BC7E-46D1-B56A-C87104DF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098F9-E43D-4F91-BC74-7010FE46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909C2-8A00-4FD0-9BB1-7DEE5A96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98A6-FB19-4218-AF9B-30F6318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6193-0019-451E-8E3F-E5FAC482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E391C-72F7-4919-A8E0-9FDFA87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BF5B-D587-4F5F-816E-9062008E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14D7-63E2-47FC-B0E6-D3010CB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81F-F18C-41C7-9869-9CC9AA32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57625-8C96-4E0B-8987-FF8A0CF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8D6C-5380-4BF9-9DA3-836D8BC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45528-31D3-4652-BB22-542518C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2CFB-E1DD-4915-8270-B3A42D0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9A76-0DAC-427D-99DD-2D30DDCA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7E6-D5DF-422B-9944-D25EEB7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358-D48B-4DCE-BAA5-5B13E42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836-9E68-40C4-BFD2-47BC1B7F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507-0176-4B53-B689-FF5F79A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14A-1A93-47FD-9BA0-2F2EC9B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B5C-E590-4D51-AE9E-0CC321E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4E5-CBFE-4C17-AA4C-00AB8B1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AE38-C52B-4CED-AF10-508B4353D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9F5-D55C-4BFE-9F9E-074FC43311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3492360" y="5445000"/>
            <a:ext cx="364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11280" y="5589720"/>
            <a:ext cx="58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50920" y="907920"/>
            <a:ext cx="8642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Диагностика заболеваний почек и мочевыводящих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путей у дет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492360" y="472428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99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10199"/>
                </a:solidFill>
                <a:latin typeface="Arial"/>
              </a:rPr>
              <a:t>Кириченко И.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907920"/>
            <a:ext cx="82090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Пиелонефрит</a:t>
            </a:r>
            <a:r>
              <a:rPr b="1" lang="ru-RU" sz="3800" spc="-1" strike="noStrike">
                <a:solidFill>
                  <a:srgbClr val="010199"/>
                </a:solidFill>
                <a:latin typeface="Arial"/>
              </a:rPr>
              <a:t> – микробно–воспалительное заболевание почек, с преимущественным поражением чашечно–лоханочной системы и интерстициальной ткани почек 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826920" y="500040"/>
            <a:ext cx="77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располагающие фактор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24000" y="1268280"/>
            <a:ext cx="85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атология беременности и 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аномалия почек и мочевыводящих пу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дисметаболическая нефропа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ейрогенная дисфункция мочевого пузы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инфекция мочеполовой  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хронические очаги инфек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стрые респираторные и кише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755640" y="5373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Рис 1. Удвоенная лоханка и мочеточ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426960"/>
            <a:ext cx="84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омалии мочевыводящих пу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56000" y="1341360"/>
            <a:ext cx="4176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212400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номалии почек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528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Рис 2. Агенезия почки. Односторонняя гипоплазия. Подковообразная п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26920" y="1484280"/>
            <a:ext cx="738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Этиолог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ишечная, синегнойная пало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о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энтерококки, стафилокок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остейш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хлами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реа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ико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анд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116000" y="836640"/>
            <a:ext cx="68407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ути распространения инфекци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осходя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ематог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мфогенный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39640" y="260280"/>
            <a:ext cx="8604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лассификация пиелонефри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и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908000" y="2619360"/>
            <a:ext cx="5328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те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ро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) рецидивирующ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) латен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 стадии актив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683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стрый П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Ак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ериод обратного развит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олная реми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11280" y="1341000"/>
            <a:ext cx="4321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Хронический П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Активная (период обострения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Клинико – лабораторная ремиссия (частичная или полная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6012000"/>
            <a:ext cx="76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функции поч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охранена, нарушена, ХП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9640" y="260280"/>
            <a:ext cx="8136000" cy="62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дущие синдр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токсикации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- от острого токсикоза до легкой астенизац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евой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 - абдоминальный или поясни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изурических нарушений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– частые, редкие мочеиспускания,   у маленьких детей - энуре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че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очевой синд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тойкая лейкоцит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Бактери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озмож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отеинурия менее 1 г/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диничные свежие эритроц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значительная цилиндру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лан лек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ФО почек и мочевыводящих путей у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иелонефр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. Этиология и пат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2. Клиническая картина и ослож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3. Диагностика, дифференциальная    диагно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Гломерулонефр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. Этиология и пат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2. Клиническая картина и ослож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3. Диагностика, дифференциальная    диагно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395280" y="549360"/>
            <a:ext cx="8748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Исследования для выявления активности микробно-воспалительного проц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бщий анализ крови (лейкоцитоз, увеличенная СОЭ, анем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биохимический анализ крови  (С- реактивный белок +, </a:t>
            </a:r>
            <a:r>
              <a:rPr b="1" lang="ru-RU" sz="28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2 и </a:t>
            </a:r>
            <a:r>
              <a:rPr b="1" lang="ru-RU" sz="2800" spc="-1" strike="noStrike">
                <a:solidFill>
                  <a:srgbClr val="010199"/>
                </a:solidFill>
                <a:latin typeface="Symbol"/>
                <a:ea typeface="Symbol"/>
              </a:rPr>
              <a:t>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-глобулины </a:t>
            </a:r>
            <a:r>
              <a:rPr b="1" lang="ru-RU" sz="2800" spc="-1" strike="noStrike">
                <a:solidFill>
                  <a:srgbClr val="010199"/>
                </a:solidFill>
                <a:latin typeface="Wingdings"/>
                <a:ea typeface="Wingdings"/>
              </a:rPr>
              <a:t>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общий анализ мочи (лейкоцитурия более 7 -10 в поле зрения, бактериур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анализ мочи по Нечипоренко (лейкоциты – более 4000 в 1 м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осев мочи на флору с оценкой бактериурии (более 100000 микр. тел в 1 м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27280" y="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2. Исследования для определения функционального состояния поч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проба по Зимницк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ритм и объём мочеиспуск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контроль диур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уровень креатинина и мочевины в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3. Инструментальные иссле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измерение АД ежеднев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УЗИ органов мочевой сис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экскреторная ур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икционная цист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55640" y="692280"/>
            <a:ext cx="75614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ломерулонефрит – </a:t>
            </a:r>
            <a:r>
              <a:rPr b="1" lang="ru-RU" sz="3000" spc="-1" strike="noStrike">
                <a:solidFill>
                  <a:srgbClr val="010199"/>
                </a:solidFill>
                <a:latin typeface="Arial"/>
              </a:rPr>
              <a:t>двустороннее иммунологическое воспалительное заболевание с вовлечением в патологический процесс клубочков, артериол и стромы почек</a:t>
            </a: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87280" y="3933720"/>
            <a:ext cx="7058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инические фор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гематур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ефро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71640" y="404640"/>
            <a:ext cx="74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дущие синдро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от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артериальная гипертенз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0199"/>
                </a:solidFill>
                <a:latin typeface="Arial"/>
              </a:rPr>
              <a:t>мочевой синд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11280" y="3716280"/>
            <a:ext cx="64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ительные синдро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токсик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оле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лиг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течный синд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IMG"/>
          <p:cNvPicPr/>
          <p:nvPr/>
        </p:nvPicPr>
        <p:blipFill>
          <a:blip r:embed="rId1">
            <a:lum contrast="6000"/>
          </a:blip>
          <a:srcRect l="3281" t="2239" r="0" b="1455"/>
          <a:stretch/>
        </p:blipFill>
        <p:spPr>
          <a:xfrm>
            <a:off x="755640" y="1773360"/>
            <a:ext cx="3184560" cy="464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отеки"/>
          <p:cNvPicPr/>
          <p:nvPr/>
        </p:nvPicPr>
        <p:blipFill>
          <a:blip r:embed="rId2">
            <a:lum contrast="6000"/>
          </a:blip>
          <a:srcRect l="8189" t="5605" r="2307" b="4511"/>
          <a:stretch/>
        </p:blipFill>
        <p:spPr>
          <a:xfrm>
            <a:off x="4284720" y="1773360"/>
            <a:ext cx="44481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50920" y="1052640"/>
          <a:ext cx="8642160" cy="5484600"/>
        </p:xfrm>
        <a:graphic>
          <a:graphicData uri="http://schemas.openxmlformats.org/drawingml/2006/table">
            <a:tbl>
              <a:tblPr/>
              <a:tblGrid>
                <a:gridCol w="3173400"/>
                <a:gridCol w="2803320"/>
                <a:gridCol w="2665440"/>
              </a:tblGrid>
              <a:tr h="106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Гематурическ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фротическ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мешанная форм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значительная протеинури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начительная протеинурия (до 10-20-30 г в сутки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теин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крогематурия (моча цвета мясных помоев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гемат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цилиндр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цилиндр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лейкоцитур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26"/>
          <p:cNvSpPr/>
          <p:nvPr/>
        </p:nvSpPr>
        <p:spPr>
          <a:xfrm>
            <a:off x="611280" y="333360"/>
            <a:ext cx="821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90000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Мочевой синд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дание для самоконтроля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ифференциальная диагно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484280"/>
          <a:ext cx="8642160" cy="5068800"/>
        </p:xfrm>
        <a:graphic>
          <a:graphicData uri="http://schemas.openxmlformats.org/drawingml/2006/table">
            <a:tbl>
              <a:tblPr/>
              <a:tblGrid>
                <a:gridCol w="2685960"/>
                <a:gridCol w="3195720"/>
                <a:gridCol w="276048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ндро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ломеру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ие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Боле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мптом Пастернац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изур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те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ипертен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очев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50"/>
          <p:cNvSpPr/>
          <p:nvPr/>
        </p:nvSpPr>
        <p:spPr>
          <a:xfrm>
            <a:off x="3203640" y="1835280"/>
            <a:ext cx="419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6856560" y="766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Дифференциальная диагност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822240"/>
          <a:ext cx="8642160" cy="5792760"/>
        </p:xfrm>
        <a:graphic>
          <a:graphicData uri="http://schemas.openxmlformats.org/drawingml/2006/table">
            <a:tbl>
              <a:tblPr/>
              <a:tblGrid>
                <a:gridCol w="2665440"/>
                <a:gridCol w="3170160"/>
                <a:gridCol w="28065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ндро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ломеру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иелонефр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Боле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поясниц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пояснице, живо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имптом Пастернац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+ с обеих стор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+ на стороне пораж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изур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те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часто на лиц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редко, при ХП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ипертен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у большинства б-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ред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очев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гематурия протеинурия  цилиндру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лейкоцитурия бактериурия протеину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64"/>
          <p:cNvSpPr/>
          <p:nvPr/>
        </p:nvSpPr>
        <p:spPr>
          <a:xfrm>
            <a:off x="3059280" y="2565360"/>
            <a:ext cx="28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7020701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5616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очевыделительная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79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роение п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07020702"/>
          <p:cNvPicPr/>
          <p:nvPr/>
        </p:nvPicPr>
        <p:blipFill>
          <a:blip r:embed="rId1"/>
          <a:stretch/>
        </p:blipFill>
        <p:spPr>
          <a:xfrm>
            <a:off x="1763640" y="1341360"/>
            <a:ext cx="5473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91600"/>
            <a:ext cx="73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ф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P0490"/>
          <p:cNvPicPr/>
          <p:nvPr/>
        </p:nvPicPr>
        <p:blipFill>
          <a:blip r:embed="rId1"/>
          <a:stretch/>
        </p:blipFill>
        <p:spPr>
          <a:xfrm>
            <a:off x="1835280" y="1127160"/>
            <a:ext cx="5329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79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чечное тель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P0491"/>
          <p:cNvPicPr/>
          <p:nvPr/>
        </p:nvPicPr>
        <p:blipFill>
          <a:blip r:embed="rId1"/>
          <a:stretch/>
        </p:blipFill>
        <p:spPr>
          <a:xfrm>
            <a:off x="1908000" y="1197000"/>
            <a:ext cx="52819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42"/>
          <p:cNvSpPr/>
          <p:nvPr/>
        </p:nvSpPr>
        <p:spPr>
          <a:xfrm>
            <a:off x="1079640" y="3333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44"/>
          <p:cNvSpPr/>
          <p:nvPr/>
        </p:nvSpPr>
        <p:spPr>
          <a:xfrm>
            <a:off x="82692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мальный анализ м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84280"/>
          <a:ext cx="8424720" cy="4537080"/>
        </p:xfrm>
        <a:graphic>
          <a:graphicData uri="http://schemas.openxmlformats.org/drawingml/2006/table">
            <a:tbl>
              <a:tblPr/>
              <a:tblGrid>
                <a:gridCol w="3456000"/>
                <a:gridCol w="496872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соломенно-жел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розрач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розра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Относительная плот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05-1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Б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отсутству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Лейкоци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Единичные в по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зрения ( не более 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Эритроци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Не более 1 в поле зр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47628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мочеиспусканий у ребен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1413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первые дни жизни-4-5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до 1 года-20-25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-3 года-10-12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3 года-7-10 раз в су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в 7 лет-5-6 раз в су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755640" y="692280"/>
            <a:ext cx="7561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ъём каждого мочеиспускания: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новорожденные – 3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 год – 6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3-5 лет – 9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7-8 лет – 15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10-12 лет – 250 м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6:23:48Z</dcterms:created>
  <dc:creator>PRV 1999</dc:creator>
  <dc:description/>
  <dc:language>en-US</dc:language>
  <cp:lastModifiedBy>Yurii</cp:lastModifiedBy>
  <dcterms:modified xsi:type="dcterms:W3CDTF">2017-10-03T18:09:58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