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682-50E9-4683-A2DD-CC3C4B7D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808-5F77-486E-A978-397D587E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B25-EB1A-4EFD-B328-F5AAB312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3A1-171A-4080-9D4C-F4197DAE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04FC9-3EE5-43D7-9642-4159C6F3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66E87-3AE9-43C7-BABB-A3788479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E4C01-385E-41AE-83F7-F5E7623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AF09-91AF-423D-A970-4B1DC95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C47D-117C-4A78-B105-EDE6A032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44A3B-CFE5-4034-91B3-D7A6719B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253F-16B8-44C4-8F70-F212DBE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5A7-B4CA-4467-8C66-AD4B850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ECAD3-A5C6-4F21-9320-8171177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8EFB4-F7AB-468B-AF13-076F97D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5EECB-9EA3-4B8B-86C6-C6A40431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8DA7-12B9-47AF-9A16-AEEB50D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12F1-F452-402C-B03A-B465F41A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DF1-FAB4-4C65-9058-2AAF95B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F8A-875D-4C86-A474-D0DD6BF7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14A-A67C-45D4-A4C8-95E144F5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313-3CEE-4A9C-B15B-D4C6CF3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7CD-52AD-47DF-81FE-53F6E267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CB9-3753-482D-9D6A-C5255C4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0B1-A2FD-4716-89AF-392ABEA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FF3-9882-4260-80E8-64886D97A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C0A-F0C0-4CF3-9139-C47DAC5A05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3492360" y="5445000"/>
            <a:ext cx="364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11280" y="5589720"/>
            <a:ext cx="58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50920" y="907920"/>
            <a:ext cx="8642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Диагностика заболеваний почек и мочевыводящих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путей у дет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492360" y="472428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99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10199"/>
                </a:solidFill>
                <a:latin typeface="Arial"/>
              </a:rPr>
              <a:t>Кириченко И.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907920"/>
            <a:ext cx="82090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Пиелонефрит</a:t>
            </a:r>
            <a:r>
              <a:rPr b="1" lang="ru-RU" sz="3800" spc="-1" strike="noStrike">
                <a:solidFill>
                  <a:srgbClr val="010199"/>
                </a:solidFill>
                <a:latin typeface="Arial"/>
              </a:rPr>
              <a:t> – микробно–воспалительное заболевание почек, с преимущественным поражением чашечно–лоханочной системы и интерстициальной ткани почек 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826920" y="500040"/>
            <a:ext cx="77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располагающие фактор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24000" y="1268280"/>
            <a:ext cx="85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атология беременности и 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аномалия почек и мочевыводящих пу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дисметаболическая нефропа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ейрогенная дисфункция мочевого пузы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инфекция мочеполовой  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хронические очаги инфек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стрые респираторные и кише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755640" y="5373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Рис 1. Удвоенная лоханка и мочеточ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426960"/>
            <a:ext cx="84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омалии мочевыводящих пу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56000" y="1341360"/>
            <a:ext cx="4176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212400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номалии почек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528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Рис 2. Агенезия почки. Односторонняя гипоплазия. Подковообразная п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26920" y="1484280"/>
            <a:ext cx="738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Этиолог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ишечная, синегнойная пал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о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энтерококки, стафилокок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остейш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хлами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реа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ико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анд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116000" y="836640"/>
            <a:ext cx="68407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ути распространения инфекци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осходя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ематог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мфогенный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39640" y="260280"/>
            <a:ext cx="8604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лассификация пиелонефри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908000" y="2619360"/>
            <a:ext cx="5328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те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ро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) рецидивирующ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) латен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 стадии актив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683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стрый П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Ак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ериод обратного разви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олная реми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11280" y="1341000"/>
            <a:ext cx="4321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Хронический П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Активная (период обострения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Клинико – лабораторная ремиссия (частичная или полная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6012000"/>
            <a:ext cx="76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функции поч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охранена, нарушена, ХП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9640" y="260280"/>
            <a:ext cx="8136000" cy="62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дущие синдр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токсикации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- от острого токсикоза до легкой астенизац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евой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 - абдоминальный или поясни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изурических нарушений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– частые, редкие мочеиспускания,   у маленьких детей - энуре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че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очевой синд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тойкая лейкоцит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Бактери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озмож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отеинурия менее 1 г/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диничные свежие эритроц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значительная цилиндр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лан лек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ФО почек и мочевыводящих путей у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иелонефр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. Этиология и пат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2. Клиническая картина и ослож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3. Диагностика, дифференциальная    диагно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Гломерулонефр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. Этиология и пат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2. Клиническая картина и ослож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3. Диагностика, дифференциальная    диагно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395280" y="549360"/>
            <a:ext cx="8748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Исследования для выявления активности микробно-воспалительного проц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бщий анализ крови (лейкоцитоз, увеличенная СОЭ, анем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биохимический анализ крови  (С- реактивный белок +, </a:t>
            </a:r>
            <a:r>
              <a:rPr b="1" lang="ru-RU" sz="28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2 и </a:t>
            </a:r>
            <a:r>
              <a:rPr b="1" lang="ru-RU" sz="2800" spc="-1" strike="noStrike">
                <a:solidFill>
                  <a:srgbClr val="010199"/>
                </a:solidFill>
                <a:latin typeface="Symbol"/>
                <a:ea typeface="Symbol"/>
              </a:rPr>
              <a:t>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-глобулины </a:t>
            </a:r>
            <a:r>
              <a:rPr b="1" lang="ru-RU" sz="2800" spc="-1" strike="noStrike">
                <a:solidFill>
                  <a:srgbClr val="010199"/>
                </a:solidFill>
                <a:latin typeface="Wingdings"/>
                <a:ea typeface="Wingdings"/>
              </a:rPr>
              <a:t>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бщий анализ мочи (лейкоцитурия более 7 -10 в поле зрения, бактериур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анализ мочи по Нечипоренко (лейкоциты – более 4000 в 1 м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осев мочи на флору с оценкой бактериурии (более 100000 микр. тел в 1 м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27280" y="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2. Исследования для определения функционального состояния поч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проба по Зимницк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ритм и объём мочеиспуск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контроль диур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уровень креатинина и мочевины в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3. Инструментальные иссле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измерение АД ежеднев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УЗИ органов мочевой сис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экскреторная ур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икционная цист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55640" y="692280"/>
            <a:ext cx="75614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ломерулонефрит – </a:t>
            </a:r>
            <a:r>
              <a:rPr b="1" lang="ru-RU" sz="3000" spc="-1" strike="noStrike">
                <a:solidFill>
                  <a:srgbClr val="010199"/>
                </a:solidFill>
                <a:latin typeface="Arial"/>
              </a:rPr>
              <a:t>двустороннее иммунологическое воспалительное заболевание с вовлечением в патологический процесс клубочков, артериол и стромы почек</a:t>
            </a: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87280" y="3933720"/>
            <a:ext cx="7058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инические фор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гематур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ефро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71640" y="404640"/>
            <a:ext cx="74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дущие синдро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от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артериальная гипертенз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мочевой синд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11280" y="3716280"/>
            <a:ext cx="64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ительные синдро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токсик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оле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лиг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течный синд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IMG"/>
          <p:cNvPicPr/>
          <p:nvPr/>
        </p:nvPicPr>
        <p:blipFill>
          <a:blip r:embed="rId1">
            <a:lum contrast="6000"/>
          </a:blip>
          <a:srcRect l="3281" t="2239" r="0" b="1455"/>
          <a:stretch/>
        </p:blipFill>
        <p:spPr>
          <a:xfrm>
            <a:off x="755640" y="1773360"/>
            <a:ext cx="3184560" cy="464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отеки"/>
          <p:cNvPicPr/>
          <p:nvPr/>
        </p:nvPicPr>
        <p:blipFill>
          <a:blip r:embed="rId2">
            <a:lum contrast="6000"/>
          </a:blip>
          <a:srcRect l="8189" t="5605" r="2307" b="4511"/>
          <a:stretch/>
        </p:blipFill>
        <p:spPr>
          <a:xfrm>
            <a:off x="4284720" y="1773360"/>
            <a:ext cx="44481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50920" y="1052640"/>
          <a:ext cx="8642160" cy="5484600"/>
        </p:xfrm>
        <a:graphic>
          <a:graphicData uri="http://schemas.openxmlformats.org/drawingml/2006/table">
            <a:tbl>
              <a:tblPr/>
              <a:tblGrid>
                <a:gridCol w="3173400"/>
                <a:gridCol w="2803320"/>
                <a:gridCol w="2665440"/>
              </a:tblGrid>
              <a:tr h="106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Гематурическ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фротическ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мешанн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значительная протеинури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начительная протеинурия (до 10-20-30 г в сутки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теин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крогематурия (моча цвета мясных помоев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гемат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цилиндр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цилиндр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лейкоцит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26"/>
          <p:cNvSpPr/>
          <p:nvPr/>
        </p:nvSpPr>
        <p:spPr>
          <a:xfrm>
            <a:off x="611280" y="333360"/>
            <a:ext cx="821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90000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Мочевой синд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дание для самоконтроля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ифференциальная диагно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484280"/>
          <a:ext cx="8642160" cy="5068800"/>
        </p:xfrm>
        <a:graphic>
          <a:graphicData uri="http://schemas.openxmlformats.org/drawingml/2006/table">
            <a:tbl>
              <a:tblPr/>
              <a:tblGrid>
                <a:gridCol w="2685960"/>
                <a:gridCol w="3195720"/>
                <a:gridCol w="276048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ндро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ломеру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ие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Боле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мптом Пастернац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изур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те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ипертен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очев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50"/>
          <p:cNvSpPr/>
          <p:nvPr/>
        </p:nvSpPr>
        <p:spPr>
          <a:xfrm>
            <a:off x="3203640" y="1835280"/>
            <a:ext cx="419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6856560" y="766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Дифференциальная диагност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822240"/>
          <a:ext cx="8642160" cy="5792760"/>
        </p:xfrm>
        <a:graphic>
          <a:graphicData uri="http://schemas.openxmlformats.org/drawingml/2006/table">
            <a:tbl>
              <a:tblPr/>
              <a:tblGrid>
                <a:gridCol w="2665440"/>
                <a:gridCol w="3170160"/>
                <a:gridCol w="28065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ндро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ломеру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ие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Боле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поясниц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пояснице, живо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мптом Пастернац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+ с обеих стор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+ на стороне пораж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изур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те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часто на лиц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редко, при ХП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ипертен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у большинства б-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ред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очев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ематурия протеинурия  цилиндру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лейкоцитурия бактериурия протеину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64"/>
          <p:cNvSpPr/>
          <p:nvPr/>
        </p:nvSpPr>
        <p:spPr>
          <a:xfrm>
            <a:off x="3059280" y="2565360"/>
            <a:ext cx="28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7020701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5616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очевыделительная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79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роение п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07020702"/>
          <p:cNvPicPr/>
          <p:nvPr/>
        </p:nvPicPr>
        <p:blipFill>
          <a:blip r:embed="rId1"/>
          <a:stretch/>
        </p:blipFill>
        <p:spPr>
          <a:xfrm>
            <a:off x="1763640" y="1341360"/>
            <a:ext cx="5473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91600"/>
            <a:ext cx="73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ф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P0490"/>
          <p:cNvPicPr/>
          <p:nvPr/>
        </p:nvPicPr>
        <p:blipFill>
          <a:blip r:embed="rId1"/>
          <a:stretch/>
        </p:blipFill>
        <p:spPr>
          <a:xfrm>
            <a:off x="1835280" y="1127160"/>
            <a:ext cx="5329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79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чечное тель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P0491"/>
          <p:cNvPicPr/>
          <p:nvPr/>
        </p:nvPicPr>
        <p:blipFill>
          <a:blip r:embed="rId1"/>
          <a:stretch/>
        </p:blipFill>
        <p:spPr>
          <a:xfrm>
            <a:off x="1908000" y="1197000"/>
            <a:ext cx="52819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42"/>
          <p:cNvSpPr/>
          <p:nvPr/>
        </p:nvSpPr>
        <p:spPr>
          <a:xfrm>
            <a:off x="1079640" y="3333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44"/>
          <p:cNvSpPr/>
          <p:nvPr/>
        </p:nvSpPr>
        <p:spPr>
          <a:xfrm>
            <a:off x="82692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мальный анализ м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84280"/>
          <a:ext cx="8424720" cy="4537080"/>
        </p:xfrm>
        <a:graphic>
          <a:graphicData uri="http://schemas.openxmlformats.org/drawingml/2006/table">
            <a:tbl>
              <a:tblPr/>
              <a:tblGrid>
                <a:gridCol w="3456000"/>
                <a:gridCol w="496872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соломенно-жел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розрач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розра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Относительная плот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05-1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Б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отсутству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Лейкоци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Единичные в по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зрения ( не более 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Эритроци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Не более 1 в поле зр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47628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мочеиспусканий у ребен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1413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ервые дни жизни-4-5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до 1 года-20-25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-3 года-10-12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3 года-7-10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в 7 лет-5-6 раз в су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755640" y="692280"/>
            <a:ext cx="7561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ъём каждого мочеиспускания: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оворожденные – 3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 год – 6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3-5 лет – 9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7-8 лет – 15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0-12 лет – 25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6:23:48Z</dcterms:created>
  <dc:creator>PRV 1999</dc:creator>
  <dc:description/>
  <dc:language>en-US</dc:language>
  <cp:lastModifiedBy>Yurii</cp:lastModifiedBy>
  <dcterms:modified xsi:type="dcterms:W3CDTF">2017-10-03T18:09:58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