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E14-0885-441C-B43B-DE4DBDC7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CA06-7A3E-441B-B624-F2EEFDC0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C86-49F1-4E28-91B7-E08D2DD5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CC03-42BE-4E13-9A60-DB0D839E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9B006-DB89-4D4E-978C-87691569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0EC5-FDBD-48A5-8E43-887B5A8C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FFA4-EBE8-44E8-8968-5A7A3B71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B2D3-02BA-4813-BD49-D9248557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FC78-539A-48F1-BBD1-527B29DD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9E3D-771F-49CA-9ED6-0BB78351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7FA0-52A9-4F7F-9A82-549C732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F90-6207-4B56-A039-AA6FA7CE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3A1B-7585-4718-A71E-9CB3D47B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7627-8942-47D0-95A6-268C7036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9926-DFD8-4F92-BEFA-DB01A07B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EE1C-CD53-4295-A0E0-6DA60C75A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D155-7821-4B25-9809-C60FE716D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6768-D586-4AE1-BBBD-9C741B4B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139-CC3C-4438-8F12-2B1C49BB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9873-825F-490C-BFC8-A045EFC0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B7D-D275-4EC0-A489-830A006A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912-5127-43BD-B2B9-B3424018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D6DF-B974-44A1-B947-587E46E1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A8DB-9024-4A8D-B0BD-49EB7920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4C08-8473-4410-B391-C267AE4A0C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E854-13B2-4D1C-B428-7C497A94BCA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99"/>
                </a:solidFill>
                <a:latin typeface="Palatino Linotype"/>
              </a:rPr>
              <a:t>ФРУКТЫ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3399"/>
                </a:solidFill>
                <a:latin typeface="ParkAvenue"/>
              </a:rPr>
              <a:t> </a:t>
            </a:r>
            <a:r>
              <a:rPr b="0" lang="ru-RU" sz="6600" spc="-1" strike="noStrike">
                <a:solidFill>
                  <a:srgbClr val="e46c0a"/>
                </a:solidFill>
                <a:latin typeface="Palatino Linotype"/>
              </a:rPr>
              <a:t>ОВОЩ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ПЕРЕ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MPj04005840000[1]"/>
          <p:cNvPicPr/>
          <p:nvPr/>
        </p:nvPicPr>
        <p:blipFill>
          <a:blip r:embed="rId1"/>
          <a:stretch/>
        </p:blipFill>
        <p:spPr>
          <a:xfrm>
            <a:off x="539640" y="1484280"/>
            <a:ext cx="3857760" cy="482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Palatino Linotype"/>
              </a:rPr>
              <a:t>Если красный твой стручок - Горький, злой ты старичок! Если ты зеленый малый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Palatino Linotype"/>
              </a:rPr>
              <a:t>Твоя горечь убежала, Ты гордишься сочным тельцем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Palatino Linotype"/>
              </a:rPr>
              <a:t>То зовешься сладким..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АПЕЛЬСИ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2" descr="MPj04005990000[1]"/>
          <p:cNvPicPr/>
          <p:nvPr/>
        </p:nvPicPr>
        <p:blipFill>
          <a:blip r:embed="rId1"/>
          <a:stretch/>
        </p:blipFill>
        <p:spPr>
          <a:xfrm>
            <a:off x="539640" y="1700280"/>
            <a:ext cx="3741840" cy="468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Palatino Linotype"/>
              </a:rPr>
              <a:t>С виду он как рыжий мяч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Palatino Linotype"/>
              </a:rPr>
              <a:t>Только вот не мчится вскач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Palatino Linotype"/>
              </a:rPr>
              <a:t>В нём полезный витамин - Это спелый 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МОРКОВК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4" descr="MPj03878630000[1]"/>
          <p:cNvPicPr/>
          <p:nvPr/>
        </p:nvPicPr>
        <p:blipFill>
          <a:blip r:embed="rId1"/>
          <a:stretch/>
        </p:blipFill>
        <p:spPr>
          <a:xfrm>
            <a:off x="1171440" y="203364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Раскудрявая кос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И блестит на ней роса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Чья коса лежит на грядке? Где оранжевые пятк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В землю спрятала плутовка, Витаминная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ПОМИДОР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2" descr="помидор"/>
          <p:cNvPicPr/>
          <p:nvPr/>
        </p:nvPicPr>
        <p:blipFill>
          <a:blip r:embed="rId1"/>
          <a:stretch/>
        </p:blipFill>
        <p:spPr>
          <a:xfrm>
            <a:off x="684360" y="1557360"/>
            <a:ext cx="3568680" cy="4608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Что это за елочки, Нет на них иголочек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Что за красные шары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Но не видно мишуры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Так красиво вдоль забор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Palatino Linotype"/>
              </a:rPr>
              <a:t>Летом спеют.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ОГУРЕ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огурец"/>
          <p:cNvPicPr/>
          <p:nvPr/>
        </p:nvPicPr>
        <p:blipFill>
          <a:blip r:embed="rId1"/>
          <a:stretch/>
        </p:blipFill>
        <p:spPr>
          <a:xfrm>
            <a:off x="826920" y="1628640"/>
            <a:ext cx="3357720" cy="4464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На июньской гряд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Все у нас в порядке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Строем, словно молодцы, Зеленеют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ВИНОГРА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2" descr="виноград"/>
          <p:cNvPicPr/>
          <p:nvPr/>
        </p:nvPicPr>
        <p:blipFill>
          <a:blip r:embed="rId1"/>
          <a:stretch/>
        </p:blipFill>
        <p:spPr>
          <a:xfrm>
            <a:off x="395280" y="2205000"/>
            <a:ext cx="4032360" cy="309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Близнецы на тонкой ветк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Все лозы родные детк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Гостю каждый в доме ра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Это сладкий 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6600"/>
                </a:solidFill>
                <a:latin typeface="Palatino Linotype"/>
              </a:rPr>
              <a:t>КАПУСТА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капуста"/>
          <p:cNvPicPr/>
          <p:nvPr/>
        </p:nvPicPr>
        <p:blipFill>
          <a:blip r:embed="rId1"/>
          <a:stretch/>
        </p:blipFill>
        <p:spPr>
          <a:xfrm>
            <a:off x="468360" y="1844640"/>
            <a:ext cx="4014720" cy="39956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С королевой овощей Подружитесь поскорей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На столе не будет пусто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Palatino Linotype"/>
              </a:rPr>
              <a:t>Если вырастишь.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</a:rPr>
              <a:t>Использование ИР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alegri.ru/fyen-shui/primety-i-sovety/primety-oseni-dlja-doshkolnikov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my-calend.ru/folklor/autumn-proverbs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s://pp.vk.me/c543108/v543108251/15a1c/qnLqCxzKUp4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malushata.ru/wp-content/uploads/2012/09/Dozhd1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nachalka.com.ua/_ph/25/2/662239038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doshvozrast.ru/roditeli/roditelistihi08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http://www.dou75.ru/14/images/prazdnik_oseni23.10.15/SAM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0:12:17Z</dcterms:created>
  <dc:creator>Наталия</dc:creator>
  <dc:description/>
  <dc:language>en-US</dc:language>
  <cp:lastModifiedBy>Win7</cp:lastModifiedBy>
  <dcterms:modified xsi:type="dcterms:W3CDTF">2017-10-07T07:03:22Z</dcterms:modified>
  <cp:revision>7</cp:revision>
  <dc:subject/>
  <dc:title>ФРУКТЫ</dc:title>
</cp:coreProperties>
</file>