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BFEB-15AA-4F3B-B78C-39C37BD3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DEC3-D705-4FCB-BFFA-4AD6D290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E296-2C35-4B94-9F8D-48C954CC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68A4-57AB-423D-B3D5-9F669FE5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9E39-8A94-49F9-BDD1-37C0A4EE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532D-B717-4C25-A8A3-4FF90165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B1E7-4441-498D-8CF6-A9059700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309C-F058-4649-9F2B-3A56CD70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2188-5726-4637-8541-2D8CF47B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D535-F88D-4AF5-B4BA-937B5762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D2CB-ED68-4D88-A82D-AF1B440A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7B87-3B2C-4173-8A8C-BBB00E9A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C61B-BD1C-47FC-872F-AD2D8185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9FA1-CA34-4F42-AC24-0D727406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03D4-934D-424D-8E63-97B34AB5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3AA2-CC2B-498A-A2F6-E8518E94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D343-629E-46BA-B250-D0026132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15DB-77E6-49A9-9E1F-4720FF69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8107-7EFC-4B47-A158-2B2A20E3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9D5B-D03D-4B1A-B728-512A5519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4B2C-91DB-477A-9B75-FD9F8AB8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A21D-AA52-4065-AA67-A07153CA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8FEA-CCC2-4BEF-BC2C-F321B798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765C-88F9-4338-A5D0-061E2F68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06A8-8BAC-4442-8806-5A53FADAA9D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F1DE-9ED1-4B3E-AD47-A3AE5F4EC9C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99"/>
                </a:solidFill>
                <a:latin typeface="Palatino Linotype"/>
              </a:rPr>
              <a:t>ФРУКТ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99"/>
                </a:solidFill>
                <a:latin typeface="ParkAvenue"/>
              </a:rPr>
              <a:t> </a:t>
            </a:r>
            <a:r>
              <a:rPr b="0" lang="ru-RU" sz="6600" spc="-1" strike="noStrike">
                <a:solidFill>
                  <a:srgbClr val="e46c0a"/>
                </a:solidFill>
                <a:latin typeface="Palatino Linotype"/>
              </a:rPr>
              <a:t>ОВОЩ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6600"/>
                </a:solidFill>
                <a:latin typeface="Palatino Linotype"/>
              </a:rPr>
              <a:t>ПЕРЕЦ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MPj04005840000[1]"/>
          <p:cNvPicPr/>
          <p:nvPr/>
        </p:nvPicPr>
        <p:blipFill>
          <a:blip r:embed="rId1"/>
          <a:stretch/>
        </p:blipFill>
        <p:spPr>
          <a:xfrm>
            <a:off x="539640" y="1484280"/>
            <a:ext cx="3857760" cy="4824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Palatino Linotype"/>
              </a:rPr>
              <a:t>Если красный твой стручок - Горький, злой ты старичок! Если ты зеленый малый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Palatino Linotype"/>
              </a:rPr>
              <a:t>Твоя горечь убежала, Ты гордишься сочным тельцем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Palatino Linotype"/>
              </a:rPr>
              <a:t>То зовешься сладким..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6600"/>
                </a:solidFill>
                <a:latin typeface="Palatino Linotype"/>
              </a:rPr>
              <a:t>АПЕЛЬСИН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2" descr="MPj04005990000[1]"/>
          <p:cNvPicPr/>
          <p:nvPr/>
        </p:nvPicPr>
        <p:blipFill>
          <a:blip r:embed="rId1"/>
          <a:stretch/>
        </p:blipFill>
        <p:spPr>
          <a:xfrm>
            <a:off x="539640" y="1700280"/>
            <a:ext cx="3741840" cy="468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Palatino Linotype"/>
              </a:rPr>
              <a:t>С виду он как рыжий мяч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Palatino Linotype"/>
              </a:rPr>
              <a:t>Только вот не мчится вскач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Palatino Linotype"/>
              </a:rPr>
              <a:t>В нём полезный витамин - Это спелый 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6600"/>
                </a:solidFill>
                <a:latin typeface="Palatino Linotype"/>
              </a:rPr>
              <a:t>МОРКОВ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4" descr="MPj03878630000[1]"/>
          <p:cNvPicPr/>
          <p:nvPr/>
        </p:nvPicPr>
        <p:blipFill>
          <a:blip r:embed="rId1"/>
          <a:stretch/>
        </p:blipFill>
        <p:spPr>
          <a:xfrm>
            <a:off x="1171440" y="203364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Раскудрявая кос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И блестит на ней роса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Чья коса лежит на грядке? Где оранжевые пятк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В землю спрятала плутовка, Витаминная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6600"/>
                </a:solidFill>
                <a:latin typeface="Palatino Linotype"/>
              </a:rPr>
              <a:t>ПОМИДОР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2" descr="помидор"/>
          <p:cNvPicPr/>
          <p:nvPr/>
        </p:nvPicPr>
        <p:blipFill>
          <a:blip r:embed="rId1"/>
          <a:stretch/>
        </p:blipFill>
        <p:spPr>
          <a:xfrm>
            <a:off x="684360" y="1557360"/>
            <a:ext cx="3568680" cy="4608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Palatino Linotype"/>
              </a:rPr>
              <a:t>Что это за елочки, Нет на них иголочек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Palatino Linotype"/>
              </a:rPr>
              <a:t>Что за красные шары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Palatino Linotype"/>
              </a:rPr>
              <a:t>Но не видно мишуры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Palatino Linotype"/>
              </a:rPr>
              <a:t>Так красиво вдоль забор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Palatino Linotype"/>
              </a:rPr>
              <a:t>Летом спеют..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6600"/>
                </a:solidFill>
                <a:latin typeface="Palatino Linotype"/>
              </a:rPr>
              <a:t>ОГУРЕЦ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огурец"/>
          <p:cNvPicPr/>
          <p:nvPr/>
        </p:nvPicPr>
        <p:blipFill>
          <a:blip r:embed="rId1"/>
          <a:stretch/>
        </p:blipFill>
        <p:spPr>
          <a:xfrm>
            <a:off x="826920" y="1628640"/>
            <a:ext cx="3357720" cy="4464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Palatino Linotype"/>
              </a:rPr>
              <a:t>На июньской гряд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Palatino Linotype"/>
              </a:rPr>
              <a:t>Все у нас в порядке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Palatino Linotype"/>
              </a:rPr>
              <a:t>Строем, словно молодцы, Зеленеют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6600"/>
                </a:solidFill>
                <a:latin typeface="Palatino Linotype"/>
              </a:rPr>
              <a:t>ВИНОГРА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2" descr="виноград"/>
          <p:cNvPicPr/>
          <p:nvPr/>
        </p:nvPicPr>
        <p:blipFill>
          <a:blip r:embed="rId1"/>
          <a:stretch/>
        </p:blipFill>
        <p:spPr>
          <a:xfrm>
            <a:off x="395280" y="2205000"/>
            <a:ext cx="4032360" cy="30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Palatino Linotype"/>
              </a:rPr>
              <a:t>Близнецы на тонкой вет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Palatino Linotype"/>
              </a:rPr>
              <a:t>Все лозы родные дет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Palatino Linotype"/>
              </a:rPr>
              <a:t>Гостю каждый в доме ра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Palatino Linotype"/>
              </a:rPr>
              <a:t>Это сладкий 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6600"/>
                </a:solidFill>
                <a:latin typeface="Palatino Linotype"/>
              </a:rPr>
              <a:t>КАПУС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7" descr="капуста"/>
          <p:cNvPicPr/>
          <p:nvPr/>
        </p:nvPicPr>
        <p:blipFill>
          <a:blip r:embed="rId1"/>
          <a:stretch/>
        </p:blipFill>
        <p:spPr>
          <a:xfrm>
            <a:off x="468360" y="1844640"/>
            <a:ext cx="4014720" cy="39956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Palatino Linotype"/>
              </a:rPr>
              <a:t>С королевой овощей Подружитесь поскорей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Palatino Linotype"/>
              </a:rPr>
              <a:t>На столе не будет пусто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Palatino Linotype"/>
              </a:rPr>
              <a:t>Если вырастишь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Использование И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www.alegri.ru/fyen-shui/primety-i-sovety/primety-oseni-dlja-doshkolnikov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my-calend.ru/folklor/autumn-proverbs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s://pp.vk.me/c543108/v543108251/15a1c/qnLqCxzKUp4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malushata.ru/wp-content/uploads/2012/09/Dozhd1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www.nachalka.com.ua/_ph/25/2/662239038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doshvozrast.ru/roditeli/roditelistihi08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www.dou75.ru/14/images/prazdnik_oseni23.10.15/SAM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1T10:12:17Z</dcterms:created>
  <dc:creator>Наталия</dc:creator>
  <dc:description/>
  <dc:language>en-US</dc:language>
  <cp:lastModifiedBy>Win7</cp:lastModifiedBy>
  <dcterms:modified xsi:type="dcterms:W3CDTF">2017-10-07T07:03:22Z</dcterms:modified>
  <cp:revision>7</cp:revision>
  <dc:subject/>
  <dc:title>ФРУКТЫ</dc:title>
</cp:coreProperties>
</file>