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C9A-507C-48E3-85E0-4AC81F14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025E-9FBB-4486-8CA3-3588CABE1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3E02-95D5-40F5-B944-A43D84D2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34CC-AF56-4F91-B1FC-87D683D9C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9E2D-9BEB-437F-8559-E24F6791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AEE7-A1CF-4751-9EAC-A23C671F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90B8-8F2D-4D18-8C78-FC6E5A06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DDCDC-5CF6-44DC-9B1A-0DD90A8B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7D6EE-79F4-4C8B-B7EA-DFA2B6E4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8E93-C0CE-485F-936F-7365BBCB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AA3E-B412-435A-89EF-3C48BEC6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DB93-AC78-4F75-8C9F-A8E1BCCF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6E5E-F1CA-4109-A676-E5F43319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F90B-F252-4DCF-93EF-AAA32269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BEA0-72BD-4BED-ADE9-70E3EFC8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1552-D630-4358-89AF-669F9D85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E340-F701-4565-94B8-585F7163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EDA6F-084E-4B18-B0D9-05186F4E3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1D8E1-AA21-43F7-99A8-E842C2C9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D446D-C3F5-418E-A150-2F669615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AF4BD-99CD-4173-93FF-1EF32F02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9705D-7666-4069-9F70-49B2D23B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AC33-E4F9-4015-BF00-1431FD88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A44AC-A45D-4077-BA36-930F9BB3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194DD-DB5B-4824-B86E-C6562BAD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F0BE2-25AD-4448-A159-ACAB1101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C747A-AAA1-4EA4-9548-FB76A4EB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A94A3-924A-4545-B4FD-2CD17BB4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696E1-B7B2-4B1E-B2DB-253EFC4CF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0BA68-3932-429C-BED9-477FBCEC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1EEF-887D-4773-BCAC-99B93718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082-0DD1-424F-A786-0C7E5E68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10A-ED51-4CCB-BC16-D8553444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194D-E90A-4A6E-B599-B8C0B383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6D19-3D2B-44DC-B9C1-8339BB92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E941-8F91-4F1D-9823-02C09A7C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9C1A-FC38-4E1D-9EF0-4A5F9A207D9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7503-C743-45D0-B50D-CD5D5A95D6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5392-58A4-42D7-B88A-02A4F91057B7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pic51"/>
          <p:cNvPicPr/>
          <p:nvPr/>
        </p:nvPicPr>
        <p:blipFill>
          <a:blip r:embed="rId1"/>
          <a:stretch/>
        </p:blipFill>
        <p:spPr>
          <a:xfrm>
            <a:off x="0" y="-81000"/>
            <a:ext cx="9145440" cy="693900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6966000" cy="244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3300"/>
                </a:solidFill>
                <a:latin typeface="Impact"/>
              </a:rPr>
              <a:t>Как работает лист?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692360" y="3212640"/>
            <a:ext cx="564048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f1311"/>
                </a:solidFill>
                <a:latin typeface="Impact"/>
              </a:rPr>
              <a:t>В рамках проекта «Мир растений»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7" descr="подсолнух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cc00"/>
                </a:solidFill>
                <a:latin typeface="Arial Black"/>
              </a:rPr>
              <a:t>Цели:</a:t>
            </a:r>
            <a:endParaRPr b="0" lang="en-US" sz="6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знать о жизни растений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скрыть секрет работы листа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знать о значении растений в жизни животных и человек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4" descr="лил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Arial"/>
              </a:rPr>
              <a:t>Когда появились растения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2f1311"/>
                </a:solidFill>
                <a:latin typeface="Arial"/>
              </a:rPr>
              <a:t>Дальние родственники водорослей высшие растения поддерживают свою жизнедеятельность за счет энергии солнечного света. Большинство растений живут на суше в самых разных местообитаниях – от жарких пустынь до холодной тундры. Растения появились на Земле более 400 млн. лет назад и превратились за это время в одну из самых больших и разнообразных групп организмов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7" descr="3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6600"/>
                </a:solidFill>
                <a:latin typeface="Impact"/>
              </a:rPr>
              <a:t>Разнообразие растений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Verdana"/>
              </a:rPr>
              <a:t>Первые наземные растения едва достигали в высоту нескольких сантиметров и размножались с помощью крошечных спор. Больше всего они походили на современные мхи, которые тоже способны расти только во влажной среде. Шло время, растения становились все выше, выносливее и разнообразнее. На болотах поднялись бескрайние леса из гигантских хвощей и древовидных папоротников. А еще через некоторое время в эволюции произошел настоящий прорыв: у ряда растений появились семена. Как орган размножения и расселения семя стало величайшим достижением природы, позволившим растениям обжить самые засушливые и холодные местообитания. Группа семенных растений, включая хвойные деревья и кустарники, у которых семена скрыты в шишках. Такие растения называются голосеменными. Но у большинства семенных растений семена возникают внутри плодов,  образующихся из цветков. Эти растения так и называются – цветковые, или покрытосеменные. Их насчитывается около 250 000 видов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трав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Arial"/>
              </a:rPr>
              <a:t>Зеленая инженерия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c3300"/>
                </a:solidFill>
                <a:latin typeface="Arial"/>
              </a:rPr>
              <a:t>Поскольку растения передвигаться не могут, для поддержания жизнедеятельности у них выработались особые приспособления. Воду они извлекают из почвы длинными корнями, а все необходимые вещества создают себе сами из воды и воздуха, используя для этого энергию солнечного света. Этот удивительный процесс называется фотосинтезом, он происходит главным образом в листьях. Необходимая для этого вода поднимается к листьям по стеблю. Если стебель перерезать или сломать, листья скоро увянут и погибнут. Путь, который проходит вода, зависит от длины стебля. Например, стволы некоторых деревьев бывают более 50 м в высоту! К фотосинтезу способны и некоторые другие организмы, но на суше в столь широких масштабах его осуществляют только растения. Из соединений, образующихся в результате фотосинтеза, состоят все части растений – от крошечных, меньше пылинки, семян до громадных стволов весом в тысячи тонн. Такие стволы – самые большие и тяжелые конструкции, которые способны возвести на суше живые организмы.</a:t>
            </a:r>
            <a:r>
              <a:rPr b="1" lang="ru-RU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0" descr="бабочка 3"/>
          <p:cNvPicPr/>
          <p:nvPr/>
        </p:nvPicPr>
        <p:blipFill>
          <a:blip r:embed="rId1"/>
          <a:stretch/>
        </p:blipFill>
        <p:spPr>
          <a:xfrm>
            <a:off x="5003640" y="1916280"/>
            <a:ext cx="3527640" cy="26463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очему растения тесно сотрудничают с животными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За многие миллионы лет эволюции животные и растения превратились в близких партнеров. Животные разносят семена и пыльцу, помогая размножению и расселению многих цветковых растений. Но сами животные нуждаются в растениях еще больше. Ведь они служат пищей растительноядным животным, которыми в свою очередь питаются хищники. Всецело зависят от растений и люди: без кислорода, выделяемого растениями, без пищи и сырья, которые мы получаем из них, наша жизнь на планете была бы попросту невозможн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7" descr="TE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cc"/>
                </a:solidFill>
                <a:latin typeface="Impact"/>
              </a:rPr>
              <a:t>Как работает лист?</a:t>
            </a:r>
            <a:endParaRPr b="0" lang="en-US" sz="5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кой бы причудливой ни была форма листьев, все они выполняют одну и ту же работу – улавливают энергию солнечного света и используют ее для образования (синтеза) сложных органических веществ из неорганических. Этот процесс называется фотосинтезом. Помимо солнечного света для  осуществления процесса фотосинтеза растениям нужны вода и углекислый газ. Эти вещества попадают в листья разными путя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глекислый газ листья поглощают из воздуха через устьица – микроскопические поры в кожице листьев. Каждое устьице состоит из двух замыкающих клеток, открывающих и закрывающих устьичную щель. Углекислый газ проникает через устьица в толщу листа и достигает клеток, осуществляющих фотосинтез. Одновременно через устьица из листа в атмосферу выделяется кислород. Этот газообмен совершается без каких-либо усилий со стороны растения: листовые пластинки настолько тонкие, что газы свободно проникают в листья и выделяют из них наружу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11" descr="лити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402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я, как и люди не могут жить без воздуха, воды. Им нужен свет, теп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ения нам помогают очищать воздух. Когда растения после зимы расцветают на улицах городов и в лесах становиться красиво. Животные не могут жить без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pitarts_0042"/>
          <p:cNvPicPr/>
          <p:nvPr/>
        </p:nvPicPr>
        <p:blipFill>
          <a:blip r:embed="rId2"/>
          <a:stretch/>
        </p:blipFill>
        <p:spPr>
          <a:xfrm>
            <a:off x="4932360" y="1628640"/>
            <a:ext cx="4211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листь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 Black"/>
              </a:rPr>
              <a:t>Литератур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Большая иллюстрированная энциклопедия живой природы. Авторы Миранда Смит, Рассел Маклин, Паула Бортон, Дэвид Берн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блюдения за расте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7:33:30Z</dcterms:created>
  <dc:creator>Пользователь</dc:creator>
  <dc:description/>
  <dc:language>en-US</dc:language>
  <cp:lastModifiedBy>Ольга</cp:lastModifiedBy>
  <dcterms:modified xsi:type="dcterms:W3CDTF">2017-10-07T12:24:10Z</dcterms:modified>
  <cp:revision>11</cp:revision>
  <dc:subject/>
  <dc:title>Как работает лист?</dc:title>
</cp:coreProperties>
</file>