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6FC-0145-42EA-80DA-67C15370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BA3-8A3C-4DF2-8F33-9F78CAC3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6A0-F1B0-4CBE-ABBC-DB54D262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29B-470A-4B31-888E-9CE53615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114C-626B-458C-A2E0-4A95DF63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B2F7-B9AA-4159-989D-0D186E70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77C3-F4E9-4BEB-8F8E-85534496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1214-0547-416A-80A6-0C6EE9E7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E72B-0DEC-4582-B089-3BF8DE7C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2D61-4110-4787-8115-756BC72C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7D63-FE29-4FEF-A533-9EF44FAD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44C-D299-4E84-B7BF-2B557606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6181-7D6F-4FD6-9C27-7597D344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BFBD-67D4-4214-94BF-7C8C080A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3244-5D46-426D-A11D-8A9298CE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B1A8-1ACB-4EA0-8D06-BE1F3203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C115-6B70-4157-B55F-C24B30F3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00A0A-5834-4ED5-B591-9D1B5B50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7448C-E0BE-4761-A4B5-D677A9AF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7510D-55BC-44F7-AAB8-F01568C4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E35C2-C291-430E-989D-3463DAC2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9768C-3DBE-47BC-B799-64C1EBDB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A59-9535-40B7-9D0A-8C505143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9DE97-B2E6-4867-A76C-3EED95F7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DD0D7-D769-4064-B111-36F27EB3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398F2-A95A-41E1-A1CB-89BE76C0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1FD8C-DA79-45C2-B5E3-F4C111B0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3A439-C690-4977-922A-3AE1048F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3C88F-0B49-4D5F-B374-763C6524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4770C-0274-40F4-B9BF-1D90755B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41C-2C32-4422-A134-158ED684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34D-3848-4770-9865-0CF28176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041-8775-4BF4-9A6E-751E3A35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F1CD-C9EA-4427-B87A-D466B107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B62-4197-473F-A8C9-28C3CD8D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39D5-776C-4E72-B132-BF150F08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7C35-FE60-4B6C-B00F-DE9BB009A3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EB0E-F6C4-4B85-9330-D7F78D19E2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1C7B-B139-4FE0-85EA-7650E424867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pic51"/>
          <p:cNvPicPr/>
          <p:nvPr/>
        </p:nvPicPr>
        <p:blipFill>
          <a:blip r:embed="rId1"/>
          <a:stretch/>
        </p:blipFill>
        <p:spPr>
          <a:xfrm>
            <a:off x="0" y="-81000"/>
            <a:ext cx="9145440" cy="6939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6966000" cy="24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00"/>
                </a:solidFill>
                <a:latin typeface="Impact"/>
              </a:rPr>
              <a:t>Как работает лист?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692360" y="3212640"/>
            <a:ext cx="56404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Impact"/>
              </a:rPr>
              <a:t>В рамках проекта «Мир растений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7" descr="подсолнух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00"/>
                </a:solidFill>
                <a:latin typeface="Arial Black"/>
              </a:rPr>
              <a:t>Цели: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знать о жизни растений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скрыть секрет работы листа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знать о значении растений в жизни животных и челове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4" descr="лил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Когда появились растения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Дальние родственники водорослей высшие растения поддерживают свою жизнедеятельность за счет энергии солнечного света. Большинство растений живут на суше в самых разных местообитаниях – от жарких пустынь до холодной тундры. Растения появились на Земле более 400 млн. лет назад и превратились за это время в одну из самых больших и разнообразных групп организм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7" descr="3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Impact"/>
              </a:rPr>
              <a:t>Разнообразие растений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Verdana"/>
              </a:rPr>
              <a:t>Первые наземные растения едва достигали в высоту нескольких сантиметров и размножались с помощью крошечных спор. Больше всего они походили на современные мхи, которые тоже способны расти только во влажной среде. Шло время, растения становились все выше, выносливее и разнообразнее. На болотах поднялись бескрайние леса из гигантских хвощей и древовидных папоротников. А еще через некоторое время в эволюции произошел настоящий прорыв: у ряда растений появились семена. Как орган размножения и расселения семя стало величайшим достижением природы, позволившим растениям обжить самые засушливые и холодные местообитания. Группа семенных растений, включая хвойные деревья и кустарники, у которых семена скрыты в шишках. Такие растения называются голосеменными. Но у большинства семенных растений семена возникают внутри плодов,  образующихся из цветков. Эти растения так и называются – цветковые, или покрытосеменные. Их насчитывается около 250 000 видов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трав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Arial"/>
              </a:rPr>
              <a:t>Зеленая инженерия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оскольку растения передвигаться не могут, для поддержания жизнедеятельности у них выработались особые приспособления. Воду они извлекают из почвы длинными корнями, а все необходимые вещества создают себе сами из воды и воздуха, используя для этого энергию солнечного света. Этот удивительный процесс называется фотосинтезом, он происходит главным образом в листьях. Необходимая для этого вода поднимается к листьям по стеблю. Если стебель перерезать или сломать, листья скоро увянут и погибнут. Путь, который проходит вода, зависит от длины стебля. Например, стволы некоторых деревьев бывают более 50 м в высоту! К фотосинтезу способны и некоторые другие организмы, но на суше в столь широких масштабах его осуществляют только растения. Из соединений, образующихся в результате фотосинтеза, состоят все части растений – от крошечных, меньше пылинки, семян до громадных стволов весом в тысячи тонн. Такие стволы – самые большие и тяжелые конструкции, которые способны возвести на суше живые организмы.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0" descr="бабочка 3"/>
          <p:cNvPicPr/>
          <p:nvPr/>
        </p:nvPicPr>
        <p:blipFill>
          <a:blip r:embed="rId1"/>
          <a:stretch/>
        </p:blipFill>
        <p:spPr>
          <a:xfrm>
            <a:off x="5003640" y="1916280"/>
            <a:ext cx="3527640" cy="26463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очему растения тесно сотрудничают с животными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За многие миллионы лет эволюции животные и растения превратились в близких партнеров. Животные разносят семена и пыльцу, помогая размножению и расселению многих цветковых растений. Но сами животные нуждаются в растениях еще больше. Ведь они служат пищей растительноядным животным, которыми в свою очередь питаются хищники. Всецело зависят от растений и люди: без кислорода, выделяемого растениями, без пищи и сырья, которые мы получаем из них, наша жизнь на планете была бы попросту невозможн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TE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Impact"/>
              </a:rPr>
              <a:t>Как работает лист?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й бы причудливой ни была форма листьев, все они выполняют одну и ту же работу – улавливают энергию солнечного света и используют ее для образования (синтеза) сложных органических веществ из неорганических. Этот процесс называется фотосинтезом. Помимо солнечного света для  осуществления процесса фотосинтеза растениям нужны вода и углекислый газ. Эти вещества попадают в листья разными путя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лекислый газ листья поглощают из воздуха через устьица – микроскопические поры в кожице листьев. Каждое устьице состоит из двух замыкающих клеток, открывающих и закрывающих устьичную щель. Углекислый газ проникает через устьица в толщу листа и достигает клеток, осуществляющих фотосинтез. Одновременно через устьица из листа в атмосферу выделяется кислород. Этот газообмен совершается без каких-либо усилий со стороны растения: листовые пластинки настолько тонкие, что газы свободно проникают в листья и выделяют из них наруж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1" descr="лит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402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я, как и люди не могут жить без воздуха, воды. Им нужен свет, теп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я нам помогают очищать воздух. Когда растения после зимы расцветают на улицах городов и в лесах становиться красиво. Животные не могут жить без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pitarts_0042"/>
          <p:cNvPicPr/>
          <p:nvPr/>
        </p:nvPicPr>
        <p:blipFill>
          <a:blip r:embed="rId2"/>
          <a:stretch/>
        </p:blipFill>
        <p:spPr>
          <a:xfrm>
            <a:off x="4932360" y="1628640"/>
            <a:ext cx="4211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листь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Литерату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ольшая иллюстрированная энциклопедия живой природы. Авторы Миранда Смит, Рассел Маклин, Паула Бортон, Дэвид Берн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блюдения за раст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33:30Z</dcterms:created>
  <dc:creator>Пользователь</dc:creator>
  <dc:description/>
  <dc:language>en-US</dc:language>
  <cp:lastModifiedBy>Ольга</cp:lastModifiedBy>
  <dcterms:modified xsi:type="dcterms:W3CDTF">2017-10-07T12:24:10Z</dcterms:modified>
  <cp:revision>11</cp:revision>
  <dc:subject/>
  <dc:title>Как работает лист?</dc:title>
</cp:coreProperties>
</file>