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244-915F-4CA8-A02F-192DC18D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00C-161E-4B96-9FF7-6A615B6A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4EC-3B90-4C2B-A832-8F79BB90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EF5-B160-4159-84D9-B24B126D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248-C182-4412-AB9A-D5F925FE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EB3-FA69-48D4-BB17-5B06117A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282-37D7-4DA5-96C5-8BA17A9C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D00-A682-4C33-9936-3A71E305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0BB-2339-4EA3-8FAB-16FEBB55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D85-9A55-4FD5-879D-102E1C95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FED-CE15-4B6C-9C40-F3914DE5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CDB-14A5-4B31-8FEB-48ED328B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EDE8-3E35-4F05-9401-5610DFB0F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057400" y="1143000"/>
            <a:ext cx="5486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животны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щищаютс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2296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38188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Озера Великобритании зимой Новости в фотографиях / photo-day…"/>
          <p:cNvPicPr/>
          <p:nvPr/>
        </p:nvPicPr>
        <p:blipFill>
          <a:blip r:embed="rId2"/>
          <a:stretch/>
        </p:blipFill>
        <p:spPr>
          <a:xfrm>
            <a:off x="1460520" y="304920"/>
            <a:ext cx="61866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743200" y="609480"/>
            <a:ext cx="3533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щи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2665080" y="1371600"/>
            <a:ext cx="386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упрежд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ра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Точнее Беркуты, Жуки и Лохи! НАРОДНАЯ БИБЛИОТЕКА KaZantip Republic"/>
          <p:cNvPicPr/>
          <p:nvPr/>
        </p:nvPicPr>
        <p:blipFill>
          <a:blip r:embed="rId2"/>
          <a:stretch/>
        </p:blipFill>
        <p:spPr>
          <a:xfrm>
            <a:off x="609480" y="2057400"/>
            <a:ext cx="2705400" cy="1893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сад-огород Записи в рубрике сад-огород Дневник надежда48 : LiveInternet -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6019920" y="2057400"/>
            <a:ext cx="2438280" cy="1925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BBC &quot; Страница 3 &quot; смотреть бесплатно онлайн документальное кино и фильмы без регистрации и без смс"/>
          <p:cNvPicPr/>
          <p:nvPr/>
        </p:nvPicPr>
        <p:blipFill>
          <a:blip r:embed="rId4"/>
          <a:stretch/>
        </p:blipFill>
        <p:spPr>
          <a:xfrm>
            <a:off x="762120" y="4038480"/>
            <a:ext cx="2319120" cy="2400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Этот Мир придуман не нами."/>
          <p:cNvPicPr/>
          <p:nvPr/>
        </p:nvPicPr>
        <p:blipFill>
          <a:blip r:embed="rId5"/>
          <a:stretch/>
        </p:blipFill>
        <p:spPr>
          <a:xfrm>
            <a:off x="5943600" y="4114800"/>
            <a:ext cx="2838600" cy="2193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S_O_L_O - Блог - Страница 7 - Привет.ру"/>
          <p:cNvPicPr/>
          <p:nvPr/>
        </p:nvPicPr>
        <p:blipFill>
          <a:blip r:embed="rId6"/>
          <a:stretch/>
        </p:blipFill>
        <p:spPr>
          <a:xfrm>
            <a:off x="3200400" y="3124080"/>
            <a:ext cx="29624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43200" y="609480"/>
            <a:ext cx="3533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щи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1372320" y="16002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г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76840" y="1241280"/>
            <a:ext cx="29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ециа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3809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киров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2480" y="3962520"/>
            <a:ext cx="386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упрежд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ра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743200" y="609480"/>
            <a:ext cx="3533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щи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3506040" y="167652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г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APUS.RU - Олень уссурийский пятнистый"/>
          <p:cNvPicPr/>
          <p:nvPr/>
        </p:nvPicPr>
        <p:blipFill>
          <a:blip r:embed="rId2"/>
          <a:stretch/>
        </p:blipFill>
        <p:spPr>
          <a:xfrm>
            <a:off x="1600200" y="4343400"/>
            <a:ext cx="1994040" cy="2048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@дневники - Take my revolution"/>
          <p:cNvPicPr/>
          <p:nvPr/>
        </p:nvPicPr>
        <p:blipFill>
          <a:blip r:embed="rId3"/>
          <a:stretch/>
        </p:blipFill>
        <p:spPr>
          <a:xfrm>
            <a:off x="685800" y="2286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ebStream Хостинг изображений &quot; Image Viewer"/>
          <p:cNvPicPr/>
          <p:nvPr/>
        </p:nvPicPr>
        <p:blipFill>
          <a:blip r:embed="rId4"/>
          <a:stretch/>
        </p:blipFill>
        <p:spPr>
          <a:xfrm>
            <a:off x="6095880" y="24256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Сравните внешнее строение лягушки и ящерицы - Картинка 14158/5"/>
          <p:cNvPicPr/>
          <p:nvPr/>
        </p:nvPicPr>
        <p:blipFill>
          <a:blip r:embed="rId5"/>
          <a:stretch/>
        </p:blipFill>
        <p:spPr>
          <a:xfrm>
            <a:off x="5867280" y="4419720"/>
            <a:ext cx="2629080" cy="200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Луговая собачка - Мегаэнциклопедия Кирилла и Мефодия - Медиаобъект"/>
          <p:cNvPicPr/>
          <p:nvPr/>
        </p:nvPicPr>
        <p:blipFill>
          <a:blip r:embed="rId6"/>
          <a:stretch/>
        </p:blipFill>
        <p:spPr>
          <a:xfrm>
            <a:off x="3809880" y="2362320"/>
            <a:ext cx="17938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743200" y="609480"/>
            <a:ext cx="3533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щи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523880"/>
            <a:ext cx="29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ециа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APUS.RU - Олень уссурийский пятнистый"/>
          <p:cNvPicPr/>
          <p:nvPr/>
        </p:nvPicPr>
        <p:blipFill>
          <a:blip r:embed="rId2"/>
          <a:stretch/>
        </p:blipFill>
        <p:spPr>
          <a:xfrm>
            <a:off x="609480" y="2590920"/>
            <a:ext cx="1994040" cy="2047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Сравните внешнее строение лягушки и ящерицы - Картинка 14158/5"/>
          <p:cNvPicPr/>
          <p:nvPr/>
        </p:nvPicPr>
        <p:blipFill>
          <a:blip r:embed="rId3"/>
          <a:stretch/>
        </p:blipFill>
        <p:spPr>
          <a:xfrm>
            <a:off x="6095880" y="4800600"/>
            <a:ext cx="2476800" cy="1886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Праздники и памятные даты - 2"/>
          <p:cNvPicPr/>
          <p:nvPr/>
        </p:nvPicPr>
        <p:blipFill>
          <a:blip r:embed="rId4"/>
          <a:stretch/>
        </p:blipFill>
        <p:spPr>
          <a:xfrm>
            <a:off x="609480" y="609480"/>
            <a:ext cx="1895760" cy="1695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Всеукраинский портал &quot;Ukraine-IN&quot; - Новости - Во Франции пчелы собрали разноцветный мед на помойке M&amp;M&amp;39;s"/>
          <p:cNvPicPr/>
          <p:nvPr/>
        </p:nvPicPr>
        <p:blipFill>
          <a:blip r:embed="rId5"/>
          <a:stretch/>
        </p:blipFill>
        <p:spPr>
          <a:xfrm>
            <a:off x="6095880" y="3048120"/>
            <a:ext cx="2543400" cy="15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Обои Животные Броненосцы, обои для рабочего стола, фотографии животные, броненосцы, броненосец, панцирь Обои для рабочего стола,"/>
          <p:cNvPicPr/>
          <p:nvPr/>
        </p:nvPicPr>
        <p:blipFill>
          <a:blip r:embed="rId6"/>
          <a:stretch/>
        </p:blipFill>
        <p:spPr>
          <a:xfrm>
            <a:off x="6248520" y="1143000"/>
            <a:ext cx="2438280" cy="171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ПОЛНАЯ РАСПРОДАЖА*ЗАКРЫТИЕ ТЕМЫ*корейская косметика*ТОМ 2"/>
          <p:cNvPicPr/>
          <p:nvPr/>
        </p:nvPicPr>
        <p:blipFill>
          <a:blip r:embed="rId7"/>
          <a:stretch/>
        </p:blipFill>
        <p:spPr>
          <a:xfrm>
            <a:off x="457200" y="4724280"/>
            <a:ext cx="2381400" cy="1784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Архив - Факел :: Для всех и обо всем"/>
          <p:cNvPicPr/>
          <p:nvPr/>
        </p:nvPicPr>
        <p:blipFill>
          <a:blip r:embed="rId8"/>
          <a:stretch/>
        </p:blipFill>
        <p:spPr>
          <a:xfrm>
            <a:off x="2895480" y="4572000"/>
            <a:ext cx="2876760" cy="186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Ученые изучили причины появления отпугивающей окраски - Рамблер-Новости"/>
          <p:cNvPicPr/>
          <p:nvPr/>
        </p:nvPicPr>
        <p:blipFill>
          <a:blip r:embed="rId9"/>
          <a:stretch/>
        </p:blipFill>
        <p:spPr>
          <a:xfrm>
            <a:off x="3200400" y="259092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743200" y="609480"/>
            <a:ext cx="3533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щи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1523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киров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Аквариумный интернет-магазин. Купить аквариум,аквариумное, оборудование, тест, нагреватель, грелка, термонагреватель, помпа,филь"/>
          <p:cNvPicPr/>
          <p:nvPr/>
        </p:nvPicPr>
        <p:blipFill>
          <a:blip r:embed="rId2"/>
          <a:stretch/>
        </p:blipFill>
        <p:spPr>
          <a:xfrm>
            <a:off x="5562720" y="1295280"/>
            <a:ext cx="3066840" cy="1722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Покровительственная окраска - Фото 5374/9"/>
          <p:cNvPicPr/>
          <p:nvPr/>
        </p:nvPicPr>
        <p:blipFill>
          <a:blip r:embed="rId3"/>
          <a:stretch/>
        </p:blipFill>
        <p:spPr>
          <a:xfrm>
            <a:off x="533520" y="13716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Мимикрия - чтобы спастись или чтобы хорошо поохотиться - Город.томск.ру"/>
          <p:cNvPicPr/>
          <p:nvPr/>
        </p:nvPicPr>
        <p:blipFill>
          <a:blip r:embed="rId4"/>
          <a:stretch/>
        </p:blipFill>
        <p:spPr>
          <a:xfrm>
            <a:off x="5715000" y="3657600"/>
            <a:ext cx="2666880" cy="2617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Bears In Ireland"/>
          <p:cNvPicPr/>
          <p:nvPr/>
        </p:nvPicPr>
        <p:blipFill>
          <a:blip r:embed="rId5"/>
          <a:stretch/>
        </p:blipFill>
        <p:spPr>
          <a:xfrm>
            <a:off x="533520" y="4038480"/>
            <a:ext cx="3276360" cy="2183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Зеленая лягушка в тине обои, фото, картинки"/>
          <p:cNvPicPr/>
          <p:nvPr/>
        </p:nvPicPr>
        <p:blipFill>
          <a:blip r:embed="rId6"/>
          <a:stretch/>
        </p:blipFill>
        <p:spPr>
          <a:xfrm>
            <a:off x="3200400" y="2590920"/>
            <a:ext cx="2895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219320" y="1219320"/>
            <a:ext cx="67053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Найди животное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106668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7:05:32Z</dcterms:created>
  <dc:creator>User</dc:creator>
  <dc:description/>
  <dc:language>en-US</dc:language>
  <cp:lastModifiedBy>User</cp:lastModifiedBy>
  <dcterms:modified xsi:type="dcterms:W3CDTF">2017-10-07T18:49:5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