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AE0-16CA-4A63-BBA5-CB2642ED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633-6E2E-47EC-B3B0-A0BD7D2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F13-EACA-41DA-9F1D-FC3C4D2A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B44-8B56-4F85-B71B-FE5F5E1B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49E-3ACC-4415-98E6-F47CF74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327-1BB0-4310-B495-CB33C50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386-6392-4A58-AB34-C55D8AF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EFD-631D-408C-9A4A-EE6EC1F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EEC-69DE-41F8-8E76-6969255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C19-7299-40B7-B4E8-6C63F34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674-0131-43AA-8EA2-6E13A34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9C8-BB0C-4355-A1D4-1EEA114E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D3F-F865-4075-9169-0064C9E0DE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opyist"/>
              </a:rPr>
              <a:t>Классный час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урнаева Л.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какой теплоте говорила мама? Каким образом можно проявить душевную теплоту по отношению к родственникам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репкой, дружной семье каждый берет на себя какие-то обязанности — зарабатывает деньги, ходит в магазин за покупками, готовит, стирает, убирает, организует отдых и т. д. Если есть необходимость, один член семьи приходит на помощь другому. Каждый стремится помочь в силу своих возможностей члену семьи, у которого возникли проблемы. Такой семье не страшны никакие неприя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ожете ли вы привести примеры таких взаимоотношений в вашей семье?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900000" y="691560"/>
            <a:ext cx="7559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"Левин был женат третий месяц. Он был счастлив, но совсем не так, как ожидал. На каждом шагу он находил разочарование в прежних мечтах и новое неожиданное очарование"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11280" y="14385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лавную причину семейных невзгод Л.Н. Толстой видел в том, чт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"ожидается то, чего не бывает, и не ожидается то, что всегда бывает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 таких семьях народ сложил пословицы. Расшифруйте и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 ЯСТЮАРИБОС ЙЕН К ЕСВ,            ОНДОЛОХ К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ЧЕП — ЯЬМ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 ТЕН ЫДЖУН И КАТ, ТЕВОС АД ЬВОБЮЛ ЕЬМЕ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4869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042920" y="119700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Семья — печка: как холодно, все к ней собираются.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В семье любовь да совет, так и нужды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йчас я прочту в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ющие в некоей семье, скажем, Ивановых. Послушайте их и скажите, какие правила вы, будучи взрослыми и уважаемыми главами своих семейств, не сочли бы возможным ввести в обиход ваш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контролируют школьные дела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член семьи имеет свои обяза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каждую неделю выдают детям небольшую сумму денег на карманные расх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Дети имеют право без ограничений смотреть телевиз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и подготовке к семейным праздникам каждый член семьи вносит свое посильное участ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не обязаны знать, чем занимаются дети в свое свободное от занятий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таршие дети оказывают помощь младшим, в отсутствие родителей присматривают за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672000" cy="282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5435640" y="3892680"/>
            <a:ext cx="3708360" cy="29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4140360" y="0"/>
            <a:ext cx="460836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2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йные 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здники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478240" cy="309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520720" cy="314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867280" cy="379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0" y="4022640"/>
            <a:ext cx="637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аждой семье наряду с общими для многих семейными праздниками — днями рождения, свадьбами, именинами — есть свои праздники, свойственные только этой семье. Например, день окончания института одним из членов семьи или день переезда в другой город, с которого начался новый этап в жизни всего семейства. Хорошо, когда в семье есть свои праздники и традиции, которые по цепочке передаются от поколения к поколе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За два часа до прихода гостей по случаю дня рождения одного из членов семьи в квартире отключили электриче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Цветы, купленные маме по общей договоренности к 8 Марта, завяли, не дождавшись праздника. Денег на покупку другого букета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Накануне Нового года сломался телевизо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А теперь вообразите, что у вас, допустим, в Америке, объявилась дальняя родственница, которая прислала вам письмо и попросила рассказать о семье. Как вы оригинальным способом представите портрет своей семь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95280" y="260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огда в семье случаются экстремальные ситуации, из которых дружная семья всегда найдет выход. Как бы вышла из данных ситуаций ваша семь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d60093"/>
                </a:solidFill>
                <a:latin typeface="Arial Unicode MS"/>
              </a:rPr>
              <a:t>Продолжите, пожалуйста, фразу:«Сегодня я узнал...»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 КРУГУ  СЕМЬ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ширить представления о семье, ее обязанностях, традициях, релик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внимание, мышление,             воображение, 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дчеркивая важность семьи, люди даже учредили </a:t>
            </a:r>
            <a:r>
              <a:rPr b="1" i="1" lang="ru-RU" sz="2800" spc="-1" strike="noStrike">
                <a:solidFill>
                  <a:srgbClr val="99ff33"/>
                </a:solidFill>
                <a:latin typeface="Times New Roman"/>
              </a:rPr>
              <a:t>Международный день семьи.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Он отмечается ежегодно в мае. Какого числа, спросите вы? Отгадайте сами. Посмотрите на квадрат и скажите, какому числу не хватает па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56000" y="2421000"/>
          <a:ext cx="3886200" cy="3530520"/>
        </p:xfrm>
        <a:graphic>
          <a:graphicData uri="http://schemas.openxmlformats.org/drawingml/2006/table">
            <a:tbl>
              <a:tblPr/>
              <a:tblGrid>
                <a:gridCol w="777600"/>
                <a:gridCol w="776520"/>
                <a:gridCol w="777960"/>
                <a:gridCol w="776160"/>
                <a:gridCol w="77796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Итак, Международный день семьи отмечается 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15 мая</a:t>
            </a: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60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333300"/>
                </a:solidFill>
                <a:latin typeface="Times New Roman"/>
              </a:rPr>
              <a:t>В семье все идет своим чередом: рождаются дети, которые, повзрослев, сами становятся сначала родителями, а потом стариками: дедушками, бабушками, прадедушками и прабабушками. Когда они были маленькими, то о них заботились их родители, а когда они сами стали  родителями, то стали заботиться о своих детях и о своих пожилых родителях. И так повторяется из поколения в поколение на протяжении всей истории челове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01840" cy="271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003640" y="4508640"/>
            <a:ext cx="3876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Каждому ребенку необходима семья. Так что же такое семья? Прежде всего, это мама и папа — родители. Родителям полагается растить дет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704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ЬМЕС      ИМ А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ЛЧ      ИМЫРАТСИ     ИМ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НЬЛОБ  A3   ДОХУ     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ЙЕТЕД   ЕИНАТИП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620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помните главную обязанность семь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ание детей и уход за больными и старыми  членами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 времена Средневековья зародилась традиция изображать герб своей семьи. Во многих английских семьях до сих пор чтят эту традицию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556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слушайте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писание герба,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рисованного вашим ровеснико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7432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1640" y="90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Герб имеет форму щита. Это говорит о том, что наша семья всегда готова отразить нападение недоброжелателей, потому что мы все стоим горой друг за дру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шей семье пять человек. Главными членами семьи являются мама и папа. О них рассказывают изображения в  верхней части. Мама — учитель. Об этом свидетельствуют классная доска, журнал и указка. Папа — летчик ВВС, он капитан. Его увлечение — игра на гита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ижняя часть герба поделена на три части. Центральное место в этой части принадлежит бабушке. Большая кастрюля говорит о том, что готовит в семье в основном бабушка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а же занимается воспитанием внуков. Любимые занятия: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абушки — просмотр телесериалов и вяз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вая часть герба посвящена моей сестре, которая учится в первом классе и мечтает стать балериной. Правая часть герба рассказывает обо мне, ученике четвертого класса. Мой любимый школьный предмет — география, любимый вид спорта — хокк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ша семья дружная и веселая, поэтому верхнюю часть герба украшает солнце — символ тепла и доброт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ребус нужных"/>
          <p:cNvPicPr/>
          <p:nvPr/>
        </p:nvPicPr>
        <p:blipFill>
          <a:blip r:embed="rId1"/>
          <a:stretch/>
        </p:blipFill>
        <p:spPr>
          <a:xfrm>
            <a:off x="179280" y="1125360"/>
            <a:ext cx="4418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екрасно, если человек живет в семье, в которой царят  мир и согласие. Счастливы дети, если родители заботятся о них, любят, понимают и делают так, чтобы те не испытали всех трудностей жизни. Счастливы родители, если чувствуют взаимную любовь со стороны детей, их внимание и душевную теплоту.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слушайте стихотворение А. Барт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Разговор с доч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не хватает теплоты,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сказала доч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чь удивила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рзнешь 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летние денеч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не поймешь, еще мала,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дохнула мать уста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очь кричи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поняла!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ащит одея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508720" y="1989000"/>
            <a:ext cx="2520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ve</cp:lastModifiedBy>
  <dcterms:modified xsi:type="dcterms:W3CDTF">2017-10-07T12:30:38Z</dcterms:modified>
  <cp:revision>10</cp:revision>
  <dc:subject/>
  <dc:title>PowerPoint Presentation</dc:title>
</cp:coreProperties>
</file>