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9597-E0A7-4A1A-A290-24A23A3D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C48-0109-480D-B1C6-476EDFF6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B57-046D-4A82-BA59-60D9E4E3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DC61-BE9E-4337-834C-51F00FD2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B92-BCF4-45EE-9A55-9C1FEDD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AEC-8A62-427E-96B1-418D078B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F5A-5776-4CC4-943B-25D01064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E1CB-D00C-4D6A-9AA3-2DA1F5F3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430-B36F-40AF-9308-7814514E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2BB8-0840-4BC0-9B53-60DC8D6BD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1BD8-1C1D-492C-AAC7-3BDA3D25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305D-6A8B-4E24-8A66-1AEBB3CA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27E96-55AF-4290-A33C-D1B7679E84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ddfae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000000"/>
                </a:solidFill>
                <a:latin typeface="Copyist"/>
              </a:rPr>
              <a:t>Классный час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Мурнаева Л.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 какой теплоте говорила мама? Каким образом можно проявить душевную теплоту по отношению к родственникам?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крепкой, дружной семье каждый берет на себя какие-то обязанности — зарабатывает деньги, ходит в магазин за покупками, готовит, стирает, убирает, организует отдых и т. д. Если есть необходимость, один член семьи приходит на помощь другому. Каждый стремится помочь в силу своих возможностей члену семьи, у которого возникли проблемы. Такой семье не страшны никакие неприят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Можете ли вы привести примеры таких взаимоотношений в вашей семье?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900000" y="691560"/>
            <a:ext cx="7559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"Левин был женат третий месяц. Он был счастлив, но совсем не так, как ожидал. На каждом шагу он находил разочарование в прежних мечтах и новое неожиданное очарование"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11280" y="1438560"/>
            <a:ext cx="799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лавную причину семейных невзгод Л.Н. Толстой видел в том, что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"ожидается то, чего не бывает, и не ожидается то, что всегда бывает"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О таких семьях народ сложил пословицы. Расшифруйте их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  ЯСТЮАРИБОС ЙЕН К ЕСВ,            ОНДОЛОХ КА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ЧЕП — ЯЬМЕ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   ТЕН ЫДЖУН И КАТ, ТЕВОС АД ЬВОБЮЛ ЕЬМЕ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5280" y="48690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042920" y="119700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Семья — печка: как холодно, все к ней собираются.</a:t>
            </a:r>
            <a:br>
              <a:rPr sz="3200"/>
            </a:br>
            <a:r>
              <a:rPr b="1" i="1" lang="ru-RU" sz="3200" spc="-1" strike="noStrike">
                <a:solidFill>
                  <a:srgbClr val="cc0066"/>
                </a:solidFill>
                <a:latin typeface="Times New Roman"/>
              </a:rPr>
              <a:t>В семье любовь да совет, так и нужды не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йчас я прочту ва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авила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ществующие в некоей семье, скажем, Ивановых. Послушайте их и скажите, какие правила вы, будучи взрослыми и уважаемыми главами своих семейств, не сочли бы возможным ввести в обиход вашей семь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одители контролируют школьные дела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Каждый член семьи имеет свои обязанно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одители каждую неделю выдают детям небольшую сумму денег на карманные расход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Дети имеют право без ограничений смотреть телевизо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При подготовке к семейным праздникам каждый член семьи вносит свое посильное участ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Родители не обязаны знать, чем занимаются дети в свое свободное от занятий врем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Старшие дети оказывают помощь младшим, в отсутствие родителей присматривают за ни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5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3672000" cy="2827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5435640" y="3892680"/>
            <a:ext cx="3708360" cy="2965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4"/>
          <a:stretch/>
        </p:blipFill>
        <p:spPr>
          <a:xfrm>
            <a:off x="1692360" y="285264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76" name="WordArt 7"/>
          <p:cNvSpPr txBox="1"/>
          <p:nvPr/>
        </p:nvSpPr>
        <p:spPr>
          <a:xfrm>
            <a:off x="4140360" y="0"/>
            <a:ext cx="4608360" cy="29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2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мейные 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</a:t>
            </a: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здники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443640" y="3500280"/>
            <a:ext cx="2478240" cy="3097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520720" cy="3141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5867280" cy="37987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0" y="4022640"/>
            <a:ext cx="63723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каждой семье наряду с общими для многих семейными праздниками — днями рождения, свадьбами, именинами — есть свои праздники, свойственные только этой семье. Например, день окончания института одним из членов семьи или день переезда в другой город, с которого начался новый этап в жизни всего семейства. Хорошо, когда в семье есть свои праздники и традиции, которые по цепочке передаются от поколения к поколе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1988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За два часа до прихода гостей по случаю дня рождения одного из членов семьи в квартире отключили электричеств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Цветы, купленные маме по общей договоренности к 8 Марта, завяли, не дождавшись праздника. Денег на покупку другого букета н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</a:rPr>
              <a:t>Накануне Нового года сломался телевизо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00"/>
                </a:solidFill>
                <a:latin typeface="Times New Roman"/>
              </a:rPr>
              <a:t>А теперь вообразите, что у вас, допустим, в Америке, объявилась дальняя родственница, которая прислала вам письмо и попросила рассказать о семье. Как вы оригинальным способом представите портрет своей семьи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395280" y="26028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огда в семье случаются экстремальные ситуации, из которых дружная семья всегда найдет выход. Как бы вышла из данных ситуаций ваша семь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1"/>
          <p:cNvSpPr/>
          <p:nvPr/>
        </p:nvSpPr>
        <p:spPr>
          <a:xfrm>
            <a:off x="447984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706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d60093"/>
                </a:solidFill>
                <a:latin typeface="Arial Unicode MS"/>
              </a:rPr>
              <a:t>Продолжите, пожалуйста, фразу:«Сегодня я узнал...»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 КРУГУ  СЕМЬ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ширить представления о семье, ее обязанностях, традициях, релик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вать внимание, мышление,             воображение, реч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Подчеркивая важность семьи, люди даже учредили </a:t>
            </a:r>
            <a:r>
              <a:rPr b="1" i="1" lang="ru-RU" sz="2800" spc="-1" strike="noStrike">
                <a:solidFill>
                  <a:srgbClr val="99ff33"/>
                </a:solidFill>
                <a:latin typeface="Times New Roman"/>
              </a:rPr>
              <a:t>Международный день семьи.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Он отмечается ежегодно в мае. Какого числа, спросите вы? Отгадайте сами. Посмотрите на квадрат и скажите, какому числу не хватает пар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556000" y="2421000"/>
          <a:ext cx="3886200" cy="3530520"/>
        </p:xfrm>
        <a:graphic>
          <a:graphicData uri="http://schemas.openxmlformats.org/drawingml/2006/table">
            <a:tbl>
              <a:tblPr/>
              <a:tblGrid>
                <a:gridCol w="777600"/>
                <a:gridCol w="776520"/>
                <a:gridCol w="777960"/>
                <a:gridCol w="776160"/>
                <a:gridCol w="77796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333300"/>
                </a:solidFill>
                <a:latin typeface="Times New Roman"/>
              </a:rPr>
              <a:t>Итак, Международный день семьи отмечается </a:t>
            </a: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15 мая</a:t>
            </a:r>
            <a:r>
              <a:rPr b="1" i="1" lang="ru-RU" sz="4000" spc="-1" strike="noStrike">
                <a:solidFill>
                  <a:srgbClr val="333300"/>
                </a:solidFill>
                <a:latin typeface="Times New Roman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60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333300"/>
                </a:solidFill>
                <a:latin typeface="Times New Roman"/>
              </a:rPr>
              <a:t>В семье все идет своим чередом: рождаются дети, которые, повзрослев, сами становятся сначала родителями, а потом стариками: дедушками, бабушками, прадедушками и прабабушками. Когда они были маленькими, то о них заботились их родители, а когда они сами стали  родителями, то стали заботиться о своих детях и о своих пожилых родителях. И так повторяется из поколения в поколение на протяжении всей истории человече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4788000" y="1700280"/>
            <a:ext cx="4101840" cy="271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5003640" y="4508640"/>
            <a:ext cx="3876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</a:rPr>
              <a:t>   </a:t>
            </a:r>
            <a:r>
              <a:rPr b="1" i="1" lang="ru-RU" sz="2000" spc="-1" strike="noStrike">
                <a:solidFill>
                  <a:srgbClr val="990033"/>
                </a:solidFill>
                <a:latin typeface="Times New Roman"/>
              </a:rPr>
              <a:t>Каждому ребенку необходима семья. Так что же такое семья? Прежде всего, это мама и папа — родители. Родителям полагается растить дете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99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99640" y="1197000"/>
            <a:ext cx="770436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46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ЬМЕС      ИМ АН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ЛЧ      ИМЫРАТСИ     ИМ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ЫНЬЛОБ  A3   ДОХУ     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ЙЕТЕД   ЕИНАТИПСОВ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00000" y="620640"/>
            <a:ext cx="77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Запомните главную обязанность семьи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спитание детей и уход за больными и старыми  членами семь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384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 времена Средневековья зародилась традиция изображать герб своей семьи. Во многих английских семьях до сих пор чтят эту традицию</a:t>
            </a:r>
            <a:r>
              <a:rPr b="0" lang="ru-RU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333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5567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Послушайте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описание герба,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нарисованного вашим ровесником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37432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71640" y="90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Герб имеет форму щита. Это говорит о том, что наша семья всегда готова отразить нападение недоброжелателей, потому что мы все стоим горой друг за друг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шей семье пять человек. Главными членами семьи являются мама и папа. О них рассказывают изображения в  верхней части. Мама — учитель. Об этом свидетельствуют классная доска, журнал и указка. Папа — летчик ВВС, он капитан. Его увлечение — игра на гитар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ижняя часть герба поделена на три части. Центральное место в этой части принадлежит бабушке. Большая кастрюля говорит о том, что готовит в семье в основном бабушка,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на же занимается воспитанием внуков. Любимые занятия: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абушки — просмотр телесериалов и вязан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евая часть герба посвящена моей сестре, которая учится в первом классе и мечтает стать балериной. Правая часть герба рассказывает обо мне, ученике четвертого класса. Мой любимый школьный предмет — география, любимый вид спорта — хокк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аша семья дружная и веселая, поэтому верхнюю часть герба украшает солнце — символ тепла и доброты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ребус нужных"/>
          <p:cNvPicPr/>
          <p:nvPr/>
        </p:nvPicPr>
        <p:blipFill>
          <a:blip r:embed="rId1"/>
          <a:stretch/>
        </p:blipFill>
        <p:spPr>
          <a:xfrm>
            <a:off x="179280" y="1125360"/>
            <a:ext cx="44182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19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рекрасно, если человек живет в семье, в которой царят  мир и согласие. Счастливы дети, если родители заботятся о них, любят, понимают и делают так, чтобы те не испытали всех трудностей жизни. Счастливы родители, если чувствуют взаимную любовь со стороны детей, их внимание и душевную теплоту.</a:t>
            </a:r>
            <a:br>
              <a:rPr sz="2000"/>
            </a:br>
            <a:r>
              <a:rPr b="1" lang="ru-RU" sz="2000" spc="-1" strike="noStrike">
                <a:solidFill>
                  <a:srgbClr val="990033"/>
                </a:solidFill>
                <a:latin typeface="Times New Roman"/>
              </a:rPr>
              <a:t>Послушайте стихотворение А. Барт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54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Разговор с дочк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не не хватает теплоты, 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на сказала доч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чь удивилась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ерзнешь 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в летние денечк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не поймешь, еще мала,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здохнула мать устало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дочь кричит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 поняла!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 тащит одея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508720" y="1989000"/>
            <a:ext cx="2520720" cy="41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ve</cp:lastModifiedBy>
  <dcterms:modified xsi:type="dcterms:W3CDTF">2017-10-07T12:30:38Z</dcterms:modified>
  <cp:revision>10</cp:revision>
  <dc:subject/>
  <dc:title>PowerPoint Presentation</dc:title>
</cp:coreProperties>
</file>