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386-8F19-4DAF-83AD-FAF7EA84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1BE-613B-4EC0-A6AD-73CD2A10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821C0-3E43-488D-9135-9A48AB6E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77CA8-2097-49BE-8139-7F4F1E4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03F87-8FDF-4CDE-BF19-7467E91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B9751-ECEC-4928-A739-49AA1CD3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71BEF-748F-45AC-9E01-1D38DBD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850E1-2E90-4FC6-B1F9-539F263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803BD-9193-439F-8CBF-E196FB3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5982F-FF08-44D6-BBA1-85B602CE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2BB34-6ABF-42AD-8362-29040A0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DFEA-45C6-4C93-865E-127ED3F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B01-9A7A-4809-AEE9-80E8FAA0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C26C0-8B1A-4AE5-A2A0-55E79F9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8EB55-1DA6-4F5F-B00D-6933841B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FD05-88F0-40F1-9AFE-45C4811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95397-349E-45BB-B966-A9DDDA3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194B1-9D53-46EC-BE6F-16E7313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9280C-6E9A-426A-A1E3-647E38D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AEE21-3B60-4984-B29A-536C1AD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E7654-DBF4-4ED3-8A63-69ADA54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A8123-3B31-4DDD-B2A2-58925C6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F2FFE-B76B-45FA-87BB-81E93FB8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544-0B1D-46E9-97C6-8E0991CB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BECAF-12AF-4F19-8E68-AC7A1521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E5C07-24F6-44EB-9501-A42A3DE1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13075-17FE-468D-945C-846A0A31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641B3-435D-4302-925F-EAC4E485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2A176-7665-41A7-97AC-500D70D6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E7AF8-CE8A-4CC8-B5D8-372074C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0BC95-1713-4732-AFA5-7646026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FB0B-9E34-4E16-A084-A8293B6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1DB4-DED0-4DBB-8058-7FD5935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F91E-286B-4CAB-B7FD-BB57CA5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8960-6F6E-4561-8858-09C36B33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20A39-1A1B-4F09-8833-4789111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001CA-77BA-44B7-A600-45463C75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6EAAE-F392-4F7C-8D39-A35492FA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6643D-18AD-4EE6-A58A-C65381C6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C9EED-D955-430A-AE68-0F239A28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282F-0A5F-49CF-B8F6-6A1AF54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D747-D344-4375-9510-3CD452F4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1EA3D-415D-449A-B391-D7A96DC3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32580-3057-4BDA-9BF5-9A004B93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CAA7A-0FB4-4519-8BBE-CF0A999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C2C-C357-4124-A145-ED493AF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9AF2-D9CF-41D1-BD3D-FEBD800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BE40D-5FE7-4574-9E1F-FB42FED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4DFE9-4C3D-4E5D-9CC4-806EB405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C2058-C4B4-4FBB-B81B-2B7127D6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B3645-4DC2-4150-B5A0-399BA62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8AC63-6553-4287-ACB7-487D703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6808E-4C81-4FB6-B5DB-89DB24D2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F8A8B-B4E9-48BE-90B3-97C939BF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2B7DE-A291-48D6-804B-4ADD2DE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D9FE7-BC40-4CAE-ABA7-15527B9C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900-8DAA-4520-804B-FD223093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F3D61-FBB1-4A1A-9199-9211CD4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85EFB-2D00-4F85-9DFE-857B0F5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91013-4B15-4C43-B326-39786A1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22CB-A2BE-4D02-BBD4-36FA633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5ACE4-4C23-4B89-A196-993C368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85413-889D-4138-BB79-A3CB7B8A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3759F-72E6-41CC-A71B-1724A129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455D9-CCB1-4CFC-A91A-A880ADBB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51B4D-FA61-48E7-B638-C200A48F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D6AA3-DB78-4A38-984E-909C91ED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48B-A586-4080-8728-00A5D8A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9A015-09BC-43A9-9488-CEE9145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AD531-E456-416E-BA37-8C984705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C983E-2154-4B57-9BCB-FDDBB9F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1C2B3-CD2C-49F0-806A-4216729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2F680-7B02-4947-8D03-CCADD7A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D1C00-9CAF-46CD-8C15-92DBC26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72BEC-AB6A-4249-B951-10A8A14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7B7CC-6C8E-4E51-A4DE-8842DEA8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F12E9-F97C-4518-B7D1-73DBBD16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CCD34-B412-4285-AD7D-0392AEEA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62B-BA46-4B13-AA0E-B166911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49A54-90D3-46C3-B8B5-FF3DC1E8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C25F7-1172-452D-B251-799AFB72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D5EB2-EBAF-418D-B1C6-E67270EE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1EE4D-7EBF-4E58-90B7-492EC3A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40B8D-2AA3-4500-9A1A-E46FA1C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714D3-1D72-4708-8B53-2606EB3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953B3-1E54-4C6E-AF7A-540AD84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0DCE3-45A1-42DA-85D9-6373D02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2A92C-AC99-4C5F-8B5F-1033DEB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7BB4A-6B9F-4250-A57B-1D20E5F7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B45-77F2-47D9-8656-8E6D6C0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9C141-6754-4609-B7F5-425B6EA0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BDE62-3A7A-434B-80A9-2D3CF331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A8519-861E-4D2E-B4FF-3A26ECB7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15D42-B467-43BA-BFF2-EF107E4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41C3A-934A-4A9E-9536-A9DFE75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1B6F0-3509-4768-9340-A20D71DB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D5C8E-4DC6-41C8-BC6D-A74A2F00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DEFE9-9376-4B92-9306-47D91C5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BB864-E4A8-4C36-9991-20EAEC0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A20B0-7981-45D2-867A-011D8F7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9C48-ED0A-4CED-8F4F-0782E7B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46EC9-7972-4DEA-84A1-FC513A1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A8DF2-DCAE-4D27-89DB-80715052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09D17-1EB3-4456-8C19-85DB4AB1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5913A-9DD5-41E8-84A9-1CDAD184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9B753-9B08-4C7C-A7D9-54729281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08E81-B4A0-4462-A6DF-13581548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F238D-99AA-401E-9A51-0DAFCE5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7C19E-4D59-4601-A9D1-161D331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5EDD0-2E7D-45DF-BC6F-FA21CE62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0CDF7-7154-4E7C-BCA2-6992D39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A25-BF6C-49D1-B6F7-362E91B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9406-725A-4368-B0BD-F170D41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9B8DC-D7A7-4CC3-B97E-4391154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956D1-E1A3-4E3C-AC84-7FF9080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2ED6E-302E-497F-9D9C-DFCE27A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DFAAE-2F16-469B-91EA-E50D221A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F1061-0676-4507-8B60-415D4B7A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779BF-8583-492B-8F83-C91D75A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BC198-2D95-4E05-8505-992CB429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5D9A7-6723-4D75-99F4-EA0E3A6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BABBF-E3A7-4DE7-AE0D-32056FB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A24F5-4EDC-4A48-95CB-FFBF4F0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3F6-FAA8-4110-981F-AAFE5E5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67ECA-0B6D-49BE-A920-B29AC82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C09F8-ABFC-4244-8F0E-D7DF0D3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BC904-7358-41C5-9DBF-15F8927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5883F-93E3-4CDF-B76A-D01B9F4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D4BD4-452F-4378-BD3F-B82BEEAA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ECFDA-6021-4A8E-B689-03B8E272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4F822-DB22-42DF-A60A-728E3CF9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93A-3C57-4898-86EB-A870A16C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B43E-1DD4-4F3C-9889-28E16011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762C-D597-45E3-A7EA-3F15849B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DD84-28B4-4B94-863A-C83AF678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A6C1-CB20-4F6F-807F-59ABA5AD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9B65-28F2-4826-957B-75EEB08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D0D7-E5B9-4579-BE19-61E38BF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6682-EFCC-44F2-AA24-1AB4DEBD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5AF-42E5-4D5A-B9F1-358F644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6416-70C2-4597-8C35-E48196C2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EB76-1638-4F60-B89E-C62BB79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3748-F721-4EFC-B20D-BABAFB6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F43C-00E6-4E7D-A113-8F8F17B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6904-6770-4EBA-BC11-CD2E736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6423-AED9-40B5-8A97-8A0233CC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44A2-7A99-41F0-A293-9356CCC0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B8A6-6729-4B7D-A171-1BBB85CF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3FB8-D212-4ED0-B958-FB2E5AB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A992-0210-4D0F-A079-FA62B670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50F-D29B-41C8-B211-59EA7A8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F0AC-B2B0-4BD0-AA70-56A5C881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A6FF-8512-4F4E-8DC5-C51C94C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BB21-856A-40F1-9376-CAC7B3B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981B-DA39-41C7-AC0A-24BC3B9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0239-82A8-4B5D-9612-C9E3D9A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8C1F-8024-4884-88F0-3A6CAC2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E806-023B-41D0-9EDB-7ABD7C3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A1EC-B135-46E3-AE62-D9C5F84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49EB-0B7E-494E-81F6-FC00B4B8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BF6D-5DF2-4696-8249-B26E65A2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29D-2270-4229-B7F3-9EEB2D4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C3EA-5AA8-40B2-B143-CD14272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C42D5-60AB-47B9-BA09-FA8327D0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67F1-770C-467B-B4E8-4E8FD2F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203C-E401-4A03-8D03-BCB55A3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E801-556C-426E-8D7D-CBE3A67D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32B1-E966-48EB-B9F7-739DAF4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F1C8-2895-4F14-993F-4190F9D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7B81-8755-4357-A11D-CB03DC0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2912-6D5F-4CDC-8CF7-78457A12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1F932-D286-4669-9CDE-E96F8A8A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3C9-8F49-4A09-B072-FDF7582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B4DE-E86A-4360-846C-9BDCE6C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11B5-CAB7-4220-B97E-B095A486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81F2-B73B-4EB1-81BA-AF7CD657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68489-17C5-4A35-B4C8-39B75FD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0A53-8A7C-46C0-B424-BBA0D6DA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5B93-2A76-47D7-9156-0EF9121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234B-975B-46D9-BBA6-EF34C5D7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432E9-371A-4283-BF08-93B33CF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CFA3-180E-49FC-8EB8-9C60A9A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0D8F-CB84-42BA-BF93-EAADB06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86A-61B9-45DF-9CF9-0916E91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CCFA-DCFC-4677-B1CB-E516DD4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61EA-D509-4E37-8992-A22CD0D7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C88A-CBFB-4968-817E-168E2E51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2497-9B97-439A-A4E8-7284FDEF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B486-E007-49D5-9B41-45FC294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DBEE-0200-4A54-A8D7-C25ED050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C9119-9EDF-473E-BAAF-2E7E1E02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4478-F132-44C8-A398-06CCDCB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0D77-1DED-47B5-8A20-A5EABE1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7444-F1F1-428C-A7C1-12CF17EC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617-A8E3-40B3-8E2C-693E392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ECCB0-4E1E-451F-AAD0-5834648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A011-B666-4B5B-A1AF-640A4D31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BDA1-F3BD-459B-A0C3-E1E30252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2D6E-63F0-4B1F-8D7B-ACE16EFB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01AA-1520-45E6-8A67-0AF1D2E1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51A1-2FC9-4955-8A3E-D4EE6202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B463-5659-4A26-8A8F-F9678AB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FDD91-ED52-46D5-A1EB-9564030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993A0-8D11-4B51-9C0F-3EC6DEA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D722C-ECAF-467F-AB5D-311F8F1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FAB-5677-4623-9824-4BB24D7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802D-DC57-4A4F-BF4C-49196E9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9FCF0-7B71-4669-B560-BE91A73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F371-0EB3-436F-BD25-B944BB8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DFE3-0ABD-4FA0-ADCB-3BCC055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333C6-0826-4DBC-BDE8-3EF6E1F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B94CB-BF9B-4635-951A-DC572796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BBE2-2819-415E-88AA-B909E85F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A7DBD-9A3C-49B9-B65A-7878B050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E7288-C46A-4C0F-BA57-8CF22574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989F8-A635-441E-877B-CC33253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A80-31F2-438A-84B4-F45C5167D8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F00-2F6E-400C-AABE-C5EEEE4395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D7C-41F5-440F-97DB-F26F7271BE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E09-D774-4531-82C6-7F13E2AD18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CC6-5FE4-47D3-BF1D-8E28BE5F66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9F1-5925-4155-8556-D1E735BD59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E9A-5C43-4222-B14E-E08F11CBC9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F34B-7B71-4D2D-8882-D733A8BAE9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45D-F998-4621-B1C4-AD4DCB98A7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66A-AC1B-4015-94A1-9C9AAB604A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995-50E1-4F9C-A60D-AAA27E5DD5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BB6-F872-4154-B4EF-CD7BB65E45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78A0-D9D8-4FDF-A381-AF1ED423CF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35F2-C6E1-460A-B466-FBE19E5984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DBF-ED8B-4AA6-A1B4-3831848357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7D3-E680-4DA5-9D12-479358955D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3571-DB39-4FD0-97F8-F542BE66FB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243D-4370-4778-8372-4D27C03D54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160720" y="2420640"/>
            <a:ext cx="4822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МУНИЦИПАЛЬНОЕ БЮДЖЕТНОЕ ДОШКОЛЬНОЕ</a:t>
            </a:r>
            <a:br>
              <a:rPr sz="1000"/>
            </a:b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ОБРАЗОВАТЕЛЬНОЕ УЧРЕЖДЕНИЕ</a:t>
            </a:r>
            <a:br>
              <a:rPr sz="1000"/>
            </a:b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«ЦЕНТР РАЗВИТИЯ РЕБЕНКА — ДЕТСКИЙ САД №5 «СКАЗКА» </a:t>
            </a:r>
            <a:br>
              <a:rPr sz="1000"/>
            </a:b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Как Юрий Долгорукий Москву основал»</a:t>
            </a:r>
            <a:br>
              <a:rPr sz="4800"/>
            </a:br>
            <a:r>
              <a:rPr b="0" lang="ru-RU" sz="1600" spc="-1" strike="noStrike">
                <a:solidFill>
                  <a:srgbClr val="3f1c6a"/>
                </a:solidFill>
                <a:latin typeface="Monotype Corsiva"/>
              </a:rPr>
              <a:t>Мини-музей в подготовительной к школе группе </a:t>
            </a:r>
            <a:br>
              <a:rPr sz="1600"/>
            </a:br>
            <a:r>
              <a:rPr b="0" lang="ru-RU" sz="1600" spc="-1" strike="noStrike">
                <a:solidFill>
                  <a:srgbClr val="3f1c6a"/>
                </a:solidFill>
                <a:latin typeface="Monotype Corsiva"/>
              </a:rPr>
              <a:t>«Аленький цветочек»</a:t>
            </a:r>
            <a:br>
              <a:rPr sz="1600"/>
            </a:br>
            <a:endParaRPr b="0" lang="en-US" sz="1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47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3" descr="9"/>
          <p:cNvPicPr/>
          <p:nvPr/>
        </p:nvPicPr>
        <p:blipFill>
          <a:blip r:embed="rId2"/>
          <a:stretch/>
        </p:blipFill>
        <p:spPr>
          <a:xfrm>
            <a:off x="-5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076480" y="798120"/>
            <a:ext cx="496872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1581aa"/>
                </a:solidFill>
                <a:latin typeface="Century Gothic"/>
              </a:rPr>
              <a:t>Мини-музей в группе </a:t>
            </a:r>
            <a:br>
              <a:rPr sz="24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«Аленький цветочек»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706640" y="2101320"/>
            <a:ext cx="3197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2" name="Рисунок 19" descr="C:\Users\Сказка\Pictures\10.01.2014\DSC00260.JPG"/>
          <p:cNvPicPr/>
          <p:nvPr/>
        </p:nvPicPr>
        <p:blipFill>
          <a:blip r:embed="rId3"/>
          <a:stretch/>
        </p:blipFill>
        <p:spPr>
          <a:xfrm>
            <a:off x="1311120" y="1090440"/>
            <a:ext cx="1067040" cy="1165320"/>
          </a:xfrm>
          <a:prstGeom prst="rect">
            <a:avLst/>
          </a:prstGeom>
          <a:ln w="0">
            <a:noFill/>
          </a:ln>
        </p:spPr>
      </p:pic>
      <p:sp>
        <p:nvSpPr>
          <p:cNvPr id="1253" name="Rectangle 12"/>
          <p:cNvSpPr/>
          <p:nvPr/>
        </p:nvSpPr>
        <p:spPr>
          <a:xfrm>
            <a:off x="-5400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3"/>
          <p:cNvSpPr/>
          <p:nvPr/>
        </p:nvSpPr>
        <p:spPr>
          <a:xfrm>
            <a:off x="900000" y="21466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623"/>
                </a:solidFill>
                <a:latin typeface="Times New Roman"/>
                <a:ea typeface="Calibri"/>
              </a:rPr>
              <a:t>Мал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11"/>
          <p:cNvSpPr/>
          <p:nvPr/>
        </p:nvSpPr>
        <p:spPr>
          <a:xfrm>
            <a:off x="1546200" y="2428920"/>
            <a:ext cx="267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Воспитатель 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Объект 2" descr=""/>
          <p:cNvPicPr/>
          <p:nvPr/>
        </p:nvPicPr>
        <p:blipFill>
          <a:blip r:embed="rId4"/>
          <a:srcRect l="1010" t="289" r="-770" b="27501"/>
          <a:stretch/>
        </p:blipFill>
        <p:spPr>
          <a:xfrm>
            <a:off x="1368360" y="2951280"/>
            <a:ext cx="6299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" descr="9"/>
          <p:cNvPicPr/>
          <p:nvPr/>
        </p:nvPicPr>
        <p:blipFill>
          <a:blip r:embed="rId2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4" descr="12"/>
          <p:cNvPicPr/>
          <p:nvPr/>
        </p:nvPicPr>
        <p:blipFill>
          <a:blip r:embed="rId3"/>
          <a:stretch/>
        </p:blipFill>
        <p:spPr>
          <a:xfrm>
            <a:off x="755640" y="189000"/>
            <a:ext cx="8137440" cy="143964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5" descr="11"/>
          <p:cNvPicPr/>
          <p:nvPr/>
        </p:nvPicPr>
        <p:blipFill>
          <a:blip r:embed="rId4"/>
          <a:stretch/>
        </p:blipFill>
        <p:spPr>
          <a:xfrm>
            <a:off x="1042920" y="260280"/>
            <a:ext cx="7643880" cy="125424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Макеты к кукольному спектаклю </a:t>
            </a:r>
            <a:br>
              <a:rPr sz="3200"/>
            </a:b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ак Юрий Долгорукий Москву основал»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62" name="Объект 1" descr=""/>
          <p:cNvPicPr/>
          <p:nvPr/>
        </p:nvPicPr>
        <p:blipFill>
          <a:blip r:embed="rId5"/>
          <a:stretch/>
        </p:blipFill>
        <p:spPr>
          <a:xfrm>
            <a:off x="1244520" y="1521000"/>
            <a:ext cx="1727280" cy="230328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3" name="Объект 6" descr=""/>
          <p:cNvPicPr/>
          <p:nvPr/>
        </p:nvPicPr>
        <p:blipFill>
          <a:blip r:embed="rId6"/>
          <a:stretch/>
        </p:blipFill>
        <p:spPr>
          <a:xfrm>
            <a:off x="1244520" y="3914640"/>
            <a:ext cx="1763640" cy="23529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4" name="Объект 5" descr=""/>
          <p:cNvPicPr/>
          <p:nvPr/>
        </p:nvPicPr>
        <p:blipFill>
          <a:blip r:embed="rId7"/>
          <a:stretch/>
        </p:blipFill>
        <p:spPr>
          <a:xfrm>
            <a:off x="3406680" y="1774800"/>
            <a:ext cx="5280120" cy="3959280"/>
          </a:xfrm>
          <a:prstGeom prst="rect">
            <a:avLst/>
          </a:prstGeom>
          <a:ln w="2844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" descr="9"/>
          <p:cNvPicPr/>
          <p:nvPr/>
        </p:nvPicPr>
        <p:blipFill>
          <a:blip r:embed="rId2"/>
          <a:stretch/>
        </p:blipFill>
        <p:spPr>
          <a:xfrm>
            <a:off x="-108000" y="-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5" descr="11"/>
          <p:cNvPicPr/>
          <p:nvPr/>
        </p:nvPicPr>
        <p:blipFill>
          <a:blip r:embed="rId4"/>
          <a:stretch/>
        </p:blipFill>
        <p:spPr>
          <a:xfrm>
            <a:off x="1238400" y="351000"/>
            <a:ext cx="7037280" cy="1253880"/>
          </a:xfrm>
          <a:prstGeom prst="rect">
            <a:avLst/>
          </a:prstGeom>
          <a:ln w="0">
            <a:noFill/>
          </a:ln>
        </p:spPr>
      </p:pic>
      <p:pic>
        <p:nvPicPr>
          <p:cNvPr id="1269" name="Объект 2" descr=""/>
          <p:cNvPicPr/>
          <p:nvPr/>
        </p:nvPicPr>
        <p:blipFill>
          <a:blip r:embed="rId5"/>
          <a:srcRect l="14286" t="0" r="8920" b="0"/>
          <a:stretch/>
        </p:blipFill>
        <p:spPr>
          <a:xfrm>
            <a:off x="2341440" y="1763640"/>
            <a:ext cx="4461120" cy="4178520"/>
          </a:xfrm>
          <a:prstGeom prst="rect">
            <a:avLst/>
          </a:prstGeom>
          <a:ln w="2844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30040" y="545760"/>
            <a:ext cx="6986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Участники театрализованного представления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Как Юрий Долгорукий Москву основал»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3" descr="9"/>
          <p:cNvPicPr/>
          <p:nvPr/>
        </p:nvPicPr>
        <p:blipFill>
          <a:blip r:embed="rId2"/>
          <a:stretch/>
        </p:blipFill>
        <p:spPr>
          <a:xfrm>
            <a:off x="-108000" y="-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5" descr="11"/>
          <p:cNvPicPr/>
          <p:nvPr/>
        </p:nvPicPr>
        <p:blipFill>
          <a:blip r:embed="rId4"/>
          <a:stretch/>
        </p:blipFill>
        <p:spPr>
          <a:xfrm>
            <a:off x="1238400" y="351000"/>
            <a:ext cx="7037280" cy="125388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30040" y="545760"/>
            <a:ext cx="6986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76" name="Объект 1" descr=""/>
          <p:cNvPicPr/>
          <p:nvPr/>
        </p:nvPicPr>
        <p:blipFill>
          <a:blip r:embed="rId5"/>
          <a:stretch/>
        </p:blipFill>
        <p:spPr>
          <a:xfrm>
            <a:off x="4659480" y="72396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277" name="Рисунок 2" descr=""/>
          <p:cNvPicPr/>
          <p:nvPr/>
        </p:nvPicPr>
        <p:blipFill>
          <a:blip r:embed="rId6"/>
          <a:stretch/>
        </p:blipFill>
        <p:spPr>
          <a:xfrm>
            <a:off x="979560" y="692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78" name="Рисунок 4" descr=""/>
          <p:cNvPicPr/>
          <p:nvPr/>
        </p:nvPicPr>
        <p:blipFill>
          <a:blip r:embed="rId7"/>
          <a:stretch/>
        </p:blipFill>
        <p:spPr>
          <a:xfrm>
            <a:off x="1403280" y="2997360"/>
            <a:ext cx="59770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пк</cp:lastModifiedBy>
  <dcterms:modified xsi:type="dcterms:W3CDTF">2017-10-03T21:10:46Z</dcterms:modified>
  <cp:revision>49</cp:revision>
  <dc:subject/>
  <dc:title>Слайд 1</dc:title>
</cp:coreProperties>
</file>