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2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C4A5-C001-4439-A2D4-38972766E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B7CA-4CA5-48FD-900E-0A6B1E8E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15085C-C813-4943-AA8D-99B1D16D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76F1B-92A1-4D2F-BB49-79E74B8F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9CFB86-3ABF-4E94-8141-783D2F08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4C74BA-BC0C-42AE-B2B7-17E292B0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9228E2-5939-415A-A0B1-E725C468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365C51-7077-453F-90B7-4295AA85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3A3820-9339-4C0F-8243-CF67398D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DAC5CF-8D6A-42E9-99C4-EA130076B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621D36-2D15-4887-9BB9-6AA92DF6E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2070A7-796B-41EE-B188-FB9F22D90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66BE-86CD-46E0-869D-51E14F9EF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CEBAB0-F242-44D7-B525-3631345D3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800541-E512-4499-9E34-9AC6E22C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3E6A0C-9A59-434A-9D19-19CF9E39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9A17D1-A3E6-4950-A0C5-688F9E7F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B39817-0A40-4768-9D0A-613107357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FF29E7-2DA0-47F7-BF16-67FD132C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8D47F2-F59C-4DC4-9975-50D38430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B57D02-8747-4A2C-A6F7-ACF1C510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87A79C-3731-46E3-8669-A03F7F38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E76910-5062-450F-925A-D4EEFF5DF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53DC-DD51-4FDE-B64A-6FFA50912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AE337B-525D-4207-B6BD-F1FEA11E4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2D9227-1F77-44EB-AA68-1C4E6ECEB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6E0FD3-769F-4E4F-897A-E46E1A23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0D49E5-8B99-4897-8FD9-182420F7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44013A-7D8C-4C53-A7BD-338E31E3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6E245F-480F-4538-816F-D00F9BA0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3EE5CE-1CE3-47AF-8852-94FA5C23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E48CCC-6788-40D4-B2F9-AA058242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6B10FE-08B0-4848-8F79-F9F8D355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FECE3-7791-4A65-9156-C2E5B07D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1CDB-5277-4B5E-83EF-42AE02EDC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FA6E7-EB1B-4DFA-AB18-F4ABF9D1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DBCAA-FC63-42CE-93C9-3C436ACDB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4713AE-B6D4-4DA8-BE45-0E53E4F57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D2458F-E6B5-4ED3-BEAF-D69156C78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F92160-3F71-4CED-AAB0-5C4207961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5A6FFB-0196-4748-B3C5-1239244D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C52565-07F3-42DD-91BB-AD2D52D7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78CA50-250D-4564-AB62-981CD5F8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BA026C-5AC8-469D-93AB-4B18164E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5DF1DF-5BA0-47D7-A62F-3224CAEA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385D9-25FD-4EF8-A107-2431BCA5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67E366-6006-4132-B8FF-6CC6C433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2F39F2-8F5E-433E-B3D2-62F41773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B90E4C-A1D1-48D1-B4A7-76D09DD8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C6859A-2A15-46BB-ADE0-B3B85C2F5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AB589D-3259-4FFB-90C2-4EF574BCE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DA8FD6-994C-4B53-A79D-817B7ED82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6D0136-C067-48D2-A5CB-ECC77C77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F3E82D-8EC9-4765-83AD-7D52E1BE9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3D3D56-593A-42F3-98CA-7AE9A4DA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CF6E3E-18A7-4BB7-9A2E-002502BFF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893B-FEF4-47A0-A3DA-3D559595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DCAC12-B237-48FA-A0CB-B37B4271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3AE358-E2ED-4E72-942E-A0DFD578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338391-72CA-448A-A8FF-F9E1D85D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D59FDF-E716-46FF-8C50-A92FE588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12D59B-8C9B-4FBB-94C6-05E75307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74D0FE-0CF5-41F4-AF6B-7A98645DA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5C1EE8-68BF-42B8-BA8C-04604CB75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0EEB5E-2B6C-411F-9B33-60EA5A88D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A57E5C-98D7-4E6B-B501-93349677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9575AC-5D9E-4F16-A602-9DE261FE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227E1-B94A-4ECE-8E53-5555E4B7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6815C0-95A6-4BF4-B5E1-9F295793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637ABC-1B82-417C-831B-0EF39653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588B38-B0AD-4B61-AF69-5EAD9327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48C8D7-6B65-4BBE-AE99-24CF8E73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93A1A7-53AA-4C9C-A7EE-0F36B327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FCA865-AC46-4E54-9740-FE7B1D35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543B8A-77C0-4297-BAE2-E1C93523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94BCDA-6C3F-4090-AD0F-3A4C86AC7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AF123C-AF3F-4480-8CCF-05D0E3926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A4CB55-98D7-460D-80EC-39CC21C72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C798-1F74-4B6C-8701-CC9012F95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CEFC81-61A1-492B-A4E9-27BF71DF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57D718-D4EE-495A-B79B-D5D320C6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EBA19D-003D-4E6F-8C7D-870D90DA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0914F1-BE2D-4DD6-BD90-E4A5E58C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3C5DEA-231E-4526-9D93-296A9FDC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F341AA-E489-4266-9712-AB4EA357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987346-9E5B-47E2-9831-7FF9BBAB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3F0EDE-53F4-4B01-AFDC-04713495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6D4FC2-494B-469C-A8CA-44865DCD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72E725-A471-44D5-9437-3AF2B4978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9039-FE0E-4E05-A189-FF02D9545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048DF8-C61E-4BB8-BFAA-7829E283E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28B790-8E33-4EC5-8314-A63303E1E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853D52-126C-438A-B5F4-80AA95C6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3F5197-F154-4E29-B80F-ED0E64A5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09856D-AEA9-4FB4-97BF-3F143225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458A08-535D-45F2-A9A9-15766263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3131D1-6426-4269-B573-BE4126F6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622D83-22A1-4EBE-8C51-4AD01013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28C496-B179-4917-B76D-91F151AF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49036F-6F72-4ED0-8E27-63AD81C4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8B99-8CB7-46BF-9B7E-A2EC930E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F1DE26-8E03-48CC-ADA8-4E0A7DE5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5B1363-03C4-4CE9-AED9-DF1E1DB19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ED2CAA-9845-45CB-99CD-370CBB695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2B3CA3-05CE-46AD-9B8F-6CDCE064C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027E5F-8CDF-49C6-87C7-25BCD52D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D638F9-0D0A-4386-B3CA-54C4DE61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383E5B-0C0B-4937-997A-A685DD8D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183A0C-B66C-4596-A841-D0E113C0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CBED0E-FE04-4BD7-89AF-2A55E5AE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8EC278-724A-4D3C-8AB8-67C124F8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4FDA-BD0A-4A07-AAE9-239CEE83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AB37-467C-4CB2-B256-3DA38BDC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87E50A-A973-4E96-80A5-37624DC8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75925B-5347-4479-8566-386F5A3A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CBFC87-1F0B-40D3-B402-1FA0804C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F1D907-7D6F-481C-928F-AF9B67824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A10B84-8B89-411E-BAE7-B2DBAB8A7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FC5388-5993-46E8-B21A-79296B461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FF8EEA-ACB2-4D34-8727-4D8D43F8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64462E-47D5-482E-B035-EA137991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6D3781-0A94-42D0-8F8E-41770D25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DF70A9-0DCB-4006-8ADC-38DD4D06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A3738-5D3D-4E03-816F-F5AB8571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692CA6-5CFF-4B73-A9A8-0FAA6764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AA18FD-37E1-4D05-87EA-0BF853E3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8A2B98-8EFD-4414-8BA3-3557FDDF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DA2F16-BA94-43DE-AFFB-84D7B368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D4BA2D-5018-4BE8-9C32-2D164929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A02D01-074D-49C6-AD1D-FD7808E48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02313A-F6EF-4264-AB2D-A28E141F8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7560-6974-48CD-9CB7-C982FCE2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D2091-F720-4BFF-8947-B3A150DDD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C8F9-FDF6-4E05-BBB4-1A0661096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4483B-BBBD-4138-A8AC-BFDADC591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3F219-0897-4276-984D-2BEECD29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AF7EF-E24B-48F0-94F3-15F7F72C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9D2A8-C120-47BB-A44B-6DEEC2F8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6178E-5C79-497C-94B2-207936AC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09DF-A345-42D3-8C9E-5313B8A3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BD8D8-3252-452D-BC60-26E3CD1D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DC899-6698-4829-9D5C-18381CB8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05CF8-5280-4898-AA0D-C9C3342B9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55BFE-BF02-421F-A67C-CA8F19ED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6488D-E0C3-4294-8C14-875F6961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EF0B0-CE7F-4E04-BECD-A141E8558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A2C86-B847-4306-8CE2-7E6E5EC5C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24291-3CCD-4AE7-90ED-514CBFAE4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EAC25-23F0-41AC-801D-6549B062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E077C-4F57-4740-A8BC-3870E6DD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BB12-2937-412A-B8DB-F9FF52C1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FE4A5-43D1-415C-90EA-FFF3B8C9F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D330D-A68B-43F1-B088-87D42F2A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A56C2-95AC-478C-B603-4B5CDFA3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8C558-9C88-41FA-B5CB-965D56EF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5AD8C-FC17-43FE-AE89-4F279A60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DF6BE-FAA5-4F28-9730-CC89CA4B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983BB-6364-44FE-946C-E69C2534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31A31-B8B6-4F73-A09E-E2B7EB065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D4794-3540-4AA4-B99F-DEE80B9B2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914A5-34DA-4C60-84BD-41034E732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F9E0-B2CA-470F-9A1A-548F42B5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E5392-D3EC-467E-9693-A1F5702A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BA4E4-3548-4C88-B842-CEB69540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A5301-1B67-497F-BE0E-ECEB1BE5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3699E-CE74-41F1-B9C3-5027BE06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01ACD-B94E-4587-B901-BADA6DD2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DB195-C2A4-4CE1-B703-8F32FD09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7742D-D07F-4764-87BD-FA129785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BC2A4E-EB2A-4B15-9E58-4925C6C6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98BFB-19A8-4662-B12F-282173D4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019B1-8AC0-409C-BDF3-CA974078D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E48F-3AE9-440F-99EC-E9BE2FE2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BB8BD-00E1-4A68-B553-E898416D2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F090C-EDC9-4D2E-96DF-959205376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1B4BA-3D68-4340-87AD-7096EB63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6FDDC-E4AD-4E30-A2A0-48452450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B7AC0-4B05-4BB8-B85E-DE43294D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E723F-2BF9-4FCE-B974-65EBB934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83324-755D-4FE8-8116-FDE6FE62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8B4278-CF26-4AEA-A0AB-DED4FBE8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99DFE-6372-4C11-A1D5-C5A0FE8E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918D0-22DE-4FE8-843A-33552771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CB0B-FFCD-41FE-AB6D-A652F44D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B4BD1-2A1B-4062-8ACF-D9576AB5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69C00-A0D8-44FA-B70D-8F2330A1A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AA1E6-BF7B-42D9-AF3B-E1ACCC066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471BE-853B-4FBA-84EA-63B7232D8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C5E8E-6869-4DC7-AE03-CF5D493D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DC2B6-5306-419A-9F5E-C550613A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A349B-2408-42D0-AF24-280C132D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0CE6D-556D-4724-AEA6-55B8CBC4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94876-7385-47E3-B5BF-35EDA71C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D8586-A5B1-421D-A989-819B7AA7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41CD-46BD-43FE-A40B-794333D0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30868-B451-499F-A139-4C7951C7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0EED1-AA88-4587-B0D9-4FF9E86B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165D4-64B0-4EC4-8D9D-2F6C8CC2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5D554-AF56-4A9D-A012-B6FA93D3F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5EF69-D48F-4465-90CD-93C2D97F1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991EF7-49C8-40DC-805C-3528C79B6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4B91F-44C5-4DBA-A10C-465D3CC6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6F2CD-CAED-4F01-B7DB-00A2F86A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2828A-98E4-4731-82F6-6CAED1AB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D6789-7214-4CB0-AD06-37A3B16D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D7BC-8E83-4C52-BDB0-21BC89E7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FFB10-C1BC-49B2-B3AD-9556EB070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05E46-D4AD-47A3-A9F2-18656035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AD09A-0E94-4345-BF1D-880E8BFA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63744-06DC-4510-A66F-911381D0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F075D-454C-4FB7-B569-708A85A5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FC2E23-8BEA-4680-9110-EF6FE1406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9EB7D-D5CC-42CE-9748-1BF08981A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096E43-B4B3-4583-AB57-EDC531BAA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C93D02-2DA6-444B-B500-54846C26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30E21C-CF4C-40D0-975E-4C44E50E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79F1-0F17-412C-B8DA-A9CCF8B2246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943E-91E3-4441-B453-DDED9F81613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EAA2-C326-41D7-8A2E-DCFC843F530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47C7-41EE-42A3-91C3-E181662DDD9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42C1-49A8-48CC-821D-3E29CCE343B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285E-6E63-440C-BC89-4C1B8AFB04A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2111-EA62-49FF-A689-D07A3B2E1EC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0BC0-E31D-454E-BDA6-52F2237F33A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593F-9E85-475D-8020-274D5ECE2B7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7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90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B4CE-1CBC-4FD0-A418-578F851466F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87E0-7830-4471-83C2-E4556E89068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5BFB-4020-4601-AC75-772D03333A0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B032-4AAE-44FF-A555-A155E3D9295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3EA6-8B91-442D-BA4E-0719EE0ABC9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044B-9B4E-421D-AB2D-62768D064FA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C862-3D8B-4B18-8F13-9B11F74B662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108A-A28C-4166-B971-27836EEA7D3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72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600"/>
              <a:ext cx="357120" cy="99072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632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440"/>
              <a:ext cx="144360" cy="302760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24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320"/>
              <a:ext cx="1168560" cy="271728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581aa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4114-6163-4CAF-9B19-7992E4191E3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20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4" name="Picture 6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245" name="Picture 5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2160720" y="2420640"/>
            <a:ext cx="48225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000" spc="-1" strike="noStrike">
                <a:solidFill>
                  <a:srgbClr val="3f1c6a"/>
                </a:solidFill>
                <a:latin typeface="Monotype Corsiva"/>
              </a:rPr>
              <a:t>МУНИЦИПАЛЬНОЕ БЮДЖЕТНОЕ ДОШКОЛЬНОЕ</a:t>
            </a:r>
            <a:br>
              <a:rPr sz="1000"/>
            </a:br>
            <a:r>
              <a:rPr b="1" lang="ru-RU" sz="1000" spc="-1" strike="noStrike">
                <a:solidFill>
                  <a:srgbClr val="3f1c6a"/>
                </a:solidFill>
                <a:latin typeface="Monotype Corsiva"/>
              </a:rPr>
              <a:t>ОБРАЗОВАТЕЛЬНОЕ УЧРЕЖДЕНИЕ</a:t>
            </a:r>
            <a:br>
              <a:rPr sz="1000"/>
            </a:br>
            <a:r>
              <a:rPr b="1" lang="ru-RU" sz="1000" spc="-1" strike="noStrike">
                <a:solidFill>
                  <a:srgbClr val="3f1c6a"/>
                </a:solidFill>
                <a:latin typeface="Monotype Corsiva"/>
              </a:rPr>
              <a:t>«ЦЕНТР РАЗВИТИЯ РЕБЕНКА — ДЕТСКИЙ САД №5 «СКАЗКА» </a:t>
            </a:r>
            <a:br>
              <a:rPr sz="1000"/>
            </a:b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«Как Юрий Долгорукий Москву основал»</a:t>
            </a:r>
            <a:br>
              <a:rPr sz="4800"/>
            </a:br>
            <a:r>
              <a:rPr b="0" lang="ru-RU" sz="1600" spc="-1" strike="noStrike">
                <a:solidFill>
                  <a:srgbClr val="3f1c6a"/>
                </a:solidFill>
                <a:latin typeface="Monotype Corsiva"/>
              </a:rPr>
              <a:t>Мини-музей в подготовительной к школе группе </a:t>
            </a:r>
            <a:br>
              <a:rPr sz="1600"/>
            </a:br>
            <a:r>
              <a:rPr b="0" lang="ru-RU" sz="1600" spc="-1" strike="noStrike">
                <a:solidFill>
                  <a:srgbClr val="3f1c6a"/>
                </a:solidFill>
                <a:latin typeface="Monotype Corsiva"/>
              </a:rPr>
              <a:t>«Аленький цветочек»</a:t>
            </a:r>
            <a:br>
              <a:rPr sz="1600"/>
            </a:br>
            <a:endParaRPr b="0" lang="en-US" sz="1600" spc="-1" strike="noStrike">
              <a:solidFill>
                <a:srgbClr val="1581aa"/>
              </a:solidFill>
              <a:latin typeface="Century Gothic"/>
            </a:endParaRPr>
          </a:p>
        </p:txBody>
      </p:sp>
      <p:pic>
        <p:nvPicPr>
          <p:cNvPr id="1247" name="Picture 9" descr="3"/>
          <p:cNvPicPr/>
          <p:nvPr/>
        </p:nvPicPr>
        <p:blipFill>
          <a:blip r:embed="rId3"/>
          <a:stretch/>
        </p:blipFill>
        <p:spPr>
          <a:xfrm>
            <a:off x="0" y="0"/>
            <a:ext cx="167472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8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249" name="Picture 3" descr="9"/>
          <p:cNvPicPr/>
          <p:nvPr/>
        </p:nvPicPr>
        <p:blipFill>
          <a:blip r:embed="rId2"/>
          <a:stretch/>
        </p:blipFill>
        <p:spPr>
          <a:xfrm>
            <a:off x="-54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2076480" y="798120"/>
            <a:ext cx="4968720" cy="21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581aa"/>
                </a:solidFill>
                <a:latin typeface="Century Gothic"/>
              </a:rPr>
              <a:t>  </a:t>
            </a:r>
            <a:r>
              <a:rPr b="0" lang="ru-RU" sz="2400" spc="-1" strike="noStrike">
                <a:solidFill>
                  <a:srgbClr val="1581aa"/>
                </a:solidFill>
                <a:latin typeface="Century Gothic"/>
              </a:rPr>
              <a:t>Мини-музей в группе </a:t>
            </a:r>
            <a:br>
              <a:rPr sz="2400"/>
            </a:b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«Аленький цветочек»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4706640" y="2101320"/>
            <a:ext cx="319716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52" name="Рисунок 19" descr="C:\Users\Сказка\Pictures\10.01.2014\DSC00260.JPG"/>
          <p:cNvPicPr/>
          <p:nvPr/>
        </p:nvPicPr>
        <p:blipFill>
          <a:blip r:embed="rId3"/>
          <a:stretch/>
        </p:blipFill>
        <p:spPr>
          <a:xfrm>
            <a:off x="1311120" y="1090440"/>
            <a:ext cx="1067040" cy="1165320"/>
          </a:xfrm>
          <a:prstGeom prst="rect">
            <a:avLst/>
          </a:prstGeom>
          <a:ln w="0">
            <a:noFill/>
          </a:ln>
        </p:spPr>
      </p:pic>
      <p:sp>
        <p:nvSpPr>
          <p:cNvPr id="1253" name="Rectangle 12"/>
          <p:cNvSpPr/>
          <p:nvPr/>
        </p:nvSpPr>
        <p:spPr>
          <a:xfrm>
            <a:off x="-54000" y="4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Rectangle 13"/>
          <p:cNvSpPr/>
          <p:nvPr/>
        </p:nvSpPr>
        <p:spPr>
          <a:xfrm>
            <a:off x="900000" y="2146680"/>
            <a:ext cx="74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85623"/>
                </a:solidFill>
                <a:latin typeface="Times New Roman"/>
                <a:ea typeface="Calibri"/>
              </a:rPr>
              <a:t>Малова Ольга Владими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TextBox 11"/>
          <p:cNvSpPr/>
          <p:nvPr/>
        </p:nvSpPr>
        <p:spPr>
          <a:xfrm>
            <a:off x="1546200" y="2428920"/>
            <a:ext cx="2679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onotype Corsiva"/>
              </a:rPr>
              <a:t>Воспитатель  высшей квалификационной категор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6" name="Объект 2" descr=""/>
          <p:cNvPicPr/>
          <p:nvPr/>
        </p:nvPicPr>
        <p:blipFill>
          <a:blip r:embed="rId4"/>
          <a:srcRect l="1010" t="289" r="-770" b="27501"/>
          <a:stretch/>
        </p:blipFill>
        <p:spPr>
          <a:xfrm>
            <a:off x="1368360" y="2951280"/>
            <a:ext cx="629928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7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258" name="Picture 3" descr="9"/>
          <p:cNvPicPr/>
          <p:nvPr/>
        </p:nvPicPr>
        <p:blipFill>
          <a:blip r:embed="rId2"/>
          <a:stretch/>
        </p:blipFill>
        <p:spPr>
          <a:xfrm>
            <a:off x="7632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9" name="Picture 4" descr="12"/>
          <p:cNvPicPr/>
          <p:nvPr/>
        </p:nvPicPr>
        <p:blipFill>
          <a:blip r:embed="rId3"/>
          <a:stretch/>
        </p:blipFill>
        <p:spPr>
          <a:xfrm>
            <a:off x="755640" y="189000"/>
            <a:ext cx="8137440" cy="1439640"/>
          </a:xfrm>
          <a:prstGeom prst="rect">
            <a:avLst/>
          </a:prstGeom>
          <a:ln w="0">
            <a:noFill/>
          </a:ln>
        </p:spPr>
      </p:pic>
      <p:pic>
        <p:nvPicPr>
          <p:cNvPr id="1260" name="Picture 5" descr="11"/>
          <p:cNvPicPr/>
          <p:nvPr/>
        </p:nvPicPr>
        <p:blipFill>
          <a:blip r:embed="rId4"/>
          <a:stretch/>
        </p:blipFill>
        <p:spPr>
          <a:xfrm>
            <a:off x="1042920" y="260280"/>
            <a:ext cx="7643880" cy="1254240"/>
          </a:xfrm>
          <a:prstGeom prst="rect">
            <a:avLst/>
          </a:prstGeom>
          <a:ln w="0">
            <a:noFill/>
          </a:ln>
        </p:spPr>
      </p:pic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Monotype Corsiva"/>
              </a:rPr>
              <a:t>Макеты к кукольному спектаклю </a:t>
            </a:r>
            <a:br>
              <a:rPr sz="3200"/>
            </a:br>
            <a:r>
              <a:rPr b="0" lang="ru-RU" sz="3600" spc="-1" strike="noStrike">
                <a:solidFill>
                  <a:srgbClr val="c00000"/>
                </a:solidFill>
                <a:latin typeface="Monotype Corsiva"/>
              </a:rPr>
              <a:t>«</a:t>
            </a: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Как Юрий Долгорукий Москву основал»</a:t>
            </a:r>
            <a:endParaRPr b="0" lang="en-US" sz="3600" spc="-1" strike="noStrike">
              <a:solidFill>
                <a:srgbClr val="1581aa"/>
              </a:solidFill>
              <a:latin typeface="Century Gothic"/>
            </a:endParaRPr>
          </a:p>
        </p:txBody>
      </p:sp>
      <p:pic>
        <p:nvPicPr>
          <p:cNvPr id="1262" name="Объект 1" descr=""/>
          <p:cNvPicPr/>
          <p:nvPr/>
        </p:nvPicPr>
        <p:blipFill>
          <a:blip r:embed="rId5"/>
          <a:stretch/>
        </p:blipFill>
        <p:spPr>
          <a:xfrm>
            <a:off x="1244520" y="1521000"/>
            <a:ext cx="1727280" cy="2303280"/>
          </a:xfrm>
          <a:prstGeom prst="rect">
            <a:avLst/>
          </a:prstGeom>
          <a:ln w="12600">
            <a:solidFill>
              <a:srgbClr val="c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63" name="Объект 6" descr=""/>
          <p:cNvPicPr/>
          <p:nvPr/>
        </p:nvPicPr>
        <p:blipFill>
          <a:blip r:embed="rId6"/>
          <a:stretch/>
        </p:blipFill>
        <p:spPr>
          <a:xfrm>
            <a:off x="1244520" y="3914640"/>
            <a:ext cx="1763640" cy="2352960"/>
          </a:xfrm>
          <a:prstGeom prst="rect">
            <a:avLst/>
          </a:prstGeom>
          <a:ln w="9360">
            <a:solidFill>
              <a:srgbClr val="c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64" name="Объект 5" descr=""/>
          <p:cNvPicPr/>
          <p:nvPr/>
        </p:nvPicPr>
        <p:blipFill>
          <a:blip r:embed="rId7"/>
          <a:stretch/>
        </p:blipFill>
        <p:spPr>
          <a:xfrm>
            <a:off x="3406680" y="1774800"/>
            <a:ext cx="5280120" cy="3959280"/>
          </a:xfrm>
          <a:prstGeom prst="rect">
            <a:avLst/>
          </a:prstGeom>
          <a:ln w="28440">
            <a:solidFill>
              <a:srgbClr val="c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5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266" name="Picture 3" descr="9"/>
          <p:cNvPicPr/>
          <p:nvPr/>
        </p:nvPicPr>
        <p:blipFill>
          <a:blip r:embed="rId2"/>
          <a:stretch/>
        </p:blipFill>
        <p:spPr>
          <a:xfrm>
            <a:off x="-108000" y="-93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7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1268" name="Picture 5" descr="11"/>
          <p:cNvPicPr/>
          <p:nvPr/>
        </p:nvPicPr>
        <p:blipFill>
          <a:blip r:embed="rId4"/>
          <a:stretch/>
        </p:blipFill>
        <p:spPr>
          <a:xfrm>
            <a:off x="1238400" y="351000"/>
            <a:ext cx="7037280" cy="1253880"/>
          </a:xfrm>
          <a:prstGeom prst="rect">
            <a:avLst/>
          </a:prstGeom>
          <a:ln w="0">
            <a:noFill/>
          </a:ln>
        </p:spPr>
      </p:pic>
      <p:pic>
        <p:nvPicPr>
          <p:cNvPr id="1269" name="Объект 2" descr=""/>
          <p:cNvPicPr/>
          <p:nvPr/>
        </p:nvPicPr>
        <p:blipFill>
          <a:blip r:embed="rId5"/>
          <a:srcRect l="14286" t="0" r="8920" b="0"/>
          <a:stretch/>
        </p:blipFill>
        <p:spPr>
          <a:xfrm>
            <a:off x="2341440" y="1763640"/>
            <a:ext cx="4461120" cy="4178520"/>
          </a:xfrm>
          <a:prstGeom prst="rect">
            <a:avLst/>
          </a:prstGeom>
          <a:ln w="28440">
            <a:solidFill>
              <a:srgbClr val="c0000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1130040" y="545760"/>
            <a:ext cx="698652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Monotype Corsiva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Monotype Corsiva"/>
              </a:rPr>
              <a:t>Участники театрализованного представления </a:t>
            </a:r>
            <a:br>
              <a:rPr sz="2800"/>
            </a:br>
            <a:r>
              <a:rPr b="0" lang="ru-RU" sz="2800" spc="-1" strike="noStrike">
                <a:solidFill>
                  <a:srgbClr val="c00000"/>
                </a:solidFill>
                <a:latin typeface="Monotype Corsiva"/>
              </a:rPr>
              <a:t>«</a:t>
            </a:r>
            <a:r>
              <a:rPr b="1" lang="ru-RU" sz="2800" spc="-1" strike="noStrike">
                <a:solidFill>
                  <a:srgbClr val="c00000"/>
                </a:solidFill>
                <a:latin typeface="Monotype Corsiva"/>
              </a:rPr>
              <a:t>Как Юрий Долгорукий Москву основал»</a:t>
            </a:r>
            <a:endParaRPr b="0" lang="en-US" sz="2800" spc="-1" strike="noStrike">
              <a:solidFill>
                <a:srgbClr val="1581aa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1" name="Picture 2" descr="44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272" name="Picture 3" descr="9"/>
          <p:cNvPicPr/>
          <p:nvPr/>
        </p:nvPicPr>
        <p:blipFill>
          <a:blip r:embed="rId2"/>
          <a:stretch/>
        </p:blipFill>
        <p:spPr>
          <a:xfrm>
            <a:off x="-108000" y="-93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3" name="Picture 4" descr="12"/>
          <p:cNvPicPr/>
          <p:nvPr/>
        </p:nvPicPr>
        <p:blipFill>
          <a:blip r:embed="rId3"/>
          <a:stretch/>
        </p:blipFill>
        <p:spPr>
          <a:xfrm>
            <a:off x="1187280" y="189000"/>
            <a:ext cx="6945480" cy="1439640"/>
          </a:xfrm>
          <a:prstGeom prst="rect">
            <a:avLst/>
          </a:prstGeom>
          <a:ln w="0">
            <a:noFill/>
          </a:ln>
        </p:spPr>
      </p:pic>
      <p:pic>
        <p:nvPicPr>
          <p:cNvPr id="1274" name="Picture 5" descr="11"/>
          <p:cNvPicPr/>
          <p:nvPr/>
        </p:nvPicPr>
        <p:blipFill>
          <a:blip r:embed="rId4"/>
          <a:stretch/>
        </p:blipFill>
        <p:spPr>
          <a:xfrm>
            <a:off x="1238400" y="351000"/>
            <a:ext cx="7037280" cy="1253880"/>
          </a:xfrm>
          <a:prstGeom prst="rect">
            <a:avLst/>
          </a:prstGeom>
          <a:ln w="0">
            <a:noFill/>
          </a:ln>
        </p:spPr>
      </p:pic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1130040" y="545760"/>
            <a:ext cx="698652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1581aa"/>
              </a:solidFill>
              <a:latin typeface="Century Gothic"/>
            </a:endParaRPr>
          </a:p>
        </p:txBody>
      </p:sp>
      <p:pic>
        <p:nvPicPr>
          <p:cNvPr id="1276" name="Объект 1" descr=""/>
          <p:cNvPicPr/>
          <p:nvPr/>
        </p:nvPicPr>
        <p:blipFill>
          <a:blip r:embed="rId5"/>
          <a:stretch/>
        </p:blipFill>
        <p:spPr>
          <a:xfrm>
            <a:off x="4659480" y="723960"/>
            <a:ext cx="3240000" cy="2428920"/>
          </a:xfrm>
          <a:prstGeom prst="rect">
            <a:avLst/>
          </a:prstGeom>
          <a:ln w="0">
            <a:noFill/>
          </a:ln>
        </p:spPr>
      </p:pic>
      <p:pic>
        <p:nvPicPr>
          <p:cNvPr id="1277" name="Рисунок 2" descr=""/>
          <p:cNvPicPr/>
          <p:nvPr/>
        </p:nvPicPr>
        <p:blipFill>
          <a:blip r:embed="rId6"/>
          <a:stretch/>
        </p:blipFill>
        <p:spPr>
          <a:xfrm>
            <a:off x="979560" y="69228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1278" name="Рисунок 4" descr=""/>
          <p:cNvPicPr/>
          <p:nvPr/>
        </p:nvPicPr>
        <p:blipFill>
          <a:blip r:embed="rId7"/>
          <a:stretch/>
        </p:blipFill>
        <p:spPr>
          <a:xfrm>
            <a:off x="1403280" y="2997360"/>
            <a:ext cx="597708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1:47:09Z</dcterms:created>
  <dc:creator>Юлия</dc:creator>
  <dc:description/>
  <dc:language>en-US</dc:language>
  <cp:lastModifiedBy>пк</cp:lastModifiedBy>
  <dcterms:modified xsi:type="dcterms:W3CDTF">2017-10-03T21:10:46Z</dcterms:modified>
  <cp:revision>49</cp:revision>
  <dc:subject/>
  <dc:title>Слайд 1</dc:title>
</cp:coreProperties>
</file>